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F3A-EE7F-4A20-9498-2565C296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9C7-8222-44C2-8A69-CF644A06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0EF-1D64-4577-9CA1-F59CF4F4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B1A-9A19-45AB-892F-0DDD7077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D68-92BD-4D72-B1E0-65625EEE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BC4-9C6A-490D-8814-E14F64C4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C3A-E42E-47D7-A5CE-3D8D1189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00D-7F51-4F2D-9E75-E4422E0F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800-8585-4301-8CEF-926E3127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5BA-A4B2-4FA5-8D7B-6EA4948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5EA-F013-4B4A-B293-3811F595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CF6-F9C0-42F9-9B0B-96BE2AEA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6794-834F-4954-B14C-9F0243502C4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4191120" cy="5257800"/>
            <a:chOff x="609480" y="1295280"/>
            <a:chExt cx="4191120" cy="5257800"/>
          </a:xfrm>
        </p:grpSpPr>
        <p:sp>
          <p:nvSpPr>
            <p:cNvPr id="42" name=""/>
            <p:cNvSpPr/>
            <p:nvPr/>
          </p:nvSpPr>
          <p:spPr>
            <a:xfrm>
              <a:off x="619200" y="1322280"/>
              <a:ext cx="4145040" cy="2686320"/>
            </a:xfrm>
            <a:custGeom>
              <a:avLst/>
              <a:gdLst/>
              <a:ahLst/>
              <a:rect l="l" t="t" r="r" b="b"/>
              <a:pathLst>
                <a:path w="3418" h="2198">
                  <a:moveTo>
                    <a:pt x="36" y="6"/>
                  </a:moveTo>
                  <a:lnTo>
                    <a:pt x="327" y="0"/>
                  </a:lnTo>
                  <a:lnTo>
                    <a:pt x="859" y="10"/>
                  </a:lnTo>
                  <a:lnTo>
                    <a:pt x="1096" y="6"/>
                  </a:lnTo>
                  <a:lnTo>
                    <a:pt x="1444" y="10"/>
                  </a:lnTo>
                  <a:lnTo>
                    <a:pt x="1914" y="33"/>
                  </a:lnTo>
                  <a:lnTo>
                    <a:pt x="2235" y="21"/>
                  </a:lnTo>
                  <a:lnTo>
                    <a:pt x="2543" y="31"/>
                  </a:lnTo>
                  <a:lnTo>
                    <a:pt x="2807" y="37"/>
                  </a:lnTo>
                  <a:lnTo>
                    <a:pt x="3100" y="57"/>
                  </a:lnTo>
                  <a:lnTo>
                    <a:pt x="3408" y="67"/>
                  </a:lnTo>
                  <a:lnTo>
                    <a:pt x="3406" y="523"/>
                  </a:lnTo>
                  <a:lnTo>
                    <a:pt x="3418" y="871"/>
                  </a:lnTo>
                  <a:lnTo>
                    <a:pt x="3380" y="1268"/>
                  </a:lnTo>
                  <a:lnTo>
                    <a:pt x="3399" y="1852"/>
                  </a:lnTo>
                  <a:lnTo>
                    <a:pt x="3391" y="2181"/>
                  </a:lnTo>
                  <a:lnTo>
                    <a:pt x="2615" y="2162"/>
                  </a:lnTo>
                  <a:lnTo>
                    <a:pt x="1792" y="2192"/>
                  </a:lnTo>
                  <a:lnTo>
                    <a:pt x="1315" y="2158"/>
                  </a:lnTo>
                  <a:lnTo>
                    <a:pt x="872" y="2154"/>
                  </a:lnTo>
                  <a:lnTo>
                    <a:pt x="148" y="2198"/>
                  </a:lnTo>
                  <a:lnTo>
                    <a:pt x="0" y="2169"/>
                  </a:lnTo>
                  <a:lnTo>
                    <a:pt x="30" y="1656"/>
                  </a:lnTo>
                  <a:lnTo>
                    <a:pt x="32" y="1015"/>
                  </a:lnTo>
                  <a:lnTo>
                    <a:pt x="13" y="466"/>
                  </a:lnTo>
                  <a:lnTo>
                    <a:pt x="21" y="175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607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12720" y="3876840"/>
              <a:ext cx="4116600" cy="2649240"/>
            </a:xfrm>
            <a:custGeom>
              <a:avLst/>
              <a:gdLst/>
              <a:ahLst/>
              <a:rect l="l" t="t" r="r" b="b"/>
              <a:pathLst>
                <a:path w="3395" h="2165">
                  <a:moveTo>
                    <a:pt x="6" y="80"/>
                  </a:moveTo>
                  <a:lnTo>
                    <a:pt x="127" y="84"/>
                  </a:lnTo>
                  <a:lnTo>
                    <a:pt x="319" y="80"/>
                  </a:lnTo>
                  <a:lnTo>
                    <a:pt x="416" y="65"/>
                  </a:lnTo>
                  <a:lnTo>
                    <a:pt x="525" y="54"/>
                  </a:lnTo>
                  <a:lnTo>
                    <a:pt x="637" y="33"/>
                  </a:lnTo>
                  <a:lnTo>
                    <a:pt x="823" y="27"/>
                  </a:lnTo>
                  <a:lnTo>
                    <a:pt x="994" y="31"/>
                  </a:lnTo>
                  <a:lnTo>
                    <a:pt x="1133" y="23"/>
                  </a:lnTo>
                  <a:lnTo>
                    <a:pt x="1279" y="23"/>
                  </a:lnTo>
                  <a:lnTo>
                    <a:pt x="1374" y="33"/>
                  </a:lnTo>
                  <a:lnTo>
                    <a:pt x="1490" y="40"/>
                  </a:lnTo>
                  <a:lnTo>
                    <a:pt x="1616" y="57"/>
                  </a:lnTo>
                  <a:lnTo>
                    <a:pt x="1741" y="59"/>
                  </a:lnTo>
                  <a:lnTo>
                    <a:pt x="1834" y="57"/>
                  </a:lnTo>
                  <a:lnTo>
                    <a:pt x="1973" y="57"/>
                  </a:lnTo>
                  <a:lnTo>
                    <a:pt x="2099" y="59"/>
                  </a:lnTo>
                  <a:lnTo>
                    <a:pt x="2146" y="59"/>
                  </a:lnTo>
                  <a:lnTo>
                    <a:pt x="2224" y="63"/>
                  </a:lnTo>
                  <a:lnTo>
                    <a:pt x="2292" y="50"/>
                  </a:lnTo>
                  <a:lnTo>
                    <a:pt x="2334" y="31"/>
                  </a:lnTo>
                  <a:lnTo>
                    <a:pt x="2399" y="14"/>
                  </a:lnTo>
                  <a:lnTo>
                    <a:pt x="2475" y="0"/>
                  </a:lnTo>
                  <a:lnTo>
                    <a:pt x="2559" y="0"/>
                  </a:lnTo>
                  <a:lnTo>
                    <a:pt x="2707" y="36"/>
                  </a:lnTo>
                  <a:lnTo>
                    <a:pt x="2855" y="40"/>
                  </a:lnTo>
                  <a:lnTo>
                    <a:pt x="3026" y="42"/>
                  </a:lnTo>
                  <a:lnTo>
                    <a:pt x="3068" y="46"/>
                  </a:lnTo>
                  <a:lnTo>
                    <a:pt x="3186" y="63"/>
                  </a:lnTo>
                  <a:lnTo>
                    <a:pt x="3262" y="73"/>
                  </a:lnTo>
                  <a:lnTo>
                    <a:pt x="3370" y="84"/>
                  </a:lnTo>
                  <a:lnTo>
                    <a:pt x="3374" y="380"/>
                  </a:lnTo>
                  <a:lnTo>
                    <a:pt x="3395" y="707"/>
                  </a:lnTo>
                  <a:lnTo>
                    <a:pt x="3395" y="1032"/>
                  </a:lnTo>
                  <a:lnTo>
                    <a:pt x="3382" y="1430"/>
                  </a:lnTo>
                  <a:lnTo>
                    <a:pt x="3382" y="1836"/>
                  </a:lnTo>
                  <a:lnTo>
                    <a:pt x="3374" y="2142"/>
                  </a:lnTo>
                  <a:lnTo>
                    <a:pt x="3064" y="2165"/>
                  </a:lnTo>
                  <a:lnTo>
                    <a:pt x="2542" y="2148"/>
                  </a:lnTo>
                  <a:lnTo>
                    <a:pt x="2304" y="2152"/>
                  </a:lnTo>
                  <a:lnTo>
                    <a:pt x="1927" y="2142"/>
                  </a:lnTo>
                  <a:lnTo>
                    <a:pt x="1325" y="2127"/>
                  </a:lnTo>
                  <a:lnTo>
                    <a:pt x="739" y="2142"/>
                  </a:lnTo>
                  <a:lnTo>
                    <a:pt x="224" y="2142"/>
                  </a:lnTo>
                  <a:lnTo>
                    <a:pt x="51" y="2121"/>
                  </a:lnTo>
                  <a:lnTo>
                    <a:pt x="36" y="1971"/>
                  </a:lnTo>
                  <a:lnTo>
                    <a:pt x="23" y="1800"/>
                  </a:lnTo>
                  <a:lnTo>
                    <a:pt x="11" y="1532"/>
                  </a:lnTo>
                  <a:lnTo>
                    <a:pt x="6" y="1411"/>
                  </a:lnTo>
                  <a:lnTo>
                    <a:pt x="0" y="1029"/>
                  </a:lnTo>
                  <a:lnTo>
                    <a:pt x="2" y="563"/>
                  </a:lnTo>
                  <a:lnTo>
                    <a:pt x="6" y="80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536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92240" y="3913200"/>
              <a:ext cx="1946160" cy="1238400"/>
            </a:xfrm>
            <a:custGeom>
              <a:avLst/>
              <a:gdLst/>
              <a:ahLst/>
              <a:rect l="l" t="t" r="r" b="b"/>
              <a:pathLst>
                <a:path w="1605" h="1011">
                  <a:moveTo>
                    <a:pt x="791" y="939"/>
                  </a:moveTo>
                  <a:lnTo>
                    <a:pt x="827" y="885"/>
                  </a:lnTo>
                  <a:lnTo>
                    <a:pt x="833" y="832"/>
                  </a:lnTo>
                  <a:lnTo>
                    <a:pt x="827" y="796"/>
                  </a:lnTo>
                  <a:lnTo>
                    <a:pt x="782" y="764"/>
                  </a:lnTo>
                  <a:lnTo>
                    <a:pt x="723" y="741"/>
                  </a:lnTo>
                  <a:lnTo>
                    <a:pt x="658" y="718"/>
                  </a:lnTo>
                  <a:lnTo>
                    <a:pt x="559" y="680"/>
                  </a:lnTo>
                  <a:lnTo>
                    <a:pt x="464" y="654"/>
                  </a:lnTo>
                  <a:lnTo>
                    <a:pt x="367" y="640"/>
                  </a:lnTo>
                  <a:lnTo>
                    <a:pt x="312" y="627"/>
                  </a:lnTo>
                  <a:lnTo>
                    <a:pt x="268" y="604"/>
                  </a:lnTo>
                  <a:lnTo>
                    <a:pt x="156" y="559"/>
                  </a:lnTo>
                  <a:lnTo>
                    <a:pt x="71" y="515"/>
                  </a:lnTo>
                  <a:lnTo>
                    <a:pt x="14" y="479"/>
                  </a:lnTo>
                  <a:lnTo>
                    <a:pt x="0" y="439"/>
                  </a:lnTo>
                  <a:lnTo>
                    <a:pt x="8" y="382"/>
                  </a:lnTo>
                  <a:lnTo>
                    <a:pt x="27" y="344"/>
                  </a:lnTo>
                  <a:lnTo>
                    <a:pt x="73" y="310"/>
                  </a:lnTo>
                  <a:lnTo>
                    <a:pt x="152" y="260"/>
                  </a:lnTo>
                  <a:lnTo>
                    <a:pt x="202" y="247"/>
                  </a:lnTo>
                  <a:lnTo>
                    <a:pt x="255" y="230"/>
                  </a:lnTo>
                  <a:lnTo>
                    <a:pt x="312" y="214"/>
                  </a:lnTo>
                  <a:lnTo>
                    <a:pt x="365" y="190"/>
                  </a:lnTo>
                  <a:lnTo>
                    <a:pt x="415" y="152"/>
                  </a:lnTo>
                  <a:lnTo>
                    <a:pt x="443" y="114"/>
                  </a:lnTo>
                  <a:lnTo>
                    <a:pt x="466" y="68"/>
                  </a:lnTo>
                  <a:lnTo>
                    <a:pt x="514" y="2"/>
                  </a:lnTo>
                  <a:lnTo>
                    <a:pt x="639" y="2"/>
                  </a:lnTo>
                  <a:lnTo>
                    <a:pt x="603" y="81"/>
                  </a:lnTo>
                  <a:lnTo>
                    <a:pt x="569" y="167"/>
                  </a:lnTo>
                  <a:lnTo>
                    <a:pt x="523" y="237"/>
                  </a:lnTo>
                  <a:lnTo>
                    <a:pt x="474" y="300"/>
                  </a:lnTo>
                  <a:lnTo>
                    <a:pt x="464" y="363"/>
                  </a:lnTo>
                  <a:lnTo>
                    <a:pt x="464" y="420"/>
                  </a:lnTo>
                  <a:lnTo>
                    <a:pt x="483" y="443"/>
                  </a:lnTo>
                  <a:lnTo>
                    <a:pt x="515" y="458"/>
                  </a:lnTo>
                  <a:lnTo>
                    <a:pt x="563" y="479"/>
                  </a:lnTo>
                  <a:lnTo>
                    <a:pt x="603" y="500"/>
                  </a:lnTo>
                  <a:lnTo>
                    <a:pt x="647" y="515"/>
                  </a:lnTo>
                  <a:lnTo>
                    <a:pt x="702" y="528"/>
                  </a:lnTo>
                  <a:lnTo>
                    <a:pt x="751" y="532"/>
                  </a:lnTo>
                  <a:lnTo>
                    <a:pt x="791" y="551"/>
                  </a:lnTo>
                  <a:lnTo>
                    <a:pt x="850" y="595"/>
                  </a:lnTo>
                  <a:lnTo>
                    <a:pt x="890" y="617"/>
                  </a:lnTo>
                  <a:lnTo>
                    <a:pt x="934" y="650"/>
                  </a:lnTo>
                  <a:lnTo>
                    <a:pt x="970" y="701"/>
                  </a:lnTo>
                  <a:lnTo>
                    <a:pt x="998" y="750"/>
                  </a:lnTo>
                  <a:lnTo>
                    <a:pt x="1017" y="796"/>
                  </a:lnTo>
                  <a:lnTo>
                    <a:pt x="1019" y="840"/>
                  </a:lnTo>
                  <a:lnTo>
                    <a:pt x="1046" y="809"/>
                  </a:lnTo>
                  <a:lnTo>
                    <a:pt x="1086" y="769"/>
                  </a:lnTo>
                  <a:lnTo>
                    <a:pt x="1139" y="718"/>
                  </a:lnTo>
                  <a:lnTo>
                    <a:pt x="1185" y="671"/>
                  </a:lnTo>
                  <a:lnTo>
                    <a:pt x="1221" y="608"/>
                  </a:lnTo>
                  <a:lnTo>
                    <a:pt x="1225" y="551"/>
                  </a:lnTo>
                  <a:lnTo>
                    <a:pt x="1217" y="511"/>
                  </a:lnTo>
                  <a:lnTo>
                    <a:pt x="1188" y="481"/>
                  </a:lnTo>
                  <a:lnTo>
                    <a:pt x="1135" y="462"/>
                  </a:lnTo>
                  <a:lnTo>
                    <a:pt x="1074" y="446"/>
                  </a:lnTo>
                  <a:lnTo>
                    <a:pt x="1025" y="425"/>
                  </a:lnTo>
                  <a:lnTo>
                    <a:pt x="953" y="393"/>
                  </a:lnTo>
                  <a:lnTo>
                    <a:pt x="913" y="348"/>
                  </a:lnTo>
                  <a:lnTo>
                    <a:pt x="911" y="283"/>
                  </a:lnTo>
                  <a:lnTo>
                    <a:pt x="917" y="180"/>
                  </a:lnTo>
                  <a:lnTo>
                    <a:pt x="934" y="121"/>
                  </a:lnTo>
                  <a:lnTo>
                    <a:pt x="960" y="72"/>
                  </a:lnTo>
                  <a:lnTo>
                    <a:pt x="979" y="42"/>
                  </a:lnTo>
                  <a:lnTo>
                    <a:pt x="991" y="5"/>
                  </a:lnTo>
                  <a:lnTo>
                    <a:pt x="1040" y="0"/>
                  </a:lnTo>
                  <a:lnTo>
                    <a:pt x="1095" y="9"/>
                  </a:lnTo>
                  <a:lnTo>
                    <a:pt x="1090" y="28"/>
                  </a:lnTo>
                  <a:lnTo>
                    <a:pt x="1067" y="76"/>
                  </a:lnTo>
                  <a:lnTo>
                    <a:pt x="1059" y="157"/>
                  </a:lnTo>
                  <a:lnTo>
                    <a:pt x="1059" y="194"/>
                  </a:lnTo>
                  <a:lnTo>
                    <a:pt x="1082" y="228"/>
                  </a:lnTo>
                  <a:lnTo>
                    <a:pt x="1112" y="273"/>
                  </a:lnTo>
                  <a:lnTo>
                    <a:pt x="1154" y="300"/>
                  </a:lnTo>
                  <a:lnTo>
                    <a:pt x="1202" y="313"/>
                  </a:lnTo>
                  <a:lnTo>
                    <a:pt x="1255" y="330"/>
                  </a:lnTo>
                  <a:lnTo>
                    <a:pt x="1293" y="336"/>
                  </a:lnTo>
                  <a:lnTo>
                    <a:pt x="1418" y="380"/>
                  </a:lnTo>
                  <a:lnTo>
                    <a:pt x="1489" y="412"/>
                  </a:lnTo>
                  <a:lnTo>
                    <a:pt x="1565" y="475"/>
                  </a:lnTo>
                  <a:lnTo>
                    <a:pt x="1595" y="511"/>
                  </a:lnTo>
                  <a:lnTo>
                    <a:pt x="1605" y="587"/>
                  </a:lnTo>
                  <a:lnTo>
                    <a:pt x="1601" y="612"/>
                  </a:lnTo>
                  <a:lnTo>
                    <a:pt x="1584" y="676"/>
                  </a:lnTo>
                  <a:lnTo>
                    <a:pt x="1555" y="724"/>
                  </a:lnTo>
                  <a:lnTo>
                    <a:pt x="1519" y="733"/>
                  </a:lnTo>
                  <a:lnTo>
                    <a:pt x="1479" y="787"/>
                  </a:lnTo>
                  <a:lnTo>
                    <a:pt x="1422" y="832"/>
                  </a:lnTo>
                  <a:lnTo>
                    <a:pt x="1369" y="872"/>
                  </a:lnTo>
                  <a:lnTo>
                    <a:pt x="1314" y="912"/>
                  </a:lnTo>
                  <a:lnTo>
                    <a:pt x="1266" y="946"/>
                  </a:lnTo>
                  <a:lnTo>
                    <a:pt x="1033" y="1011"/>
                  </a:lnTo>
                  <a:lnTo>
                    <a:pt x="791" y="939"/>
                  </a:lnTo>
                  <a:lnTo>
                    <a:pt x="791" y="93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36800" y="3932280"/>
              <a:ext cx="3382920" cy="2576520"/>
            </a:xfrm>
            <a:custGeom>
              <a:avLst/>
              <a:gdLst/>
              <a:ahLst/>
              <a:rect l="l" t="t" r="r" b="b"/>
              <a:pathLst>
                <a:path w="2790" h="2106">
                  <a:moveTo>
                    <a:pt x="80" y="2106"/>
                  </a:moveTo>
                  <a:lnTo>
                    <a:pt x="235" y="2102"/>
                  </a:lnTo>
                  <a:lnTo>
                    <a:pt x="386" y="2102"/>
                  </a:lnTo>
                  <a:lnTo>
                    <a:pt x="560" y="2093"/>
                  </a:lnTo>
                  <a:lnTo>
                    <a:pt x="775" y="2093"/>
                  </a:lnTo>
                  <a:lnTo>
                    <a:pt x="982" y="2089"/>
                  </a:lnTo>
                  <a:lnTo>
                    <a:pt x="992" y="2055"/>
                  </a:lnTo>
                  <a:lnTo>
                    <a:pt x="952" y="1996"/>
                  </a:lnTo>
                  <a:lnTo>
                    <a:pt x="922" y="1874"/>
                  </a:lnTo>
                  <a:lnTo>
                    <a:pt x="893" y="1773"/>
                  </a:lnTo>
                  <a:lnTo>
                    <a:pt x="895" y="1682"/>
                  </a:lnTo>
                  <a:lnTo>
                    <a:pt x="908" y="1570"/>
                  </a:lnTo>
                  <a:lnTo>
                    <a:pt x="958" y="1473"/>
                  </a:lnTo>
                  <a:lnTo>
                    <a:pt x="1059" y="1353"/>
                  </a:lnTo>
                  <a:lnTo>
                    <a:pt x="1078" y="1325"/>
                  </a:lnTo>
                  <a:lnTo>
                    <a:pt x="1123" y="1302"/>
                  </a:lnTo>
                  <a:lnTo>
                    <a:pt x="1211" y="1277"/>
                  </a:lnTo>
                  <a:lnTo>
                    <a:pt x="1275" y="1258"/>
                  </a:lnTo>
                  <a:lnTo>
                    <a:pt x="1342" y="1251"/>
                  </a:lnTo>
                  <a:lnTo>
                    <a:pt x="1431" y="1251"/>
                  </a:lnTo>
                  <a:lnTo>
                    <a:pt x="1498" y="1275"/>
                  </a:lnTo>
                  <a:lnTo>
                    <a:pt x="1574" y="1294"/>
                  </a:lnTo>
                  <a:lnTo>
                    <a:pt x="1633" y="1294"/>
                  </a:lnTo>
                  <a:lnTo>
                    <a:pt x="1731" y="1298"/>
                  </a:lnTo>
                  <a:lnTo>
                    <a:pt x="1828" y="1298"/>
                  </a:lnTo>
                  <a:lnTo>
                    <a:pt x="1923" y="1281"/>
                  </a:lnTo>
                  <a:lnTo>
                    <a:pt x="2000" y="1258"/>
                  </a:lnTo>
                  <a:lnTo>
                    <a:pt x="2076" y="1222"/>
                  </a:lnTo>
                  <a:lnTo>
                    <a:pt x="2136" y="1182"/>
                  </a:lnTo>
                  <a:lnTo>
                    <a:pt x="2174" y="1133"/>
                  </a:lnTo>
                  <a:lnTo>
                    <a:pt x="2214" y="1062"/>
                  </a:lnTo>
                  <a:lnTo>
                    <a:pt x="2218" y="986"/>
                  </a:lnTo>
                  <a:lnTo>
                    <a:pt x="2214" y="905"/>
                  </a:lnTo>
                  <a:lnTo>
                    <a:pt x="2192" y="794"/>
                  </a:lnTo>
                  <a:lnTo>
                    <a:pt x="2161" y="715"/>
                  </a:lnTo>
                  <a:lnTo>
                    <a:pt x="2161" y="633"/>
                  </a:lnTo>
                  <a:lnTo>
                    <a:pt x="2188" y="597"/>
                  </a:lnTo>
                  <a:lnTo>
                    <a:pt x="2235" y="572"/>
                  </a:lnTo>
                  <a:lnTo>
                    <a:pt x="2307" y="544"/>
                  </a:lnTo>
                  <a:lnTo>
                    <a:pt x="2439" y="540"/>
                  </a:lnTo>
                  <a:lnTo>
                    <a:pt x="2503" y="523"/>
                  </a:lnTo>
                  <a:lnTo>
                    <a:pt x="2589" y="473"/>
                  </a:lnTo>
                  <a:lnTo>
                    <a:pt x="2625" y="437"/>
                  </a:lnTo>
                  <a:lnTo>
                    <a:pt x="2661" y="393"/>
                  </a:lnTo>
                  <a:lnTo>
                    <a:pt x="2703" y="321"/>
                  </a:lnTo>
                  <a:lnTo>
                    <a:pt x="2729" y="255"/>
                  </a:lnTo>
                  <a:lnTo>
                    <a:pt x="2760" y="192"/>
                  </a:lnTo>
                  <a:lnTo>
                    <a:pt x="2769" y="116"/>
                  </a:lnTo>
                  <a:lnTo>
                    <a:pt x="2783" y="44"/>
                  </a:lnTo>
                  <a:lnTo>
                    <a:pt x="2790" y="13"/>
                  </a:lnTo>
                  <a:lnTo>
                    <a:pt x="2724" y="0"/>
                  </a:lnTo>
                  <a:lnTo>
                    <a:pt x="2722" y="44"/>
                  </a:lnTo>
                  <a:lnTo>
                    <a:pt x="2676" y="129"/>
                  </a:lnTo>
                  <a:lnTo>
                    <a:pt x="2642" y="192"/>
                  </a:lnTo>
                  <a:lnTo>
                    <a:pt x="2615" y="255"/>
                  </a:lnTo>
                  <a:lnTo>
                    <a:pt x="2570" y="302"/>
                  </a:lnTo>
                  <a:lnTo>
                    <a:pt x="2482" y="367"/>
                  </a:lnTo>
                  <a:lnTo>
                    <a:pt x="2420" y="397"/>
                  </a:lnTo>
                  <a:lnTo>
                    <a:pt x="2336" y="401"/>
                  </a:lnTo>
                  <a:lnTo>
                    <a:pt x="2186" y="405"/>
                  </a:lnTo>
                  <a:lnTo>
                    <a:pt x="2136" y="414"/>
                  </a:lnTo>
                  <a:lnTo>
                    <a:pt x="2072" y="443"/>
                  </a:lnTo>
                  <a:lnTo>
                    <a:pt x="2011" y="486"/>
                  </a:lnTo>
                  <a:lnTo>
                    <a:pt x="1988" y="517"/>
                  </a:lnTo>
                  <a:lnTo>
                    <a:pt x="1981" y="620"/>
                  </a:lnTo>
                  <a:lnTo>
                    <a:pt x="1954" y="730"/>
                  </a:lnTo>
                  <a:lnTo>
                    <a:pt x="1897" y="791"/>
                  </a:lnTo>
                  <a:lnTo>
                    <a:pt x="1811" y="831"/>
                  </a:lnTo>
                  <a:lnTo>
                    <a:pt x="1752" y="863"/>
                  </a:lnTo>
                  <a:lnTo>
                    <a:pt x="1600" y="893"/>
                  </a:lnTo>
                  <a:lnTo>
                    <a:pt x="1463" y="920"/>
                  </a:lnTo>
                  <a:lnTo>
                    <a:pt x="1395" y="927"/>
                  </a:lnTo>
                  <a:lnTo>
                    <a:pt x="1309" y="941"/>
                  </a:lnTo>
                  <a:lnTo>
                    <a:pt x="1311" y="931"/>
                  </a:lnTo>
                  <a:lnTo>
                    <a:pt x="859" y="914"/>
                  </a:lnTo>
                  <a:lnTo>
                    <a:pt x="779" y="964"/>
                  </a:lnTo>
                  <a:lnTo>
                    <a:pt x="751" y="1009"/>
                  </a:lnTo>
                  <a:lnTo>
                    <a:pt x="595" y="1116"/>
                  </a:lnTo>
                  <a:lnTo>
                    <a:pt x="363" y="1207"/>
                  </a:lnTo>
                  <a:lnTo>
                    <a:pt x="291" y="1245"/>
                  </a:lnTo>
                  <a:lnTo>
                    <a:pt x="214" y="1327"/>
                  </a:lnTo>
                  <a:lnTo>
                    <a:pt x="148" y="1378"/>
                  </a:lnTo>
                  <a:lnTo>
                    <a:pt x="95" y="1460"/>
                  </a:lnTo>
                  <a:lnTo>
                    <a:pt x="80" y="1532"/>
                  </a:lnTo>
                  <a:lnTo>
                    <a:pt x="40" y="1581"/>
                  </a:lnTo>
                  <a:lnTo>
                    <a:pt x="13" y="1684"/>
                  </a:lnTo>
                  <a:lnTo>
                    <a:pt x="0" y="1811"/>
                  </a:lnTo>
                  <a:lnTo>
                    <a:pt x="13" y="1899"/>
                  </a:lnTo>
                  <a:lnTo>
                    <a:pt x="49" y="2045"/>
                  </a:lnTo>
                  <a:lnTo>
                    <a:pt x="80" y="2106"/>
                  </a:lnTo>
                  <a:lnTo>
                    <a:pt x="80" y="210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3880" y="4500720"/>
              <a:ext cx="149400" cy="19512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40" y="159"/>
                  </a:moveTo>
                  <a:lnTo>
                    <a:pt x="32" y="133"/>
                  </a:lnTo>
                  <a:lnTo>
                    <a:pt x="24" y="108"/>
                  </a:lnTo>
                  <a:lnTo>
                    <a:pt x="9" y="97"/>
                  </a:lnTo>
                  <a:lnTo>
                    <a:pt x="0" y="76"/>
                  </a:lnTo>
                  <a:lnTo>
                    <a:pt x="0" y="49"/>
                  </a:lnTo>
                  <a:lnTo>
                    <a:pt x="17" y="17"/>
                  </a:lnTo>
                  <a:lnTo>
                    <a:pt x="32" y="0"/>
                  </a:lnTo>
                  <a:lnTo>
                    <a:pt x="70" y="2"/>
                  </a:lnTo>
                  <a:lnTo>
                    <a:pt x="93" y="9"/>
                  </a:lnTo>
                  <a:lnTo>
                    <a:pt x="108" y="26"/>
                  </a:lnTo>
                  <a:lnTo>
                    <a:pt x="123" y="45"/>
                  </a:lnTo>
                  <a:lnTo>
                    <a:pt x="123" y="70"/>
                  </a:lnTo>
                  <a:lnTo>
                    <a:pt x="112" y="85"/>
                  </a:lnTo>
                  <a:lnTo>
                    <a:pt x="102" y="108"/>
                  </a:lnTo>
                  <a:lnTo>
                    <a:pt x="100" y="129"/>
                  </a:lnTo>
                  <a:lnTo>
                    <a:pt x="97" y="148"/>
                  </a:lnTo>
                  <a:lnTo>
                    <a:pt x="62" y="156"/>
                  </a:lnTo>
                  <a:lnTo>
                    <a:pt x="40" y="159"/>
                  </a:lnTo>
                  <a:lnTo>
                    <a:pt x="40" y="159"/>
                  </a:lnTo>
                  <a:close/>
                </a:path>
              </a:pathLst>
            </a:custGeom>
            <a:solidFill>
              <a:srgbClr val="6b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9520" y="4473720"/>
              <a:ext cx="157320" cy="12384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0" y="66"/>
                  </a:moveTo>
                  <a:lnTo>
                    <a:pt x="27" y="61"/>
                  </a:lnTo>
                  <a:lnTo>
                    <a:pt x="46" y="38"/>
                  </a:lnTo>
                  <a:lnTo>
                    <a:pt x="63" y="21"/>
                  </a:lnTo>
                  <a:lnTo>
                    <a:pt x="86" y="4"/>
                  </a:lnTo>
                  <a:lnTo>
                    <a:pt x="116" y="0"/>
                  </a:lnTo>
                  <a:lnTo>
                    <a:pt x="131" y="21"/>
                  </a:lnTo>
                  <a:lnTo>
                    <a:pt x="108" y="38"/>
                  </a:lnTo>
                  <a:lnTo>
                    <a:pt x="95" y="53"/>
                  </a:lnTo>
                  <a:lnTo>
                    <a:pt x="99" y="64"/>
                  </a:lnTo>
                  <a:lnTo>
                    <a:pt x="108" y="64"/>
                  </a:lnTo>
                  <a:lnTo>
                    <a:pt x="125" y="64"/>
                  </a:lnTo>
                  <a:lnTo>
                    <a:pt x="116" y="74"/>
                  </a:lnTo>
                  <a:lnTo>
                    <a:pt x="95" y="74"/>
                  </a:lnTo>
                  <a:lnTo>
                    <a:pt x="76" y="83"/>
                  </a:lnTo>
                  <a:lnTo>
                    <a:pt x="53" y="93"/>
                  </a:lnTo>
                  <a:lnTo>
                    <a:pt x="27" y="101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41320" y="5151600"/>
              <a:ext cx="86040" cy="11736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40" y="0"/>
                  </a:moveTo>
                  <a:lnTo>
                    <a:pt x="31" y="17"/>
                  </a:lnTo>
                  <a:lnTo>
                    <a:pt x="14" y="26"/>
                  </a:lnTo>
                  <a:lnTo>
                    <a:pt x="0" y="44"/>
                  </a:lnTo>
                  <a:lnTo>
                    <a:pt x="6" y="53"/>
                  </a:lnTo>
                  <a:lnTo>
                    <a:pt x="27" y="40"/>
                  </a:lnTo>
                  <a:lnTo>
                    <a:pt x="23" y="53"/>
                  </a:lnTo>
                  <a:lnTo>
                    <a:pt x="14" y="63"/>
                  </a:lnTo>
                  <a:lnTo>
                    <a:pt x="14" y="74"/>
                  </a:lnTo>
                  <a:lnTo>
                    <a:pt x="23" y="97"/>
                  </a:lnTo>
                  <a:lnTo>
                    <a:pt x="44" y="85"/>
                  </a:lnTo>
                  <a:lnTo>
                    <a:pt x="59" y="63"/>
                  </a:lnTo>
                  <a:lnTo>
                    <a:pt x="71" y="30"/>
                  </a:lnTo>
                  <a:lnTo>
                    <a:pt x="71" y="1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25480" y="5762520"/>
              <a:ext cx="135000" cy="9864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4" y="7"/>
                  </a:moveTo>
                  <a:lnTo>
                    <a:pt x="0" y="43"/>
                  </a:lnTo>
                  <a:lnTo>
                    <a:pt x="0" y="76"/>
                  </a:lnTo>
                  <a:lnTo>
                    <a:pt x="40" y="80"/>
                  </a:lnTo>
                  <a:lnTo>
                    <a:pt x="97" y="70"/>
                  </a:lnTo>
                  <a:lnTo>
                    <a:pt x="112" y="53"/>
                  </a:lnTo>
                  <a:lnTo>
                    <a:pt x="112" y="32"/>
                  </a:lnTo>
                  <a:lnTo>
                    <a:pt x="89" y="32"/>
                  </a:lnTo>
                  <a:lnTo>
                    <a:pt x="76" y="30"/>
                  </a:lnTo>
                  <a:lnTo>
                    <a:pt x="57" y="30"/>
                  </a:lnTo>
                  <a:lnTo>
                    <a:pt x="46" y="21"/>
                  </a:lnTo>
                  <a:lnTo>
                    <a:pt x="44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3880" y="5827680"/>
              <a:ext cx="139680" cy="92160"/>
            </a:xfrm>
            <a:custGeom>
              <a:avLst/>
              <a:gdLst/>
              <a:ahLst/>
              <a:rect l="l" t="t" r="r" b="b"/>
              <a:pathLst>
                <a:path w="116" h="76">
                  <a:moveTo>
                    <a:pt x="0" y="9"/>
                  </a:moveTo>
                  <a:lnTo>
                    <a:pt x="0" y="47"/>
                  </a:lnTo>
                  <a:lnTo>
                    <a:pt x="0" y="76"/>
                  </a:lnTo>
                  <a:lnTo>
                    <a:pt x="24" y="74"/>
                  </a:lnTo>
                  <a:lnTo>
                    <a:pt x="47" y="70"/>
                  </a:lnTo>
                  <a:lnTo>
                    <a:pt x="70" y="59"/>
                  </a:lnTo>
                  <a:lnTo>
                    <a:pt x="93" y="47"/>
                  </a:lnTo>
                  <a:lnTo>
                    <a:pt x="108" y="40"/>
                  </a:lnTo>
                  <a:lnTo>
                    <a:pt x="116" y="23"/>
                  </a:lnTo>
                  <a:lnTo>
                    <a:pt x="108" y="9"/>
                  </a:lnTo>
                  <a:lnTo>
                    <a:pt x="80" y="9"/>
                  </a:lnTo>
                  <a:lnTo>
                    <a:pt x="57" y="17"/>
                  </a:lnTo>
                  <a:lnTo>
                    <a:pt x="36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79600" y="5140440"/>
              <a:ext cx="365040" cy="703080"/>
            </a:xfrm>
            <a:custGeom>
              <a:avLst/>
              <a:gdLst/>
              <a:ahLst/>
              <a:rect l="l" t="t" r="r" b="b"/>
              <a:pathLst>
                <a:path w="298" h="576">
                  <a:moveTo>
                    <a:pt x="7" y="10"/>
                  </a:moveTo>
                  <a:lnTo>
                    <a:pt x="60" y="4"/>
                  </a:lnTo>
                  <a:lnTo>
                    <a:pt x="110" y="0"/>
                  </a:lnTo>
                  <a:lnTo>
                    <a:pt x="165" y="0"/>
                  </a:lnTo>
                  <a:lnTo>
                    <a:pt x="192" y="8"/>
                  </a:lnTo>
                  <a:lnTo>
                    <a:pt x="192" y="54"/>
                  </a:lnTo>
                  <a:lnTo>
                    <a:pt x="205" y="99"/>
                  </a:lnTo>
                  <a:lnTo>
                    <a:pt x="228" y="130"/>
                  </a:lnTo>
                  <a:lnTo>
                    <a:pt x="258" y="170"/>
                  </a:lnTo>
                  <a:lnTo>
                    <a:pt x="273" y="213"/>
                  </a:lnTo>
                  <a:lnTo>
                    <a:pt x="290" y="251"/>
                  </a:lnTo>
                  <a:lnTo>
                    <a:pt x="298" y="291"/>
                  </a:lnTo>
                  <a:lnTo>
                    <a:pt x="290" y="341"/>
                  </a:lnTo>
                  <a:lnTo>
                    <a:pt x="281" y="407"/>
                  </a:lnTo>
                  <a:lnTo>
                    <a:pt x="268" y="460"/>
                  </a:lnTo>
                  <a:lnTo>
                    <a:pt x="264" y="504"/>
                  </a:lnTo>
                  <a:lnTo>
                    <a:pt x="228" y="514"/>
                  </a:lnTo>
                  <a:lnTo>
                    <a:pt x="192" y="517"/>
                  </a:lnTo>
                  <a:lnTo>
                    <a:pt x="197" y="491"/>
                  </a:lnTo>
                  <a:lnTo>
                    <a:pt x="201" y="466"/>
                  </a:lnTo>
                  <a:lnTo>
                    <a:pt x="209" y="432"/>
                  </a:lnTo>
                  <a:lnTo>
                    <a:pt x="211" y="394"/>
                  </a:lnTo>
                  <a:lnTo>
                    <a:pt x="218" y="361"/>
                  </a:lnTo>
                  <a:lnTo>
                    <a:pt x="224" y="322"/>
                  </a:lnTo>
                  <a:lnTo>
                    <a:pt x="220" y="299"/>
                  </a:lnTo>
                  <a:lnTo>
                    <a:pt x="193" y="265"/>
                  </a:lnTo>
                  <a:lnTo>
                    <a:pt x="169" y="236"/>
                  </a:lnTo>
                  <a:lnTo>
                    <a:pt x="155" y="215"/>
                  </a:lnTo>
                  <a:lnTo>
                    <a:pt x="133" y="190"/>
                  </a:lnTo>
                  <a:lnTo>
                    <a:pt x="125" y="225"/>
                  </a:lnTo>
                  <a:lnTo>
                    <a:pt x="129" y="268"/>
                  </a:lnTo>
                  <a:lnTo>
                    <a:pt x="116" y="308"/>
                  </a:lnTo>
                  <a:lnTo>
                    <a:pt x="106" y="367"/>
                  </a:lnTo>
                  <a:lnTo>
                    <a:pt x="102" y="417"/>
                  </a:lnTo>
                  <a:lnTo>
                    <a:pt x="98" y="451"/>
                  </a:lnTo>
                  <a:lnTo>
                    <a:pt x="87" y="485"/>
                  </a:lnTo>
                  <a:lnTo>
                    <a:pt x="93" y="519"/>
                  </a:lnTo>
                  <a:lnTo>
                    <a:pt x="95" y="557"/>
                  </a:lnTo>
                  <a:lnTo>
                    <a:pt x="43" y="572"/>
                  </a:lnTo>
                  <a:lnTo>
                    <a:pt x="3" y="576"/>
                  </a:lnTo>
                  <a:lnTo>
                    <a:pt x="13" y="500"/>
                  </a:lnTo>
                  <a:lnTo>
                    <a:pt x="30" y="398"/>
                  </a:lnTo>
                  <a:lnTo>
                    <a:pt x="22" y="285"/>
                  </a:lnTo>
                  <a:lnTo>
                    <a:pt x="36" y="213"/>
                  </a:lnTo>
                  <a:lnTo>
                    <a:pt x="3" y="126"/>
                  </a:lnTo>
                  <a:lnTo>
                    <a:pt x="0" y="44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3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81240" y="4556160"/>
              <a:ext cx="622080" cy="625320"/>
            </a:xfrm>
            <a:custGeom>
              <a:avLst/>
              <a:gdLst/>
              <a:ahLst/>
              <a:rect l="l" t="t" r="r" b="b"/>
              <a:pathLst>
                <a:path w="513" h="512">
                  <a:moveTo>
                    <a:pt x="72" y="0"/>
                  </a:moveTo>
                  <a:lnTo>
                    <a:pt x="93" y="21"/>
                  </a:lnTo>
                  <a:lnTo>
                    <a:pt x="126" y="44"/>
                  </a:lnTo>
                  <a:lnTo>
                    <a:pt x="110" y="71"/>
                  </a:lnTo>
                  <a:lnTo>
                    <a:pt x="99" y="90"/>
                  </a:lnTo>
                  <a:lnTo>
                    <a:pt x="80" y="101"/>
                  </a:lnTo>
                  <a:lnTo>
                    <a:pt x="80" y="116"/>
                  </a:lnTo>
                  <a:lnTo>
                    <a:pt x="103" y="130"/>
                  </a:lnTo>
                  <a:lnTo>
                    <a:pt x="139" y="133"/>
                  </a:lnTo>
                  <a:lnTo>
                    <a:pt x="169" y="141"/>
                  </a:lnTo>
                  <a:lnTo>
                    <a:pt x="219" y="143"/>
                  </a:lnTo>
                  <a:lnTo>
                    <a:pt x="245" y="120"/>
                  </a:lnTo>
                  <a:lnTo>
                    <a:pt x="268" y="114"/>
                  </a:lnTo>
                  <a:lnTo>
                    <a:pt x="299" y="103"/>
                  </a:lnTo>
                  <a:lnTo>
                    <a:pt x="304" y="147"/>
                  </a:lnTo>
                  <a:lnTo>
                    <a:pt x="331" y="168"/>
                  </a:lnTo>
                  <a:lnTo>
                    <a:pt x="380" y="196"/>
                  </a:lnTo>
                  <a:lnTo>
                    <a:pt x="420" y="223"/>
                  </a:lnTo>
                  <a:lnTo>
                    <a:pt x="453" y="259"/>
                  </a:lnTo>
                  <a:lnTo>
                    <a:pt x="474" y="304"/>
                  </a:lnTo>
                  <a:lnTo>
                    <a:pt x="506" y="335"/>
                  </a:lnTo>
                  <a:lnTo>
                    <a:pt x="513" y="379"/>
                  </a:lnTo>
                  <a:lnTo>
                    <a:pt x="500" y="411"/>
                  </a:lnTo>
                  <a:lnTo>
                    <a:pt x="487" y="460"/>
                  </a:lnTo>
                  <a:lnTo>
                    <a:pt x="470" y="485"/>
                  </a:lnTo>
                  <a:lnTo>
                    <a:pt x="466" y="512"/>
                  </a:lnTo>
                  <a:lnTo>
                    <a:pt x="437" y="494"/>
                  </a:lnTo>
                  <a:lnTo>
                    <a:pt x="407" y="481"/>
                  </a:lnTo>
                  <a:lnTo>
                    <a:pt x="428" y="455"/>
                  </a:lnTo>
                  <a:lnTo>
                    <a:pt x="447" y="418"/>
                  </a:lnTo>
                  <a:lnTo>
                    <a:pt x="451" y="392"/>
                  </a:lnTo>
                  <a:lnTo>
                    <a:pt x="434" y="371"/>
                  </a:lnTo>
                  <a:lnTo>
                    <a:pt x="411" y="358"/>
                  </a:lnTo>
                  <a:lnTo>
                    <a:pt x="384" y="335"/>
                  </a:lnTo>
                  <a:lnTo>
                    <a:pt x="384" y="358"/>
                  </a:lnTo>
                  <a:lnTo>
                    <a:pt x="377" y="407"/>
                  </a:lnTo>
                  <a:lnTo>
                    <a:pt x="363" y="455"/>
                  </a:lnTo>
                  <a:lnTo>
                    <a:pt x="354" y="481"/>
                  </a:lnTo>
                  <a:lnTo>
                    <a:pt x="287" y="477"/>
                  </a:lnTo>
                  <a:lnTo>
                    <a:pt x="238" y="481"/>
                  </a:lnTo>
                  <a:lnTo>
                    <a:pt x="173" y="485"/>
                  </a:lnTo>
                  <a:lnTo>
                    <a:pt x="175" y="447"/>
                  </a:lnTo>
                  <a:lnTo>
                    <a:pt x="160" y="401"/>
                  </a:lnTo>
                  <a:lnTo>
                    <a:pt x="143" y="365"/>
                  </a:lnTo>
                  <a:lnTo>
                    <a:pt x="126" y="299"/>
                  </a:lnTo>
                  <a:lnTo>
                    <a:pt x="86" y="259"/>
                  </a:lnTo>
                  <a:lnTo>
                    <a:pt x="23" y="236"/>
                  </a:lnTo>
                  <a:lnTo>
                    <a:pt x="0" y="173"/>
                  </a:lnTo>
                  <a:lnTo>
                    <a:pt x="8" y="116"/>
                  </a:lnTo>
                  <a:lnTo>
                    <a:pt x="8" y="67"/>
                  </a:lnTo>
                  <a:lnTo>
                    <a:pt x="19" y="35"/>
                  </a:lnTo>
                  <a:lnTo>
                    <a:pt x="57" y="4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65400" y="4532400"/>
              <a:ext cx="244440" cy="619200"/>
            </a:xfrm>
            <a:custGeom>
              <a:avLst/>
              <a:gdLst/>
              <a:ahLst/>
              <a:rect l="l" t="t" r="r" b="b"/>
              <a:pathLst>
                <a:path w="201" h="506">
                  <a:moveTo>
                    <a:pt x="82" y="0"/>
                  </a:moveTo>
                  <a:lnTo>
                    <a:pt x="59" y="23"/>
                  </a:lnTo>
                  <a:lnTo>
                    <a:pt x="44" y="36"/>
                  </a:lnTo>
                  <a:lnTo>
                    <a:pt x="26" y="59"/>
                  </a:lnTo>
                  <a:lnTo>
                    <a:pt x="17" y="82"/>
                  </a:lnTo>
                  <a:lnTo>
                    <a:pt x="6" y="103"/>
                  </a:lnTo>
                  <a:lnTo>
                    <a:pt x="4" y="122"/>
                  </a:lnTo>
                  <a:lnTo>
                    <a:pt x="4" y="152"/>
                  </a:lnTo>
                  <a:lnTo>
                    <a:pt x="0" y="179"/>
                  </a:lnTo>
                  <a:lnTo>
                    <a:pt x="6" y="213"/>
                  </a:lnTo>
                  <a:lnTo>
                    <a:pt x="26" y="242"/>
                  </a:lnTo>
                  <a:lnTo>
                    <a:pt x="30" y="259"/>
                  </a:lnTo>
                  <a:lnTo>
                    <a:pt x="66" y="270"/>
                  </a:lnTo>
                  <a:lnTo>
                    <a:pt x="89" y="285"/>
                  </a:lnTo>
                  <a:lnTo>
                    <a:pt x="106" y="297"/>
                  </a:lnTo>
                  <a:lnTo>
                    <a:pt x="116" y="312"/>
                  </a:lnTo>
                  <a:lnTo>
                    <a:pt x="133" y="323"/>
                  </a:lnTo>
                  <a:lnTo>
                    <a:pt x="135" y="339"/>
                  </a:lnTo>
                  <a:lnTo>
                    <a:pt x="142" y="361"/>
                  </a:lnTo>
                  <a:lnTo>
                    <a:pt x="146" y="380"/>
                  </a:lnTo>
                  <a:lnTo>
                    <a:pt x="152" y="399"/>
                  </a:lnTo>
                  <a:lnTo>
                    <a:pt x="161" y="424"/>
                  </a:lnTo>
                  <a:lnTo>
                    <a:pt x="173" y="441"/>
                  </a:lnTo>
                  <a:lnTo>
                    <a:pt x="179" y="456"/>
                  </a:lnTo>
                  <a:lnTo>
                    <a:pt x="179" y="474"/>
                  </a:lnTo>
                  <a:lnTo>
                    <a:pt x="173" y="500"/>
                  </a:lnTo>
                  <a:lnTo>
                    <a:pt x="198" y="506"/>
                  </a:lnTo>
                  <a:lnTo>
                    <a:pt x="201" y="487"/>
                  </a:lnTo>
                  <a:lnTo>
                    <a:pt x="198" y="464"/>
                  </a:lnTo>
                  <a:lnTo>
                    <a:pt x="192" y="447"/>
                  </a:lnTo>
                  <a:lnTo>
                    <a:pt x="186" y="426"/>
                  </a:lnTo>
                  <a:lnTo>
                    <a:pt x="175" y="415"/>
                  </a:lnTo>
                  <a:lnTo>
                    <a:pt x="169" y="398"/>
                  </a:lnTo>
                  <a:lnTo>
                    <a:pt x="161" y="388"/>
                  </a:lnTo>
                  <a:lnTo>
                    <a:pt x="160" y="373"/>
                  </a:lnTo>
                  <a:lnTo>
                    <a:pt x="160" y="365"/>
                  </a:lnTo>
                  <a:lnTo>
                    <a:pt x="152" y="346"/>
                  </a:lnTo>
                  <a:lnTo>
                    <a:pt x="148" y="331"/>
                  </a:lnTo>
                  <a:lnTo>
                    <a:pt x="152" y="318"/>
                  </a:lnTo>
                  <a:lnTo>
                    <a:pt x="146" y="304"/>
                  </a:lnTo>
                  <a:lnTo>
                    <a:pt x="129" y="295"/>
                  </a:lnTo>
                  <a:lnTo>
                    <a:pt x="123" y="291"/>
                  </a:lnTo>
                  <a:lnTo>
                    <a:pt x="116" y="285"/>
                  </a:lnTo>
                  <a:lnTo>
                    <a:pt x="99" y="268"/>
                  </a:lnTo>
                  <a:lnTo>
                    <a:pt x="80" y="259"/>
                  </a:lnTo>
                  <a:lnTo>
                    <a:pt x="49" y="251"/>
                  </a:lnTo>
                  <a:lnTo>
                    <a:pt x="40" y="240"/>
                  </a:lnTo>
                  <a:lnTo>
                    <a:pt x="30" y="221"/>
                  </a:lnTo>
                  <a:lnTo>
                    <a:pt x="23" y="206"/>
                  </a:lnTo>
                  <a:lnTo>
                    <a:pt x="23" y="175"/>
                  </a:lnTo>
                  <a:lnTo>
                    <a:pt x="23" y="143"/>
                  </a:lnTo>
                  <a:lnTo>
                    <a:pt x="23" y="120"/>
                  </a:lnTo>
                  <a:lnTo>
                    <a:pt x="32" y="95"/>
                  </a:lnTo>
                  <a:lnTo>
                    <a:pt x="36" y="76"/>
                  </a:lnTo>
                  <a:lnTo>
                    <a:pt x="49" y="55"/>
                  </a:lnTo>
                  <a:lnTo>
                    <a:pt x="63" y="46"/>
                  </a:lnTo>
                  <a:lnTo>
                    <a:pt x="72" y="33"/>
                  </a:lnTo>
                  <a:lnTo>
                    <a:pt x="89" y="2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3440" y="4532400"/>
              <a:ext cx="111240" cy="241200"/>
            </a:xfrm>
            <a:custGeom>
              <a:avLst/>
              <a:gdLst/>
              <a:ahLst/>
              <a:rect l="l" t="t" r="r" b="b"/>
              <a:pathLst>
                <a:path w="93" h="198">
                  <a:moveTo>
                    <a:pt x="27" y="0"/>
                  </a:moveTo>
                  <a:lnTo>
                    <a:pt x="44" y="14"/>
                  </a:lnTo>
                  <a:lnTo>
                    <a:pt x="57" y="29"/>
                  </a:lnTo>
                  <a:lnTo>
                    <a:pt x="61" y="40"/>
                  </a:lnTo>
                  <a:lnTo>
                    <a:pt x="70" y="44"/>
                  </a:lnTo>
                  <a:lnTo>
                    <a:pt x="78" y="54"/>
                  </a:lnTo>
                  <a:lnTo>
                    <a:pt x="91" y="54"/>
                  </a:lnTo>
                  <a:lnTo>
                    <a:pt x="93" y="55"/>
                  </a:lnTo>
                  <a:lnTo>
                    <a:pt x="91" y="71"/>
                  </a:lnTo>
                  <a:lnTo>
                    <a:pt x="84" y="80"/>
                  </a:lnTo>
                  <a:lnTo>
                    <a:pt x="80" y="90"/>
                  </a:lnTo>
                  <a:lnTo>
                    <a:pt x="74" y="99"/>
                  </a:lnTo>
                  <a:lnTo>
                    <a:pt x="70" y="109"/>
                  </a:lnTo>
                  <a:lnTo>
                    <a:pt x="61" y="116"/>
                  </a:lnTo>
                  <a:lnTo>
                    <a:pt x="44" y="126"/>
                  </a:lnTo>
                  <a:lnTo>
                    <a:pt x="44" y="145"/>
                  </a:lnTo>
                  <a:lnTo>
                    <a:pt x="42" y="166"/>
                  </a:lnTo>
                  <a:lnTo>
                    <a:pt x="17" y="175"/>
                  </a:lnTo>
                  <a:lnTo>
                    <a:pt x="0" y="198"/>
                  </a:lnTo>
                  <a:lnTo>
                    <a:pt x="8" y="160"/>
                  </a:lnTo>
                  <a:lnTo>
                    <a:pt x="27" y="149"/>
                  </a:lnTo>
                  <a:lnTo>
                    <a:pt x="27" y="130"/>
                  </a:lnTo>
                  <a:lnTo>
                    <a:pt x="25" y="112"/>
                  </a:lnTo>
                  <a:lnTo>
                    <a:pt x="42" y="109"/>
                  </a:lnTo>
                  <a:lnTo>
                    <a:pt x="53" y="95"/>
                  </a:lnTo>
                  <a:lnTo>
                    <a:pt x="68" y="80"/>
                  </a:lnTo>
                  <a:lnTo>
                    <a:pt x="78" y="63"/>
                  </a:lnTo>
                  <a:lnTo>
                    <a:pt x="65" y="59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27" y="29"/>
                  </a:lnTo>
                  <a:lnTo>
                    <a:pt x="25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80960" y="4695840"/>
              <a:ext cx="204840" cy="47520"/>
            </a:xfrm>
            <a:custGeom>
              <a:avLst/>
              <a:gdLst/>
              <a:ahLst/>
              <a:rect l="l" t="t" r="r" b="b"/>
              <a:pathLst>
                <a:path w="169" h="38">
                  <a:moveTo>
                    <a:pt x="2" y="0"/>
                  </a:moveTo>
                  <a:lnTo>
                    <a:pt x="19" y="12"/>
                  </a:lnTo>
                  <a:lnTo>
                    <a:pt x="42" y="12"/>
                  </a:lnTo>
                  <a:lnTo>
                    <a:pt x="63" y="12"/>
                  </a:lnTo>
                  <a:lnTo>
                    <a:pt x="76" y="16"/>
                  </a:lnTo>
                  <a:lnTo>
                    <a:pt x="91" y="23"/>
                  </a:lnTo>
                  <a:lnTo>
                    <a:pt x="121" y="23"/>
                  </a:lnTo>
                  <a:lnTo>
                    <a:pt x="142" y="19"/>
                  </a:lnTo>
                  <a:lnTo>
                    <a:pt x="148" y="6"/>
                  </a:lnTo>
                  <a:lnTo>
                    <a:pt x="169" y="6"/>
                  </a:lnTo>
                  <a:lnTo>
                    <a:pt x="161" y="27"/>
                  </a:lnTo>
                  <a:lnTo>
                    <a:pt x="148" y="36"/>
                  </a:lnTo>
                  <a:lnTo>
                    <a:pt x="135" y="38"/>
                  </a:lnTo>
                  <a:lnTo>
                    <a:pt x="112" y="36"/>
                  </a:lnTo>
                  <a:lnTo>
                    <a:pt x="85" y="36"/>
                  </a:lnTo>
                  <a:lnTo>
                    <a:pt x="72" y="33"/>
                  </a:lnTo>
                  <a:lnTo>
                    <a:pt x="55" y="27"/>
                  </a:lnTo>
                  <a:lnTo>
                    <a:pt x="42" y="27"/>
                  </a:lnTo>
                  <a:lnTo>
                    <a:pt x="28" y="23"/>
                  </a:lnTo>
                  <a:lnTo>
                    <a:pt x="11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63840" y="4675320"/>
              <a:ext cx="352440" cy="517320"/>
            </a:xfrm>
            <a:custGeom>
              <a:avLst/>
              <a:gdLst/>
              <a:ahLst/>
              <a:rect l="l" t="t" r="r" b="b"/>
              <a:pathLst>
                <a:path w="293" h="424">
                  <a:moveTo>
                    <a:pt x="0" y="23"/>
                  </a:moveTo>
                  <a:lnTo>
                    <a:pt x="0" y="14"/>
                  </a:lnTo>
                  <a:lnTo>
                    <a:pt x="10" y="10"/>
                  </a:lnTo>
                  <a:lnTo>
                    <a:pt x="21" y="10"/>
                  </a:lnTo>
                  <a:lnTo>
                    <a:pt x="36" y="6"/>
                  </a:lnTo>
                  <a:lnTo>
                    <a:pt x="50" y="6"/>
                  </a:lnTo>
                  <a:lnTo>
                    <a:pt x="67" y="0"/>
                  </a:lnTo>
                  <a:lnTo>
                    <a:pt x="72" y="4"/>
                  </a:lnTo>
                  <a:lnTo>
                    <a:pt x="72" y="19"/>
                  </a:lnTo>
                  <a:lnTo>
                    <a:pt x="76" y="33"/>
                  </a:lnTo>
                  <a:lnTo>
                    <a:pt x="78" y="46"/>
                  </a:lnTo>
                  <a:lnTo>
                    <a:pt x="86" y="53"/>
                  </a:lnTo>
                  <a:lnTo>
                    <a:pt x="95" y="55"/>
                  </a:lnTo>
                  <a:lnTo>
                    <a:pt x="105" y="63"/>
                  </a:lnTo>
                  <a:lnTo>
                    <a:pt x="120" y="72"/>
                  </a:lnTo>
                  <a:lnTo>
                    <a:pt x="135" y="86"/>
                  </a:lnTo>
                  <a:lnTo>
                    <a:pt x="145" y="90"/>
                  </a:lnTo>
                  <a:lnTo>
                    <a:pt x="165" y="99"/>
                  </a:lnTo>
                  <a:lnTo>
                    <a:pt x="179" y="116"/>
                  </a:lnTo>
                  <a:lnTo>
                    <a:pt x="196" y="126"/>
                  </a:lnTo>
                  <a:lnTo>
                    <a:pt x="205" y="135"/>
                  </a:lnTo>
                  <a:lnTo>
                    <a:pt x="224" y="147"/>
                  </a:lnTo>
                  <a:lnTo>
                    <a:pt x="238" y="179"/>
                  </a:lnTo>
                  <a:lnTo>
                    <a:pt x="245" y="192"/>
                  </a:lnTo>
                  <a:lnTo>
                    <a:pt x="259" y="207"/>
                  </a:lnTo>
                  <a:lnTo>
                    <a:pt x="278" y="230"/>
                  </a:lnTo>
                  <a:lnTo>
                    <a:pt x="287" y="251"/>
                  </a:lnTo>
                  <a:lnTo>
                    <a:pt x="293" y="282"/>
                  </a:lnTo>
                  <a:lnTo>
                    <a:pt x="281" y="308"/>
                  </a:lnTo>
                  <a:lnTo>
                    <a:pt x="268" y="340"/>
                  </a:lnTo>
                  <a:lnTo>
                    <a:pt x="261" y="371"/>
                  </a:lnTo>
                  <a:lnTo>
                    <a:pt x="245" y="390"/>
                  </a:lnTo>
                  <a:lnTo>
                    <a:pt x="242" y="424"/>
                  </a:lnTo>
                  <a:lnTo>
                    <a:pt x="224" y="415"/>
                  </a:lnTo>
                  <a:lnTo>
                    <a:pt x="196" y="399"/>
                  </a:lnTo>
                  <a:lnTo>
                    <a:pt x="184" y="394"/>
                  </a:lnTo>
                  <a:lnTo>
                    <a:pt x="165" y="388"/>
                  </a:lnTo>
                  <a:lnTo>
                    <a:pt x="181" y="367"/>
                  </a:lnTo>
                  <a:lnTo>
                    <a:pt x="188" y="348"/>
                  </a:lnTo>
                  <a:lnTo>
                    <a:pt x="207" y="325"/>
                  </a:lnTo>
                  <a:lnTo>
                    <a:pt x="211" y="295"/>
                  </a:lnTo>
                  <a:lnTo>
                    <a:pt x="196" y="282"/>
                  </a:lnTo>
                  <a:lnTo>
                    <a:pt x="165" y="261"/>
                  </a:lnTo>
                  <a:lnTo>
                    <a:pt x="145" y="245"/>
                  </a:lnTo>
                  <a:lnTo>
                    <a:pt x="139" y="230"/>
                  </a:lnTo>
                  <a:lnTo>
                    <a:pt x="122" y="196"/>
                  </a:lnTo>
                  <a:lnTo>
                    <a:pt x="152" y="223"/>
                  </a:lnTo>
                  <a:lnTo>
                    <a:pt x="169" y="238"/>
                  </a:lnTo>
                  <a:lnTo>
                    <a:pt x="181" y="255"/>
                  </a:lnTo>
                  <a:lnTo>
                    <a:pt x="198" y="268"/>
                  </a:lnTo>
                  <a:lnTo>
                    <a:pt x="219" y="278"/>
                  </a:lnTo>
                  <a:lnTo>
                    <a:pt x="228" y="299"/>
                  </a:lnTo>
                  <a:lnTo>
                    <a:pt x="219" y="325"/>
                  </a:lnTo>
                  <a:lnTo>
                    <a:pt x="207" y="344"/>
                  </a:lnTo>
                  <a:lnTo>
                    <a:pt x="202" y="367"/>
                  </a:lnTo>
                  <a:lnTo>
                    <a:pt x="188" y="384"/>
                  </a:lnTo>
                  <a:lnTo>
                    <a:pt x="202" y="390"/>
                  </a:lnTo>
                  <a:lnTo>
                    <a:pt x="221" y="394"/>
                  </a:lnTo>
                  <a:lnTo>
                    <a:pt x="232" y="403"/>
                  </a:lnTo>
                  <a:lnTo>
                    <a:pt x="238" y="380"/>
                  </a:lnTo>
                  <a:lnTo>
                    <a:pt x="247" y="367"/>
                  </a:lnTo>
                  <a:lnTo>
                    <a:pt x="259" y="344"/>
                  </a:lnTo>
                  <a:lnTo>
                    <a:pt x="264" y="318"/>
                  </a:lnTo>
                  <a:lnTo>
                    <a:pt x="274" y="295"/>
                  </a:lnTo>
                  <a:lnTo>
                    <a:pt x="274" y="268"/>
                  </a:lnTo>
                  <a:lnTo>
                    <a:pt x="264" y="245"/>
                  </a:lnTo>
                  <a:lnTo>
                    <a:pt x="259" y="234"/>
                  </a:lnTo>
                  <a:lnTo>
                    <a:pt x="234" y="215"/>
                  </a:lnTo>
                  <a:lnTo>
                    <a:pt x="224" y="188"/>
                  </a:lnTo>
                  <a:lnTo>
                    <a:pt x="211" y="166"/>
                  </a:lnTo>
                  <a:lnTo>
                    <a:pt x="188" y="143"/>
                  </a:lnTo>
                  <a:lnTo>
                    <a:pt x="169" y="126"/>
                  </a:lnTo>
                  <a:lnTo>
                    <a:pt x="158" y="112"/>
                  </a:lnTo>
                  <a:lnTo>
                    <a:pt x="139" y="99"/>
                  </a:lnTo>
                  <a:lnTo>
                    <a:pt x="120" y="86"/>
                  </a:lnTo>
                  <a:lnTo>
                    <a:pt x="95" y="80"/>
                  </a:lnTo>
                  <a:lnTo>
                    <a:pt x="78" y="67"/>
                  </a:lnTo>
                  <a:lnTo>
                    <a:pt x="70" y="53"/>
                  </a:lnTo>
                  <a:lnTo>
                    <a:pt x="63" y="36"/>
                  </a:lnTo>
                  <a:lnTo>
                    <a:pt x="63" y="14"/>
                  </a:lnTo>
                  <a:lnTo>
                    <a:pt x="50" y="19"/>
                  </a:lnTo>
                  <a:lnTo>
                    <a:pt x="27" y="27"/>
                  </a:lnTo>
                  <a:lnTo>
                    <a:pt x="17" y="27"/>
                  </a:lnTo>
                  <a:lnTo>
                    <a:pt x="6" y="29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08200" y="4952880"/>
              <a:ext cx="42840" cy="195480"/>
            </a:xfrm>
            <a:custGeom>
              <a:avLst/>
              <a:gdLst/>
              <a:ahLst/>
              <a:rect l="l" t="t" r="r" b="b"/>
              <a:pathLst>
                <a:path w="36" h="160">
                  <a:moveTo>
                    <a:pt x="17" y="0"/>
                  </a:moveTo>
                  <a:lnTo>
                    <a:pt x="21" y="29"/>
                  </a:lnTo>
                  <a:lnTo>
                    <a:pt x="23" y="46"/>
                  </a:lnTo>
                  <a:lnTo>
                    <a:pt x="17" y="55"/>
                  </a:lnTo>
                  <a:lnTo>
                    <a:pt x="17" y="73"/>
                  </a:lnTo>
                  <a:lnTo>
                    <a:pt x="13" y="86"/>
                  </a:lnTo>
                  <a:lnTo>
                    <a:pt x="13" y="107"/>
                  </a:lnTo>
                  <a:lnTo>
                    <a:pt x="5" y="126"/>
                  </a:lnTo>
                  <a:lnTo>
                    <a:pt x="0" y="135"/>
                  </a:lnTo>
                  <a:lnTo>
                    <a:pt x="0" y="160"/>
                  </a:lnTo>
                  <a:lnTo>
                    <a:pt x="9" y="160"/>
                  </a:lnTo>
                  <a:lnTo>
                    <a:pt x="13" y="147"/>
                  </a:lnTo>
                  <a:lnTo>
                    <a:pt x="21" y="135"/>
                  </a:lnTo>
                  <a:lnTo>
                    <a:pt x="26" y="122"/>
                  </a:lnTo>
                  <a:lnTo>
                    <a:pt x="26" y="107"/>
                  </a:lnTo>
                  <a:lnTo>
                    <a:pt x="32" y="90"/>
                  </a:lnTo>
                  <a:lnTo>
                    <a:pt x="32" y="67"/>
                  </a:lnTo>
                  <a:lnTo>
                    <a:pt x="36" y="50"/>
                  </a:lnTo>
                  <a:lnTo>
                    <a:pt x="36" y="36"/>
                  </a:lnTo>
                  <a:lnTo>
                    <a:pt x="32" y="27"/>
                  </a:lnTo>
                  <a:lnTo>
                    <a:pt x="32" y="1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2200" y="5124600"/>
              <a:ext cx="223920" cy="3960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0" y="32"/>
                  </a:moveTo>
                  <a:lnTo>
                    <a:pt x="25" y="30"/>
                  </a:lnTo>
                  <a:lnTo>
                    <a:pt x="44" y="30"/>
                  </a:lnTo>
                  <a:lnTo>
                    <a:pt x="63" y="27"/>
                  </a:lnTo>
                  <a:lnTo>
                    <a:pt x="78" y="23"/>
                  </a:lnTo>
                  <a:lnTo>
                    <a:pt x="101" y="27"/>
                  </a:lnTo>
                  <a:lnTo>
                    <a:pt x="127" y="23"/>
                  </a:lnTo>
                  <a:lnTo>
                    <a:pt x="146" y="23"/>
                  </a:lnTo>
                  <a:lnTo>
                    <a:pt x="162" y="23"/>
                  </a:lnTo>
                  <a:lnTo>
                    <a:pt x="183" y="32"/>
                  </a:lnTo>
                  <a:lnTo>
                    <a:pt x="184" y="10"/>
                  </a:lnTo>
                  <a:lnTo>
                    <a:pt x="177" y="8"/>
                  </a:lnTo>
                  <a:lnTo>
                    <a:pt x="162" y="4"/>
                  </a:lnTo>
                  <a:lnTo>
                    <a:pt x="143" y="4"/>
                  </a:lnTo>
                  <a:lnTo>
                    <a:pt x="129" y="4"/>
                  </a:lnTo>
                  <a:lnTo>
                    <a:pt x="107" y="4"/>
                  </a:lnTo>
                  <a:lnTo>
                    <a:pt x="84" y="4"/>
                  </a:lnTo>
                  <a:lnTo>
                    <a:pt x="63" y="0"/>
                  </a:lnTo>
                  <a:lnTo>
                    <a:pt x="40" y="8"/>
                  </a:lnTo>
                  <a:lnTo>
                    <a:pt x="30" y="4"/>
                  </a:lnTo>
                  <a:lnTo>
                    <a:pt x="8" y="1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67000" y="5143680"/>
              <a:ext cx="180720" cy="704520"/>
            </a:xfrm>
            <a:custGeom>
              <a:avLst/>
              <a:gdLst/>
              <a:ahLst/>
              <a:rect l="l" t="t" r="r" b="b"/>
              <a:pathLst>
                <a:path w="150" h="576">
                  <a:moveTo>
                    <a:pt x="8" y="0"/>
                  </a:moveTo>
                  <a:lnTo>
                    <a:pt x="10" y="15"/>
                  </a:lnTo>
                  <a:lnTo>
                    <a:pt x="4" y="40"/>
                  </a:lnTo>
                  <a:lnTo>
                    <a:pt x="0" y="59"/>
                  </a:lnTo>
                  <a:lnTo>
                    <a:pt x="8" y="76"/>
                  </a:lnTo>
                  <a:lnTo>
                    <a:pt x="8" y="103"/>
                  </a:lnTo>
                  <a:lnTo>
                    <a:pt x="10" y="129"/>
                  </a:lnTo>
                  <a:lnTo>
                    <a:pt x="17" y="145"/>
                  </a:lnTo>
                  <a:lnTo>
                    <a:pt x="21" y="166"/>
                  </a:lnTo>
                  <a:lnTo>
                    <a:pt x="31" y="188"/>
                  </a:lnTo>
                  <a:lnTo>
                    <a:pt x="27" y="211"/>
                  </a:lnTo>
                  <a:lnTo>
                    <a:pt x="31" y="238"/>
                  </a:lnTo>
                  <a:lnTo>
                    <a:pt x="27" y="261"/>
                  </a:lnTo>
                  <a:lnTo>
                    <a:pt x="31" y="297"/>
                  </a:lnTo>
                  <a:lnTo>
                    <a:pt x="27" y="323"/>
                  </a:lnTo>
                  <a:lnTo>
                    <a:pt x="31" y="350"/>
                  </a:lnTo>
                  <a:lnTo>
                    <a:pt x="31" y="377"/>
                  </a:lnTo>
                  <a:lnTo>
                    <a:pt x="27" y="403"/>
                  </a:lnTo>
                  <a:lnTo>
                    <a:pt x="23" y="437"/>
                  </a:lnTo>
                  <a:lnTo>
                    <a:pt x="17" y="473"/>
                  </a:lnTo>
                  <a:lnTo>
                    <a:pt x="17" y="500"/>
                  </a:lnTo>
                  <a:lnTo>
                    <a:pt x="14" y="519"/>
                  </a:lnTo>
                  <a:lnTo>
                    <a:pt x="10" y="538"/>
                  </a:lnTo>
                  <a:lnTo>
                    <a:pt x="10" y="559"/>
                  </a:lnTo>
                  <a:lnTo>
                    <a:pt x="8" y="576"/>
                  </a:lnTo>
                  <a:lnTo>
                    <a:pt x="50" y="576"/>
                  </a:lnTo>
                  <a:lnTo>
                    <a:pt x="67" y="572"/>
                  </a:lnTo>
                  <a:lnTo>
                    <a:pt x="97" y="565"/>
                  </a:lnTo>
                  <a:lnTo>
                    <a:pt x="120" y="563"/>
                  </a:lnTo>
                  <a:lnTo>
                    <a:pt x="120" y="538"/>
                  </a:lnTo>
                  <a:lnTo>
                    <a:pt x="120" y="513"/>
                  </a:lnTo>
                  <a:lnTo>
                    <a:pt x="109" y="481"/>
                  </a:lnTo>
                  <a:lnTo>
                    <a:pt x="112" y="473"/>
                  </a:lnTo>
                  <a:lnTo>
                    <a:pt x="120" y="443"/>
                  </a:lnTo>
                  <a:lnTo>
                    <a:pt x="120" y="424"/>
                  </a:lnTo>
                  <a:lnTo>
                    <a:pt x="124" y="401"/>
                  </a:lnTo>
                  <a:lnTo>
                    <a:pt x="126" y="377"/>
                  </a:lnTo>
                  <a:lnTo>
                    <a:pt x="130" y="354"/>
                  </a:lnTo>
                  <a:lnTo>
                    <a:pt x="130" y="335"/>
                  </a:lnTo>
                  <a:lnTo>
                    <a:pt x="135" y="318"/>
                  </a:lnTo>
                  <a:lnTo>
                    <a:pt x="135" y="291"/>
                  </a:lnTo>
                  <a:lnTo>
                    <a:pt x="147" y="268"/>
                  </a:lnTo>
                  <a:lnTo>
                    <a:pt x="147" y="247"/>
                  </a:lnTo>
                  <a:lnTo>
                    <a:pt x="150" y="224"/>
                  </a:lnTo>
                  <a:lnTo>
                    <a:pt x="150" y="211"/>
                  </a:lnTo>
                  <a:lnTo>
                    <a:pt x="150" y="192"/>
                  </a:lnTo>
                  <a:lnTo>
                    <a:pt x="139" y="171"/>
                  </a:lnTo>
                  <a:lnTo>
                    <a:pt x="139" y="198"/>
                  </a:lnTo>
                  <a:lnTo>
                    <a:pt x="131" y="224"/>
                  </a:lnTo>
                  <a:lnTo>
                    <a:pt x="139" y="255"/>
                  </a:lnTo>
                  <a:lnTo>
                    <a:pt x="130" y="281"/>
                  </a:lnTo>
                  <a:lnTo>
                    <a:pt x="124" y="308"/>
                  </a:lnTo>
                  <a:lnTo>
                    <a:pt x="116" y="337"/>
                  </a:lnTo>
                  <a:lnTo>
                    <a:pt x="116" y="361"/>
                  </a:lnTo>
                  <a:lnTo>
                    <a:pt x="116" y="394"/>
                  </a:lnTo>
                  <a:lnTo>
                    <a:pt x="107" y="424"/>
                  </a:lnTo>
                  <a:lnTo>
                    <a:pt x="107" y="451"/>
                  </a:lnTo>
                  <a:lnTo>
                    <a:pt x="93" y="473"/>
                  </a:lnTo>
                  <a:lnTo>
                    <a:pt x="101" y="504"/>
                  </a:lnTo>
                  <a:lnTo>
                    <a:pt x="101" y="527"/>
                  </a:lnTo>
                  <a:lnTo>
                    <a:pt x="101" y="549"/>
                  </a:lnTo>
                  <a:lnTo>
                    <a:pt x="86" y="553"/>
                  </a:lnTo>
                  <a:lnTo>
                    <a:pt x="76" y="557"/>
                  </a:lnTo>
                  <a:lnTo>
                    <a:pt x="59" y="559"/>
                  </a:lnTo>
                  <a:lnTo>
                    <a:pt x="40" y="563"/>
                  </a:lnTo>
                  <a:lnTo>
                    <a:pt x="27" y="565"/>
                  </a:lnTo>
                  <a:lnTo>
                    <a:pt x="27" y="553"/>
                  </a:lnTo>
                  <a:lnTo>
                    <a:pt x="31" y="538"/>
                  </a:lnTo>
                  <a:lnTo>
                    <a:pt x="33" y="519"/>
                  </a:lnTo>
                  <a:lnTo>
                    <a:pt x="36" y="496"/>
                  </a:lnTo>
                  <a:lnTo>
                    <a:pt x="40" y="466"/>
                  </a:lnTo>
                  <a:lnTo>
                    <a:pt x="44" y="434"/>
                  </a:lnTo>
                  <a:lnTo>
                    <a:pt x="48" y="401"/>
                  </a:lnTo>
                  <a:lnTo>
                    <a:pt x="50" y="344"/>
                  </a:lnTo>
                  <a:lnTo>
                    <a:pt x="50" y="318"/>
                  </a:lnTo>
                  <a:lnTo>
                    <a:pt x="50" y="285"/>
                  </a:lnTo>
                  <a:lnTo>
                    <a:pt x="50" y="255"/>
                  </a:lnTo>
                  <a:lnTo>
                    <a:pt x="50" y="236"/>
                  </a:lnTo>
                  <a:lnTo>
                    <a:pt x="50" y="188"/>
                  </a:lnTo>
                  <a:lnTo>
                    <a:pt x="48" y="167"/>
                  </a:lnTo>
                  <a:lnTo>
                    <a:pt x="36" y="156"/>
                  </a:lnTo>
                  <a:lnTo>
                    <a:pt x="33" y="135"/>
                  </a:lnTo>
                  <a:lnTo>
                    <a:pt x="27" y="110"/>
                  </a:lnTo>
                  <a:lnTo>
                    <a:pt x="27" y="89"/>
                  </a:lnTo>
                  <a:lnTo>
                    <a:pt x="27" y="69"/>
                  </a:lnTo>
                  <a:lnTo>
                    <a:pt x="27" y="36"/>
                  </a:lnTo>
                  <a:lnTo>
                    <a:pt x="27" y="19"/>
                  </a:lnTo>
                  <a:lnTo>
                    <a:pt x="31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33680" y="5140440"/>
              <a:ext cx="214200" cy="642960"/>
            </a:xfrm>
            <a:custGeom>
              <a:avLst/>
              <a:gdLst/>
              <a:ahLst/>
              <a:rect l="l" t="t" r="r" b="b"/>
              <a:pathLst>
                <a:path w="179" h="527">
                  <a:moveTo>
                    <a:pt x="72" y="8"/>
                  </a:moveTo>
                  <a:lnTo>
                    <a:pt x="72" y="27"/>
                  </a:lnTo>
                  <a:lnTo>
                    <a:pt x="72" y="50"/>
                  </a:lnTo>
                  <a:lnTo>
                    <a:pt x="72" y="71"/>
                  </a:lnTo>
                  <a:lnTo>
                    <a:pt x="80" y="84"/>
                  </a:lnTo>
                  <a:lnTo>
                    <a:pt x="93" y="103"/>
                  </a:lnTo>
                  <a:lnTo>
                    <a:pt x="106" y="116"/>
                  </a:lnTo>
                  <a:lnTo>
                    <a:pt x="116" y="133"/>
                  </a:lnTo>
                  <a:lnTo>
                    <a:pt x="122" y="147"/>
                  </a:lnTo>
                  <a:lnTo>
                    <a:pt x="133" y="156"/>
                  </a:lnTo>
                  <a:lnTo>
                    <a:pt x="143" y="175"/>
                  </a:lnTo>
                  <a:lnTo>
                    <a:pt x="146" y="196"/>
                  </a:lnTo>
                  <a:lnTo>
                    <a:pt x="156" y="206"/>
                  </a:lnTo>
                  <a:lnTo>
                    <a:pt x="160" y="213"/>
                  </a:lnTo>
                  <a:lnTo>
                    <a:pt x="162" y="228"/>
                  </a:lnTo>
                  <a:lnTo>
                    <a:pt x="169" y="240"/>
                  </a:lnTo>
                  <a:lnTo>
                    <a:pt x="179" y="259"/>
                  </a:lnTo>
                  <a:lnTo>
                    <a:pt x="179" y="274"/>
                  </a:lnTo>
                  <a:lnTo>
                    <a:pt x="179" y="291"/>
                  </a:lnTo>
                  <a:lnTo>
                    <a:pt x="173" y="312"/>
                  </a:lnTo>
                  <a:lnTo>
                    <a:pt x="173" y="341"/>
                  </a:lnTo>
                  <a:lnTo>
                    <a:pt x="165" y="367"/>
                  </a:lnTo>
                  <a:lnTo>
                    <a:pt x="165" y="392"/>
                  </a:lnTo>
                  <a:lnTo>
                    <a:pt x="160" y="415"/>
                  </a:lnTo>
                  <a:lnTo>
                    <a:pt x="156" y="434"/>
                  </a:lnTo>
                  <a:lnTo>
                    <a:pt x="152" y="447"/>
                  </a:lnTo>
                  <a:lnTo>
                    <a:pt x="152" y="464"/>
                  </a:lnTo>
                  <a:lnTo>
                    <a:pt x="148" y="481"/>
                  </a:lnTo>
                  <a:lnTo>
                    <a:pt x="148" y="493"/>
                  </a:lnTo>
                  <a:lnTo>
                    <a:pt x="146" y="508"/>
                  </a:lnTo>
                  <a:lnTo>
                    <a:pt x="146" y="514"/>
                  </a:lnTo>
                  <a:lnTo>
                    <a:pt x="129" y="514"/>
                  </a:lnTo>
                  <a:lnTo>
                    <a:pt x="106" y="517"/>
                  </a:lnTo>
                  <a:lnTo>
                    <a:pt x="80" y="519"/>
                  </a:lnTo>
                  <a:lnTo>
                    <a:pt x="63" y="527"/>
                  </a:lnTo>
                  <a:lnTo>
                    <a:pt x="63" y="508"/>
                  </a:lnTo>
                  <a:lnTo>
                    <a:pt x="67" y="485"/>
                  </a:lnTo>
                  <a:lnTo>
                    <a:pt x="76" y="460"/>
                  </a:lnTo>
                  <a:lnTo>
                    <a:pt x="76" y="428"/>
                  </a:lnTo>
                  <a:lnTo>
                    <a:pt x="86" y="392"/>
                  </a:lnTo>
                  <a:lnTo>
                    <a:pt x="86" y="371"/>
                  </a:lnTo>
                  <a:lnTo>
                    <a:pt x="89" y="352"/>
                  </a:lnTo>
                  <a:lnTo>
                    <a:pt x="93" y="327"/>
                  </a:lnTo>
                  <a:lnTo>
                    <a:pt x="95" y="304"/>
                  </a:lnTo>
                  <a:lnTo>
                    <a:pt x="80" y="285"/>
                  </a:lnTo>
                  <a:lnTo>
                    <a:pt x="57" y="263"/>
                  </a:lnTo>
                  <a:lnTo>
                    <a:pt x="40" y="246"/>
                  </a:lnTo>
                  <a:lnTo>
                    <a:pt x="34" y="221"/>
                  </a:lnTo>
                  <a:lnTo>
                    <a:pt x="19" y="213"/>
                  </a:lnTo>
                  <a:lnTo>
                    <a:pt x="11" y="196"/>
                  </a:lnTo>
                  <a:lnTo>
                    <a:pt x="4" y="190"/>
                  </a:lnTo>
                  <a:lnTo>
                    <a:pt x="0" y="175"/>
                  </a:lnTo>
                  <a:lnTo>
                    <a:pt x="11" y="187"/>
                  </a:lnTo>
                  <a:lnTo>
                    <a:pt x="19" y="196"/>
                  </a:lnTo>
                  <a:lnTo>
                    <a:pt x="27" y="209"/>
                  </a:lnTo>
                  <a:lnTo>
                    <a:pt x="40" y="215"/>
                  </a:lnTo>
                  <a:lnTo>
                    <a:pt x="53" y="242"/>
                  </a:lnTo>
                  <a:lnTo>
                    <a:pt x="68" y="255"/>
                  </a:lnTo>
                  <a:lnTo>
                    <a:pt x="86" y="278"/>
                  </a:lnTo>
                  <a:lnTo>
                    <a:pt x="103" y="299"/>
                  </a:lnTo>
                  <a:lnTo>
                    <a:pt x="110" y="322"/>
                  </a:lnTo>
                  <a:lnTo>
                    <a:pt x="103" y="341"/>
                  </a:lnTo>
                  <a:lnTo>
                    <a:pt x="103" y="371"/>
                  </a:lnTo>
                  <a:lnTo>
                    <a:pt x="93" y="394"/>
                  </a:lnTo>
                  <a:lnTo>
                    <a:pt x="95" y="420"/>
                  </a:lnTo>
                  <a:lnTo>
                    <a:pt x="86" y="443"/>
                  </a:lnTo>
                  <a:lnTo>
                    <a:pt x="86" y="474"/>
                  </a:lnTo>
                  <a:lnTo>
                    <a:pt x="76" y="496"/>
                  </a:lnTo>
                  <a:lnTo>
                    <a:pt x="76" y="508"/>
                  </a:lnTo>
                  <a:lnTo>
                    <a:pt x="93" y="504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3" y="481"/>
                  </a:lnTo>
                  <a:lnTo>
                    <a:pt x="139" y="451"/>
                  </a:lnTo>
                  <a:lnTo>
                    <a:pt x="146" y="411"/>
                  </a:lnTo>
                  <a:lnTo>
                    <a:pt x="148" y="388"/>
                  </a:lnTo>
                  <a:lnTo>
                    <a:pt x="156" y="361"/>
                  </a:lnTo>
                  <a:lnTo>
                    <a:pt x="162" y="327"/>
                  </a:lnTo>
                  <a:lnTo>
                    <a:pt x="162" y="301"/>
                  </a:lnTo>
                  <a:lnTo>
                    <a:pt x="165" y="278"/>
                  </a:lnTo>
                  <a:lnTo>
                    <a:pt x="162" y="259"/>
                  </a:lnTo>
                  <a:lnTo>
                    <a:pt x="152" y="240"/>
                  </a:lnTo>
                  <a:lnTo>
                    <a:pt x="148" y="221"/>
                  </a:lnTo>
                  <a:lnTo>
                    <a:pt x="143" y="206"/>
                  </a:lnTo>
                  <a:lnTo>
                    <a:pt x="129" y="190"/>
                  </a:lnTo>
                  <a:lnTo>
                    <a:pt x="122" y="171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3" y="126"/>
                  </a:lnTo>
                  <a:lnTo>
                    <a:pt x="84" y="111"/>
                  </a:lnTo>
                  <a:lnTo>
                    <a:pt x="67" y="88"/>
                  </a:lnTo>
                  <a:lnTo>
                    <a:pt x="61" y="67"/>
                  </a:lnTo>
                  <a:lnTo>
                    <a:pt x="61" y="46"/>
                  </a:lnTo>
                  <a:lnTo>
                    <a:pt x="61" y="31"/>
                  </a:lnTo>
                  <a:lnTo>
                    <a:pt x="61" y="10"/>
                  </a:lnTo>
                  <a:lnTo>
                    <a:pt x="63" y="0"/>
                  </a:lnTo>
                  <a:lnTo>
                    <a:pt x="72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30520" y="5151600"/>
              <a:ext cx="104760" cy="126720"/>
            </a:xfrm>
            <a:custGeom>
              <a:avLst/>
              <a:gdLst/>
              <a:ahLst/>
              <a:rect l="l" t="t" r="r" b="b"/>
              <a:pathLst>
                <a:path w="85" h="104">
                  <a:moveTo>
                    <a:pt x="49" y="0"/>
                  </a:moveTo>
                  <a:lnTo>
                    <a:pt x="32" y="9"/>
                  </a:lnTo>
                  <a:lnTo>
                    <a:pt x="26" y="17"/>
                  </a:lnTo>
                  <a:lnTo>
                    <a:pt x="13" y="25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6" y="57"/>
                  </a:lnTo>
                  <a:lnTo>
                    <a:pt x="15" y="57"/>
                  </a:lnTo>
                  <a:lnTo>
                    <a:pt x="26" y="51"/>
                  </a:lnTo>
                  <a:lnTo>
                    <a:pt x="32" y="47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13" y="63"/>
                  </a:lnTo>
                  <a:lnTo>
                    <a:pt x="9" y="74"/>
                  </a:lnTo>
                  <a:lnTo>
                    <a:pt x="13" y="80"/>
                  </a:lnTo>
                  <a:lnTo>
                    <a:pt x="15" y="85"/>
                  </a:lnTo>
                  <a:lnTo>
                    <a:pt x="23" y="97"/>
                  </a:lnTo>
                  <a:lnTo>
                    <a:pt x="40" y="104"/>
                  </a:lnTo>
                  <a:lnTo>
                    <a:pt x="49" y="104"/>
                  </a:lnTo>
                  <a:lnTo>
                    <a:pt x="59" y="89"/>
                  </a:lnTo>
                  <a:lnTo>
                    <a:pt x="68" y="78"/>
                  </a:lnTo>
                  <a:lnTo>
                    <a:pt x="76" y="63"/>
                  </a:lnTo>
                  <a:lnTo>
                    <a:pt x="80" y="51"/>
                  </a:lnTo>
                  <a:lnTo>
                    <a:pt x="82" y="40"/>
                  </a:lnTo>
                  <a:lnTo>
                    <a:pt x="82" y="30"/>
                  </a:lnTo>
                  <a:lnTo>
                    <a:pt x="85" y="25"/>
                  </a:lnTo>
                  <a:lnTo>
                    <a:pt x="72" y="17"/>
                  </a:lnTo>
                  <a:lnTo>
                    <a:pt x="68" y="34"/>
                  </a:lnTo>
                  <a:lnTo>
                    <a:pt x="68" y="51"/>
                  </a:lnTo>
                  <a:lnTo>
                    <a:pt x="66" y="61"/>
                  </a:lnTo>
                  <a:lnTo>
                    <a:pt x="57" y="74"/>
                  </a:lnTo>
                  <a:lnTo>
                    <a:pt x="49" y="85"/>
                  </a:lnTo>
                  <a:lnTo>
                    <a:pt x="42" y="89"/>
                  </a:lnTo>
                  <a:lnTo>
                    <a:pt x="30" y="83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36" y="61"/>
                  </a:lnTo>
                  <a:lnTo>
                    <a:pt x="40" y="51"/>
                  </a:lnTo>
                  <a:lnTo>
                    <a:pt x="45" y="34"/>
                  </a:lnTo>
                  <a:lnTo>
                    <a:pt x="30" y="40"/>
                  </a:lnTo>
                  <a:lnTo>
                    <a:pt x="19" y="47"/>
                  </a:lnTo>
                  <a:lnTo>
                    <a:pt x="13" y="47"/>
                  </a:lnTo>
                  <a:lnTo>
                    <a:pt x="15" y="40"/>
                  </a:lnTo>
                  <a:lnTo>
                    <a:pt x="23" y="34"/>
                  </a:lnTo>
                  <a:lnTo>
                    <a:pt x="30" y="26"/>
                  </a:lnTo>
                  <a:lnTo>
                    <a:pt x="42" y="25"/>
                  </a:lnTo>
                  <a:lnTo>
                    <a:pt x="49" y="17"/>
                  </a:lnTo>
                  <a:lnTo>
                    <a:pt x="57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9520" y="4471920"/>
              <a:ext cx="176400" cy="12564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0" y="66"/>
                  </a:moveTo>
                  <a:lnTo>
                    <a:pt x="23" y="51"/>
                  </a:lnTo>
                  <a:lnTo>
                    <a:pt x="36" y="40"/>
                  </a:lnTo>
                  <a:lnTo>
                    <a:pt x="49" y="23"/>
                  </a:lnTo>
                  <a:lnTo>
                    <a:pt x="67" y="13"/>
                  </a:lnTo>
                  <a:lnTo>
                    <a:pt x="82" y="2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35" y="13"/>
                  </a:lnTo>
                  <a:lnTo>
                    <a:pt x="146" y="25"/>
                  </a:lnTo>
                  <a:lnTo>
                    <a:pt x="122" y="40"/>
                  </a:lnTo>
                  <a:lnTo>
                    <a:pt x="103" y="51"/>
                  </a:lnTo>
                  <a:lnTo>
                    <a:pt x="105" y="63"/>
                  </a:lnTo>
                  <a:lnTo>
                    <a:pt x="122" y="55"/>
                  </a:lnTo>
                  <a:lnTo>
                    <a:pt x="135" y="51"/>
                  </a:lnTo>
                  <a:lnTo>
                    <a:pt x="143" y="63"/>
                  </a:lnTo>
                  <a:lnTo>
                    <a:pt x="143" y="68"/>
                  </a:lnTo>
                  <a:lnTo>
                    <a:pt x="131" y="76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89" y="89"/>
                  </a:lnTo>
                  <a:lnTo>
                    <a:pt x="63" y="93"/>
                  </a:lnTo>
                  <a:lnTo>
                    <a:pt x="40" y="103"/>
                  </a:lnTo>
                  <a:lnTo>
                    <a:pt x="30" y="95"/>
                  </a:lnTo>
                  <a:lnTo>
                    <a:pt x="46" y="89"/>
                  </a:lnTo>
                  <a:lnTo>
                    <a:pt x="67" y="82"/>
                  </a:lnTo>
                  <a:lnTo>
                    <a:pt x="82" y="76"/>
                  </a:lnTo>
                  <a:lnTo>
                    <a:pt x="95" y="76"/>
                  </a:lnTo>
                  <a:lnTo>
                    <a:pt x="108" y="68"/>
                  </a:lnTo>
                  <a:lnTo>
                    <a:pt x="93" y="68"/>
                  </a:lnTo>
                  <a:lnTo>
                    <a:pt x="89" y="51"/>
                  </a:lnTo>
                  <a:lnTo>
                    <a:pt x="105" y="36"/>
                  </a:lnTo>
                  <a:lnTo>
                    <a:pt x="116" y="28"/>
                  </a:lnTo>
                  <a:lnTo>
                    <a:pt x="125" y="19"/>
                  </a:lnTo>
                  <a:lnTo>
                    <a:pt x="120" y="13"/>
                  </a:lnTo>
                  <a:lnTo>
                    <a:pt x="108" y="9"/>
                  </a:lnTo>
                  <a:lnTo>
                    <a:pt x="80" y="19"/>
                  </a:lnTo>
                  <a:lnTo>
                    <a:pt x="55" y="32"/>
                  </a:lnTo>
                  <a:lnTo>
                    <a:pt x="42" y="49"/>
                  </a:lnTo>
                  <a:lnTo>
                    <a:pt x="32" y="66"/>
                  </a:lnTo>
                  <a:lnTo>
                    <a:pt x="13" y="7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1000" y="4495680"/>
              <a:ext cx="161640" cy="19080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02" y="156"/>
                  </a:moveTo>
                  <a:lnTo>
                    <a:pt x="104" y="146"/>
                  </a:lnTo>
                  <a:lnTo>
                    <a:pt x="108" y="137"/>
                  </a:lnTo>
                  <a:lnTo>
                    <a:pt x="108" y="123"/>
                  </a:lnTo>
                  <a:lnTo>
                    <a:pt x="114" y="106"/>
                  </a:lnTo>
                  <a:lnTo>
                    <a:pt x="125" y="89"/>
                  </a:lnTo>
                  <a:lnTo>
                    <a:pt x="131" y="66"/>
                  </a:lnTo>
                  <a:lnTo>
                    <a:pt x="131" y="44"/>
                  </a:lnTo>
                  <a:lnTo>
                    <a:pt x="121" y="30"/>
                  </a:lnTo>
                  <a:lnTo>
                    <a:pt x="102" y="13"/>
                  </a:lnTo>
                  <a:lnTo>
                    <a:pt x="83" y="6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1" y="17"/>
                  </a:lnTo>
                  <a:lnTo>
                    <a:pt x="2" y="32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19" y="26"/>
                  </a:lnTo>
                  <a:lnTo>
                    <a:pt x="32" y="17"/>
                  </a:lnTo>
                  <a:lnTo>
                    <a:pt x="49" y="13"/>
                  </a:lnTo>
                  <a:lnTo>
                    <a:pt x="64" y="13"/>
                  </a:lnTo>
                  <a:lnTo>
                    <a:pt x="87" y="21"/>
                  </a:lnTo>
                  <a:lnTo>
                    <a:pt x="102" y="26"/>
                  </a:lnTo>
                  <a:lnTo>
                    <a:pt x="110" y="36"/>
                  </a:lnTo>
                  <a:lnTo>
                    <a:pt x="118" y="49"/>
                  </a:lnTo>
                  <a:lnTo>
                    <a:pt x="121" y="66"/>
                  </a:lnTo>
                  <a:lnTo>
                    <a:pt x="114" y="76"/>
                  </a:lnTo>
                  <a:lnTo>
                    <a:pt x="108" y="89"/>
                  </a:lnTo>
                  <a:lnTo>
                    <a:pt x="102" y="106"/>
                  </a:lnTo>
                  <a:lnTo>
                    <a:pt x="95" y="125"/>
                  </a:lnTo>
                  <a:lnTo>
                    <a:pt x="95" y="139"/>
                  </a:lnTo>
                  <a:lnTo>
                    <a:pt x="95" y="156"/>
                  </a:lnTo>
                  <a:lnTo>
                    <a:pt x="102" y="156"/>
                  </a:lnTo>
                  <a:lnTo>
                    <a:pt x="10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1000" y="4556160"/>
              <a:ext cx="61560" cy="142920"/>
            </a:xfrm>
            <a:custGeom>
              <a:avLst/>
              <a:gdLst/>
              <a:ahLst/>
              <a:rect l="l" t="t" r="r" b="b"/>
              <a:pathLst>
                <a:path w="49" h="116">
                  <a:moveTo>
                    <a:pt x="32" y="111"/>
                  </a:moveTo>
                  <a:lnTo>
                    <a:pt x="32" y="103"/>
                  </a:lnTo>
                  <a:lnTo>
                    <a:pt x="32" y="93"/>
                  </a:lnTo>
                  <a:lnTo>
                    <a:pt x="28" y="88"/>
                  </a:lnTo>
                  <a:lnTo>
                    <a:pt x="28" y="80"/>
                  </a:lnTo>
                  <a:lnTo>
                    <a:pt x="23" y="71"/>
                  </a:lnTo>
                  <a:lnTo>
                    <a:pt x="15" y="57"/>
                  </a:lnTo>
                  <a:lnTo>
                    <a:pt x="11" y="52"/>
                  </a:lnTo>
                  <a:lnTo>
                    <a:pt x="2" y="3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9" y="10"/>
                  </a:lnTo>
                  <a:lnTo>
                    <a:pt x="9" y="25"/>
                  </a:lnTo>
                  <a:lnTo>
                    <a:pt x="11" y="40"/>
                  </a:lnTo>
                  <a:lnTo>
                    <a:pt x="19" y="48"/>
                  </a:lnTo>
                  <a:lnTo>
                    <a:pt x="26" y="54"/>
                  </a:lnTo>
                  <a:lnTo>
                    <a:pt x="32" y="63"/>
                  </a:lnTo>
                  <a:lnTo>
                    <a:pt x="34" y="76"/>
                  </a:lnTo>
                  <a:lnTo>
                    <a:pt x="38" y="84"/>
                  </a:lnTo>
                  <a:lnTo>
                    <a:pt x="42" y="101"/>
                  </a:lnTo>
                  <a:lnTo>
                    <a:pt x="49" y="116"/>
                  </a:lnTo>
                  <a:lnTo>
                    <a:pt x="32" y="111"/>
                  </a:lnTo>
                  <a:lnTo>
                    <a:pt x="3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14520" y="5827680"/>
              <a:ext cx="158760" cy="98280"/>
            </a:xfrm>
            <a:custGeom>
              <a:avLst/>
              <a:gdLst/>
              <a:ahLst/>
              <a:rect l="l" t="t" r="r" b="b"/>
              <a:pathLst>
                <a:path w="133" h="82">
                  <a:moveTo>
                    <a:pt x="4" y="13"/>
                  </a:moveTo>
                  <a:lnTo>
                    <a:pt x="4" y="32"/>
                  </a:lnTo>
                  <a:lnTo>
                    <a:pt x="4" y="49"/>
                  </a:lnTo>
                  <a:lnTo>
                    <a:pt x="4" y="59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17" y="82"/>
                  </a:lnTo>
                  <a:lnTo>
                    <a:pt x="34" y="80"/>
                  </a:lnTo>
                  <a:lnTo>
                    <a:pt x="40" y="76"/>
                  </a:lnTo>
                  <a:lnTo>
                    <a:pt x="61" y="74"/>
                  </a:lnTo>
                  <a:lnTo>
                    <a:pt x="86" y="66"/>
                  </a:lnTo>
                  <a:lnTo>
                    <a:pt x="95" y="55"/>
                  </a:lnTo>
                  <a:lnTo>
                    <a:pt x="110" y="49"/>
                  </a:lnTo>
                  <a:lnTo>
                    <a:pt x="129" y="40"/>
                  </a:lnTo>
                  <a:lnTo>
                    <a:pt x="133" y="27"/>
                  </a:lnTo>
                  <a:lnTo>
                    <a:pt x="133" y="13"/>
                  </a:lnTo>
                  <a:lnTo>
                    <a:pt x="126" y="6"/>
                  </a:lnTo>
                  <a:lnTo>
                    <a:pt x="107" y="4"/>
                  </a:lnTo>
                  <a:lnTo>
                    <a:pt x="99" y="4"/>
                  </a:lnTo>
                  <a:lnTo>
                    <a:pt x="86" y="6"/>
                  </a:lnTo>
                  <a:lnTo>
                    <a:pt x="67" y="9"/>
                  </a:lnTo>
                  <a:lnTo>
                    <a:pt x="57" y="0"/>
                  </a:lnTo>
                  <a:lnTo>
                    <a:pt x="46" y="6"/>
                  </a:lnTo>
                  <a:lnTo>
                    <a:pt x="57" y="17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80" y="21"/>
                  </a:lnTo>
                  <a:lnTo>
                    <a:pt x="95" y="17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2" y="21"/>
                  </a:lnTo>
                  <a:lnTo>
                    <a:pt x="122" y="27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95" y="44"/>
                  </a:lnTo>
                  <a:lnTo>
                    <a:pt x="84" y="53"/>
                  </a:lnTo>
                  <a:lnTo>
                    <a:pt x="67" y="59"/>
                  </a:lnTo>
                  <a:lnTo>
                    <a:pt x="46" y="66"/>
                  </a:lnTo>
                  <a:lnTo>
                    <a:pt x="27" y="66"/>
                  </a:lnTo>
                  <a:lnTo>
                    <a:pt x="13" y="74"/>
                  </a:lnTo>
                  <a:lnTo>
                    <a:pt x="13" y="55"/>
                  </a:lnTo>
                  <a:lnTo>
                    <a:pt x="13" y="47"/>
                  </a:lnTo>
                  <a:lnTo>
                    <a:pt x="13" y="30"/>
                  </a:lnTo>
                  <a:lnTo>
                    <a:pt x="17" y="9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12880" y="5762520"/>
              <a:ext cx="163440" cy="103320"/>
            </a:xfrm>
            <a:custGeom>
              <a:avLst/>
              <a:gdLst/>
              <a:ahLst/>
              <a:rect l="l" t="t" r="r" b="b"/>
              <a:pathLst>
                <a:path w="133" h="83">
                  <a:moveTo>
                    <a:pt x="5" y="13"/>
                  </a:moveTo>
                  <a:lnTo>
                    <a:pt x="1" y="30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36" y="83"/>
                  </a:lnTo>
                  <a:lnTo>
                    <a:pt x="55" y="83"/>
                  </a:lnTo>
                  <a:lnTo>
                    <a:pt x="79" y="83"/>
                  </a:lnTo>
                  <a:lnTo>
                    <a:pt x="93" y="80"/>
                  </a:lnTo>
                  <a:lnTo>
                    <a:pt x="108" y="76"/>
                  </a:lnTo>
                  <a:lnTo>
                    <a:pt x="119" y="66"/>
                  </a:lnTo>
                  <a:lnTo>
                    <a:pt x="133" y="53"/>
                  </a:lnTo>
                  <a:lnTo>
                    <a:pt x="133" y="43"/>
                  </a:lnTo>
                  <a:lnTo>
                    <a:pt x="125" y="30"/>
                  </a:lnTo>
                  <a:lnTo>
                    <a:pt x="112" y="26"/>
                  </a:lnTo>
                  <a:lnTo>
                    <a:pt x="93" y="24"/>
                  </a:lnTo>
                  <a:lnTo>
                    <a:pt x="70" y="26"/>
                  </a:lnTo>
                  <a:lnTo>
                    <a:pt x="58" y="13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9" y="9"/>
                  </a:lnTo>
                  <a:lnTo>
                    <a:pt x="49" y="13"/>
                  </a:lnTo>
                  <a:lnTo>
                    <a:pt x="58" y="30"/>
                  </a:lnTo>
                  <a:lnTo>
                    <a:pt x="76" y="36"/>
                  </a:lnTo>
                  <a:lnTo>
                    <a:pt x="95" y="36"/>
                  </a:lnTo>
                  <a:lnTo>
                    <a:pt x="112" y="36"/>
                  </a:lnTo>
                  <a:lnTo>
                    <a:pt x="119" y="40"/>
                  </a:lnTo>
                  <a:lnTo>
                    <a:pt x="119" y="47"/>
                  </a:lnTo>
                  <a:lnTo>
                    <a:pt x="119" y="53"/>
                  </a:lnTo>
                  <a:lnTo>
                    <a:pt x="106" y="62"/>
                  </a:lnTo>
                  <a:lnTo>
                    <a:pt x="98" y="66"/>
                  </a:lnTo>
                  <a:lnTo>
                    <a:pt x="81" y="70"/>
                  </a:lnTo>
                  <a:lnTo>
                    <a:pt x="58" y="70"/>
                  </a:lnTo>
                  <a:lnTo>
                    <a:pt x="36" y="74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17" y="51"/>
                  </a:lnTo>
                  <a:lnTo>
                    <a:pt x="17" y="36"/>
                  </a:lnTo>
                  <a:lnTo>
                    <a:pt x="17" y="26"/>
                  </a:lnTo>
                  <a:lnTo>
                    <a:pt x="17" y="7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5320" y="1295280"/>
              <a:ext cx="4175280" cy="5257800"/>
            </a:xfrm>
            <a:custGeom>
              <a:avLst/>
              <a:gdLst/>
              <a:ahLst/>
              <a:rect l="l" t="t" r="r" b="b"/>
              <a:pathLst>
                <a:path w="3443" h="4297">
                  <a:moveTo>
                    <a:pt x="48" y="4267"/>
                  </a:moveTo>
                  <a:lnTo>
                    <a:pt x="169" y="4276"/>
                  </a:lnTo>
                  <a:lnTo>
                    <a:pt x="215" y="4276"/>
                  </a:lnTo>
                  <a:lnTo>
                    <a:pt x="369" y="4280"/>
                  </a:lnTo>
                  <a:lnTo>
                    <a:pt x="464" y="4280"/>
                  </a:lnTo>
                  <a:lnTo>
                    <a:pt x="673" y="4280"/>
                  </a:lnTo>
                  <a:lnTo>
                    <a:pt x="816" y="4276"/>
                  </a:lnTo>
                  <a:lnTo>
                    <a:pt x="1050" y="4276"/>
                  </a:lnTo>
                  <a:lnTo>
                    <a:pt x="1190" y="4270"/>
                  </a:lnTo>
                  <a:lnTo>
                    <a:pt x="1371" y="4270"/>
                  </a:lnTo>
                  <a:lnTo>
                    <a:pt x="1426" y="4267"/>
                  </a:lnTo>
                  <a:lnTo>
                    <a:pt x="1626" y="4267"/>
                  </a:lnTo>
                  <a:lnTo>
                    <a:pt x="1673" y="4267"/>
                  </a:lnTo>
                  <a:lnTo>
                    <a:pt x="1797" y="4267"/>
                  </a:lnTo>
                  <a:lnTo>
                    <a:pt x="1985" y="4280"/>
                  </a:lnTo>
                  <a:lnTo>
                    <a:pt x="2150" y="4267"/>
                  </a:lnTo>
                  <a:lnTo>
                    <a:pt x="2361" y="4276"/>
                  </a:lnTo>
                  <a:lnTo>
                    <a:pt x="2513" y="4287"/>
                  </a:lnTo>
                  <a:lnTo>
                    <a:pt x="2650" y="4297"/>
                  </a:lnTo>
                  <a:lnTo>
                    <a:pt x="2745" y="4297"/>
                  </a:lnTo>
                  <a:lnTo>
                    <a:pt x="2829" y="4297"/>
                  </a:lnTo>
                  <a:lnTo>
                    <a:pt x="2916" y="4297"/>
                  </a:lnTo>
                  <a:lnTo>
                    <a:pt x="2977" y="4297"/>
                  </a:lnTo>
                  <a:lnTo>
                    <a:pt x="3034" y="4297"/>
                  </a:lnTo>
                  <a:lnTo>
                    <a:pt x="3067" y="4297"/>
                  </a:lnTo>
                  <a:lnTo>
                    <a:pt x="3152" y="4297"/>
                  </a:lnTo>
                  <a:lnTo>
                    <a:pt x="3264" y="4297"/>
                  </a:lnTo>
                  <a:lnTo>
                    <a:pt x="3340" y="4289"/>
                  </a:lnTo>
                  <a:lnTo>
                    <a:pt x="3384" y="4280"/>
                  </a:lnTo>
                  <a:lnTo>
                    <a:pt x="3403" y="4065"/>
                  </a:lnTo>
                  <a:lnTo>
                    <a:pt x="3403" y="3972"/>
                  </a:lnTo>
                  <a:lnTo>
                    <a:pt x="3397" y="3932"/>
                  </a:lnTo>
                  <a:lnTo>
                    <a:pt x="3394" y="3725"/>
                  </a:lnTo>
                  <a:lnTo>
                    <a:pt x="3390" y="3605"/>
                  </a:lnTo>
                  <a:lnTo>
                    <a:pt x="3411" y="3396"/>
                  </a:lnTo>
                  <a:lnTo>
                    <a:pt x="3413" y="3217"/>
                  </a:lnTo>
                  <a:lnTo>
                    <a:pt x="3413" y="3079"/>
                  </a:lnTo>
                  <a:lnTo>
                    <a:pt x="3413" y="2966"/>
                  </a:lnTo>
                  <a:lnTo>
                    <a:pt x="3413" y="2832"/>
                  </a:lnTo>
                  <a:lnTo>
                    <a:pt x="3411" y="2651"/>
                  </a:lnTo>
                  <a:lnTo>
                    <a:pt x="3397" y="2484"/>
                  </a:lnTo>
                  <a:lnTo>
                    <a:pt x="3397" y="2347"/>
                  </a:lnTo>
                  <a:lnTo>
                    <a:pt x="3413" y="2026"/>
                  </a:lnTo>
                  <a:lnTo>
                    <a:pt x="3413" y="1856"/>
                  </a:lnTo>
                  <a:lnTo>
                    <a:pt x="3413" y="1752"/>
                  </a:lnTo>
                  <a:lnTo>
                    <a:pt x="3411" y="1600"/>
                  </a:lnTo>
                  <a:lnTo>
                    <a:pt x="3403" y="1440"/>
                  </a:lnTo>
                  <a:lnTo>
                    <a:pt x="3403" y="1322"/>
                  </a:lnTo>
                  <a:lnTo>
                    <a:pt x="3403" y="1168"/>
                  </a:lnTo>
                  <a:lnTo>
                    <a:pt x="3411" y="1033"/>
                  </a:lnTo>
                  <a:lnTo>
                    <a:pt x="3433" y="861"/>
                  </a:lnTo>
                  <a:lnTo>
                    <a:pt x="3439" y="707"/>
                  </a:lnTo>
                  <a:lnTo>
                    <a:pt x="3433" y="613"/>
                  </a:lnTo>
                  <a:lnTo>
                    <a:pt x="3433" y="555"/>
                  </a:lnTo>
                  <a:lnTo>
                    <a:pt x="3443" y="448"/>
                  </a:lnTo>
                  <a:lnTo>
                    <a:pt x="3443" y="336"/>
                  </a:lnTo>
                  <a:lnTo>
                    <a:pt x="3443" y="159"/>
                  </a:lnTo>
                  <a:lnTo>
                    <a:pt x="3411" y="57"/>
                  </a:lnTo>
                  <a:lnTo>
                    <a:pt x="3234" y="60"/>
                  </a:lnTo>
                  <a:lnTo>
                    <a:pt x="3040" y="51"/>
                  </a:lnTo>
                  <a:lnTo>
                    <a:pt x="2905" y="51"/>
                  </a:lnTo>
                  <a:lnTo>
                    <a:pt x="2702" y="38"/>
                  </a:lnTo>
                  <a:lnTo>
                    <a:pt x="2570" y="38"/>
                  </a:lnTo>
                  <a:lnTo>
                    <a:pt x="2418" y="26"/>
                  </a:lnTo>
                  <a:lnTo>
                    <a:pt x="2221" y="17"/>
                  </a:lnTo>
                  <a:lnTo>
                    <a:pt x="2074" y="17"/>
                  </a:lnTo>
                  <a:lnTo>
                    <a:pt x="1896" y="30"/>
                  </a:lnTo>
                  <a:lnTo>
                    <a:pt x="1719" y="17"/>
                  </a:lnTo>
                  <a:lnTo>
                    <a:pt x="1479" y="11"/>
                  </a:lnTo>
                  <a:lnTo>
                    <a:pt x="1318" y="11"/>
                  </a:lnTo>
                  <a:lnTo>
                    <a:pt x="1112" y="11"/>
                  </a:lnTo>
                  <a:lnTo>
                    <a:pt x="835" y="11"/>
                  </a:lnTo>
                  <a:lnTo>
                    <a:pt x="688" y="11"/>
                  </a:lnTo>
                  <a:lnTo>
                    <a:pt x="576" y="11"/>
                  </a:lnTo>
                  <a:lnTo>
                    <a:pt x="487" y="11"/>
                  </a:lnTo>
                  <a:lnTo>
                    <a:pt x="259" y="11"/>
                  </a:lnTo>
                  <a:lnTo>
                    <a:pt x="0" y="0"/>
                  </a:lnTo>
                  <a:lnTo>
                    <a:pt x="12" y="53"/>
                  </a:lnTo>
                  <a:lnTo>
                    <a:pt x="230" y="51"/>
                  </a:lnTo>
                  <a:lnTo>
                    <a:pt x="398" y="41"/>
                  </a:lnTo>
                  <a:lnTo>
                    <a:pt x="576" y="47"/>
                  </a:lnTo>
                  <a:lnTo>
                    <a:pt x="675" y="47"/>
                  </a:lnTo>
                  <a:lnTo>
                    <a:pt x="831" y="47"/>
                  </a:lnTo>
                  <a:lnTo>
                    <a:pt x="968" y="51"/>
                  </a:lnTo>
                  <a:lnTo>
                    <a:pt x="1118" y="57"/>
                  </a:lnTo>
                  <a:lnTo>
                    <a:pt x="1206" y="57"/>
                  </a:lnTo>
                  <a:lnTo>
                    <a:pt x="1407" y="47"/>
                  </a:lnTo>
                  <a:lnTo>
                    <a:pt x="1561" y="60"/>
                  </a:lnTo>
                  <a:lnTo>
                    <a:pt x="1704" y="66"/>
                  </a:lnTo>
                  <a:lnTo>
                    <a:pt x="1846" y="66"/>
                  </a:lnTo>
                  <a:lnTo>
                    <a:pt x="1975" y="70"/>
                  </a:lnTo>
                  <a:lnTo>
                    <a:pt x="2101" y="60"/>
                  </a:lnTo>
                  <a:lnTo>
                    <a:pt x="2185" y="51"/>
                  </a:lnTo>
                  <a:lnTo>
                    <a:pt x="2339" y="70"/>
                  </a:lnTo>
                  <a:lnTo>
                    <a:pt x="2472" y="70"/>
                  </a:lnTo>
                  <a:lnTo>
                    <a:pt x="2584" y="70"/>
                  </a:lnTo>
                  <a:lnTo>
                    <a:pt x="2719" y="77"/>
                  </a:lnTo>
                  <a:lnTo>
                    <a:pt x="2867" y="79"/>
                  </a:lnTo>
                  <a:lnTo>
                    <a:pt x="2985" y="106"/>
                  </a:lnTo>
                  <a:lnTo>
                    <a:pt x="3116" y="100"/>
                  </a:lnTo>
                  <a:lnTo>
                    <a:pt x="3245" y="110"/>
                  </a:lnTo>
                  <a:lnTo>
                    <a:pt x="3348" y="110"/>
                  </a:lnTo>
                  <a:lnTo>
                    <a:pt x="3380" y="218"/>
                  </a:lnTo>
                  <a:lnTo>
                    <a:pt x="3380" y="359"/>
                  </a:lnTo>
                  <a:lnTo>
                    <a:pt x="3380" y="463"/>
                  </a:lnTo>
                  <a:lnTo>
                    <a:pt x="3375" y="613"/>
                  </a:lnTo>
                  <a:lnTo>
                    <a:pt x="3390" y="741"/>
                  </a:lnTo>
                  <a:lnTo>
                    <a:pt x="3384" y="914"/>
                  </a:lnTo>
                  <a:lnTo>
                    <a:pt x="3354" y="1132"/>
                  </a:lnTo>
                  <a:lnTo>
                    <a:pt x="3344" y="1281"/>
                  </a:lnTo>
                  <a:lnTo>
                    <a:pt x="3344" y="1490"/>
                  </a:lnTo>
                  <a:lnTo>
                    <a:pt x="3344" y="1668"/>
                  </a:lnTo>
                  <a:lnTo>
                    <a:pt x="3344" y="1822"/>
                  </a:lnTo>
                  <a:lnTo>
                    <a:pt x="3348" y="1940"/>
                  </a:lnTo>
                  <a:lnTo>
                    <a:pt x="3348" y="2124"/>
                  </a:lnTo>
                  <a:lnTo>
                    <a:pt x="3340" y="2261"/>
                  </a:lnTo>
                  <a:lnTo>
                    <a:pt x="3344" y="2417"/>
                  </a:lnTo>
                  <a:lnTo>
                    <a:pt x="3359" y="2583"/>
                  </a:lnTo>
                  <a:lnTo>
                    <a:pt x="3354" y="2780"/>
                  </a:lnTo>
                  <a:lnTo>
                    <a:pt x="3348" y="2999"/>
                  </a:lnTo>
                  <a:lnTo>
                    <a:pt x="3344" y="3111"/>
                  </a:lnTo>
                  <a:lnTo>
                    <a:pt x="3348" y="3307"/>
                  </a:lnTo>
                  <a:lnTo>
                    <a:pt x="3354" y="3489"/>
                  </a:lnTo>
                  <a:lnTo>
                    <a:pt x="3333" y="3634"/>
                  </a:lnTo>
                  <a:lnTo>
                    <a:pt x="3333" y="3793"/>
                  </a:lnTo>
                  <a:lnTo>
                    <a:pt x="3333" y="3959"/>
                  </a:lnTo>
                  <a:lnTo>
                    <a:pt x="3340" y="4092"/>
                  </a:lnTo>
                  <a:lnTo>
                    <a:pt x="3340" y="4204"/>
                  </a:lnTo>
                  <a:lnTo>
                    <a:pt x="3255" y="4251"/>
                  </a:lnTo>
                  <a:lnTo>
                    <a:pt x="3116" y="4240"/>
                  </a:lnTo>
                  <a:lnTo>
                    <a:pt x="2985" y="4240"/>
                  </a:lnTo>
                  <a:lnTo>
                    <a:pt x="2829" y="4236"/>
                  </a:lnTo>
                  <a:lnTo>
                    <a:pt x="2626" y="4227"/>
                  </a:lnTo>
                  <a:lnTo>
                    <a:pt x="2460" y="4236"/>
                  </a:lnTo>
                  <a:lnTo>
                    <a:pt x="2274" y="4236"/>
                  </a:lnTo>
                  <a:lnTo>
                    <a:pt x="2082" y="4230"/>
                  </a:lnTo>
                  <a:lnTo>
                    <a:pt x="1867" y="4227"/>
                  </a:lnTo>
                  <a:lnTo>
                    <a:pt x="1688" y="4221"/>
                  </a:lnTo>
                  <a:lnTo>
                    <a:pt x="1439" y="4210"/>
                  </a:lnTo>
                  <a:lnTo>
                    <a:pt x="1268" y="4217"/>
                  </a:lnTo>
                  <a:lnTo>
                    <a:pt x="1080" y="4221"/>
                  </a:lnTo>
                  <a:lnTo>
                    <a:pt x="871" y="4236"/>
                  </a:lnTo>
                  <a:lnTo>
                    <a:pt x="696" y="4227"/>
                  </a:lnTo>
                  <a:lnTo>
                    <a:pt x="527" y="4227"/>
                  </a:lnTo>
                  <a:lnTo>
                    <a:pt x="339" y="4227"/>
                  </a:lnTo>
                  <a:lnTo>
                    <a:pt x="181" y="4227"/>
                  </a:lnTo>
                  <a:lnTo>
                    <a:pt x="27" y="4204"/>
                  </a:lnTo>
                  <a:lnTo>
                    <a:pt x="48" y="4267"/>
                  </a:lnTo>
                  <a:lnTo>
                    <a:pt x="48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23840" y="5378400"/>
              <a:ext cx="490680" cy="1098720"/>
            </a:xfrm>
            <a:custGeom>
              <a:avLst/>
              <a:gdLst/>
              <a:ahLst/>
              <a:rect l="l" t="t" r="r" b="b"/>
              <a:pathLst>
                <a:path w="403" h="897">
                  <a:moveTo>
                    <a:pt x="67" y="893"/>
                  </a:moveTo>
                  <a:lnTo>
                    <a:pt x="42" y="850"/>
                  </a:lnTo>
                  <a:lnTo>
                    <a:pt x="29" y="814"/>
                  </a:lnTo>
                  <a:lnTo>
                    <a:pt x="23" y="768"/>
                  </a:lnTo>
                  <a:lnTo>
                    <a:pt x="15" y="724"/>
                  </a:lnTo>
                  <a:lnTo>
                    <a:pt x="0" y="643"/>
                  </a:lnTo>
                  <a:lnTo>
                    <a:pt x="4" y="576"/>
                  </a:lnTo>
                  <a:lnTo>
                    <a:pt x="13" y="523"/>
                  </a:lnTo>
                  <a:lnTo>
                    <a:pt x="15" y="464"/>
                  </a:lnTo>
                  <a:lnTo>
                    <a:pt x="36" y="420"/>
                  </a:lnTo>
                  <a:lnTo>
                    <a:pt x="42" y="380"/>
                  </a:lnTo>
                  <a:lnTo>
                    <a:pt x="78" y="344"/>
                  </a:lnTo>
                  <a:lnTo>
                    <a:pt x="78" y="304"/>
                  </a:lnTo>
                  <a:lnTo>
                    <a:pt x="105" y="247"/>
                  </a:lnTo>
                  <a:lnTo>
                    <a:pt x="147" y="211"/>
                  </a:lnTo>
                  <a:lnTo>
                    <a:pt x="162" y="175"/>
                  </a:lnTo>
                  <a:lnTo>
                    <a:pt x="202" y="145"/>
                  </a:lnTo>
                  <a:lnTo>
                    <a:pt x="230" y="116"/>
                  </a:lnTo>
                  <a:lnTo>
                    <a:pt x="257" y="93"/>
                  </a:lnTo>
                  <a:lnTo>
                    <a:pt x="283" y="69"/>
                  </a:lnTo>
                  <a:lnTo>
                    <a:pt x="314" y="44"/>
                  </a:lnTo>
                  <a:lnTo>
                    <a:pt x="333" y="29"/>
                  </a:lnTo>
                  <a:lnTo>
                    <a:pt x="371" y="6"/>
                  </a:lnTo>
                  <a:lnTo>
                    <a:pt x="403" y="0"/>
                  </a:lnTo>
                  <a:lnTo>
                    <a:pt x="396" y="25"/>
                  </a:lnTo>
                  <a:lnTo>
                    <a:pt x="384" y="32"/>
                  </a:lnTo>
                  <a:lnTo>
                    <a:pt x="350" y="44"/>
                  </a:lnTo>
                  <a:lnTo>
                    <a:pt x="310" y="69"/>
                  </a:lnTo>
                  <a:lnTo>
                    <a:pt x="278" y="105"/>
                  </a:lnTo>
                  <a:lnTo>
                    <a:pt x="251" y="131"/>
                  </a:lnTo>
                  <a:lnTo>
                    <a:pt x="230" y="158"/>
                  </a:lnTo>
                  <a:lnTo>
                    <a:pt x="198" y="183"/>
                  </a:lnTo>
                  <a:lnTo>
                    <a:pt x="173" y="209"/>
                  </a:lnTo>
                  <a:lnTo>
                    <a:pt x="152" y="238"/>
                  </a:lnTo>
                  <a:lnTo>
                    <a:pt x="128" y="270"/>
                  </a:lnTo>
                  <a:lnTo>
                    <a:pt x="120" y="295"/>
                  </a:lnTo>
                  <a:lnTo>
                    <a:pt x="105" y="338"/>
                  </a:lnTo>
                  <a:lnTo>
                    <a:pt x="99" y="365"/>
                  </a:lnTo>
                  <a:lnTo>
                    <a:pt x="95" y="367"/>
                  </a:lnTo>
                  <a:lnTo>
                    <a:pt x="88" y="373"/>
                  </a:lnTo>
                  <a:lnTo>
                    <a:pt x="80" y="382"/>
                  </a:lnTo>
                  <a:lnTo>
                    <a:pt x="76" y="390"/>
                  </a:lnTo>
                  <a:lnTo>
                    <a:pt x="72" y="394"/>
                  </a:lnTo>
                  <a:lnTo>
                    <a:pt x="71" y="399"/>
                  </a:lnTo>
                  <a:lnTo>
                    <a:pt x="65" y="405"/>
                  </a:lnTo>
                  <a:lnTo>
                    <a:pt x="61" y="413"/>
                  </a:lnTo>
                  <a:lnTo>
                    <a:pt x="59" y="418"/>
                  </a:lnTo>
                  <a:lnTo>
                    <a:pt x="55" y="426"/>
                  </a:lnTo>
                  <a:lnTo>
                    <a:pt x="53" y="430"/>
                  </a:lnTo>
                  <a:lnTo>
                    <a:pt x="53" y="433"/>
                  </a:lnTo>
                  <a:lnTo>
                    <a:pt x="50" y="435"/>
                  </a:lnTo>
                  <a:lnTo>
                    <a:pt x="50" y="441"/>
                  </a:lnTo>
                  <a:lnTo>
                    <a:pt x="50" y="447"/>
                  </a:lnTo>
                  <a:lnTo>
                    <a:pt x="50" y="454"/>
                  </a:lnTo>
                  <a:lnTo>
                    <a:pt x="48" y="460"/>
                  </a:lnTo>
                  <a:lnTo>
                    <a:pt x="48" y="468"/>
                  </a:lnTo>
                  <a:lnTo>
                    <a:pt x="46" y="472"/>
                  </a:lnTo>
                  <a:lnTo>
                    <a:pt x="46" y="475"/>
                  </a:lnTo>
                  <a:lnTo>
                    <a:pt x="44" y="479"/>
                  </a:lnTo>
                  <a:lnTo>
                    <a:pt x="44" y="487"/>
                  </a:lnTo>
                  <a:lnTo>
                    <a:pt x="42" y="496"/>
                  </a:lnTo>
                  <a:lnTo>
                    <a:pt x="42" y="504"/>
                  </a:lnTo>
                  <a:lnTo>
                    <a:pt x="38" y="511"/>
                  </a:lnTo>
                  <a:lnTo>
                    <a:pt x="38" y="519"/>
                  </a:lnTo>
                  <a:lnTo>
                    <a:pt x="36" y="525"/>
                  </a:lnTo>
                  <a:lnTo>
                    <a:pt x="36" y="527"/>
                  </a:lnTo>
                  <a:lnTo>
                    <a:pt x="27" y="555"/>
                  </a:lnTo>
                  <a:lnTo>
                    <a:pt x="27" y="606"/>
                  </a:lnTo>
                  <a:lnTo>
                    <a:pt x="27" y="660"/>
                  </a:lnTo>
                  <a:lnTo>
                    <a:pt x="32" y="715"/>
                  </a:lnTo>
                  <a:lnTo>
                    <a:pt x="40" y="762"/>
                  </a:lnTo>
                  <a:lnTo>
                    <a:pt x="46" y="800"/>
                  </a:lnTo>
                  <a:lnTo>
                    <a:pt x="67" y="835"/>
                  </a:lnTo>
                  <a:lnTo>
                    <a:pt x="82" y="861"/>
                  </a:lnTo>
                  <a:lnTo>
                    <a:pt x="90" y="897"/>
                  </a:lnTo>
                  <a:lnTo>
                    <a:pt x="67" y="893"/>
                  </a:lnTo>
                  <a:lnTo>
                    <a:pt x="67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6720" y="3938760"/>
              <a:ext cx="2320920" cy="2533320"/>
            </a:xfrm>
            <a:custGeom>
              <a:avLst/>
              <a:gdLst/>
              <a:ahLst/>
              <a:rect l="l" t="t" r="r" b="b"/>
              <a:pathLst>
                <a:path w="1914" h="2071">
                  <a:moveTo>
                    <a:pt x="112" y="2071"/>
                  </a:moveTo>
                  <a:lnTo>
                    <a:pt x="62" y="2024"/>
                  </a:lnTo>
                  <a:lnTo>
                    <a:pt x="47" y="1969"/>
                  </a:lnTo>
                  <a:lnTo>
                    <a:pt x="34" y="1933"/>
                  </a:lnTo>
                  <a:lnTo>
                    <a:pt x="26" y="1887"/>
                  </a:lnTo>
                  <a:lnTo>
                    <a:pt x="26" y="1849"/>
                  </a:lnTo>
                  <a:lnTo>
                    <a:pt x="0" y="1784"/>
                  </a:lnTo>
                  <a:lnTo>
                    <a:pt x="0" y="1727"/>
                  </a:lnTo>
                  <a:lnTo>
                    <a:pt x="7" y="1670"/>
                  </a:lnTo>
                  <a:lnTo>
                    <a:pt x="13" y="1604"/>
                  </a:lnTo>
                  <a:lnTo>
                    <a:pt x="26" y="1551"/>
                  </a:lnTo>
                  <a:lnTo>
                    <a:pt x="66" y="1473"/>
                  </a:lnTo>
                  <a:lnTo>
                    <a:pt x="110" y="1416"/>
                  </a:lnTo>
                  <a:lnTo>
                    <a:pt x="150" y="1361"/>
                  </a:lnTo>
                  <a:lnTo>
                    <a:pt x="173" y="1323"/>
                  </a:lnTo>
                  <a:lnTo>
                    <a:pt x="215" y="1304"/>
                  </a:lnTo>
                  <a:lnTo>
                    <a:pt x="268" y="1286"/>
                  </a:lnTo>
                  <a:lnTo>
                    <a:pt x="302" y="1271"/>
                  </a:lnTo>
                  <a:lnTo>
                    <a:pt x="348" y="1254"/>
                  </a:lnTo>
                  <a:lnTo>
                    <a:pt x="405" y="1245"/>
                  </a:lnTo>
                  <a:lnTo>
                    <a:pt x="473" y="1241"/>
                  </a:lnTo>
                  <a:lnTo>
                    <a:pt x="553" y="1241"/>
                  </a:lnTo>
                  <a:lnTo>
                    <a:pt x="621" y="1260"/>
                  </a:lnTo>
                  <a:lnTo>
                    <a:pt x="682" y="1283"/>
                  </a:lnTo>
                  <a:lnTo>
                    <a:pt x="764" y="1286"/>
                  </a:lnTo>
                  <a:lnTo>
                    <a:pt x="844" y="1286"/>
                  </a:lnTo>
                  <a:lnTo>
                    <a:pt x="943" y="1286"/>
                  </a:lnTo>
                  <a:lnTo>
                    <a:pt x="1015" y="1273"/>
                  </a:lnTo>
                  <a:lnTo>
                    <a:pt x="1079" y="1260"/>
                  </a:lnTo>
                  <a:lnTo>
                    <a:pt x="1152" y="1229"/>
                  </a:lnTo>
                  <a:lnTo>
                    <a:pt x="1213" y="1201"/>
                  </a:lnTo>
                  <a:lnTo>
                    <a:pt x="1254" y="1153"/>
                  </a:lnTo>
                  <a:lnTo>
                    <a:pt x="1296" y="1108"/>
                  </a:lnTo>
                  <a:lnTo>
                    <a:pt x="1319" y="1066"/>
                  </a:lnTo>
                  <a:lnTo>
                    <a:pt x="1323" y="992"/>
                  </a:lnTo>
                  <a:lnTo>
                    <a:pt x="1323" y="916"/>
                  </a:lnTo>
                  <a:lnTo>
                    <a:pt x="1323" y="863"/>
                  </a:lnTo>
                  <a:lnTo>
                    <a:pt x="1306" y="813"/>
                  </a:lnTo>
                  <a:lnTo>
                    <a:pt x="1300" y="777"/>
                  </a:lnTo>
                  <a:lnTo>
                    <a:pt x="1279" y="731"/>
                  </a:lnTo>
                  <a:lnTo>
                    <a:pt x="1273" y="688"/>
                  </a:lnTo>
                  <a:lnTo>
                    <a:pt x="1270" y="631"/>
                  </a:lnTo>
                  <a:lnTo>
                    <a:pt x="1283" y="602"/>
                  </a:lnTo>
                  <a:lnTo>
                    <a:pt x="1300" y="585"/>
                  </a:lnTo>
                  <a:lnTo>
                    <a:pt x="1327" y="572"/>
                  </a:lnTo>
                  <a:lnTo>
                    <a:pt x="1359" y="557"/>
                  </a:lnTo>
                  <a:lnTo>
                    <a:pt x="1389" y="540"/>
                  </a:lnTo>
                  <a:lnTo>
                    <a:pt x="1429" y="532"/>
                  </a:lnTo>
                  <a:lnTo>
                    <a:pt x="1475" y="530"/>
                  </a:lnTo>
                  <a:lnTo>
                    <a:pt x="1530" y="530"/>
                  </a:lnTo>
                  <a:lnTo>
                    <a:pt x="1568" y="526"/>
                  </a:lnTo>
                  <a:lnTo>
                    <a:pt x="1614" y="515"/>
                  </a:lnTo>
                  <a:lnTo>
                    <a:pt x="1673" y="486"/>
                  </a:lnTo>
                  <a:lnTo>
                    <a:pt x="1722" y="439"/>
                  </a:lnTo>
                  <a:lnTo>
                    <a:pt x="1770" y="380"/>
                  </a:lnTo>
                  <a:lnTo>
                    <a:pt x="1815" y="308"/>
                  </a:lnTo>
                  <a:lnTo>
                    <a:pt x="1840" y="249"/>
                  </a:lnTo>
                  <a:lnTo>
                    <a:pt x="1868" y="195"/>
                  </a:lnTo>
                  <a:lnTo>
                    <a:pt x="1872" y="156"/>
                  </a:lnTo>
                  <a:lnTo>
                    <a:pt x="1874" y="125"/>
                  </a:lnTo>
                  <a:lnTo>
                    <a:pt x="1882" y="89"/>
                  </a:lnTo>
                  <a:lnTo>
                    <a:pt x="1887" y="49"/>
                  </a:lnTo>
                  <a:lnTo>
                    <a:pt x="1901" y="0"/>
                  </a:lnTo>
                  <a:lnTo>
                    <a:pt x="1914" y="0"/>
                  </a:lnTo>
                  <a:lnTo>
                    <a:pt x="1905" y="45"/>
                  </a:lnTo>
                  <a:lnTo>
                    <a:pt x="1901" y="95"/>
                  </a:lnTo>
                  <a:lnTo>
                    <a:pt x="1895" y="156"/>
                  </a:lnTo>
                  <a:lnTo>
                    <a:pt x="1882" y="209"/>
                  </a:lnTo>
                  <a:lnTo>
                    <a:pt x="1859" y="264"/>
                  </a:lnTo>
                  <a:lnTo>
                    <a:pt x="1842" y="298"/>
                  </a:lnTo>
                  <a:lnTo>
                    <a:pt x="1832" y="321"/>
                  </a:lnTo>
                  <a:lnTo>
                    <a:pt x="1809" y="355"/>
                  </a:lnTo>
                  <a:lnTo>
                    <a:pt x="1756" y="429"/>
                  </a:lnTo>
                  <a:lnTo>
                    <a:pt x="1699" y="486"/>
                  </a:lnTo>
                  <a:lnTo>
                    <a:pt x="1650" y="519"/>
                  </a:lnTo>
                  <a:lnTo>
                    <a:pt x="1610" y="536"/>
                  </a:lnTo>
                  <a:lnTo>
                    <a:pt x="1578" y="540"/>
                  </a:lnTo>
                  <a:lnTo>
                    <a:pt x="1515" y="545"/>
                  </a:lnTo>
                  <a:lnTo>
                    <a:pt x="1479" y="545"/>
                  </a:lnTo>
                  <a:lnTo>
                    <a:pt x="1431" y="549"/>
                  </a:lnTo>
                  <a:lnTo>
                    <a:pt x="1389" y="562"/>
                  </a:lnTo>
                  <a:lnTo>
                    <a:pt x="1344" y="579"/>
                  </a:lnTo>
                  <a:lnTo>
                    <a:pt x="1310" y="598"/>
                  </a:lnTo>
                  <a:lnTo>
                    <a:pt x="1292" y="629"/>
                  </a:lnTo>
                  <a:lnTo>
                    <a:pt x="1292" y="669"/>
                  </a:lnTo>
                  <a:lnTo>
                    <a:pt x="1296" y="722"/>
                  </a:lnTo>
                  <a:lnTo>
                    <a:pt x="1310" y="754"/>
                  </a:lnTo>
                  <a:lnTo>
                    <a:pt x="1317" y="787"/>
                  </a:lnTo>
                  <a:lnTo>
                    <a:pt x="1323" y="827"/>
                  </a:lnTo>
                  <a:lnTo>
                    <a:pt x="1340" y="884"/>
                  </a:lnTo>
                  <a:lnTo>
                    <a:pt x="1344" y="946"/>
                  </a:lnTo>
                  <a:lnTo>
                    <a:pt x="1340" y="1018"/>
                  </a:lnTo>
                  <a:lnTo>
                    <a:pt x="1336" y="1070"/>
                  </a:lnTo>
                  <a:lnTo>
                    <a:pt x="1319" y="1108"/>
                  </a:lnTo>
                  <a:lnTo>
                    <a:pt x="1296" y="1142"/>
                  </a:lnTo>
                  <a:lnTo>
                    <a:pt x="1264" y="1180"/>
                  </a:lnTo>
                  <a:lnTo>
                    <a:pt x="1232" y="1222"/>
                  </a:lnTo>
                  <a:lnTo>
                    <a:pt x="1197" y="1233"/>
                  </a:lnTo>
                  <a:lnTo>
                    <a:pt x="1154" y="1254"/>
                  </a:lnTo>
                  <a:lnTo>
                    <a:pt x="1108" y="1267"/>
                  </a:lnTo>
                  <a:lnTo>
                    <a:pt x="1060" y="1281"/>
                  </a:lnTo>
                  <a:lnTo>
                    <a:pt x="988" y="1298"/>
                  </a:lnTo>
                  <a:lnTo>
                    <a:pt x="920" y="1304"/>
                  </a:lnTo>
                  <a:lnTo>
                    <a:pt x="844" y="1304"/>
                  </a:lnTo>
                  <a:lnTo>
                    <a:pt x="804" y="1309"/>
                  </a:lnTo>
                  <a:lnTo>
                    <a:pt x="762" y="1307"/>
                  </a:lnTo>
                  <a:lnTo>
                    <a:pt x="720" y="1307"/>
                  </a:lnTo>
                  <a:lnTo>
                    <a:pt x="671" y="1300"/>
                  </a:lnTo>
                  <a:lnTo>
                    <a:pt x="625" y="1283"/>
                  </a:lnTo>
                  <a:lnTo>
                    <a:pt x="572" y="1267"/>
                  </a:lnTo>
                  <a:lnTo>
                    <a:pt x="509" y="1256"/>
                  </a:lnTo>
                  <a:lnTo>
                    <a:pt x="446" y="1256"/>
                  </a:lnTo>
                  <a:lnTo>
                    <a:pt x="380" y="1267"/>
                  </a:lnTo>
                  <a:lnTo>
                    <a:pt x="340" y="1283"/>
                  </a:lnTo>
                  <a:lnTo>
                    <a:pt x="302" y="1298"/>
                  </a:lnTo>
                  <a:lnTo>
                    <a:pt x="262" y="1309"/>
                  </a:lnTo>
                  <a:lnTo>
                    <a:pt x="203" y="1330"/>
                  </a:lnTo>
                  <a:lnTo>
                    <a:pt x="169" y="1370"/>
                  </a:lnTo>
                  <a:lnTo>
                    <a:pt x="146" y="1393"/>
                  </a:lnTo>
                  <a:lnTo>
                    <a:pt x="100" y="1448"/>
                  </a:lnTo>
                  <a:lnTo>
                    <a:pt x="66" y="1509"/>
                  </a:lnTo>
                  <a:lnTo>
                    <a:pt x="34" y="1589"/>
                  </a:lnTo>
                  <a:lnTo>
                    <a:pt x="26" y="1634"/>
                  </a:lnTo>
                  <a:lnTo>
                    <a:pt x="23" y="1693"/>
                  </a:lnTo>
                  <a:lnTo>
                    <a:pt x="17" y="1750"/>
                  </a:lnTo>
                  <a:lnTo>
                    <a:pt x="26" y="1794"/>
                  </a:lnTo>
                  <a:lnTo>
                    <a:pt x="43" y="1847"/>
                  </a:lnTo>
                  <a:lnTo>
                    <a:pt x="53" y="1902"/>
                  </a:lnTo>
                  <a:lnTo>
                    <a:pt x="61" y="1946"/>
                  </a:lnTo>
                  <a:lnTo>
                    <a:pt x="70" y="1992"/>
                  </a:lnTo>
                  <a:lnTo>
                    <a:pt x="97" y="2022"/>
                  </a:lnTo>
                  <a:lnTo>
                    <a:pt x="129" y="2062"/>
                  </a:lnTo>
                  <a:lnTo>
                    <a:pt x="112" y="2071"/>
                  </a:lnTo>
                  <a:lnTo>
                    <a:pt x="112" y="20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12880" y="3927600"/>
              <a:ext cx="1738440" cy="1168200"/>
            </a:xfrm>
            <a:custGeom>
              <a:avLst/>
              <a:gdLst/>
              <a:ahLst/>
              <a:rect l="l" t="t" r="r" b="b"/>
              <a:pathLst>
                <a:path w="1433" h="954">
                  <a:moveTo>
                    <a:pt x="1418" y="4"/>
                  </a:moveTo>
                  <a:lnTo>
                    <a:pt x="1414" y="34"/>
                  </a:lnTo>
                  <a:lnTo>
                    <a:pt x="1410" y="57"/>
                  </a:lnTo>
                  <a:lnTo>
                    <a:pt x="1388" y="99"/>
                  </a:lnTo>
                  <a:lnTo>
                    <a:pt x="1365" y="152"/>
                  </a:lnTo>
                  <a:lnTo>
                    <a:pt x="1342" y="177"/>
                  </a:lnTo>
                  <a:lnTo>
                    <a:pt x="1321" y="226"/>
                  </a:lnTo>
                  <a:lnTo>
                    <a:pt x="1296" y="259"/>
                  </a:lnTo>
                  <a:lnTo>
                    <a:pt x="1276" y="293"/>
                  </a:lnTo>
                  <a:lnTo>
                    <a:pt x="1239" y="321"/>
                  </a:lnTo>
                  <a:lnTo>
                    <a:pt x="1205" y="348"/>
                  </a:lnTo>
                  <a:lnTo>
                    <a:pt x="1154" y="378"/>
                  </a:lnTo>
                  <a:lnTo>
                    <a:pt x="1112" y="394"/>
                  </a:lnTo>
                  <a:lnTo>
                    <a:pt x="1080" y="397"/>
                  </a:lnTo>
                  <a:lnTo>
                    <a:pt x="1028" y="394"/>
                  </a:lnTo>
                  <a:lnTo>
                    <a:pt x="981" y="397"/>
                  </a:lnTo>
                  <a:lnTo>
                    <a:pt x="949" y="394"/>
                  </a:lnTo>
                  <a:lnTo>
                    <a:pt x="892" y="397"/>
                  </a:lnTo>
                  <a:lnTo>
                    <a:pt x="848" y="401"/>
                  </a:lnTo>
                  <a:lnTo>
                    <a:pt x="825" y="414"/>
                  </a:lnTo>
                  <a:lnTo>
                    <a:pt x="798" y="428"/>
                  </a:lnTo>
                  <a:lnTo>
                    <a:pt x="760" y="441"/>
                  </a:lnTo>
                  <a:lnTo>
                    <a:pt x="722" y="470"/>
                  </a:lnTo>
                  <a:lnTo>
                    <a:pt x="696" y="494"/>
                  </a:lnTo>
                  <a:lnTo>
                    <a:pt x="688" y="513"/>
                  </a:lnTo>
                  <a:lnTo>
                    <a:pt x="681" y="553"/>
                  </a:lnTo>
                  <a:lnTo>
                    <a:pt x="677" y="584"/>
                  </a:lnTo>
                  <a:lnTo>
                    <a:pt x="673" y="616"/>
                  </a:lnTo>
                  <a:lnTo>
                    <a:pt x="669" y="654"/>
                  </a:lnTo>
                  <a:lnTo>
                    <a:pt x="661" y="681"/>
                  </a:lnTo>
                  <a:lnTo>
                    <a:pt x="646" y="709"/>
                  </a:lnTo>
                  <a:lnTo>
                    <a:pt x="635" y="745"/>
                  </a:lnTo>
                  <a:lnTo>
                    <a:pt x="618" y="772"/>
                  </a:lnTo>
                  <a:lnTo>
                    <a:pt x="578" y="802"/>
                  </a:lnTo>
                  <a:lnTo>
                    <a:pt x="515" y="825"/>
                  </a:lnTo>
                  <a:lnTo>
                    <a:pt x="485" y="848"/>
                  </a:lnTo>
                  <a:lnTo>
                    <a:pt x="426" y="861"/>
                  </a:lnTo>
                  <a:lnTo>
                    <a:pt x="373" y="871"/>
                  </a:lnTo>
                  <a:lnTo>
                    <a:pt x="314" y="888"/>
                  </a:lnTo>
                  <a:lnTo>
                    <a:pt x="270" y="893"/>
                  </a:lnTo>
                  <a:lnTo>
                    <a:pt x="220" y="905"/>
                  </a:lnTo>
                  <a:lnTo>
                    <a:pt x="175" y="911"/>
                  </a:lnTo>
                  <a:lnTo>
                    <a:pt x="127" y="920"/>
                  </a:lnTo>
                  <a:lnTo>
                    <a:pt x="91" y="920"/>
                  </a:lnTo>
                  <a:lnTo>
                    <a:pt x="65" y="924"/>
                  </a:lnTo>
                  <a:lnTo>
                    <a:pt x="19" y="935"/>
                  </a:lnTo>
                  <a:lnTo>
                    <a:pt x="0" y="937"/>
                  </a:lnTo>
                  <a:lnTo>
                    <a:pt x="2" y="954"/>
                  </a:lnTo>
                  <a:lnTo>
                    <a:pt x="46" y="945"/>
                  </a:lnTo>
                  <a:lnTo>
                    <a:pt x="80" y="941"/>
                  </a:lnTo>
                  <a:lnTo>
                    <a:pt x="108" y="941"/>
                  </a:lnTo>
                  <a:lnTo>
                    <a:pt x="154" y="937"/>
                  </a:lnTo>
                  <a:lnTo>
                    <a:pt x="190" y="924"/>
                  </a:lnTo>
                  <a:lnTo>
                    <a:pt x="251" y="914"/>
                  </a:lnTo>
                  <a:lnTo>
                    <a:pt x="310" y="911"/>
                  </a:lnTo>
                  <a:lnTo>
                    <a:pt x="359" y="897"/>
                  </a:lnTo>
                  <a:lnTo>
                    <a:pt x="399" y="884"/>
                  </a:lnTo>
                  <a:lnTo>
                    <a:pt x="445" y="878"/>
                  </a:lnTo>
                  <a:lnTo>
                    <a:pt x="504" y="855"/>
                  </a:lnTo>
                  <a:lnTo>
                    <a:pt x="546" y="825"/>
                  </a:lnTo>
                  <a:lnTo>
                    <a:pt x="595" y="815"/>
                  </a:lnTo>
                  <a:lnTo>
                    <a:pt x="614" y="791"/>
                  </a:lnTo>
                  <a:lnTo>
                    <a:pt x="637" y="776"/>
                  </a:lnTo>
                  <a:lnTo>
                    <a:pt x="661" y="745"/>
                  </a:lnTo>
                  <a:lnTo>
                    <a:pt x="667" y="713"/>
                  </a:lnTo>
                  <a:lnTo>
                    <a:pt x="684" y="673"/>
                  </a:lnTo>
                  <a:lnTo>
                    <a:pt x="694" y="629"/>
                  </a:lnTo>
                  <a:lnTo>
                    <a:pt x="694" y="593"/>
                  </a:lnTo>
                  <a:lnTo>
                    <a:pt x="696" y="549"/>
                  </a:lnTo>
                  <a:lnTo>
                    <a:pt x="700" y="521"/>
                  </a:lnTo>
                  <a:lnTo>
                    <a:pt x="722" y="490"/>
                  </a:lnTo>
                  <a:lnTo>
                    <a:pt x="762" y="462"/>
                  </a:lnTo>
                  <a:lnTo>
                    <a:pt x="793" y="445"/>
                  </a:lnTo>
                  <a:lnTo>
                    <a:pt x="821" y="435"/>
                  </a:lnTo>
                  <a:lnTo>
                    <a:pt x="842" y="420"/>
                  </a:lnTo>
                  <a:lnTo>
                    <a:pt x="874" y="414"/>
                  </a:lnTo>
                  <a:lnTo>
                    <a:pt x="928" y="413"/>
                  </a:lnTo>
                  <a:lnTo>
                    <a:pt x="990" y="413"/>
                  </a:lnTo>
                  <a:lnTo>
                    <a:pt x="1040" y="413"/>
                  </a:lnTo>
                  <a:lnTo>
                    <a:pt x="1078" y="413"/>
                  </a:lnTo>
                  <a:lnTo>
                    <a:pt x="1127" y="409"/>
                  </a:lnTo>
                  <a:lnTo>
                    <a:pt x="1154" y="394"/>
                  </a:lnTo>
                  <a:lnTo>
                    <a:pt x="1186" y="378"/>
                  </a:lnTo>
                  <a:lnTo>
                    <a:pt x="1243" y="337"/>
                  </a:lnTo>
                  <a:lnTo>
                    <a:pt x="1276" y="312"/>
                  </a:lnTo>
                  <a:lnTo>
                    <a:pt x="1308" y="280"/>
                  </a:lnTo>
                  <a:lnTo>
                    <a:pt x="1329" y="253"/>
                  </a:lnTo>
                  <a:lnTo>
                    <a:pt x="1338" y="219"/>
                  </a:lnTo>
                  <a:lnTo>
                    <a:pt x="1361" y="183"/>
                  </a:lnTo>
                  <a:lnTo>
                    <a:pt x="1380" y="150"/>
                  </a:lnTo>
                  <a:lnTo>
                    <a:pt x="1391" y="120"/>
                  </a:lnTo>
                  <a:lnTo>
                    <a:pt x="1414" y="88"/>
                  </a:lnTo>
                  <a:lnTo>
                    <a:pt x="1429" y="53"/>
                  </a:lnTo>
                  <a:lnTo>
                    <a:pt x="1428" y="27"/>
                  </a:lnTo>
                  <a:lnTo>
                    <a:pt x="1433" y="0"/>
                  </a:lnTo>
                  <a:lnTo>
                    <a:pt x="1418" y="4"/>
                  </a:lnTo>
                  <a:lnTo>
                    <a:pt x="14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12880" y="4340160"/>
              <a:ext cx="436680" cy="735120"/>
            </a:xfrm>
            <a:custGeom>
              <a:avLst/>
              <a:gdLst/>
              <a:ahLst/>
              <a:rect l="l" t="t" r="r" b="b"/>
              <a:pathLst>
                <a:path w="359" h="599">
                  <a:moveTo>
                    <a:pt x="19" y="597"/>
                  </a:moveTo>
                  <a:lnTo>
                    <a:pt x="46" y="582"/>
                  </a:lnTo>
                  <a:lnTo>
                    <a:pt x="76" y="567"/>
                  </a:lnTo>
                  <a:lnTo>
                    <a:pt x="108" y="540"/>
                  </a:lnTo>
                  <a:lnTo>
                    <a:pt x="131" y="517"/>
                  </a:lnTo>
                  <a:lnTo>
                    <a:pt x="158" y="502"/>
                  </a:lnTo>
                  <a:lnTo>
                    <a:pt x="184" y="491"/>
                  </a:lnTo>
                  <a:lnTo>
                    <a:pt x="213" y="468"/>
                  </a:lnTo>
                  <a:lnTo>
                    <a:pt x="238" y="447"/>
                  </a:lnTo>
                  <a:lnTo>
                    <a:pt x="257" y="420"/>
                  </a:lnTo>
                  <a:lnTo>
                    <a:pt x="266" y="398"/>
                  </a:lnTo>
                  <a:lnTo>
                    <a:pt x="297" y="384"/>
                  </a:lnTo>
                  <a:lnTo>
                    <a:pt x="310" y="371"/>
                  </a:lnTo>
                  <a:lnTo>
                    <a:pt x="327" y="348"/>
                  </a:lnTo>
                  <a:lnTo>
                    <a:pt x="340" y="327"/>
                  </a:lnTo>
                  <a:lnTo>
                    <a:pt x="346" y="295"/>
                  </a:lnTo>
                  <a:lnTo>
                    <a:pt x="359" y="263"/>
                  </a:lnTo>
                  <a:lnTo>
                    <a:pt x="359" y="238"/>
                  </a:lnTo>
                  <a:lnTo>
                    <a:pt x="355" y="202"/>
                  </a:lnTo>
                  <a:lnTo>
                    <a:pt x="350" y="175"/>
                  </a:lnTo>
                  <a:lnTo>
                    <a:pt x="344" y="143"/>
                  </a:lnTo>
                  <a:lnTo>
                    <a:pt x="317" y="116"/>
                  </a:lnTo>
                  <a:lnTo>
                    <a:pt x="297" y="94"/>
                  </a:lnTo>
                  <a:lnTo>
                    <a:pt x="277" y="76"/>
                  </a:lnTo>
                  <a:lnTo>
                    <a:pt x="220" y="40"/>
                  </a:lnTo>
                  <a:lnTo>
                    <a:pt x="184" y="27"/>
                  </a:lnTo>
                  <a:lnTo>
                    <a:pt x="167" y="21"/>
                  </a:lnTo>
                  <a:lnTo>
                    <a:pt x="144" y="14"/>
                  </a:lnTo>
                  <a:lnTo>
                    <a:pt x="122" y="0"/>
                  </a:lnTo>
                  <a:lnTo>
                    <a:pt x="118" y="25"/>
                  </a:lnTo>
                  <a:lnTo>
                    <a:pt x="144" y="33"/>
                  </a:lnTo>
                  <a:lnTo>
                    <a:pt x="167" y="37"/>
                  </a:lnTo>
                  <a:lnTo>
                    <a:pt x="184" y="48"/>
                  </a:lnTo>
                  <a:lnTo>
                    <a:pt x="203" y="54"/>
                  </a:lnTo>
                  <a:lnTo>
                    <a:pt x="224" y="67"/>
                  </a:lnTo>
                  <a:lnTo>
                    <a:pt x="251" y="80"/>
                  </a:lnTo>
                  <a:lnTo>
                    <a:pt x="274" y="103"/>
                  </a:lnTo>
                  <a:lnTo>
                    <a:pt x="293" y="120"/>
                  </a:lnTo>
                  <a:lnTo>
                    <a:pt x="310" y="143"/>
                  </a:lnTo>
                  <a:lnTo>
                    <a:pt x="327" y="156"/>
                  </a:lnTo>
                  <a:lnTo>
                    <a:pt x="336" y="179"/>
                  </a:lnTo>
                  <a:lnTo>
                    <a:pt x="336" y="206"/>
                  </a:lnTo>
                  <a:lnTo>
                    <a:pt x="340" y="232"/>
                  </a:lnTo>
                  <a:lnTo>
                    <a:pt x="340" y="255"/>
                  </a:lnTo>
                  <a:lnTo>
                    <a:pt x="336" y="286"/>
                  </a:lnTo>
                  <a:lnTo>
                    <a:pt x="327" y="312"/>
                  </a:lnTo>
                  <a:lnTo>
                    <a:pt x="314" y="335"/>
                  </a:lnTo>
                  <a:lnTo>
                    <a:pt x="297" y="362"/>
                  </a:lnTo>
                  <a:lnTo>
                    <a:pt x="283" y="371"/>
                  </a:lnTo>
                  <a:lnTo>
                    <a:pt x="260" y="381"/>
                  </a:lnTo>
                  <a:lnTo>
                    <a:pt x="247" y="398"/>
                  </a:lnTo>
                  <a:lnTo>
                    <a:pt x="230" y="415"/>
                  </a:lnTo>
                  <a:lnTo>
                    <a:pt x="220" y="430"/>
                  </a:lnTo>
                  <a:lnTo>
                    <a:pt x="201" y="447"/>
                  </a:lnTo>
                  <a:lnTo>
                    <a:pt x="184" y="460"/>
                  </a:lnTo>
                  <a:lnTo>
                    <a:pt x="160" y="477"/>
                  </a:lnTo>
                  <a:lnTo>
                    <a:pt x="135" y="495"/>
                  </a:lnTo>
                  <a:lnTo>
                    <a:pt x="114" y="502"/>
                  </a:lnTo>
                  <a:lnTo>
                    <a:pt x="95" y="521"/>
                  </a:lnTo>
                  <a:lnTo>
                    <a:pt x="68" y="540"/>
                  </a:lnTo>
                  <a:lnTo>
                    <a:pt x="46" y="563"/>
                  </a:lnTo>
                  <a:lnTo>
                    <a:pt x="27" y="573"/>
                  </a:lnTo>
                  <a:lnTo>
                    <a:pt x="0" y="599"/>
                  </a:lnTo>
                  <a:lnTo>
                    <a:pt x="19" y="597"/>
                  </a:lnTo>
                  <a:lnTo>
                    <a:pt x="19" y="5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0520" y="3916440"/>
              <a:ext cx="317520" cy="423720"/>
            </a:xfrm>
            <a:custGeom>
              <a:avLst/>
              <a:gdLst/>
              <a:ahLst/>
              <a:rect l="l" t="t" r="r" b="b"/>
              <a:pathLst>
                <a:path w="260" h="347">
                  <a:moveTo>
                    <a:pt x="260" y="325"/>
                  </a:moveTo>
                  <a:lnTo>
                    <a:pt x="226" y="319"/>
                  </a:lnTo>
                  <a:lnTo>
                    <a:pt x="196" y="319"/>
                  </a:lnTo>
                  <a:lnTo>
                    <a:pt x="159" y="304"/>
                  </a:lnTo>
                  <a:lnTo>
                    <a:pt x="137" y="298"/>
                  </a:lnTo>
                  <a:lnTo>
                    <a:pt x="110" y="281"/>
                  </a:lnTo>
                  <a:lnTo>
                    <a:pt x="80" y="268"/>
                  </a:lnTo>
                  <a:lnTo>
                    <a:pt x="64" y="245"/>
                  </a:lnTo>
                  <a:lnTo>
                    <a:pt x="38" y="226"/>
                  </a:lnTo>
                  <a:lnTo>
                    <a:pt x="24" y="199"/>
                  </a:lnTo>
                  <a:lnTo>
                    <a:pt x="21" y="182"/>
                  </a:lnTo>
                  <a:lnTo>
                    <a:pt x="19" y="150"/>
                  </a:lnTo>
                  <a:lnTo>
                    <a:pt x="19" y="116"/>
                  </a:lnTo>
                  <a:lnTo>
                    <a:pt x="26" y="89"/>
                  </a:lnTo>
                  <a:lnTo>
                    <a:pt x="30" y="62"/>
                  </a:lnTo>
                  <a:lnTo>
                    <a:pt x="43" y="36"/>
                  </a:lnTo>
                  <a:lnTo>
                    <a:pt x="76" y="7"/>
                  </a:lnTo>
                  <a:lnTo>
                    <a:pt x="57" y="0"/>
                  </a:lnTo>
                  <a:lnTo>
                    <a:pt x="30" y="21"/>
                  </a:lnTo>
                  <a:lnTo>
                    <a:pt x="15" y="43"/>
                  </a:lnTo>
                  <a:lnTo>
                    <a:pt x="4" y="76"/>
                  </a:lnTo>
                  <a:lnTo>
                    <a:pt x="4" y="102"/>
                  </a:lnTo>
                  <a:lnTo>
                    <a:pt x="0" y="138"/>
                  </a:lnTo>
                  <a:lnTo>
                    <a:pt x="4" y="173"/>
                  </a:lnTo>
                  <a:lnTo>
                    <a:pt x="7" y="209"/>
                  </a:lnTo>
                  <a:lnTo>
                    <a:pt x="21" y="241"/>
                  </a:lnTo>
                  <a:lnTo>
                    <a:pt x="47" y="262"/>
                  </a:lnTo>
                  <a:lnTo>
                    <a:pt x="68" y="289"/>
                  </a:lnTo>
                  <a:lnTo>
                    <a:pt x="97" y="304"/>
                  </a:lnTo>
                  <a:lnTo>
                    <a:pt x="127" y="311"/>
                  </a:lnTo>
                  <a:lnTo>
                    <a:pt x="154" y="321"/>
                  </a:lnTo>
                  <a:lnTo>
                    <a:pt x="180" y="334"/>
                  </a:lnTo>
                  <a:lnTo>
                    <a:pt x="213" y="334"/>
                  </a:lnTo>
                  <a:lnTo>
                    <a:pt x="249" y="347"/>
                  </a:lnTo>
                  <a:lnTo>
                    <a:pt x="260" y="325"/>
                  </a:lnTo>
                  <a:lnTo>
                    <a:pt x="26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8960" y="4132440"/>
              <a:ext cx="374760" cy="29016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6" y="52"/>
                  </a:moveTo>
                  <a:lnTo>
                    <a:pt x="166" y="82"/>
                  </a:lnTo>
                  <a:lnTo>
                    <a:pt x="175" y="0"/>
                  </a:lnTo>
                  <a:lnTo>
                    <a:pt x="221" y="29"/>
                  </a:lnTo>
                  <a:lnTo>
                    <a:pt x="301" y="118"/>
                  </a:lnTo>
                  <a:lnTo>
                    <a:pt x="310" y="154"/>
                  </a:lnTo>
                  <a:lnTo>
                    <a:pt x="221" y="208"/>
                  </a:lnTo>
                  <a:lnTo>
                    <a:pt x="175" y="238"/>
                  </a:lnTo>
                  <a:lnTo>
                    <a:pt x="162" y="154"/>
                  </a:lnTo>
                  <a:lnTo>
                    <a:pt x="99" y="177"/>
                  </a:lnTo>
                  <a:lnTo>
                    <a:pt x="6" y="198"/>
                  </a:lnTo>
                  <a:lnTo>
                    <a:pt x="0" y="139"/>
                  </a:lnTo>
                  <a:lnTo>
                    <a:pt x="0" y="73"/>
                  </a:lnTo>
                  <a:lnTo>
                    <a:pt x="6" y="52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78120" y="3800520"/>
              <a:ext cx="399960" cy="282600"/>
            </a:xfrm>
            <a:custGeom>
              <a:avLst/>
              <a:gdLst/>
              <a:ahLst/>
              <a:rect l="l" t="t" r="r" b="b"/>
              <a:pathLst>
                <a:path w="329" h="230">
                  <a:moveTo>
                    <a:pt x="317" y="58"/>
                  </a:moveTo>
                  <a:lnTo>
                    <a:pt x="213" y="70"/>
                  </a:lnTo>
                  <a:lnTo>
                    <a:pt x="146" y="70"/>
                  </a:lnTo>
                  <a:lnTo>
                    <a:pt x="137" y="0"/>
                  </a:lnTo>
                  <a:lnTo>
                    <a:pt x="0" y="104"/>
                  </a:lnTo>
                  <a:lnTo>
                    <a:pt x="150" y="230"/>
                  </a:lnTo>
                  <a:lnTo>
                    <a:pt x="146" y="161"/>
                  </a:lnTo>
                  <a:lnTo>
                    <a:pt x="329" y="174"/>
                  </a:lnTo>
                  <a:lnTo>
                    <a:pt x="329" y="104"/>
                  </a:lnTo>
                  <a:lnTo>
                    <a:pt x="317" y="58"/>
                  </a:lnTo>
                  <a:lnTo>
                    <a:pt x="317" y="58"/>
                  </a:lnTo>
                  <a:close/>
                </a:path>
              </a:pathLst>
            </a:custGeom>
            <a:solidFill>
              <a:srgbClr val="335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95480" y="3441600"/>
              <a:ext cx="524160" cy="304920"/>
            </a:xfrm>
            <a:custGeom>
              <a:avLst/>
              <a:gdLst/>
              <a:ahLst/>
              <a:rect l="l" t="t" r="r" b="b"/>
              <a:pathLst>
                <a:path w="429" h="249">
                  <a:moveTo>
                    <a:pt x="66" y="0"/>
                  </a:moveTo>
                  <a:lnTo>
                    <a:pt x="26" y="47"/>
                  </a:lnTo>
                  <a:lnTo>
                    <a:pt x="0" y="125"/>
                  </a:lnTo>
                  <a:lnTo>
                    <a:pt x="49" y="125"/>
                  </a:lnTo>
                  <a:lnTo>
                    <a:pt x="205" y="137"/>
                  </a:lnTo>
                  <a:lnTo>
                    <a:pt x="215" y="150"/>
                  </a:lnTo>
                  <a:lnTo>
                    <a:pt x="215" y="199"/>
                  </a:lnTo>
                  <a:lnTo>
                    <a:pt x="211" y="249"/>
                  </a:lnTo>
                  <a:lnTo>
                    <a:pt x="291" y="217"/>
                  </a:lnTo>
                  <a:lnTo>
                    <a:pt x="357" y="186"/>
                  </a:lnTo>
                  <a:lnTo>
                    <a:pt x="429" y="156"/>
                  </a:lnTo>
                  <a:lnTo>
                    <a:pt x="344" y="114"/>
                  </a:lnTo>
                  <a:lnTo>
                    <a:pt x="287" y="61"/>
                  </a:lnTo>
                  <a:lnTo>
                    <a:pt x="255" y="21"/>
                  </a:lnTo>
                  <a:lnTo>
                    <a:pt x="201" y="47"/>
                  </a:lnTo>
                  <a:lnTo>
                    <a:pt x="148" y="3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8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27200" y="2982960"/>
              <a:ext cx="696960" cy="423720"/>
            </a:xfrm>
            <a:custGeom>
              <a:avLst/>
              <a:gdLst/>
              <a:ahLst/>
              <a:rect l="l" t="t" r="r" b="b"/>
              <a:pathLst>
                <a:path w="574" h="346">
                  <a:moveTo>
                    <a:pt x="0" y="145"/>
                  </a:moveTo>
                  <a:lnTo>
                    <a:pt x="49" y="107"/>
                  </a:lnTo>
                  <a:lnTo>
                    <a:pt x="104" y="71"/>
                  </a:lnTo>
                  <a:lnTo>
                    <a:pt x="150" y="42"/>
                  </a:lnTo>
                  <a:lnTo>
                    <a:pt x="224" y="0"/>
                  </a:lnTo>
                  <a:lnTo>
                    <a:pt x="228" y="111"/>
                  </a:lnTo>
                  <a:lnTo>
                    <a:pt x="441" y="124"/>
                  </a:lnTo>
                  <a:lnTo>
                    <a:pt x="572" y="133"/>
                  </a:lnTo>
                  <a:lnTo>
                    <a:pt x="574" y="208"/>
                  </a:lnTo>
                  <a:lnTo>
                    <a:pt x="568" y="257"/>
                  </a:lnTo>
                  <a:lnTo>
                    <a:pt x="298" y="261"/>
                  </a:lnTo>
                  <a:lnTo>
                    <a:pt x="224" y="263"/>
                  </a:lnTo>
                  <a:lnTo>
                    <a:pt x="207" y="346"/>
                  </a:lnTo>
                  <a:lnTo>
                    <a:pt x="150" y="299"/>
                  </a:lnTo>
                  <a:lnTo>
                    <a:pt x="119" y="257"/>
                  </a:lnTo>
                  <a:lnTo>
                    <a:pt x="62" y="198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9440" y="3036960"/>
              <a:ext cx="80640" cy="8568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0" y="70"/>
                  </a:moveTo>
                  <a:lnTo>
                    <a:pt x="4" y="4"/>
                  </a:lnTo>
                  <a:lnTo>
                    <a:pt x="66" y="0"/>
                  </a:lnTo>
                  <a:lnTo>
                    <a:pt x="57" y="67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82960" y="3300480"/>
              <a:ext cx="87120" cy="174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12"/>
                  </a:moveTo>
                  <a:lnTo>
                    <a:pt x="8" y="84"/>
                  </a:lnTo>
                  <a:lnTo>
                    <a:pt x="4" y="0"/>
                  </a:lnTo>
                  <a:lnTo>
                    <a:pt x="72" y="6"/>
                  </a:lnTo>
                  <a:lnTo>
                    <a:pt x="70" y="68"/>
                  </a:lnTo>
                  <a:lnTo>
                    <a:pt x="67" y="144"/>
                  </a:lnTo>
                  <a:lnTo>
                    <a:pt x="30" y="135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4120" y="3603600"/>
              <a:ext cx="75960" cy="273240"/>
            </a:xfrm>
            <a:custGeom>
              <a:avLst/>
              <a:gdLst/>
              <a:ahLst/>
              <a:rect l="l" t="t" r="r" b="b"/>
              <a:pathLst>
                <a:path w="64" h="222">
                  <a:moveTo>
                    <a:pt x="0" y="218"/>
                  </a:moveTo>
                  <a:lnTo>
                    <a:pt x="0" y="165"/>
                  </a:lnTo>
                  <a:lnTo>
                    <a:pt x="0" y="12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2" y="76"/>
                  </a:lnTo>
                  <a:lnTo>
                    <a:pt x="62" y="129"/>
                  </a:lnTo>
                  <a:lnTo>
                    <a:pt x="59" y="222"/>
                  </a:lnTo>
                  <a:lnTo>
                    <a:pt x="0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82960" y="4006800"/>
              <a:ext cx="98280" cy="21600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0" y="154"/>
                  </a:moveTo>
                  <a:lnTo>
                    <a:pt x="21" y="85"/>
                  </a:lnTo>
                  <a:lnTo>
                    <a:pt x="8" y="0"/>
                  </a:lnTo>
                  <a:lnTo>
                    <a:pt x="80" y="0"/>
                  </a:lnTo>
                  <a:lnTo>
                    <a:pt x="67" y="64"/>
                  </a:lnTo>
                  <a:lnTo>
                    <a:pt x="65" y="125"/>
                  </a:lnTo>
                  <a:lnTo>
                    <a:pt x="67" y="175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82960" y="4346640"/>
              <a:ext cx="103320" cy="587160"/>
            </a:xfrm>
            <a:custGeom>
              <a:avLst/>
              <a:gdLst/>
              <a:ahLst/>
              <a:rect l="l" t="t" r="r" b="b"/>
              <a:pathLst>
                <a:path w="84" h="479">
                  <a:moveTo>
                    <a:pt x="0" y="473"/>
                  </a:moveTo>
                  <a:lnTo>
                    <a:pt x="0" y="388"/>
                  </a:lnTo>
                  <a:lnTo>
                    <a:pt x="11" y="179"/>
                  </a:lnTo>
                  <a:lnTo>
                    <a:pt x="4" y="17"/>
                  </a:lnTo>
                  <a:lnTo>
                    <a:pt x="80" y="0"/>
                  </a:lnTo>
                  <a:lnTo>
                    <a:pt x="84" y="99"/>
                  </a:lnTo>
                  <a:lnTo>
                    <a:pt x="67" y="169"/>
                  </a:lnTo>
                  <a:lnTo>
                    <a:pt x="70" y="301"/>
                  </a:lnTo>
                  <a:lnTo>
                    <a:pt x="70" y="392"/>
                  </a:lnTo>
                  <a:lnTo>
                    <a:pt x="72" y="479"/>
                  </a:lnTo>
                  <a:lnTo>
                    <a:pt x="0" y="47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1360" y="2965320"/>
              <a:ext cx="722520" cy="479520"/>
            </a:xfrm>
            <a:custGeom>
              <a:avLst/>
              <a:gdLst/>
              <a:ahLst/>
              <a:rect l="l" t="t" r="r" b="b"/>
              <a:pathLst>
                <a:path w="595" h="394">
                  <a:moveTo>
                    <a:pt x="595" y="139"/>
                  </a:moveTo>
                  <a:lnTo>
                    <a:pt x="555" y="137"/>
                  </a:lnTo>
                  <a:lnTo>
                    <a:pt x="527" y="137"/>
                  </a:lnTo>
                  <a:lnTo>
                    <a:pt x="489" y="133"/>
                  </a:lnTo>
                  <a:lnTo>
                    <a:pt x="443" y="129"/>
                  </a:lnTo>
                  <a:lnTo>
                    <a:pt x="411" y="126"/>
                  </a:lnTo>
                  <a:lnTo>
                    <a:pt x="371" y="126"/>
                  </a:lnTo>
                  <a:lnTo>
                    <a:pt x="335" y="122"/>
                  </a:lnTo>
                  <a:lnTo>
                    <a:pt x="301" y="118"/>
                  </a:lnTo>
                  <a:lnTo>
                    <a:pt x="285" y="118"/>
                  </a:lnTo>
                  <a:lnTo>
                    <a:pt x="255" y="118"/>
                  </a:lnTo>
                  <a:lnTo>
                    <a:pt x="251" y="99"/>
                  </a:lnTo>
                  <a:lnTo>
                    <a:pt x="251" y="76"/>
                  </a:lnTo>
                  <a:lnTo>
                    <a:pt x="251" y="53"/>
                  </a:lnTo>
                  <a:lnTo>
                    <a:pt x="251" y="23"/>
                  </a:lnTo>
                  <a:lnTo>
                    <a:pt x="251" y="0"/>
                  </a:lnTo>
                  <a:lnTo>
                    <a:pt x="232" y="4"/>
                  </a:lnTo>
                  <a:lnTo>
                    <a:pt x="202" y="23"/>
                  </a:lnTo>
                  <a:lnTo>
                    <a:pt x="179" y="36"/>
                  </a:lnTo>
                  <a:lnTo>
                    <a:pt x="149" y="57"/>
                  </a:lnTo>
                  <a:lnTo>
                    <a:pt x="130" y="63"/>
                  </a:lnTo>
                  <a:lnTo>
                    <a:pt x="103" y="90"/>
                  </a:lnTo>
                  <a:lnTo>
                    <a:pt x="76" y="103"/>
                  </a:lnTo>
                  <a:lnTo>
                    <a:pt x="46" y="126"/>
                  </a:lnTo>
                  <a:lnTo>
                    <a:pt x="14" y="148"/>
                  </a:lnTo>
                  <a:lnTo>
                    <a:pt x="0" y="162"/>
                  </a:lnTo>
                  <a:lnTo>
                    <a:pt x="44" y="196"/>
                  </a:lnTo>
                  <a:lnTo>
                    <a:pt x="84" y="236"/>
                  </a:lnTo>
                  <a:lnTo>
                    <a:pt x="126" y="278"/>
                  </a:lnTo>
                  <a:lnTo>
                    <a:pt x="156" y="325"/>
                  </a:lnTo>
                  <a:lnTo>
                    <a:pt x="189" y="356"/>
                  </a:lnTo>
                  <a:lnTo>
                    <a:pt x="228" y="394"/>
                  </a:lnTo>
                  <a:lnTo>
                    <a:pt x="238" y="363"/>
                  </a:lnTo>
                  <a:lnTo>
                    <a:pt x="238" y="321"/>
                  </a:lnTo>
                  <a:lnTo>
                    <a:pt x="244" y="291"/>
                  </a:lnTo>
                  <a:lnTo>
                    <a:pt x="274" y="285"/>
                  </a:lnTo>
                  <a:lnTo>
                    <a:pt x="318" y="285"/>
                  </a:lnTo>
                  <a:lnTo>
                    <a:pt x="371" y="282"/>
                  </a:lnTo>
                  <a:lnTo>
                    <a:pt x="420" y="282"/>
                  </a:lnTo>
                  <a:lnTo>
                    <a:pt x="474" y="285"/>
                  </a:lnTo>
                  <a:lnTo>
                    <a:pt x="512" y="285"/>
                  </a:lnTo>
                  <a:lnTo>
                    <a:pt x="546" y="285"/>
                  </a:lnTo>
                  <a:lnTo>
                    <a:pt x="592" y="282"/>
                  </a:lnTo>
                  <a:lnTo>
                    <a:pt x="592" y="261"/>
                  </a:lnTo>
                  <a:lnTo>
                    <a:pt x="546" y="264"/>
                  </a:lnTo>
                  <a:lnTo>
                    <a:pt x="500" y="268"/>
                  </a:lnTo>
                  <a:lnTo>
                    <a:pt x="470" y="268"/>
                  </a:lnTo>
                  <a:lnTo>
                    <a:pt x="420" y="264"/>
                  </a:lnTo>
                  <a:lnTo>
                    <a:pt x="367" y="264"/>
                  </a:lnTo>
                  <a:lnTo>
                    <a:pt x="331" y="268"/>
                  </a:lnTo>
                  <a:lnTo>
                    <a:pt x="282" y="268"/>
                  </a:lnTo>
                  <a:lnTo>
                    <a:pt x="228" y="268"/>
                  </a:lnTo>
                  <a:lnTo>
                    <a:pt x="221" y="312"/>
                  </a:lnTo>
                  <a:lnTo>
                    <a:pt x="219" y="344"/>
                  </a:lnTo>
                  <a:lnTo>
                    <a:pt x="189" y="329"/>
                  </a:lnTo>
                  <a:lnTo>
                    <a:pt x="166" y="304"/>
                  </a:lnTo>
                  <a:lnTo>
                    <a:pt x="145" y="278"/>
                  </a:lnTo>
                  <a:lnTo>
                    <a:pt x="133" y="255"/>
                  </a:lnTo>
                  <a:lnTo>
                    <a:pt x="107" y="228"/>
                  </a:lnTo>
                  <a:lnTo>
                    <a:pt x="80" y="205"/>
                  </a:lnTo>
                  <a:lnTo>
                    <a:pt x="54" y="183"/>
                  </a:lnTo>
                  <a:lnTo>
                    <a:pt x="27" y="162"/>
                  </a:lnTo>
                  <a:lnTo>
                    <a:pt x="50" y="143"/>
                  </a:lnTo>
                  <a:lnTo>
                    <a:pt x="86" y="122"/>
                  </a:lnTo>
                  <a:lnTo>
                    <a:pt x="112" y="99"/>
                  </a:lnTo>
                  <a:lnTo>
                    <a:pt x="149" y="72"/>
                  </a:lnTo>
                  <a:lnTo>
                    <a:pt x="189" y="59"/>
                  </a:lnTo>
                  <a:lnTo>
                    <a:pt x="225" y="34"/>
                  </a:lnTo>
                  <a:lnTo>
                    <a:pt x="225" y="50"/>
                  </a:lnTo>
                  <a:lnTo>
                    <a:pt x="232" y="76"/>
                  </a:lnTo>
                  <a:lnTo>
                    <a:pt x="232" y="107"/>
                  </a:lnTo>
                  <a:lnTo>
                    <a:pt x="228" y="129"/>
                  </a:lnTo>
                  <a:lnTo>
                    <a:pt x="255" y="139"/>
                  </a:lnTo>
                  <a:lnTo>
                    <a:pt x="301" y="143"/>
                  </a:lnTo>
                  <a:lnTo>
                    <a:pt x="361" y="148"/>
                  </a:lnTo>
                  <a:lnTo>
                    <a:pt x="413" y="145"/>
                  </a:lnTo>
                  <a:lnTo>
                    <a:pt x="479" y="148"/>
                  </a:lnTo>
                  <a:lnTo>
                    <a:pt x="527" y="156"/>
                  </a:lnTo>
                  <a:lnTo>
                    <a:pt x="576" y="156"/>
                  </a:lnTo>
                  <a:lnTo>
                    <a:pt x="595" y="139"/>
                  </a:lnTo>
                  <a:lnTo>
                    <a:pt x="595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5080" y="3135240"/>
              <a:ext cx="33480" cy="165240"/>
            </a:xfrm>
            <a:custGeom>
              <a:avLst/>
              <a:gdLst/>
              <a:ahLst/>
              <a:rect l="l" t="t" r="r" b="b"/>
              <a:pathLst>
                <a:path w="26" h="133">
                  <a:moveTo>
                    <a:pt x="22" y="0"/>
                  </a:moveTo>
                  <a:lnTo>
                    <a:pt x="22" y="30"/>
                  </a:lnTo>
                  <a:lnTo>
                    <a:pt x="26" y="84"/>
                  </a:lnTo>
                  <a:lnTo>
                    <a:pt x="26" y="97"/>
                  </a:lnTo>
                  <a:lnTo>
                    <a:pt x="19" y="122"/>
                  </a:lnTo>
                  <a:lnTo>
                    <a:pt x="9" y="133"/>
                  </a:lnTo>
                  <a:lnTo>
                    <a:pt x="3" y="116"/>
                  </a:lnTo>
                  <a:lnTo>
                    <a:pt x="7" y="85"/>
                  </a:lnTo>
                  <a:lnTo>
                    <a:pt x="7" y="57"/>
                  </a:lnTo>
                  <a:lnTo>
                    <a:pt x="3" y="17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70280" y="3409920"/>
              <a:ext cx="579240" cy="355680"/>
            </a:xfrm>
            <a:custGeom>
              <a:avLst/>
              <a:gdLst/>
              <a:ahLst/>
              <a:rect l="l" t="t" r="r" b="b"/>
              <a:pathLst>
                <a:path w="477" h="293">
                  <a:moveTo>
                    <a:pt x="74" y="0"/>
                  </a:moveTo>
                  <a:lnTo>
                    <a:pt x="97" y="8"/>
                  </a:lnTo>
                  <a:lnTo>
                    <a:pt x="139" y="44"/>
                  </a:lnTo>
                  <a:lnTo>
                    <a:pt x="177" y="48"/>
                  </a:lnTo>
                  <a:lnTo>
                    <a:pt x="213" y="69"/>
                  </a:lnTo>
                  <a:lnTo>
                    <a:pt x="232" y="61"/>
                  </a:lnTo>
                  <a:lnTo>
                    <a:pt x="241" y="48"/>
                  </a:lnTo>
                  <a:lnTo>
                    <a:pt x="262" y="31"/>
                  </a:lnTo>
                  <a:lnTo>
                    <a:pt x="276" y="15"/>
                  </a:lnTo>
                  <a:lnTo>
                    <a:pt x="295" y="42"/>
                  </a:lnTo>
                  <a:lnTo>
                    <a:pt x="306" y="65"/>
                  </a:lnTo>
                  <a:lnTo>
                    <a:pt x="342" y="88"/>
                  </a:lnTo>
                  <a:lnTo>
                    <a:pt x="357" y="114"/>
                  </a:lnTo>
                  <a:lnTo>
                    <a:pt x="388" y="141"/>
                  </a:lnTo>
                  <a:lnTo>
                    <a:pt x="424" y="160"/>
                  </a:lnTo>
                  <a:lnTo>
                    <a:pt x="448" y="173"/>
                  </a:lnTo>
                  <a:lnTo>
                    <a:pt x="477" y="190"/>
                  </a:lnTo>
                  <a:lnTo>
                    <a:pt x="437" y="204"/>
                  </a:lnTo>
                  <a:lnTo>
                    <a:pt x="397" y="209"/>
                  </a:lnTo>
                  <a:lnTo>
                    <a:pt x="361" y="232"/>
                  </a:lnTo>
                  <a:lnTo>
                    <a:pt x="325" y="253"/>
                  </a:lnTo>
                  <a:lnTo>
                    <a:pt x="302" y="263"/>
                  </a:lnTo>
                  <a:lnTo>
                    <a:pt x="256" y="276"/>
                  </a:lnTo>
                  <a:lnTo>
                    <a:pt x="218" y="293"/>
                  </a:lnTo>
                  <a:lnTo>
                    <a:pt x="222" y="253"/>
                  </a:lnTo>
                  <a:lnTo>
                    <a:pt x="226" y="209"/>
                  </a:lnTo>
                  <a:lnTo>
                    <a:pt x="230" y="183"/>
                  </a:lnTo>
                  <a:lnTo>
                    <a:pt x="215" y="177"/>
                  </a:lnTo>
                  <a:lnTo>
                    <a:pt x="177" y="169"/>
                  </a:lnTo>
                  <a:lnTo>
                    <a:pt x="142" y="168"/>
                  </a:lnTo>
                  <a:lnTo>
                    <a:pt x="110" y="168"/>
                  </a:lnTo>
                  <a:lnTo>
                    <a:pt x="61" y="168"/>
                  </a:lnTo>
                  <a:lnTo>
                    <a:pt x="21" y="168"/>
                  </a:lnTo>
                  <a:lnTo>
                    <a:pt x="0" y="169"/>
                  </a:lnTo>
                  <a:lnTo>
                    <a:pt x="4" y="145"/>
                  </a:lnTo>
                  <a:lnTo>
                    <a:pt x="44" y="145"/>
                  </a:lnTo>
                  <a:lnTo>
                    <a:pt x="78" y="145"/>
                  </a:lnTo>
                  <a:lnTo>
                    <a:pt x="106" y="145"/>
                  </a:lnTo>
                  <a:lnTo>
                    <a:pt x="165" y="147"/>
                  </a:lnTo>
                  <a:lnTo>
                    <a:pt x="209" y="150"/>
                  </a:lnTo>
                  <a:lnTo>
                    <a:pt x="232" y="156"/>
                  </a:lnTo>
                  <a:lnTo>
                    <a:pt x="262" y="168"/>
                  </a:lnTo>
                  <a:lnTo>
                    <a:pt x="245" y="190"/>
                  </a:lnTo>
                  <a:lnTo>
                    <a:pt x="245" y="223"/>
                  </a:lnTo>
                  <a:lnTo>
                    <a:pt x="239" y="257"/>
                  </a:lnTo>
                  <a:lnTo>
                    <a:pt x="279" y="244"/>
                  </a:lnTo>
                  <a:lnTo>
                    <a:pt x="317" y="223"/>
                  </a:lnTo>
                  <a:lnTo>
                    <a:pt x="344" y="209"/>
                  </a:lnTo>
                  <a:lnTo>
                    <a:pt x="384" y="204"/>
                  </a:lnTo>
                  <a:lnTo>
                    <a:pt x="428" y="183"/>
                  </a:lnTo>
                  <a:lnTo>
                    <a:pt x="397" y="173"/>
                  </a:lnTo>
                  <a:lnTo>
                    <a:pt x="348" y="145"/>
                  </a:lnTo>
                  <a:lnTo>
                    <a:pt x="295" y="107"/>
                  </a:lnTo>
                  <a:lnTo>
                    <a:pt x="283" y="76"/>
                  </a:lnTo>
                  <a:lnTo>
                    <a:pt x="258" y="69"/>
                  </a:lnTo>
                  <a:lnTo>
                    <a:pt x="236" y="80"/>
                  </a:lnTo>
                  <a:lnTo>
                    <a:pt x="213" y="88"/>
                  </a:lnTo>
                  <a:lnTo>
                    <a:pt x="186" y="76"/>
                  </a:lnTo>
                  <a:lnTo>
                    <a:pt x="163" y="69"/>
                  </a:lnTo>
                  <a:lnTo>
                    <a:pt x="137" y="65"/>
                  </a:lnTo>
                  <a:lnTo>
                    <a:pt x="116" y="53"/>
                  </a:lnTo>
                  <a:lnTo>
                    <a:pt x="97" y="44"/>
                  </a:lnTo>
                  <a:lnTo>
                    <a:pt x="80" y="3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74960" y="3409920"/>
              <a:ext cx="123840" cy="193680"/>
            </a:xfrm>
            <a:custGeom>
              <a:avLst/>
              <a:gdLst/>
              <a:ahLst/>
              <a:rect l="l" t="t" r="r" b="b"/>
              <a:pathLst>
                <a:path w="100" h="160">
                  <a:moveTo>
                    <a:pt x="70" y="0"/>
                  </a:moveTo>
                  <a:lnTo>
                    <a:pt x="49" y="34"/>
                  </a:lnTo>
                  <a:lnTo>
                    <a:pt x="40" y="65"/>
                  </a:lnTo>
                  <a:lnTo>
                    <a:pt x="22" y="99"/>
                  </a:lnTo>
                  <a:lnTo>
                    <a:pt x="0" y="145"/>
                  </a:lnTo>
                  <a:lnTo>
                    <a:pt x="17" y="160"/>
                  </a:lnTo>
                  <a:lnTo>
                    <a:pt x="40" y="145"/>
                  </a:lnTo>
                  <a:lnTo>
                    <a:pt x="36" y="118"/>
                  </a:lnTo>
                  <a:lnTo>
                    <a:pt x="62" y="88"/>
                  </a:lnTo>
                  <a:lnTo>
                    <a:pt x="70" y="61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39960" y="3763800"/>
              <a:ext cx="452520" cy="343080"/>
            </a:xfrm>
            <a:custGeom>
              <a:avLst/>
              <a:gdLst/>
              <a:ahLst/>
              <a:rect l="l" t="t" r="r" b="b"/>
              <a:pathLst>
                <a:path w="372" h="281">
                  <a:moveTo>
                    <a:pt x="366" y="76"/>
                  </a:moveTo>
                  <a:lnTo>
                    <a:pt x="334" y="82"/>
                  </a:lnTo>
                  <a:lnTo>
                    <a:pt x="298" y="82"/>
                  </a:lnTo>
                  <a:lnTo>
                    <a:pt x="273" y="82"/>
                  </a:lnTo>
                  <a:lnTo>
                    <a:pt x="245" y="86"/>
                  </a:lnTo>
                  <a:lnTo>
                    <a:pt x="209" y="89"/>
                  </a:lnTo>
                  <a:lnTo>
                    <a:pt x="186" y="89"/>
                  </a:lnTo>
                  <a:lnTo>
                    <a:pt x="186" y="63"/>
                  </a:lnTo>
                  <a:lnTo>
                    <a:pt x="186" y="44"/>
                  </a:lnTo>
                  <a:lnTo>
                    <a:pt x="186" y="0"/>
                  </a:lnTo>
                  <a:lnTo>
                    <a:pt x="155" y="21"/>
                  </a:lnTo>
                  <a:lnTo>
                    <a:pt x="119" y="48"/>
                  </a:lnTo>
                  <a:lnTo>
                    <a:pt x="85" y="70"/>
                  </a:lnTo>
                  <a:lnTo>
                    <a:pt x="49" y="89"/>
                  </a:lnTo>
                  <a:lnTo>
                    <a:pt x="30" y="108"/>
                  </a:lnTo>
                  <a:lnTo>
                    <a:pt x="0" y="124"/>
                  </a:lnTo>
                  <a:lnTo>
                    <a:pt x="43" y="152"/>
                  </a:lnTo>
                  <a:lnTo>
                    <a:pt x="85" y="192"/>
                  </a:lnTo>
                  <a:lnTo>
                    <a:pt x="115" y="219"/>
                  </a:lnTo>
                  <a:lnTo>
                    <a:pt x="142" y="234"/>
                  </a:lnTo>
                  <a:lnTo>
                    <a:pt x="159" y="255"/>
                  </a:lnTo>
                  <a:lnTo>
                    <a:pt x="186" y="281"/>
                  </a:lnTo>
                  <a:lnTo>
                    <a:pt x="192" y="234"/>
                  </a:lnTo>
                  <a:lnTo>
                    <a:pt x="192" y="205"/>
                  </a:lnTo>
                  <a:lnTo>
                    <a:pt x="222" y="205"/>
                  </a:lnTo>
                  <a:lnTo>
                    <a:pt x="254" y="205"/>
                  </a:lnTo>
                  <a:lnTo>
                    <a:pt x="294" y="211"/>
                  </a:lnTo>
                  <a:lnTo>
                    <a:pt x="344" y="215"/>
                  </a:lnTo>
                  <a:lnTo>
                    <a:pt x="370" y="219"/>
                  </a:lnTo>
                  <a:lnTo>
                    <a:pt x="372" y="200"/>
                  </a:lnTo>
                  <a:lnTo>
                    <a:pt x="330" y="192"/>
                  </a:lnTo>
                  <a:lnTo>
                    <a:pt x="277" y="185"/>
                  </a:lnTo>
                  <a:lnTo>
                    <a:pt x="231" y="183"/>
                  </a:lnTo>
                  <a:lnTo>
                    <a:pt x="192" y="179"/>
                  </a:lnTo>
                  <a:lnTo>
                    <a:pt x="172" y="179"/>
                  </a:lnTo>
                  <a:lnTo>
                    <a:pt x="169" y="211"/>
                  </a:lnTo>
                  <a:lnTo>
                    <a:pt x="174" y="234"/>
                  </a:lnTo>
                  <a:lnTo>
                    <a:pt x="146" y="211"/>
                  </a:lnTo>
                  <a:lnTo>
                    <a:pt x="108" y="185"/>
                  </a:lnTo>
                  <a:lnTo>
                    <a:pt x="81" y="166"/>
                  </a:lnTo>
                  <a:lnTo>
                    <a:pt x="49" y="135"/>
                  </a:lnTo>
                  <a:lnTo>
                    <a:pt x="74" y="120"/>
                  </a:lnTo>
                  <a:lnTo>
                    <a:pt x="96" y="93"/>
                  </a:lnTo>
                  <a:lnTo>
                    <a:pt x="125" y="76"/>
                  </a:lnTo>
                  <a:lnTo>
                    <a:pt x="155" y="50"/>
                  </a:lnTo>
                  <a:lnTo>
                    <a:pt x="161" y="76"/>
                  </a:lnTo>
                  <a:lnTo>
                    <a:pt x="161" y="107"/>
                  </a:lnTo>
                  <a:lnTo>
                    <a:pt x="186" y="108"/>
                  </a:lnTo>
                  <a:lnTo>
                    <a:pt x="224" y="107"/>
                  </a:lnTo>
                  <a:lnTo>
                    <a:pt x="273" y="107"/>
                  </a:lnTo>
                  <a:lnTo>
                    <a:pt x="317" y="103"/>
                  </a:lnTo>
                  <a:lnTo>
                    <a:pt x="357" y="101"/>
                  </a:lnTo>
                  <a:lnTo>
                    <a:pt x="366" y="76"/>
                  </a:lnTo>
                  <a:lnTo>
                    <a:pt x="3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57560" y="3855960"/>
              <a:ext cx="34920" cy="1587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2" y="0"/>
                  </a:moveTo>
                  <a:lnTo>
                    <a:pt x="22" y="27"/>
                  </a:lnTo>
                  <a:lnTo>
                    <a:pt x="22" y="57"/>
                  </a:lnTo>
                  <a:lnTo>
                    <a:pt x="22" y="90"/>
                  </a:lnTo>
                  <a:lnTo>
                    <a:pt x="28" y="124"/>
                  </a:lnTo>
                  <a:lnTo>
                    <a:pt x="9" y="129"/>
                  </a:lnTo>
                  <a:lnTo>
                    <a:pt x="5" y="103"/>
                  </a:lnTo>
                  <a:lnTo>
                    <a:pt x="3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08440" y="4106880"/>
              <a:ext cx="433080" cy="33984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57"/>
                  </a:moveTo>
                  <a:lnTo>
                    <a:pt x="44" y="73"/>
                  </a:lnTo>
                  <a:lnTo>
                    <a:pt x="80" y="76"/>
                  </a:lnTo>
                  <a:lnTo>
                    <a:pt x="128" y="84"/>
                  </a:lnTo>
                  <a:lnTo>
                    <a:pt x="169" y="90"/>
                  </a:lnTo>
                  <a:lnTo>
                    <a:pt x="177" y="59"/>
                  </a:lnTo>
                  <a:lnTo>
                    <a:pt x="179" y="33"/>
                  </a:lnTo>
                  <a:lnTo>
                    <a:pt x="179" y="0"/>
                  </a:lnTo>
                  <a:lnTo>
                    <a:pt x="200" y="4"/>
                  </a:lnTo>
                  <a:lnTo>
                    <a:pt x="234" y="31"/>
                  </a:lnTo>
                  <a:lnTo>
                    <a:pt x="261" y="63"/>
                  </a:lnTo>
                  <a:lnTo>
                    <a:pt x="282" y="97"/>
                  </a:lnTo>
                  <a:lnTo>
                    <a:pt x="312" y="122"/>
                  </a:lnTo>
                  <a:lnTo>
                    <a:pt x="344" y="153"/>
                  </a:lnTo>
                  <a:lnTo>
                    <a:pt x="358" y="170"/>
                  </a:lnTo>
                  <a:lnTo>
                    <a:pt x="335" y="187"/>
                  </a:lnTo>
                  <a:lnTo>
                    <a:pt x="312" y="198"/>
                  </a:lnTo>
                  <a:lnTo>
                    <a:pt x="282" y="219"/>
                  </a:lnTo>
                  <a:lnTo>
                    <a:pt x="261" y="240"/>
                  </a:lnTo>
                  <a:lnTo>
                    <a:pt x="232" y="251"/>
                  </a:lnTo>
                  <a:lnTo>
                    <a:pt x="211" y="268"/>
                  </a:lnTo>
                  <a:lnTo>
                    <a:pt x="185" y="278"/>
                  </a:lnTo>
                  <a:lnTo>
                    <a:pt x="183" y="248"/>
                  </a:lnTo>
                  <a:lnTo>
                    <a:pt x="179" y="210"/>
                  </a:lnTo>
                  <a:lnTo>
                    <a:pt x="177" y="192"/>
                  </a:lnTo>
                  <a:lnTo>
                    <a:pt x="143" y="196"/>
                  </a:lnTo>
                  <a:lnTo>
                    <a:pt x="116" y="210"/>
                  </a:lnTo>
                  <a:lnTo>
                    <a:pt x="76" y="217"/>
                  </a:lnTo>
                  <a:lnTo>
                    <a:pt x="63" y="225"/>
                  </a:lnTo>
                  <a:lnTo>
                    <a:pt x="8" y="232"/>
                  </a:lnTo>
                  <a:lnTo>
                    <a:pt x="4" y="196"/>
                  </a:lnTo>
                  <a:lnTo>
                    <a:pt x="63" y="202"/>
                  </a:lnTo>
                  <a:lnTo>
                    <a:pt x="107" y="191"/>
                  </a:lnTo>
                  <a:lnTo>
                    <a:pt x="143" y="175"/>
                  </a:lnTo>
                  <a:lnTo>
                    <a:pt x="185" y="166"/>
                  </a:lnTo>
                  <a:lnTo>
                    <a:pt x="188" y="191"/>
                  </a:lnTo>
                  <a:lnTo>
                    <a:pt x="196" y="219"/>
                  </a:lnTo>
                  <a:lnTo>
                    <a:pt x="200" y="240"/>
                  </a:lnTo>
                  <a:lnTo>
                    <a:pt x="228" y="223"/>
                  </a:lnTo>
                  <a:lnTo>
                    <a:pt x="265" y="198"/>
                  </a:lnTo>
                  <a:lnTo>
                    <a:pt x="287" y="183"/>
                  </a:lnTo>
                  <a:lnTo>
                    <a:pt x="318" y="170"/>
                  </a:lnTo>
                  <a:lnTo>
                    <a:pt x="295" y="134"/>
                  </a:lnTo>
                  <a:lnTo>
                    <a:pt x="261" y="107"/>
                  </a:lnTo>
                  <a:lnTo>
                    <a:pt x="238" y="73"/>
                  </a:lnTo>
                  <a:lnTo>
                    <a:pt x="209" y="40"/>
                  </a:lnTo>
                  <a:lnTo>
                    <a:pt x="196" y="67"/>
                  </a:lnTo>
                  <a:lnTo>
                    <a:pt x="196" y="97"/>
                  </a:lnTo>
                  <a:lnTo>
                    <a:pt x="188" y="120"/>
                  </a:lnTo>
                  <a:lnTo>
                    <a:pt x="143" y="113"/>
                  </a:lnTo>
                  <a:lnTo>
                    <a:pt x="107" y="103"/>
                  </a:lnTo>
                  <a:lnTo>
                    <a:pt x="76" y="97"/>
                  </a:lnTo>
                  <a:lnTo>
                    <a:pt x="36" y="90"/>
                  </a:lnTo>
                  <a:lnTo>
                    <a:pt x="4" y="9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14560" y="4195800"/>
              <a:ext cx="36720" cy="166680"/>
            </a:xfrm>
            <a:custGeom>
              <a:avLst/>
              <a:gdLst/>
              <a:ahLst/>
              <a:rect l="l" t="t" r="r" b="b"/>
              <a:pathLst>
                <a:path w="30" h="137">
                  <a:moveTo>
                    <a:pt x="0" y="17"/>
                  </a:moveTo>
                  <a:lnTo>
                    <a:pt x="0" y="49"/>
                  </a:lnTo>
                  <a:lnTo>
                    <a:pt x="4" y="76"/>
                  </a:lnTo>
                  <a:lnTo>
                    <a:pt x="0" y="123"/>
                  </a:lnTo>
                  <a:lnTo>
                    <a:pt x="19" y="137"/>
                  </a:lnTo>
                  <a:lnTo>
                    <a:pt x="30" y="118"/>
                  </a:lnTo>
                  <a:lnTo>
                    <a:pt x="27" y="83"/>
                  </a:lnTo>
                  <a:lnTo>
                    <a:pt x="23" y="57"/>
                  </a:lnTo>
                  <a:lnTo>
                    <a:pt x="23" y="24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9720" y="3017880"/>
              <a:ext cx="101520" cy="11736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0" y="91"/>
                  </a:moveTo>
                  <a:lnTo>
                    <a:pt x="0" y="61"/>
                  </a:lnTo>
                  <a:lnTo>
                    <a:pt x="4" y="30"/>
                  </a:lnTo>
                  <a:lnTo>
                    <a:pt x="4" y="11"/>
                  </a:lnTo>
                  <a:lnTo>
                    <a:pt x="48" y="11"/>
                  </a:lnTo>
                  <a:lnTo>
                    <a:pt x="84" y="0"/>
                  </a:lnTo>
                  <a:lnTo>
                    <a:pt x="80" y="25"/>
                  </a:lnTo>
                  <a:lnTo>
                    <a:pt x="76" y="65"/>
                  </a:lnTo>
                  <a:lnTo>
                    <a:pt x="76" y="97"/>
                  </a:lnTo>
                  <a:lnTo>
                    <a:pt x="50" y="97"/>
                  </a:lnTo>
                  <a:lnTo>
                    <a:pt x="57" y="74"/>
                  </a:lnTo>
                  <a:lnTo>
                    <a:pt x="65" y="49"/>
                  </a:lnTo>
                  <a:lnTo>
                    <a:pt x="65" y="27"/>
                  </a:lnTo>
                  <a:lnTo>
                    <a:pt x="50" y="30"/>
                  </a:lnTo>
                  <a:lnTo>
                    <a:pt x="21" y="27"/>
                  </a:lnTo>
                  <a:lnTo>
                    <a:pt x="21" y="53"/>
                  </a:lnTo>
                  <a:lnTo>
                    <a:pt x="21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76480" y="3301920"/>
              <a:ext cx="28800" cy="154080"/>
            </a:xfrm>
            <a:custGeom>
              <a:avLst/>
              <a:gdLst/>
              <a:ahLst/>
              <a:rect l="l" t="t" r="r" b="b"/>
              <a:pathLst>
                <a:path w="23" h="125">
                  <a:moveTo>
                    <a:pt x="2" y="0"/>
                  </a:moveTo>
                  <a:lnTo>
                    <a:pt x="2" y="23"/>
                  </a:lnTo>
                  <a:lnTo>
                    <a:pt x="10" y="61"/>
                  </a:lnTo>
                  <a:lnTo>
                    <a:pt x="2" y="76"/>
                  </a:lnTo>
                  <a:lnTo>
                    <a:pt x="0" y="114"/>
                  </a:lnTo>
                  <a:lnTo>
                    <a:pt x="17" y="125"/>
                  </a:lnTo>
                  <a:lnTo>
                    <a:pt x="23" y="95"/>
                  </a:lnTo>
                  <a:lnTo>
                    <a:pt x="23" y="61"/>
                  </a:lnTo>
                  <a:lnTo>
                    <a:pt x="23" y="38"/>
                  </a:lnTo>
                  <a:lnTo>
                    <a:pt x="2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560" y="3301920"/>
              <a:ext cx="41400" cy="173160"/>
            </a:xfrm>
            <a:custGeom>
              <a:avLst/>
              <a:gdLst/>
              <a:ahLst/>
              <a:rect l="l" t="t" r="r" b="b"/>
              <a:pathLst>
                <a:path w="34" h="140">
                  <a:moveTo>
                    <a:pt x="0" y="2"/>
                  </a:moveTo>
                  <a:lnTo>
                    <a:pt x="0" y="28"/>
                  </a:lnTo>
                  <a:lnTo>
                    <a:pt x="8" y="45"/>
                  </a:lnTo>
                  <a:lnTo>
                    <a:pt x="8" y="64"/>
                  </a:lnTo>
                  <a:lnTo>
                    <a:pt x="4" y="140"/>
                  </a:lnTo>
                  <a:lnTo>
                    <a:pt x="23" y="140"/>
                  </a:lnTo>
                  <a:lnTo>
                    <a:pt x="23" y="106"/>
                  </a:lnTo>
                  <a:lnTo>
                    <a:pt x="27" y="82"/>
                  </a:lnTo>
                  <a:lnTo>
                    <a:pt x="31" y="49"/>
                  </a:lnTo>
                  <a:lnTo>
                    <a:pt x="34" y="28"/>
                  </a:lnTo>
                  <a:lnTo>
                    <a:pt x="3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6480" y="3603600"/>
              <a:ext cx="34920" cy="277920"/>
            </a:xfrm>
            <a:custGeom>
              <a:avLst/>
              <a:gdLst/>
              <a:ahLst/>
              <a:rect l="l" t="t" r="r" b="b"/>
              <a:pathLst>
                <a:path w="29" h="226">
                  <a:moveTo>
                    <a:pt x="0" y="4"/>
                  </a:moveTo>
                  <a:lnTo>
                    <a:pt x="6" y="44"/>
                  </a:lnTo>
                  <a:lnTo>
                    <a:pt x="6" y="84"/>
                  </a:lnTo>
                  <a:lnTo>
                    <a:pt x="2" y="129"/>
                  </a:lnTo>
                  <a:lnTo>
                    <a:pt x="6" y="165"/>
                  </a:lnTo>
                  <a:lnTo>
                    <a:pt x="0" y="226"/>
                  </a:lnTo>
                  <a:lnTo>
                    <a:pt x="29" y="226"/>
                  </a:lnTo>
                  <a:lnTo>
                    <a:pt x="23" y="188"/>
                  </a:lnTo>
                  <a:lnTo>
                    <a:pt x="19" y="139"/>
                  </a:lnTo>
                  <a:lnTo>
                    <a:pt x="19" y="103"/>
                  </a:lnTo>
                  <a:lnTo>
                    <a:pt x="19" y="70"/>
                  </a:lnTo>
                  <a:lnTo>
                    <a:pt x="23" y="30"/>
                  </a:lnTo>
                  <a:lnTo>
                    <a:pt x="2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560" y="3600360"/>
              <a:ext cx="27000" cy="281160"/>
            </a:xfrm>
            <a:custGeom>
              <a:avLst/>
              <a:gdLst/>
              <a:ahLst/>
              <a:rect l="l" t="t" r="r" b="b"/>
              <a:pathLst>
                <a:path w="23" h="230">
                  <a:moveTo>
                    <a:pt x="0" y="0"/>
                  </a:moveTo>
                  <a:lnTo>
                    <a:pt x="4" y="27"/>
                  </a:lnTo>
                  <a:lnTo>
                    <a:pt x="8" y="65"/>
                  </a:lnTo>
                  <a:lnTo>
                    <a:pt x="4" y="93"/>
                  </a:lnTo>
                  <a:lnTo>
                    <a:pt x="4" y="116"/>
                  </a:lnTo>
                  <a:lnTo>
                    <a:pt x="4" y="150"/>
                  </a:lnTo>
                  <a:lnTo>
                    <a:pt x="4" y="183"/>
                  </a:lnTo>
                  <a:lnTo>
                    <a:pt x="4" y="230"/>
                  </a:lnTo>
                  <a:lnTo>
                    <a:pt x="23" y="226"/>
                  </a:lnTo>
                  <a:lnTo>
                    <a:pt x="23" y="192"/>
                  </a:lnTo>
                  <a:lnTo>
                    <a:pt x="23" y="156"/>
                  </a:lnTo>
                  <a:lnTo>
                    <a:pt x="23" y="110"/>
                  </a:lnTo>
                  <a:lnTo>
                    <a:pt x="23" y="76"/>
                  </a:lnTo>
                  <a:lnTo>
                    <a:pt x="23" y="48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1800" y="4000680"/>
              <a:ext cx="44280" cy="215640"/>
            </a:xfrm>
            <a:custGeom>
              <a:avLst/>
              <a:gdLst/>
              <a:ahLst/>
              <a:rect l="l" t="t" r="r" b="b"/>
              <a:pathLst>
                <a:path w="36" h="175">
                  <a:moveTo>
                    <a:pt x="5" y="4"/>
                  </a:moveTo>
                  <a:lnTo>
                    <a:pt x="5" y="27"/>
                  </a:lnTo>
                  <a:lnTo>
                    <a:pt x="13" y="72"/>
                  </a:lnTo>
                  <a:lnTo>
                    <a:pt x="9" y="103"/>
                  </a:lnTo>
                  <a:lnTo>
                    <a:pt x="5" y="135"/>
                  </a:lnTo>
                  <a:lnTo>
                    <a:pt x="0" y="169"/>
                  </a:lnTo>
                  <a:lnTo>
                    <a:pt x="26" y="175"/>
                  </a:lnTo>
                  <a:lnTo>
                    <a:pt x="30" y="144"/>
                  </a:lnTo>
                  <a:lnTo>
                    <a:pt x="30" y="118"/>
                  </a:lnTo>
                  <a:lnTo>
                    <a:pt x="36" y="91"/>
                  </a:lnTo>
                  <a:lnTo>
                    <a:pt x="30" y="59"/>
                  </a:lnTo>
                  <a:lnTo>
                    <a:pt x="30" y="32"/>
                  </a:lnTo>
                  <a:lnTo>
                    <a:pt x="30" y="0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0200" y="4000680"/>
              <a:ext cx="41040" cy="222120"/>
            </a:xfrm>
            <a:custGeom>
              <a:avLst/>
              <a:gdLst/>
              <a:ahLst/>
              <a:rect l="l" t="t" r="r" b="b"/>
              <a:pathLst>
                <a:path w="34" h="179">
                  <a:moveTo>
                    <a:pt x="15" y="0"/>
                  </a:moveTo>
                  <a:lnTo>
                    <a:pt x="15" y="27"/>
                  </a:lnTo>
                  <a:lnTo>
                    <a:pt x="11" y="53"/>
                  </a:lnTo>
                  <a:lnTo>
                    <a:pt x="11" y="91"/>
                  </a:lnTo>
                  <a:lnTo>
                    <a:pt x="0" y="122"/>
                  </a:lnTo>
                  <a:lnTo>
                    <a:pt x="3" y="148"/>
                  </a:lnTo>
                  <a:lnTo>
                    <a:pt x="7" y="175"/>
                  </a:lnTo>
                  <a:lnTo>
                    <a:pt x="26" y="179"/>
                  </a:lnTo>
                  <a:lnTo>
                    <a:pt x="30" y="148"/>
                  </a:lnTo>
                  <a:lnTo>
                    <a:pt x="26" y="125"/>
                  </a:lnTo>
                  <a:lnTo>
                    <a:pt x="26" y="95"/>
                  </a:lnTo>
                  <a:lnTo>
                    <a:pt x="34" y="76"/>
                  </a:lnTo>
                  <a:lnTo>
                    <a:pt x="34" y="57"/>
                  </a:lnTo>
                  <a:lnTo>
                    <a:pt x="34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3880" y="4334040"/>
              <a:ext cx="136440" cy="614160"/>
            </a:xfrm>
            <a:custGeom>
              <a:avLst/>
              <a:gdLst/>
              <a:ahLst/>
              <a:rect l="l" t="t" r="r" b="b"/>
              <a:pathLst>
                <a:path w="112" h="502">
                  <a:moveTo>
                    <a:pt x="11" y="26"/>
                  </a:moveTo>
                  <a:lnTo>
                    <a:pt x="11" y="64"/>
                  </a:lnTo>
                  <a:lnTo>
                    <a:pt x="11" y="95"/>
                  </a:lnTo>
                  <a:lnTo>
                    <a:pt x="9" y="140"/>
                  </a:lnTo>
                  <a:lnTo>
                    <a:pt x="11" y="171"/>
                  </a:lnTo>
                  <a:lnTo>
                    <a:pt x="11" y="207"/>
                  </a:lnTo>
                  <a:lnTo>
                    <a:pt x="11" y="237"/>
                  </a:lnTo>
                  <a:lnTo>
                    <a:pt x="11" y="277"/>
                  </a:lnTo>
                  <a:lnTo>
                    <a:pt x="9" y="313"/>
                  </a:lnTo>
                  <a:lnTo>
                    <a:pt x="9" y="348"/>
                  </a:lnTo>
                  <a:lnTo>
                    <a:pt x="6" y="376"/>
                  </a:lnTo>
                  <a:lnTo>
                    <a:pt x="2" y="408"/>
                  </a:lnTo>
                  <a:lnTo>
                    <a:pt x="0" y="452"/>
                  </a:lnTo>
                  <a:lnTo>
                    <a:pt x="6" y="482"/>
                  </a:lnTo>
                  <a:lnTo>
                    <a:pt x="0" y="496"/>
                  </a:lnTo>
                  <a:lnTo>
                    <a:pt x="28" y="500"/>
                  </a:lnTo>
                  <a:lnTo>
                    <a:pt x="72" y="502"/>
                  </a:lnTo>
                  <a:lnTo>
                    <a:pt x="102" y="502"/>
                  </a:lnTo>
                  <a:lnTo>
                    <a:pt x="99" y="465"/>
                  </a:lnTo>
                  <a:lnTo>
                    <a:pt x="99" y="408"/>
                  </a:lnTo>
                  <a:lnTo>
                    <a:pt x="99" y="359"/>
                  </a:lnTo>
                  <a:lnTo>
                    <a:pt x="91" y="281"/>
                  </a:lnTo>
                  <a:lnTo>
                    <a:pt x="95" y="243"/>
                  </a:lnTo>
                  <a:lnTo>
                    <a:pt x="91" y="190"/>
                  </a:lnTo>
                  <a:lnTo>
                    <a:pt x="95" y="157"/>
                  </a:lnTo>
                  <a:lnTo>
                    <a:pt x="104" y="129"/>
                  </a:lnTo>
                  <a:lnTo>
                    <a:pt x="112" y="108"/>
                  </a:lnTo>
                  <a:lnTo>
                    <a:pt x="104" y="64"/>
                  </a:lnTo>
                  <a:lnTo>
                    <a:pt x="102" y="36"/>
                  </a:lnTo>
                  <a:lnTo>
                    <a:pt x="99" y="0"/>
                  </a:lnTo>
                  <a:lnTo>
                    <a:pt x="76" y="5"/>
                  </a:lnTo>
                  <a:lnTo>
                    <a:pt x="82" y="38"/>
                  </a:lnTo>
                  <a:lnTo>
                    <a:pt x="82" y="68"/>
                  </a:lnTo>
                  <a:lnTo>
                    <a:pt x="82" y="125"/>
                  </a:lnTo>
                  <a:lnTo>
                    <a:pt x="80" y="144"/>
                  </a:lnTo>
                  <a:lnTo>
                    <a:pt x="76" y="188"/>
                  </a:lnTo>
                  <a:lnTo>
                    <a:pt x="68" y="241"/>
                  </a:lnTo>
                  <a:lnTo>
                    <a:pt x="64" y="270"/>
                  </a:lnTo>
                  <a:lnTo>
                    <a:pt x="64" y="300"/>
                  </a:lnTo>
                  <a:lnTo>
                    <a:pt x="64" y="348"/>
                  </a:lnTo>
                  <a:lnTo>
                    <a:pt x="68" y="389"/>
                  </a:lnTo>
                  <a:lnTo>
                    <a:pt x="82" y="416"/>
                  </a:lnTo>
                  <a:lnTo>
                    <a:pt x="80" y="452"/>
                  </a:lnTo>
                  <a:lnTo>
                    <a:pt x="82" y="482"/>
                  </a:lnTo>
                  <a:lnTo>
                    <a:pt x="28" y="482"/>
                  </a:lnTo>
                  <a:lnTo>
                    <a:pt x="26" y="425"/>
                  </a:lnTo>
                  <a:lnTo>
                    <a:pt x="28" y="367"/>
                  </a:lnTo>
                  <a:lnTo>
                    <a:pt x="32" y="313"/>
                  </a:lnTo>
                  <a:lnTo>
                    <a:pt x="32" y="270"/>
                  </a:lnTo>
                  <a:lnTo>
                    <a:pt x="32" y="220"/>
                  </a:lnTo>
                  <a:lnTo>
                    <a:pt x="32" y="171"/>
                  </a:lnTo>
                  <a:lnTo>
                    <a:pt x="32" y="125"/>
                  </a:lnTo>
                  <a:lnTo>
                    <a:pt x="32" y="80"/>
                  </a:lnTo>
                  <a:lnTo>
                    <a:pt x="32" y="42"/>
                  </a:lnTo>
                  <a:lnTo>
                    <a:pt x="32" y="23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1240" y="3905280"/>
              <a:ext cx="403200" cy="1069920"/>
            </a:xfrm>
            <a:custGeom>
              <a:avLst/>
              <a:gdLst/>
              <a:ahLst/>
              <a:rect l="l" t="t" r="r" b="b"/>
              <a:pathLst>
                <a:path w="331" h="874">
                  <a:moveTo>
                    <a:pt x="115" y="0"/>
                  </a:moveTo>
                  <a:lnTo>
                    <a:pt x="92" y="46"/>
                  </a:lnTo>
                  <a:lnTo>
                    <a:pt x="77" y="76"/>
                  </a:lnTo>
                  <a:lnTo>
                    <a:pt x="57" y="95"/>
                  </a:lnTo>
                  <a:lnTo>
                    <a:pt x="40" y="133"/>
                  </a:lnTo>
                  <a:lnTo>
                    <a:pt x="38" y="137"/>
                  </a:lnTo>
                  <a:lnTo>
                    <a:pt x="37" y="146"/>
                  </a:lnTo>
                  <a:lnTo>
                    <a:pt x="33" y="152"/>
                  </a:lnTo>
                  <a:lnTo>
                    <a:pt x="33" y="158"/>
                  </a:lnTo>
                  <a:lnTo>
                    <a:pt x="31" y="164"/>
                  </a:lnTo>
                  <a:lnTo>
                    <a:pt x="31" y="169"/>
                  </a:lnTo>
                  <a:lnTo>
                    <a:pt x="29" y="173"/>
                  </a:lnTo>
                  <a:lnTo>
                    <a:pt x="27" y="181"/>
                  </a:lnTo>
                  <a:lnTo>
                    <a:pt x="27" y="188"/>
                  </a:lnTo>
                  <a:lnTo>
                    <a:pt x="27" y="198"/>
                  </a:lnTo>
                  <a:lnTo>
                    <a:pt x="27" y="207"/>
                  </a:lnTo>
                  <a:lnTo>
                    <a:pt x="27" y="217"/>
                  </a:lnTo>
                  <a:lnTo>
                    <a:pt x="27" y="222"/>
                  </a:lnTo>
                  <a:lnTo>
                    <a:pt x="27" y="224"/>
                  </a:lnTo>
                  <a:lnTo>
                    <a:pt x="25" y="249"/>
                  </a:lnTo>
                  <a:lnTo>
                    <a:pt x="21" y="285"/>
                  </a:lnTo>
                  <a:lnTo>
                    <a:pt x="18" y="314"/>
                  </a:lnTo>
                  <a:lnTo>
                    <a:pt x="21" y="348"/>
                  </a:lnTo>
                  <a:lnTo>
                    <a:pt x="40" y="371"/>
                  </a:lnTo>
                  <a:lnTo>
                    <a:pt x="65" y="390"/>
                  </a:lnTo>
                  <a:lnTo>
                    <a:pt x="94" y="413"/>
                  </a:lnTo>
                  <a:lnTo>
                    <a:pt x="118" y="420"/>
                  </a:lnTo>
                  <a:lnTo>
                    <a:pt x="141" y="437"/>
                  </a:lnTo>
                  <a:lnTo>
                    <a:pt x="164" y="447"/>
                  </a:lnTo>
                  <a:lnTo>
                    <a:pt x="191" y="451"/>
                  </a:lnTo>
                  <a:lnTo>
                    <a:pt x="213" y="456"/>
                  </a:lnTo>
                  <a:lnTo>
                    <a:pt x="232" y="460"/>
                  </a:lnTo>
                  <a:lnTo>
                    <a:pt x="255" y="466"/>
                  </a:lnTo>
                  <a:lnTo>
                    <a:pt x="286" y="477"/>
                  </a:lnTo>
                  <a:lnTo>
                    <a:pt x="305" y="492"/>
                  </a:lnTo>
                  <a:lnTo>
                    <a:pt x="326" y="513"/>
                  </a:lnTo>
                  <a:lnTo>
                    <a:pt x="331" y="557"/>
                  </a:lnTo>
                  <a:lnTo>
                    <a:pt x="331" y="593"/>
                  </a:lnTo>
                  <a:lnTo>
                    <a:pt x="326" y="625"/>
                  </a:lnTo>
                  <a:lnTo>
                    <a:pt x="312" y="652"/>
                  </a:lnTo>
                  <a:lnTo>
                    <a:pt x="293" y="679"/>
                  </a:lnTo>
                  <a:lnTo>
                    <a:pt x="276" y="700"/>
                  </a:lnTo>
                  <a:lnTo>
                    <a:pt x="259" y="715"/>
                  </a:lnTo>
                  <a:lnTo>
                    <a:pt x="246" y="728"/>
                  </a:lnTo>
                  <a:lnTo>
                    <a:pt x="223" y="749"/>
                  </a:lnTo>
                  <a:lnTo>
                    <a:pt x="206" y="764"/>
                  </a:lnTo>
                  <a:lnTo>
                    <a:pt x="191" y="787"/>
                  </a:lnTo>
                  <a:lnTo>
                    <a:pt x="170" y="804"/>
                  </a:lnTo>
                  <a:lnTo>
                    <a:pt x="147" y="827"/>
                  </a:lnTo>
                  <a:lnTo>
                    <a:pt x="134" y="848"/>
                  </a:lnTo>
                  <a:lnTo>
                    <a:pt x="111" y="874"/>
                  </a:lnTo>
                  <a:lnTo>
                    <a:pt x="126" y="831"/>
                  </a:lnTo>
                  <a:lnTo>
                    <a:pt x="149" y="798"/>
                  </a:lnTo>
                  <a:lnTo>
                    <a:pt x="179" y="772"/>
                  </a:lnTo>
                  <a:lnTo>
                    <a:pt x="206" y="749"/>
                  </a:lnTo>
                  <a:lnTo>
                    <a:pt x="232" y="715"/>
                  </a:lnTo>
                  <a:lnTo>
                    <a:pt x="263" y="684"/>
                  </a:lnTo>
                  <a:lnTo>
                    <a:pt x="299" y="652"/>
                  </a:lnTo>
                  <a:lnTo>
                    <a:pt x="316" y="608"/>
                  </a:lnTo>
                  <a:lnTo>
                    <a:pt x="318" y="559"/>
                  </a:lnTo>
                  <a:lnTo>
                    <a:pt x="308" y="515"/>
                  </a:lnTo>
                  <a:lnTo>
                    <a:pt x="278" y="492"/>
                  </a:lnTo>
                  <a:lnTo>
                    <a:pt x="255" y="483"/>
                  </a:lnTo>
                  <a:lnTo>
                    <a:pt x="210" y="473"/>
                  </a:lnTo>
                  <a:lnTo>
                    <a:pt x="156" y="460"/>
                  </a:lnTo>
                  <a:lnTo>
                    <a:pt x="111" y="443"/>
                  </a:lnTo>
                  <a:lnTo>
                    <a:pt x="65" y="416"/>
                  </a:lnTo>
                  <a:lnTo>
                    <a:pt x="27" y="394"/>
                  </a:lnTo>
                  <a:lnTo>
                    <a:pt x="4" y="361"/>
                  </a:lnTo>
                  <a:lnTo>
                    <a:pt x="0" y="318"/>
                  </a:lnTo>
                  <a:lnTo>
                    <a:pt x="0" y="262"/>
                  </a:lnTo>
                  <a:lnTo>
                    <a:pt x="8" y="222"/>
                  </a:lnTo>
                  <a:lnTo>
                    <a:pt x="8" y="183"/>
                  </a:lnTo>
                  <a:lnTo>
                    <a:pt x="18" y="145"/>
                  </a:lnTo>
                  <a:lnTo>
                    <a:pt x="35" y="103"/>
                  </a:lnTo>
                  <a:lnTo>
                    <a:pt x="40" y="80"/>
                  </a:lnTo>
                  <a:lnTo>
                    <a:pt x="61" y="61"/>
                  </a:lnTo>
                  <a:lnTo>
                    <a:pt x="75" y="34"/>
                  </a:lnTo>
                  <a:lnTo>
                    <a:pt x="77" y="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43040" y="3897360"/>
              <a:ext cx="690480" cy="1077840"/>
            </a:xfrm>
            <a:custGeom>
              <a:avLst/>
              <a:gdLst/>
              <a:ahLst/>
              <a:rect l="l" t="t" r="r" b="b"/>
              <a:pathLst>
                <a:path w="570" h="882">
                  <a:moveTo>
                    <a:pt x="197" y="12"/>
                  </a:moveTo>
                  <a:lnTo>
                    <a:pt x="184" y="50"/>
                  </a:lnTo>
                  <a:lnTo>
                    <a:pt x="161" y="101"/>
                  </a:lnTo>
                  <a:lnTo>
                    <a:pt x="144" y="145"/>
                  </a:lnTo>
                  <a:lnTo>
                    <a:pt x="131" y="177"/>
                  </a:lnTo>
                  <a:lnTo>
                    <a:pt x="108" y="210"/>
                  </a:lnTo>
                  <a:lnTo>
                    <a:pt x="78" y="257"/>
                  </a:lnTo>
                  <a:lnTo>
                    <a:pt x="64" y="272"/>
                  </a:lnTo>
                  <a:lnTo>
                    <a:pt x="49" y="289"/>
                  </a:lnTo>
                  <a:lnTo>
                    <a:pt x="38" y="310"/>
                  </a:lnTo>
                  <a:lnTo>
                    <a:pt x="22" y="337"/>
                  </a:lnTo>
                  <a:lnTo>
                    <a:pt x="15" y="365"/>
                  </a:lnTo>
                  <a:lnTo>
                    <a:pt x="11" y="409"/>
                  </a:lnTo>
                  <a:lnTo>
                    <a:pt x="22" y="441"/>
                  </a:lnTo>
                  <a:lnTo>
                    <a:pt x="49" y="464"/>
                  </a:lnTo>
                  <a:lnTo>
                    <a:pt x="81" y="474"/>
                  </a:lnTo>
                  <a:lnTo>
                    <a:pt x="121" y="491"/>
                  </a:lnTo>
                  <a:lnTo>
                    <a:pt x="167" y="516"/>
                  </a:lnTo>
                  <a:lnTo>
                    <a:pt x="224" y="531"/>
                  </a:lnTo>
                  <a:lnTo>
                    <a:pt x="309" y="548"/>
                  </a:lnTo>
                  <a:lnTo>
                    <a:pt x="329" y="557"/>
                  </a:lnTo>
                  <a:lnTo>
                    <a:pt x="349" y="567"/>
                  </a:lnTo>
                  <a:lnTo>
                    <a:pt x="372" y="580"/>
                  </a:lnTo>
                  <a:lnTo>
                    <a:pt x="399" y="597"/>
                  </a:lnTo>
                  <a:lnTo>
                    <a:pt x="429" y="620"/>
                  </a:lnTo>
                  <a:lnTo>
                    <a:pt x="452" y="633"/>
                  </a:lnTo>
                  <a:lnTo>
                    <a:pt x="475" y="654"/>
                  </a:lnTo>
                  <a:lnTo>
                    <a:pt x="492" y="673"/>
                  </a:lnTo>
                  <a:lnTo>
                    <a:pt x="515" y="690"/>
                  </a:lnTo>
                  <a:lnTo>
                    <a:pt x="524" y="709"/>
                  </a:lnTo>
                  <a:lnTo>
                    <a:pt x="538" y="734"/>
                  </a:lnTo>
                  <a:lnTo>
                    <a:pt x="547" y="746"/>
                  </a:lnTo>
                  <a:lnTo>
                    <a:pt x="559" y="772"/>
                  </a:lnTo>
                  <a:lnTo>
                    <a:pt x="568" y="806"/>
                  </a:lnTo>
                  <a:lnTo>
                    <a:pt x="568" y="822"/>
                  </a:lnTo>
                  <a:lnTo>
                    <a:pt x="570" y="839"/>
                  </a:lnTo>
                  <a:lnTo>
                    <a:pt x="555" y="882"/>
                  </a:lnTo>
                  <a:lnTo>
                    <a:pt x="559" y="839"/>
                  </a:lnTo>
                  <a:lnTo>
                    <a:pt x="551" y="795"/>
                  </a:lnTo>
                  <a:lnTo>
                    <a:pt x="536" y="766"/>
                  </a:lnTo>
                  <a:lnTo>
                    <a:pt x="515" y="736"/>
                  </a:lnTo>
                  <a:lnTo>
                    <a:pt x="498" y="713"/>
                  </a:lnTo>
                  <a:lnTo>
                    <a:pt x="479" y="687"/>
                  </a:lnTo>
                  <a:lnTo>
                    <a:pt x="456" y="660"/>
                  </a:lnTo>
                  <a:lnTo>
                    <a:pt x="431" y="647"/>
                  </a:lnTo>
                  <a:lnTo>
                    <a:pt x="405" y="630"/>
                  </a:lnTo>
                  <a:lnTo>
                    <a:pt x="386" y="614"/>
                  </a:lnTo>
                  <a:lnTo>
                    <a:pt x="363" y="594"/>
                  </a:lnTo>
                  <a:lnTo>
                    <a:pt x="327" y="575"/>
                  </a:lnTo>
                  <a:lnTo>
                    <a:pt x="300" y="561"/>
                  </a:lnTo>
                  <a:lnTo>
                    <a:pt x="268" y="554"/>
                  </a:lnTo>
                  <a:lnTo>
                    <a:pt x="233" y="548"/>
                  </a:lnTo>
                  <a:lnTo>
                    <a:pt x="207" y="544"/>
                  </a:lnTo>
                  <a:lnTo>
                    <a:pt x="171" y="531"/>
                  </a:lnTo>
                  <a:lnTo>
                    <a:pt x="129" y="512"/>
                  </a:lnTo>
                  <a:lnTo>
                    <a:pt x="98" y="497"/>
                  </a:lnTo>
                  <a:lnTo>
                    <a:pt x="60" y="485"/>
                  </a:lnTo>
                  <a:lnTo>
                    <a:pt x="32" y="468"/>
                  </a:lnTo>
                  <a:lnTo>
                    <a:pt x="5" y="445"/>
                  </a:lnTo>
                  <a:lnTo>
                    <a:pt x="0" y="402"/>
                  </a:lnTo>
                  <a:lnTo>
                    <a:pt x="0" y="365"/>
                  </a:lnTo>
                  <a:lnTo>
                    <a:pt x="9" y="322"/>
                  </a:lnTo>
                  <a:lnTo>
                    <a:pt x="26" y="286"/>
                  </a:lnTo>
                  <a:lnTo>
                    <a:pt x="45" y="267"/>
                  </a:lnTo>
                  <a:lnTo>
                    <a:pt x="60" y="240"/>
                  </a:lnTo>
                  <a:lnTo>
                    <a:pt x="87" y="213"/>
                  </a:lnTo>
                  <a:lnTo>
                    <a:pt x="102" y="191"/>
                  </a:lnTo>
                  <a:lnTo>
                    <a:pt x="121" y="153"/>
                  </a:lnTo>
                  <a:lnTo>
                    <a:pt x="129" y="118"/>
                  </a:lnTo>
                  <a:lnTo>
                    <a:pt x="144" y="84"/>
                  </a:lnTo>
                  <a:lnTo>
                    <a:pt x="157" y="58"/>
                  </a:lnTo>
                  <a:lnTo>
                    <a:pt x="171" y="27"/>
                  </a:lnTo>
                  <a:lnTo>
                    <a:pt x="175" y="0"/>
                  </a:lnTo>
                  <a:lnTo>
                    <a:pt x="197" y="12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74600" y="3905280"/>
              <a:ext cx="655920" cy="714240"/>
            </a:xfrm>
            <a:custGeom>
              <a:avLst/>
              <a:gdLst/>
              <a:ahLst/>
              <a:rect l="l" t="t" r="r" b="b"/>
              <a:pathLst>
                <a:path w="540" h="586">
                  <a:moveTo>
                    <a:pt x="540" y="0"/>
                  </a:moveTo>
                  <a:lnTo>
                    <a:pt x="521" y="34"/>
                  </a:lnTo>
                  <a:lnTo>
                    <a:pt x="506" y="50"/>
                  </a:lnTo>
                  <a:lnTo>
                    <a:pt x="494" y="69"/>
                  </a:lnTo>
                  <a:lnTo>
                    <a:pt x="477" y="89"/>
                  </a:lnTo>
                  <a:lnTo>
                    <a:pt x="464" y="126"/>
                  </a:lnTo>
                  <a:lnTo>
                    <a:pt x="445" y="148"/>
                  </a:lnTo>
                  <a:lnTo>
                    <a:pt x="428" y="165"/>
                  </a:lnTo>
                  <a:lnTo>
                    <a:pt x="403" y="192"/>
                  </a:lnTo>
                  <a:lnTo>
                    <a:pt x="365" y="215"/>
                  </a:lnTo>
                  <a:lnTo>
                    <a:pt x="325" y="232"/>
                  </a:lnTo>
                  <a:lnTo>
                    <a:pt x="279" y="245"/>
                  </a:lnTo>
                  <a:lnTo>
                    <a:pt x="236" y="262"/>
                  </a:lnTo>
                  <a:lnTo>
                    <a:pt x="209" y="272"/>
                  </a:lnTo>
                  <a:lnTo>
                    <a:pt x="160" y="281"/>
                  </a:lnTo>
                  <a:lnTo>
                    <a:pt x="131" y="302"/>
                  </a:lnTo>
                  <a:lnTo>
                    <a:pt x="105" y="318"/>
                  </a:lnTo>
                  <a:lnTo>
                    <a:pt x="80" y="329"/>
                  </a:lnTo>
                  <a:lnTo>
                    <a:pt x="53" y="348"/>
                  </a:lnTo>
                  <a:lnTo>
                    <a:pt x="36" y="367"/>
                  </a:lnTo>
                  <a:lnTo>
                    <a:pt x="27" y="394"/>
                  </a:lnTo>
                  <a:lnTo>
                    <a:pt x="25" y="416"/>
                  </a:lnTo>
                  <a:lnTo>
                    <a:pt x="25" y="454"/>
                  </a:lnTo>
                  <a:lnTo>
                    <a:pt x="30" y="470"/>
                  </a:lnTo>
                  <a:lnTo>
                    <a:pt x="51" y="496"/>
                  </a:lnTo>
                  <a:lnTo>
                    <a:pt x="80" y="513"/>
                  </a:lnTo>
                  <a:lnTo>
                    <a:pt x="106" y="523"/>
                  </a:lnTo>
                  <a:lnTo>
                    <a:pt x="124" y="530"/>
                  </a:lnTo>
                  <a:lnTo>
                    <a:pt x="139" y="540"/>
                  </a:lnTo>
                  <a:lnTo>
                    <a:pt x="160" y="549"/>
                  </a:lnTo>
                  <a:lnTo>
                    <a:pt x="196" y="567"/>
                  </a:lnTo>
                  <a:lnTo>
                    <a:pt x="179" y="586"/>
                  </a:lnTo>
                  <a:lnTo>
                    <a:pt x="154" y="567"/>
                  </a:lnTo>
                  <a:lnTo>
                    <a:pt x="106" y="542"/>
                  </a:lnTo>
                  <a:lnTo>
                    <a:pt x="48" y="515"/>
                  </a:lnTo>
                  <a:lnTo>
                    <a:pt x="13" y="487"/>
                  </a:lnTo>
                  <a:lnTo>
                    <a:pt x="0" y="432"/>
                  </a:lnTo>
                  <a:lnTo>
                    <a:pt x="4" y="397"/>
                  </a:lnTo>
                  <a:lnTo>
                    <a:pt x="17" y="357"/>
                  </a:lnTo>
                  <a:lnTo>
                    <a:pt x="53" y="329"/>
                  </a:lnTo>
                  <a:lnTo>
                    <a:pt x="84" y="308"/>
                  </a:lnTo>
                  <a:lnTo>
                    <a:pt x="105" y="299"/>
                  </a:lnTo>
                  <a:lnTo>
                    <a:pt x="120" y="285"/>
                  </a:lnTo>
                  <a:lnTo>
                    <a:pt x="150" y="272"/>
                  </a:lnTo>
                  <a:lnTo>
                    <a:pt x="177" y="255"/>
                  </a:lnTo>
                  <a:lnTo>
                    <a:pt x="200" y="255"/>
                  </a:lnTo>
                  <a:lnTo>
                    <a:pt x="226" y="249"/>
                  </a:lnTo>
                  <a:lnTo>
                    <a:pt x="249" y="238"/>
                  </a:lnTo>
                  <a:lnTo>
                    <a:pt x="272" y="228"/>
                  </a:lnTo>
                  <a:lnTo>
                    <a:pt x="298" y="222"/>
                  </a:lnTo>
                  <a:lnTo>
                    <a:pt x="335" y="209"/>
                  </a:lnTo>
                  <a:lnTo>
                    <a:pt x="357" y="202"/>
                  </a:lnTo>
                  <a:lnTo>
                    <a:pt x="384" y="183"/>
                  </a:lnTo>
                  <a:lnTo>
                    <a:pt x="422" y="156"/>
                  </a:lnTo>
                  <a:lnTo>
                    <a:pt x="445" y="126"/>
                  </a:lnTo>
                  <a:lnTo>
                    <a:pt x="452" y="110"/>
                  </a:lnTo>
                  <a:lnTo>
                    <a:pt x="471" y="84"/>
                  </a:lnTo>
                  <a:lnTo>
                    <a:pt x="483" y="63"/>
                  </a:lnTo>
                  <a:lnTo>
                    <a:pt x="496" y="42"/>
                  </a:lnTo>
                  <a:lnTo>
                    <a:pt x="509" y="19"/>
                  </a:lnTo>
                  <a:lnTo>
                    <a:pt x="517" y="0"/>
                  </a:lnTo>
                  <a:lnTo>
                    <a:pt x="540" y="0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00040" y="4654440"/>
              <a:ext cx="166680" cy="637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10"/>
                  </a:moveTo>
                  <a:lnTo>
                    <a:pt x="17" y="17"/>
                  </a:lnTo>
                  <a:lnTo>
                    <a:pt x="30" y="23"/>
                  </a:lnTo>
                  <a:lnTo>
                    <a:pt x="48" y="27"/>
                  </a:lnTo>
                  <a:lnTo>
                    <a:pt x="70" y="34"/>
                  </a:lnTo>
                  <a:lnTo>
                    <a:pt x="84" y="40"/>
                  </a:lnTo>
                  <a:lnTo>
                    <a:pt x="106" y="44"/>
                  </a:lnTo>
                  <a:lnTo>
                    <a:pt x="116" y="44"/>
                  </a:lnTo>
                  <a:lnTo>
                    <a:pt x="133" y="53"/>
                  </a:lnTo>
                  <a:lnTo>
                    <a:pt x="139" y="40"/>
                  </a:lnTo>
                  <a:lnTo>
                    <a:pt x="124" y="31"/>
                  </a:lnTo>
                  <a:lnTo>
                    <a:pt x="106" y="23"/>
                  </a:lnTo>
                  <a:lnTo>
                    <a:pt x="89" y="21"/>
                  </a:lnTo>
                  <a:lnTo>
                    <a:pt x="74" y="17"/>
                  </a:lnTo>
                  <a:lnTo>
                    <a:pt x="57" y="10"/>
                  </a:lnTo>
                  <a:lnTo>
                    <a:pt x="36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47720" y="4708440"/>
              <a:ext cx="468360" cy="601920"/>
            </a:xfrm>
            <a:custGeom>
              <a:avLst/>
              <a:gdLst/>
              <a:ahLst/>
              <a:rect l="l" t="t" r="r" b="b"/>
              <a:pathLst>
                <a:path w="386" h="490">
                  <a:moveTo>
                    <a:pt x="2" y="0"/>
                  </a:moveTo>
                  <a:lnTo>
                    <a:pt x="23" y="0"/>
                  </a:lnTo>
                  <a:lnTo>
                    <a:pt x="50" y="7"/>
                  </a:lnTo>
                  <a:lnTo>
                    <a:pt x="78" y="17"/>
                  </a:lnTo>
                  <a:lnTo>
                    <a:pt x="105" y="26"/>
                  </a:lnTo>
                  <a:lnTo>
                    <a:pt x="132" y="30"/>
                  </a:lnTo>
                  <a:lnTo>
                    <a:pt x="164" y="42"/>
                  </a:lnTo>
                  <a:lnTo>
                    <a:pt x="181" y="53"/>
                  </a:lnTo>
                  <a:lnTo>
                    <a:pt x="215" y="57"/>
                  </a:lnTo>
                  <a:lnTo>
                    <a:pt x="248" y="74"/>
                  </a:lnTo>
                  <a:lnTo>
                    <a:pt x="284" y="91"/>
                  </a:lnTo>
                  <a:lnTo>
                    <a:pt x="316" y="97"/>
                  </a:lnTo>
                  <a:lnTo>
                    <a:pt x="343" y="118"/>
                  </a:lnTo>
                  <a:lnTo>
                    <a:pt x="356" y="125"/>
                  </a:lnTo>
                  <a:lnTo>
                    <a:pt x="373" y="140"/>
                  </a:lnTo>
                  <a:lnTo>
                    <a:pt x="379" y="159"/>
                  </a:lnTo>
                  <a:lnTo>
                    <a:pt x="386" y="182"/>
                  </a:lnTo>
                  <a:lnTo>
                    <a:pt x="386" y="209"/>
                  </a:lnTo>
                  <a:lnTo>
                    <a:pt x="375" y="245"/>
                  </a:lnTo>
                  <a:lnTo>
                    <a:pt x="356" y="279"/>
                  </a:lnTo>
                  <a:lnTo>
                    <a:pt x="333" y="302"/>
                  </a:lnTo>
                  <a:lnTo>
                    <a:pt x="306" y="321"/>
                  </a:lnTo>
                  <a:lnTo>
                    <a:pt x="287" y="342"/>
                  </a:lnTo>
                  <a:lnTo>
                    <a:pt x="270" y="365"/>
                  </a:lnTo>
                  <a:lnTo>
                    <a:pt x="248" y="382"/>
                  </a:lnTo>
                  <a:lnTo>
                    <a:pt x="198" y="418"/>
                  </a:lnTo>
                  <a:lnTo>
                    <a:pt x="185" y="424"/>
                  </a:lnTo>
                  <a:lnTo>
                    <a:pt x="168" y="441"/>
                  </a:lnTo>
                  <a:lnTo>
                    <a:pt x="151" y="446"/>
                  </a:lnTo>
                  <a:lnTo>
                    <a:pt x="137" y="462"/>
                  </a:lnTo>
                  <a:lnTo>
                    <a:pt x="118" y="477"/>
                  </a:lnTo>
                  <a:lnTo>
                    <a:pt x="99" y="490"/>
                  </a:lnTo>
                  <a:lnTo>
                    <a:pt x="82" y="462"/>
                  </a:lnTo>
                  <a:lnTo>
                    <a:pt x="105" y="458"/>
                  </a:lnTo>
                  <a:lnTo>
                    <a:pt x="118" y="458"/>
                  </a:lnTo>
                  <a:lnTo>
                    <a:pt x="128" y="444"/>
                  </a:lnTo>
                  <a:lnTo>
                    <a:pt x="137" y="435"/>
                  </a:lnTo>
                  <a:lnTo>
                    <a:pt x="154" y="424"/>
                  </a:lnTo>
                  <a:lnTo>
                    <a:pt x="177" y="418"/>
                  </a:lnTo>
                  <a:lnTo>
                    <a:pt x="189" y="401"/>
                  </a:lnTo>
                  <a:lnTo>
                    <a:pt x="204" y="391"/>
                  </a:lnTo>
                  <a:lnTo>
                    <a:pt x="223" y="374"/>
                  </a:lnTo>
                  <a:lnTo>
                    <a:pt x="238" y="361"/>
                  </a:lnTo>
                  <a:lnTo>
                    <a:pt x="257" y="351"/>
                  </a:lnTo>
                  <a:lnTo>
                    <a:pt x="261" y="334"/>
                  </a:lnTo>
                  <a:lnTo>
                    <a:pt x="284" y="315"/>
                  </a:lnTo>
                  <a:lnTo>
                    <a:pt x="306" y="298"/>
                  </a:lnTo>
                  <a:lnTo>
                    <a:pt x="337" y="270"/>
                  </a:lnTo>
                  <a:lnTo>
                    <a:pt x="348" y="253"/>
                  </a:lnTo>
                  <a:lnTo>
                    <a:pt x="356" y="232"/>
                  </a:lnTo>
                  <a:lnTo>
                    <a:pt x="365" y="209"/>
                  </a:lnTo>
                  <a:lnTo>
                    <a:pt x="365" y="167"/>
                  </a:lnTo>
                  <a:lnTo>
                    <a:pt x="352" y="144"/>
                  </a:lnTo>
                  <a:lnTo>
                    <a:pt x="329" y="125"/>
                  </a:lnTo>
                  <a:lnTo>
                    <a:pt x="306" y="118"/>
                  </a:lnTo>
                  <a:lnTo>
                    <a:pt x="287" y="114"/>
                  </a:lnTo>
                  <a:lnTo>
                    <a:pt x="265" y="102"/>
                  </a:lnTo>
                  <a:lnTo>
                    <a:pt x="242" y="87"/>
                  </a:lnTo>
                  <a:lnTo>
                    <a:pt x="211" y="74"/>
                  </a:lnTo>
                  <a:lnTo>
                    <a:pt x="185" y="68"/>
                  </a:lnTo>
                  <a:lnTo>
                    <a:pt x="164" y="64"/>
                  </a:lnTo>
                  <a:lnTo>
                    <a:pt x="149" y="53"/>
                  </a:lnTo>
                  <a:lnTo>
                    <a:pt x="122" y="47"/>
                  </a:lnTo>
                  <a:lnTo>
                    <a:pt x="99" y="43"/>
                  </a:lnTo>
                  <a:lnTo>
                    <a:pt x="75" y="34"/>
                  </a:lnTo>
                  <a:lnTo>
                    <a:pt x="50" y="26"/>
                  </a:lnTo>
                  <a:lnTo>
                    <a:pt x="29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4400" y="3897360"/>
              <a:ext cx="2154240" cy="92160"/>
            </a:xfrm>
            <a:custGeom>
              <a:avLst/>
              <a:gdLst/>
              <a:ahLst/>
              <a:rect l="l" t="t" r="r" b="b"/>
              <a:pathLst>
                <a:path w="1777" h="77">
                  <a:moveTo>
                    <a:pt x="0" y="61"/>
                  </a:moveTo>
                  <a:lnTo>
                    <a:pt x="49" y="65"/>
                  </a:lnTo>
                  <a:lnTo>
                    <a:pt x="77" y="65"/>
                  </a:lnTo>
                  <a:lnTo>
                    <a:pt x="142" y="65"/>
                  </a:lnTo>
                  <a:lnTo>
                    <a:pt x="174" y="65"/>
                  </a:lnTo>
                  <a:lnTo>
                    <a:pt x="249" y="61"/>
                  </a:lnTo>
                  <a:lnTo>
                    <a:pt x="290" y="58"/>
                  </a:lnTo>
                  <a:lnTo>
                    <a:pt x="342" y="50"/>
                  </a:lnTo>
                  <a:lnTo>
                    <a:pt x="422" y="42"/>
                  </a:lnTo>
                  <a:lnTo>
                    <a:pt x="467" y="31"/>
                  </a:lnTo>
                  <a:lnTo>
                    <a:pt x="532" y="21"/>
                  </a:lnTo>
                  <a:lnTo>
                    <a:pt x="608" y="12"/>
                  </a:lnTo>
                  <a:lnTo>
                    <a:pt x="690" y="12"/>
                  </a:lnTo>
                  <a:lnTo>
                    <a:pt x="735" y="8"/>
                  </a:lnTo>
                  <a:lnTo>
                    <a:pt x="806" y="0"/>
                  </a:lnTo>
                  <a:lnTo>
                    <a:pt x="872" y="8"/>
                  </a:lnTo>
                  <a:lnTo>
                    <a:pt x="954" y="0"/>
                  </a:lnTo>
                  <a:lnTo>
                    <a:pt x="1037" y="0"/>
                  </a:lnTo>
                  <a:lnTo>
                    <a:pt x="1123" y="0"/>
                  </a:lnTo>
                  <a:lnTo>
                    <a:pt x="1186" y="0"/>
                  </a:lnTo>
                  <a:lnTo>
                    <a:pt x="1243" y="0"/>
                  </a:lnTo>
                  <a:lnTo>
                    <a:pt x="1311" y="0"/>
                  </a:lnTo>
                  <a:lnTo>
                    <a:pt x="1344" y="12"/>
                  </a:lnTo>
                  <a:lnTo>
                    <a:pt x="1410" y="4"/>
                  </a:lnTo>
                  <a:lnTo>
                    <a:pt x="1450" y="8"/>
                  </a:lnTo>
                  <a:lnTo>
                    <a:pt x="1492" y="25"/>
                  </a:lnTo>
                  <a:lnTo>
                    <a:pt x="1534" y="25"/>
                  </a:lnTo>
                  <a:lnTo>
                    <a:pt x="1549" y="31"/>
                  </a:lnTo>
                  <a:lnTo>
                    <a:pt x="1596" y="31"/>
                  </a:lnTo>
                  <a:lnTo>
                    <a:pt x="1710" y="39"/>
                  </a:lnTo>
                  <a:lnTo>
                    <a:pt x="1758" y="27"/>
                  </a:lnTo>
                  <a:lnTo>
                    <a:pt x="1777" y="50"/>
                  </a:lnTo>
                  <a:lnTo>
                    <a:pt x="1718" y="58"/>
                  </a:lnTo>
                  <a:lnTo>
                    <a:pt x="1610" y="50"/>
                  </a:lnTo>
                  <a:lnTo>
                    <a:pt x="1583" y="48"/>
                  </a:lnTo>
                  <a:lnTo>
                    <a:pt x="1556" y="44"/>
                  </a:lnTo>
                  <a:lnTo>
                    <a:pt x="1536" y="42"/>
                  </a:lnTo>
                  <a:lnTo>
                    <a:pt x="1516" y="42"/>
                  </a:lnTo>
                  <a:lnTo>
                    <a:pt x="1480" y="39"/>
                  </a:lnTo>
                  <a:lnTo>
                    <a:pt x="1467" y="31"/>
                  </a:lnTo>
                  <a:lnTo>
                    <a:pt x="1437" y="25"/>
                  </a:lnTo>
                  <a:lnTo>
                    <a:pt x="1404" y="21"/>
                  </a:lnTo>
                  <a:lnTo>
                    <a:pt x="1359" y="21"/>
                  </a:lnTo>
                  <a:lnTo>
                    <a:pt x="1321" y="21"/>
                  </a:lnTo>
                  <a:lnTo>
                    <a:pt x="1279" y="16"/>
                  </a:lnTo>
                  <a:lnTo>
                    <a:pt x="1218" y="16"/>
                  </a:lnTo>
                  <a:lnTo>
                    <a:pt x="1159" y="16"/>
                  </a:lnTo>
                  <a:lnTo>
                    <a:pt x="1079" y="21"/>
                  </a:lnTo>
                  <a:lnTo>
                    <a:pt x="1030" y="21"/>
                  </a:lnTo>
                  <a:lnTo>
                    <a:pt x="1001" y="21"/>
                  </a:lnTo>
                  <a:lnTo>
                    <a:pt x="975" y="21"/>
                  </a:lnTo>
                  <a:lnTo>
                    <a:pt x="940" y="21"/>
                  </a:lnTo>
                  <a:lnTo>
                    <a:pt x="908" y="21"/>
                  </a:lnTo>
                  <a:lnTo>
                    <a:pt x="872" y="25"/>
                  </a:lnTo>
                  <a:lnTo>
                    <a:pt x="826" y="21"/>
                  </a:lnTo>
                  <a:lnTo>
                    <a:pt x="769" y="18"/>
                  </a:lnTo>
                  <a:lnTo>
                    <a:pt x="729" y="25"/>
                  </a:lnTo>
                  <a:lnTo>
                    <a:pt x="693" y="27"/>
                  </a:lnTo>
                  <a:lnTo>
                    <a:pt x="663" y="27"/>
                  </a:lnTo>
                  <a:lnTo>
                    <a:pt x="627" y="25"/>
                  </a:lnTo>
                  <a:lnTo>
                    <a:pt x="587" y="27"/>
                  </a:lnTo>
                  <a:lnTo>
                    <a:pt x="534" y="35"/>
                  </a:lnTo>
                  <a:lnTo>
                    <a:pt x="488" y="48"/>
                  </a:lnTo>
                  <a:lnTo>
                    <a:pt x="441" y="54"/>
                  </a:lnTo>
                  <a:lnTo>
                    <a:pt x="403" y="65"/>
                  </a:lnTo>
                  <a:lnTo>
                    <a:pt x="368" y="69"/>
                  </a:lnTo>
                  <a:lnTo>
                    <a:pt x="319" y="69"/>
                  </a:lnTo>
                  <a:lnTo>
                    <a:pt x="269" y="77"/>
                  </a:lnTo>
                  <a:lnTo>
                    <a:pt x="220" y="77"/>
                  </a:lnTo>
                  <a:lnTo>
                    <a:pt x="184" y="77"/>
                  </a:lnTo>
                  <a:lnTo>
                    <a:pt x="134" y="77"/>
                  </a:lnTo>
                  <a:lnTo>
                    <a:pt x="98" y="77"/>
                  </a:lnTo>
                  <a:lnTo>
                    <a:pt x="62" y="77"/>
                  </a:lnTo>
                  <a:lnTo>
                    <a:pt x="36" y="77"/>
                  </a:lnTo>
                  <a:lnTo>
                    <a:pt x="0" y="77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78080" y="3860640"/>
              <a:ext cx="1525680" cy="128880"/>
            </a:xfrm>
            <a:custGeom>
              <a:avLst/>
              <a:gdLst/>
              <a:ahLst/>
              <a:rect l="l" t="t" r="r" b="b"/>
              <a:pathLst>
                <a:path w="1258" h="103">
                  <a:moveTo>
                    <a:pt x="0" y="68"/>
                  </a:moveTo>
                  <a:lnTo>
                    <a:pt x="45" y="65"/>
                  </a:lnTo>
                  <a:lnTo>
                    <a:pt x="81" y="68"/>
                  </a:lnTo>
                  <a:lnTo>
                    <a:pt x="129" y="68"/>
                  </a:lnTo>
                  <a:lnTo>
                    <a:pt x="175" y="53"/>
                  </a:lnTo>
                  <a:lnTo>
                    <a:pt x="203" y="34"/>
                  </a:lnTo>
                  <a:lnTo>
                    <a:pt x="268" y="19"/>
                  </a:lnTo>
                  <a:lnTo>
                    <a:pt x="310" y="4"/>
                  </a:lnTo>
                  <a:lnTo>
                    <a:pt x="348" y="0"/>
                  </a:lnTo>
                  <a:lnTo>
                    <a:pt x="382" y="0"/>
                  </a:lnTo>
                  <a:lnTo>
                    <a:pt x="433" y="0"/>
                  </a:lnTo>
                  <a:lnTo>
                    <a:pt x="483" y="11"/>
                  </a:lnTo>
                  <a:lnTo>
                    <a:pt x="532" y="25"/>
                  </a:lnTo>
                  <a:lnTo>
                    <a:pt x="591" y="34"/>
                  </a:lnTo>
                  <a:lnTo>
                    <a:pt x="661" y="42"/>
                  </a:lnTo>
                  <a:lnTo>
                    <a:pt x="733" y="42"/>
                  </a:lnTo>
                  <a:lnTo>
                    <a:pt x="800" y="42"/>
                  </a:lnTo>
                  <a:lnTo>
                    <a:pt x="865" y="44"/>
                  </a:lnTo>
                  <a:lnTo>
                    <a:pt x="908" y="47"/>
                  </a:lnTo>
                  <a:lnTo>
                    <a:pt x="956" y="47"/>
                  </a:lnTo>
                  <a:lnTo>
                    <a:pt x="967" y="51"/>
                  </a:lnTo>
                  <a:lnTo>
                    <a:pt x="1017" y="61"/>
                  </a:lnTo>
                  <a:lnTo>
                    <a:pt x="1047" y="61"/>
                  </a:lnTo>
                  <a:lnTo>
                    <a:pt x="1087" y="74"/>
                  </a:lnTo>
                  <a:lnTo>
                    <a:pt x="1136" y="74"/>
                  </a:lnTo>
                  <a:lnTo>
                    <a:pt x="1182" y="80"/>
                  </a:lnTo>
                  <a:lnTo>
                    <a:pt x="1209" y="84"/>
                  </a:lnTo>
                  <a:lnTo>
                    <a:pt x="1258" y="80"/>
                  </a:lnTo>
                  <a:lnTo>
                    <a:pt x="1254" y="103"/>
                  </a:lnTo>
                  <a:lnTo>
                    <a:pt x="1222" y="101"/>
                  </a:lnTo>
                  <a:lnTo>
                    <a:pt x="1176" y="95"/>
                  </a:lnTo>
                  <a:lnTo>
                    <a:pt x="1144" y="91"/>
                  </a:lnTo>
                  <a:lnTo>
                    <a:pt x="1079" y="87"/>
                  </a:lnTo>
                  <a:lnTo>
                    <a:pt x="1047" y="80"/>
                  </a:lnTo>
                  <a:lnTo>
                    <a:pt x="1024" y="80"/>
                  </a:lnTo>
                  <a:lnTo>
                    <a:pt x="994" y="74"/>
                  </a:lnTo>
                  <a:lnTo>
                    <a:pt x="963" y="65"/>
                  </a:lnTo>
                  <a:lnTo>
                    <a:pt x="941" y="65"/>
                  </a:lnTo>
                  <a:lnTo>
                    <a:pt x="925" y="61"/>
                  </a:lnTo>
                  <a:lnTo>
                    <a:pt x="868" y="57"/>
                  </a:lnTo>
                  <a:lnTo>
                    <a:pt x="810" y="57"/>
                  </a:lnTo>
                  <a:lnTo>
                    <a:pt x="737" y="57"/>
                  </a:lnTo>
                  <a:lnTo>
                    <a:pt x="684" y="57"/>
                  </a:lnTo>
                  <a:lnTo>
                    <a:pt x="627" y="53"/>
                  </a:lnTo>
                  <a:lnTo>
                    <a:pt x="551" y="47"/>
                  </a:lnTo>
                  <a:lnTo>
                    <a:pt x="502" y="34"/>
                  </a:lnTo>
                  <a:lnTo>
                    <a:pt x="456" y="25"/>
                  </a:lnTo>
                  <a:lnTo>
                    <a:pt x="412" y="19"/>
                  </a:lnTo>
                  <a:lnTo>
                    <a:pt x="367" y="19"/>
                  </a:lnTo>
                  <a:lnTo>
                    <a:pt x="332" y="21"/>
                  </a:lnTo>
                  <a:lnTo>
                    <a:pt x="302" y="25"/>
                  </a:lnTo>
                  <a:lnTo>
                    <a:pt x="256" y="38"/>
                  </a:lnTo>
                  <a:lnTo>
                    <a:pt x="228" y="44"/>
                  </a:lnTo>
                  <a:lnTo>
                    <a:pt x="201" y="61"/>
                  </a:lnTo>
                  <a:lnTo>
                    <a:pt x="157" y="74"/>
                  </a:lnTo>
                  <a:lnTo>
                    <a:pt x="116" y="80"/>
                  </a:lnTo>
                  <a:lnTo>
                    <a:pt x="81" y="80"/>
                  </a:lnTo>
                  <a:lnTo>
                    <a:pt x="32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1295280"/>
              <a:ext cx="93960" cy="5221440"/>
            </a:xfrm>
            <a:custGeom>
              <a:avLst/>
              <a:gdLst/>
              <a:ahLst/>
              <a:rect l="l" t="t" r="r" b="b"/>
              <a:pathLst>
                <a:path w="78" h="4267">
                  <a:moveTo>
                    <a:pt x="61" y="4267"/>
                  </a:moveTo>
                  <a:lnTo>
                    <a:pt x="25" y="4137"/>
                  </a:lnTo>
                  <a:lnTo>
                    <a:pt x="21" y="4019"/>
                  </a:lnTo>
                  <a:lnTo>
                    <a:pt x="4" y="3905"/>
                  </a:lnTo>
                  <a:lnTo>
                    <a:pt x="2" y="3877"/>
                  </a:lnTo>
                  <a:lnTo>
                    <a:pt x="2" y="3727"/>
                  </a:lnTo>
                  <a:lnTo>
                    <a:pt x="0" y="3552"/>
                  </a:lnTo>
                  <a:lnTo>
                    <a:pt x="0" y="3343"/>
                  </a:lnTo>
                  <a:lnTo>
                    <a:pt x="0" y="3181"/>
                  </a:lnTo>
                  <a:lnTo>
                    <a:pt x="0" y="2995"/>
                  </a:lnTo>
                  <a:lnTo>
                    <a:pt x="0" y="2814"/>
                  </a:lnTo>
                  <a:lnTo>
                    <a:pt x="0" y="2678"/>
                  </a:lnTo>
                  <a:lnTo>
                    <a:pt x="0" y="2588"/>
                  </a:lnTo>
                  <a:lnTo>
                    <a:pt x="0" y="2545"/>
                  </a:lnTo>
                  <a:lnTo>
                    <a:pt x="0" y="2347"/>
                  </a:lnTo>
                  <a:lnTo>
                    <a:pt x="0" y="2227"/>
                  </a:lnTo>
                  <a:lnTo>
                    <a:pt x="0" y="2128"/>
                  </a:lnTo>
                  <a:lnTo>
                    <a:pt x="4" y="1900"/>
                  </a:lnTo>
                  <a:lnTo>
                    <a:pt x="21" y="1693"/>
                  </a:lnTo>
                  <a:lnTo>
                    <a:pt x="21" y="1526"/>
                  </a:lnTo>
                  <a:lnTo>
                    <a:pt x="21" y="1324"/>
                  </a:lnTo>
                  <a:lnTo>
                    <a:pt x="25" y="1085"/>
                  </a:lnTo>
                  <a:lnTo>
                    <a:pt x="25" y="967"/>
                  </a:lnTo>
                  <a:lnTo>
                    <a:pt x="25" y="845"/>
                  </a:lnTo>
                  <a:lnTo>
                    <a:pt x="21" y="636"/>
                  </a:lnTo>
                  <a:lnTo>
                    <a:pt x="2" y="450"/>
                  </a:lnTo>
                  <a:lnTo>
                    <a:pt x="4" y="359"/>
                  </a:lnTo>
                  <a:lnTo>
                    <a:pt x="4" y="203"/>
                  </a:lnTo>
                  <a:lnTo>
                    <a:pt x="25" y="53"/>
                  </a:lnTo>
                  <a:lnTo>
                    <a:pt x="13" y="0"/>
                  </a:lnTo>
                  <a:lnTo>
                    <a:pt x="61" y="3"/>
                  </a:lnTo>
                  <a:lnTo>
                    <a:pt x="51" y="142"/>
                  </a:lnTo>
                  <a:lnTo>
                    <a:pt x="40" y="266"/>
                  </a:lnTo>
                  <a:lnTo>
                    <a:pt x="38" y="448"/>
                  </a:lnTo>
                  <a:lnTo>
                    <a:pt x="38" y="543"/>
                  </a:lnTo>
                  <a:lnTo>
                    <a:pt x="40" y="665"/>
                  </a:lnTo>
                  <a:lnTo>
                    <a:pt x="57" y="834"/>
                  </a:lnTo>
                  <a:lnTo>
                    <a:pt x="65" y="1030"/>
                  </a:lnTo>
                  <a:lnTo>
                    <a:pt x="61" y="1149"/>
                  </a:lnTo>
                  <a:lnTo>
                    <a:pt x="53" y="1284"/>
                  </a:lnTo>
                  <a:lnTo>
                    <a:pt x="51" y="1383"/>
                  </a:lnTo>
                  <a:lnTo>
                    <a:pt x="51" y="1583"/>
                  </a:lnTo>
                  <a:lnTo>
                    <a:pt x="48" y="1727"/>
                  </a:lnTo>
                  <a:lnTo>
                    <a:pt x="30" y="1883"/>
                  </a:lnTo>
                  <a:lnTo>
                    <a:pt x="30" y="2012"/>
                  </a:lnTo>
                  <a:lnTo>
                    <a:pt x="34" y="2132"/>
                  </a:lnTo>
                  <a:lnTo>
                    <a:pt x="29" y="2231"/>
                  </a:lnTo>
                  <a:lnTo>
                    <a:pt x="29" y="2400"/>
                  </a:lnTo>
                  <a:lnTo>
                    <a:pt x="21" y="2560"/>
                  </a:lnTo>
                  <a:lnTo>
                    <a:pt x="17" y="2668"/>
                  </a:lnTo>
                  <a:lnTo>
                    <a:pt x="21" y="2873"/>
                  </a:lnTo>
                  <a:lnTo>
                    <a:pt x="13" y="2986"/>
                  </a:lnTo>
                  <a:lnTo>
                    <a:pt x="13" y="3111"/>
                  </a:lnTo>
                  <a:lnTo>
                    <a:pt x="21" y="3482"/>
                  </a:lnTo>
                  <a:lnTo>
                    <a:pt x="21" y="3588"/>
                  </a:lnTo>
                  <a:lnTo>
                    <a:pt x="21" y="3660"/>
                  </a:lnTo>
                  <a:lnTo>
                    <a:pt x="21" y="3793"/>
                  </a:lnTo>
                  <a:lnTo>
                    <a:pt x="29" y="3904"/>
                  </a:lnTo>
                  <a:lnTo>
                    <a:pt x="40" y="4016"/>
                  </a:lnTo>
                  <a:lnTo>
                    <a:pt x="61" y="4124"/>
                  </a:lnTo>
                  <a:lnTo>
                    <a:pt x="78" y="4227"/>
                  </a:lnTo>
                  <a:lnTo>
                    <a:pt x="61" y="4267"/>
                  </a:lnTo>
                  <a:lnTo>
                    <a:pt x="61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54280" y="4314960"/>
              <a:ext cx="114480" cy="6192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8" y="22"/>
                  </a:moveTo>
                  <a:lnTo>
                    <a:pt x="38" y="28"/>
                  </a:lnTo>
                  <a:lnTo>
                    <a:pt x="53" y="32"/>
                  </a:lnTo>
                  <a:lnTo>
                    <a:pt x="88" y="49"/>
                  </a:lnTo>
                  <a:lnTo>
                    <a:pt x="93" y="43"/>
                  </a:lnTo>
                  <a:lnTo>
                    <a:pt x="88" y="22"/>
                  </a:lnTo>
                  <a:lnTo>
                    <a:pt x="71" y="21"/>
                  </a:lnTo>
                  <a:lnTo>
                    <a:pt x="51" y="5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06400" y="6119640"/>
              <a:ext cx="441360" cy="308160"/>
            </a:xfrm>
            <a:custGeom>
              <a:avLst/>
              <a:gdLst/>
              <a:ahLst/>
              <a:rect l="l" t="t" r="r" b="b"/>
              <a:pathLst>
                <a:path w="363" h="251">
                  <a:moveTo>
                    <a:pt x="0" y="251"/>
                  </a:moveTo>
                  <a:lnTo>
                    <a:pt x="104" y="251"/>
                  </a:lnTo>
                  <a:lnTo>
                    <a:pt x="230" y="248"/>
                  </a:lnTo>
                  <a:lnTo>
                    <a:pt x="355" y="251"/>
                  </a:lnTo>
                  <a:lnTo>
                    <a:pt x="363" y="232"/>
                  </a:lnTo>
                  <a:lnTo>
                    <a:pt x="329" y="179"/>
                  </a:lnTo>
                  <a:lnTo>
                    <a:pt x="314" y="69"/>
                  </a:lnTo>
                  <a:lnTo>
                    <a:pt x="287" y="0"/>
                  </a:lnTo>
                  <a:lnTo>
                    <a:pt x="279" y="63"/>
                  </a:lnTo>
                  <a:lnTo>
                    <a:pt x="283" y="135"/>
                  </a:lnTo>
                  <a:lnTo>
                    <a:pt x="266" y="187"/>
                  </a:lnTo>
                  <a:lnTo>
                    <a:pt x="256" y="206"/>
                  </a:lnTo>
                  <a:lnTo>
                    <a:pt x="230" y="213"/>
                  </a:lnTo>
                  <a:lnTo>
                    <a:pt x="144" y="213"/>
                  </a:lnTo>
                  <a:lnTo>
                    <a:pt x="91" y="234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81360" y="4630680"/>
              <a:ext cx="146160" cy="176400"/>
            </a:xfrm>
            <a:custGeom>
              <a:avLst/>
              <a:gdLst/>
              <a:ahLst/>
              <a:rect l="l" t="t" r="r" b="b"/>
              <a:pathLst>
                <a:path w="120" h="145">
                  <a:moveTo>
                    <a:pt x="0" y="107"/>
                  </a:moveTo>
                  <a:lnTo>
                    <a:pt x="4" y="76"/>
                  </a:lnTo>
                  <a:lnTo>
                    <a:pt x="6" y="55"/>
                  </a:lnTo>
                  <a:lnTo>
                    <a:pt x="23" y="42"/>
                  </a:lnTo>
                  <a:lnTo>
                    <a:pt x="46" y="29"/>
                  </a:lnTo>
                  <a:lnTo>
                    <a:pt x="72" y="13"/>
                  </a:lnTo>
                  <a:lnTo>
                    <a:pt x="120" y="0"/>
                  </a:lnTo>
                  <a:lnTo>
                    <a:pt x="82" y="23"/>
                  </a:lnTo>
                  <a:lnTo>
                    <a:pt x="55" y="42"/>
                  </a:lnTo>
                  <a:lnTo>
                    <a:pt x="40" y="59"/>
                  </a:lnTo>
                  <a:lnTo>
                    <a:pt x="23" y="76"/>
                  </a:lnTo>
                  <a:lnTo>
                    <a:pt x="23" y="108"/>
                  </a:lnTo>
                  <a:lnTo>
                    <a:pt x="10" y="145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3440" y="1488960"/>
              <a:ext cx="208080" cy="18756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1" y="55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5"/>
                  </a:lnTo>
                  <a:lnTo>
                    <a:pt x="124" y="99"/>
                  </a:lnTo>
                  <a:lnTo>
                    <a:pt x="133" y="154"/>
                  </a:lnTo>
                  <a:lnTo>
                    <a:pt x="84" y="114"/>
                  </a:lnTo>
                  <a:lnTo>
                    <a:pt x="30" y="145"/>
                  </a:lnTo>
                  <a:lnTo>
                    <a:pt x="44" y="95"/>
                  </a:lnTo>
                  <a:lnTo>
                    <a:pt x="0" y="55"/>
                  </a:lnTo>
                  <a:lnTo>
                    <a:pt x="61" y="55"/>
                  </a:lnTo>
                  <a:lnTo>
                    <a:pt x="61" y="55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7040" y="1512720"/>
              <a:ext cx="203040" cy="190800"/>
            </a:xfrm>
            <a:custGeom>
              <a:avLst/>
              <a:gdLst/>
              <a:ahLst/>
              <a:rect l="l" t="t" r="r" b="b"/>
              <a:pathLst>
                <a:path w="167" h="156">
                  <a:moveTo>
                    <a:pt x="55" y="59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8" y="135"/>
                  </a:lnTo>
                  <a:lnTo>
                    <a:pt x="99" y="112"/>
                  </a:lnTo>
                  <a:lnTo>
                    <a:pt x="55" y="156"/>
                  </a:lnTo>
                  <a:lnTo>
                    <a:pt x="51" y="103"/>
                  </a:lnTo>
                  <a:lnTo>
                    <a:pt x="0" y="80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5960" y="2077920"/>
              <a:ext cx="209520" cy="18900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59" y="53"/>
                  </a:moveTo>
                  <a:lnTo>
                    <a:pt x="91" y="0"/>
                  </a:lnTo>
                  <a:lnTo>
                    <a:pt x="112" y="57"/>
                  </a:lnTo>
                  <a:lnTo>
                    <a:pt x="175" y="69"/>
                  </a:lnTo>
                  <a:lnTo>
                    <a:pt x="125" y="101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2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59" y="53"/>
                  </a:lnTo>
                  <a:lnTo>
                    <a:pt x="59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68720" y="1544760"/>
              <a:ext cx="211320" cy="1918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59" y="57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5"/>
                  </a:lnTo>
                  <a:lnTo>
                    <a:pt x="126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3" y="148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2440" y="1801800"/>
              <a:ext cx="60120" cy="6048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17" y="21"/>
                  </a:moveTo>
                  <a:lnTo>
                    <a:pt x="21" y="0"/>
                  </a:lnTo>
                  <a:lnTo>
                    <a:pt x="31" y="17"/>
                  </a:lnTo>
                  <a:lnTo>
                    <a:pt x="50" y="13"/>
                  </a:lnTo>
                  <a:lnTo>
                    <a:pt x="40" y="26"/>
                  </a:lnTo>
                  <a:lnTo>
                    <a:pt x="48" y="44"/>
                  </a:lnTo>
                  <a:lnTo>
                    <a:pt x="27" y="36"/>
                  </a:lnTo>
                  <a:lnTo>
                    <a:pt x="17" y="49"/>
                  </a:lnTo>
                  <a:lnTo>
                    <a:pt x="14" y="34"/>
                  </a:lnTo>
                  <a:lnTo>
                    <a:pt x="0" y="26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8160" y="1798560"/>
              <a:ext cx="122400" cy="11124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37" y="28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36"/>
                  </a:lnTo>
                  <a:lnTo>
                    <a:pt x="73" y="59"/>
                  </a:lnTo>
                  <a:lnTo>
                    <a:pt x="80" y="89"/>
                  </a:lnTo>
                  <a:lnTo>
                    <a:pt x="50" y="68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7" y="28"/>
                  </a:lnTo>
                  <a:lnTo>
                    <a:pt x="37" y="28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70080" y="2941560"/>
              <a:ext cx="125640" cy="1126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8" y="33"/>
                  </a:moveTo>
                  <a:lnTo>
                    <a:pt x="57" y="0"/>
                  </a:lnTo>
                  <a:lnTo>
                    <a:pt x="67" y="33"/>
                  </a:lnTo>
                  <a:lnTo>
                    <a:pt x="103" y="38"/>
                  </a:lnTo>
                  <a:lnTo>
                    <a:pt x="74" y="59"/>
                  </a:lnTo>
                  <a:lnTo>
                    <a:pt x="80" y="91"/>
                  </a:lnTo>
                  <a:lnTo>
                    <a:pt x="50" y="69"/>
                  </a:lnTo>
                  <a:lnTo>
                    <a:pt x="17" y="88"/>
                  </a:lnTo>
                  <a:lnTo>
                    <a:pt x="25" y="55"/>
                  </a:lnTo>
                  <a:lnTo>
                    <a:pt x="0" y="33"/>
                  </a:lnTo>
                  <a:lnTo>
                    <a:pt x="38" y="3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55960" y="1596960"/>
              <a:ext cx="207720" cy="19044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1" y="0"/>
                  </a:lnTo>
                  <a:lnTo>
                    <a:pt x="108" y="57"/>
                  </a:lnTo>
                  <a:lnTo>
                    <a:pt x="171" y="70"/>
                  </a:lnTo>
                  <a:lnTo>
                    <a:pt x="122" y="102"/>
                  </a:lnTo>
                  <a:lnTo>
                    <a:pt x="131" y="156"/>
                  </a:lnTo>
                  <a:lnTo>
                    <a:pt x="82" y="119"/>
                  </a:lnTo>
                  <a:lnTo>
                    <a:pt x="28" y="146"/>
                  </a:lnTo>
                  <a:lnTo>
                    <a:pt x="42" y="97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60880" y="2276640"/>
              <a:ext cx="206280" cy="190440"/>
            </a:xfrm>
            <a:custGeom>
              <a:avLst/>
              <a:gdLst/>
              <a:ahLst/>
              <a:rect l="l" t="t" r="r" b="b"/>
              <a:pathLst>
                <a:path w="169" h="155">
                  <a:moveTo>
                    <a:pt x="57" y="59"/>
                  </a:moveTo>
                  <a:lnTo>
                    <a:pt x="74" y="0"/>
                  </a:lnTo>
                  <a:lnTo>
                    <a:pt x="107" y="45"/>
                  </a:lnTo>
                  <a:lnTo>
                    <a:pt x="169" y="40"/>
                  </a:lnTo>
                  <a:lnTo>
                    <a:pt x="133" y="85"/>
                  </a:lnTo>
                  <a:lnTo>
                    <a:pt x="156" y="135"/>
                  </a:lnTo>
                  <a:lnTo>
                    <a:pt x="101" y="112"/>
                  </a:lnTo>
                  <a:lnTo>
                    <a:pt x="57" y="155"/>
                  </a:lnTo>
                  <a:lnTo>
                    <a:pt x="53" y="102"/>
                  </a:lnTo>
                  <a:lnTo>
                    <a:pt x="0" y="79"/>
                  </a:lnTo>
                  <a:lnTo>
                    <a:pt x="57" y="59"/>
                  </a:lnTo>
                  <a:lnTo>
                    <a:pt x="57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57400" y="2689200"/>
              <a:ext cx="206640" cy="18576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61" y="53"/>
                  </a:moveTo>
                  <a:lnTo>
                    <a:pt x="93" y="0"/>
                  </a:lnTo>
                  <a:lnTo>
                    <a:pt x="110" y="53"/>
                  </a:lnTo>
                  <a:lnTo>
                    <a:pt x="171" y="67"/>
                  </a:lnTo>
                  <a:lnTo>
                    <a:pt x="122" y="101"/>
                  </a:lnTo>
                  <a:lnTo>
                    <a:pt x="133" y="154"/>
                  </a:lnTo>
                  <a:lnTo>
                    <a:pt x="84" y="116"/>
                  </a:lnTo>
                  <a:lnTo>
                    <a:pt x="31" y="146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78280" y="2095560"/>
              <a:ext cx="209520" cy="18900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0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9"/>
                  </a:lnTo>
                  <a:lnTo>
                    <a:pt x="121" y="103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4" y="149"/>
                  </a:lnTo>
                  <a:lnTo>
                    <a:pt x="41" y="95"/>
                  </a:lnTo>
                  <a:lnTo>
                    <a:pt x="0" y="55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14680" y="2779560"/>
              <a:ext cx="61920" cy="6048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17" y="19"/>
                  </a:moveTo>
                  <a:lnTo>
                    <a:pt x="20" y="0"/>
                  </a:lnTo>
                  <a:lnTo>
                    <a:pt x="30" y="13"/>
                  </a:lnTo>
                  <a:lnTo>
                    <a:pt x="49" y="13"/>
                  </a:lnTo>
                  <a:lnTo>
                    <a:pt x="39" y="27"/>
                  </a:lnTo>
                  <a:lnTo>
                    <a:pt x="47" y="42"/>
                  </a:lnTo>
                  <a:lnTo>
                    <a:pt x="26" y="36"/>
                  </a:lnTo>
                  <a:lnTo>
                    <a:pt x="17" y="50"/>
                  </a:lnTo>
                  <a:lnTo>
                    <a:pt x="13" y="32"/>
                  </a:lnTo>
                  <a:lnTo>
                    <a:pt x="0" y="23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5280" y="2408400"/>
              <a:ext cx="129960" cy="11412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6" y="32"/>
                  </a:moveTo>
                  <a:lnTo>
                    <a:pt x="57" y="0"/>
                  </a:lnTo>
                  <a:lnTo>
                    <a:pt x="64" y="32"/>
                  </a:lnTo>
                  <a:lnTo>
                    <a:pt x="106" y="40"/>
                  </a:lnTo>
                  <a:lnTo>
                    <a:pt x="76" y="59"/>
                  </a:lnTo>
                  <a:lnTo>
                    <a:pt x="80" y="93"/>
                  </a:lnTo>
                  <a:lnTo>
                    <a:pt x="49" y="68"/>
                  </a:lnTo>
                  <a:lnTo>
                    <a:pt x="19" y="89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1880" y="3554280"/>
              <a:ext cx="123840" cy="112680"/>
            </a:xfrm>
            <a:custGeom>
              <a:avLst/>
              <a:gdLst/>
              <a:ahLst/>
              <a:rect l="l" t="t" r="r" b="b"/>
              <a:pathLst>
                <a:path w="102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2" y="38"/>
                  </a:lnTo>
                  <a:lnTo>
                    <a:pt x="72" y="59"/>
                  </a:lnTo>
                  <a:lnTo>
                    <a:pt x="79" y="91"/>
                  </a:lnTo>
                  <a:lnTo>
                    <a:pt x="49" y="69"/>
                  </a:lnTo>
                  <a:lnTo>
                    <a:pt x="19" y="88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76560" y="1535040"/>
              <a:ext cx="211320" cy="1857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4"/>
                  </a:moveTo>
                  <a:lnTo>
                    <a:pt x="93" y="0"/>
                  </a:lnTo>
                  <a:lnTo>
                    <a:pt x="110" y="54"/>
                  </a:lnTo>
                  <a:lnTo>
                    <a:pt x="173" y="65"/>
                  </a:lnTo>
                  <a:lnTo>
                    <a:pt x="122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4"/>
                  </a:lnTo>
                  <a:lnTo>
                    <a:pt x="61" y="5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92520" y="1706400"/>
              <a:ext cx="206280" cy="18900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55" y="61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9" y="38"/>
                  </a:lnTo>
                  <a:lnTo>
                    <a:pt x="129" y="85"/>
                  </a:lnTo>
                  <a:lnTo>
                    <a:pt x="154" y="135"/>
                  </a:lnTo>
                  <a:lnTo>
                    <a:pt x="95" y="112"/>
                  </a:lnTo>
                  <a:lnTo>
                    <a:pt x="53" y="154"/>
                  </a:lnTo>
                  <a:lnTo>
                    <a:pt x="50" y="101"/>
                  </a:lnTo>
                  <a:lnTo>
                    <a:pt x="0" y="78"/>
                  </a:lnTo>
                  <a:lnTo>
                    <a:pt x="55" y="61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0920" y="3139920"/>
              <a:ext cx="211320" cy="19080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59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6"/>
                  </a:lnTo>
                  <a:lnTo>
                    <a:pt x="122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1" y="148"/>
                  </a:lnTo>
                  <a:lnTo>
                    <a:pt x="42" y="95"/>
                  </a:lnTo>
                  <a:lnTo>
                    <a:pt x="0" y="55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64040" y="2610000"/>
              <a:ext cx="208080" cy="1857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59" y="54"/>
                  </a:moveTo>
                  <a:lnTo>
                    <a:pt x="93" y="0"/>
                  </a:lnTo>
                  <a:lnTo>
                    <a:pt x="108" y="56"/>
                  </a:lnTo>
                  <a:lnTo>
                    <a:pt x="173" y="65"/>
                  </a:lnTo>
                  <a:lnTo>
                    <a:pt x="123" y="99"/>
                  </a:lnTo>
                  <a:lnTo>
                    <a:pt x="135" y="152"/>
                  </a:lnTo>
                  <a:lnTo>
                    <a:pt x="85" y="116"/>
                  </a:lnTo>
                  <a:lnTo>
                    <a:pt x="30" y="145"/>
                  </a:lnTo>
                  <a:lnTo>
                    <a:pt x="43" y="92"/>
                  </a:lnTo>
                  <a:lnTo>
                    <a:pt x="0" y="56"/>
                  </a:lnTo>
                  <a:lnTo>
                    <a:pt x="59" y="54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5960" y="2868480"/>
              <a:ext cx="65160" cy="5400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9" y="17"/>
                  </a:moveTo>
                  <a:lnTo>
                    <a:pt x="22" y="0"/>
                  </a:lnTo>
                  <a:lnTo>
                    <a:pt x="32" y="14"/>
                  </a:lnTo>
                  <a:lnTo>
                    <a:pt x="53" y="14"/>
                  </a:lnTo>
                  <a:lnTo>
                    <a:pt x="38" y="27"/>
                  </a:lnTo>
                  <a:lnTo>
                    <a:pt x="49" y="40"/>
                  </a:lnTo>
                  <a:lnTo>
                    <a:pt x="28" y="35"/>
                  </a:lnTo>
                  <a:lnTo>
                    <a:pt x="15" y="46"/>
                  </a:lnTo>
                  <a:lnTo>
                    <a:pt x="15" y="31"/>
                  </a:lnTo>
                  <a:lnTo>
                    <a:pt x="0" y="23"/>
                  </a:lnTo>
                  <a:lnTo>
                    <a:pt x="19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0240" y="2862360"/>
              <a:ext cx="127080" cy="11088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36" y="32"/>
                  </a:moveTo>
                  <a:lnTo>
                    <a:pt x="55" y="0"/>
                  </a:lnTo>
                  <a:lnTo>
                    <a:pt x="68" y="32"/>
                  </a:lnTo>
                  <a:lnTo>
                    <a:pt x="104" y="40"/>
                  </a:lnTo>
                  <a:lnTo>
                    <a:pt x="76" y="59"/>
                  </a:lnTo>
                  <a:lnTo>
                    <a:pt x="81" y="93"/>
                  </a:lnTo>
                  <a:lnTo>
                    <a:pt x="53" y="70"/>
                  </a:lnTo>
                  <a:lnTo>
                    <a:pt x="19" y="85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41760" y="1725480"/>
              <a:ext cx="127080" cy="11448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8" y="34"/>
                  </a:moveTo>
                  <a:lnTo>
                    <a:pt x="57" y="0"/>
                  </a:lnTo>
                  <a:lnTo>
                    <a:pt x="70" y="34"/>
                  </a:lnTo>
                  <a:lnTo>
                    <a:pt x="106" y="40"/>
                  </a:lnTo>
                  <a:lnTo>
                    <a:pt x="78" y="61"/>
                  </a:lnTo>
                  <a:lnTo>
                    <a:pt x="83" y="93"/>
                  </a:lnTo>
                  <a:lnTo>
                    <a:pt x="53" y="70"/>
                  </a:lnTo>
                  <a:lnTo>
                    <a:pt x="21" y="86"/>
                  </a:lnTo>
                  <a:lnTo>
                    <a:pt x="26" y="57"/>
                  </a:lnTo>
                  <a:lnTo>
                    <a:pt x="0" y="34"/>
                  </a:lnTo>
                  <a:lnTo>
                    <a:pt x="38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77920" y="2386080"/>
              <a:ext cx="204840" cy="19044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3" y="0"/>
                  </a:lnTo>
                  <a:lnTo>
                    <a:pt x="108" y="57"/>
                  </a:lnTo>
                  <a:lnTo>
                    <a:pt x="171" y="68"/>
                  </a:lnTo>
                  <a:lnTo>
                    <a:pt x="121" y="103"/>
                  </a:lnTo>
                  <a:lnTo>
                    <a:pt x="131" y="156"/>
                  </a:lnTo>
                  <a:lnTo>
                    <a:pt x="81" y="118"/>
                  </a:lnTo>
                  <a:lnTo>
                    <a:pt x="28" y="148"/>
                  </a:lnTo>
                  <a:lnTo>
                    <a:pt x="40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9880" y="3184560"/>
              <a:ext cx="203040" cy="191880"/>
            </a:xfrm>
            <a:custGeom>
              <a:avLst/>
              <a:gdLst/>
              <a:ahLst/>
              <a:rect l="l" t="t" r="r" b="b"/>
              <a:pathLst>
                <a:path w="167" h="158">
                  <a:moveTo>
                    <a:pt x="57" y="63"/>
                  </a:moveTo>
                  <a:lnTo>
                    <a:pt x="72" y="0"/>
                  </a:lnTo>
                  <a:lnTo>
                    <a:pt x="107" y="49"/>
                  </a:lnTo>
                  <a:lnTo>
                    <a:pt x="167" y="44"/>
                  </a:lnTo>
                  <a:lnTo>
                    <a:pt x="129" y="89"/>
                  </a:lnTo>
                  <a:lnTo>
                    <a:pt x="156" y="135"/>
                  </a:lnTo>
                  <a:lnTo>
                    <a:pt x="95" y="116"/>
                  </a:lnTo>
                  <a:lnTo>
                    <a:pt x="53" y="158"/>
                  </a:lnTo>
                  <a:lnTo>
                    <a:pt x="50" y="106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0640" y="2036880"/>
              <a:ext cx="206280" cy="18576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61" y="53"/>
                  </a:moveTo>
                  <a:lnTo>
                    <a:pt x="93" y="0"/>
                  </a:lnTo>
                  <a:lnTo>
                    <a:pt x="114" y="53"/>
                  </a:lnTo>
                  <a:lnTo>
                    <a:pt x="171" y="66"/>
                  </a:lnTo>
                  <a:lnTo>
                    <a:pt x="122" y="101"/>
                  </a:lnTo>
                  <a:lnTo>
                    <a:pt x="137" y="152"/>
                  </a:lnTo>
                  <a:lnTo>
                    <a:pt x="88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6680" y="2119320"/>
              <a:ext cx="206280" cy="19224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5" y="57"/>
                  </a:moveTo>
                  <a:lnTo>
                    <a:pt x="89" y="0"/>
                  </a:lnTo>
                  <a:lnTo>
                    <a:pt x="108" y="57"/>
                  </a:lnTo>
                  <a:lnTo>
                    <a:pt x="171" y="67"/>
                  </a:lnTo>
                  <a:lnTo>
                    <a:pt x="122" y="99"/>
                  </a:lnTo>
                  <a:lnTo>
                    <a:pt x="131" y="156"/>
                  </a:lnTo>
                  <a:lnTo>
                    <a:pt x="82" y="116"/>
                  </a:lnTo>
                  <a:lnTo>
                    <a:pt x="28" y="147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55" y="57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67160" y="2376360"/>
              <a:ext cx="60120" cy="590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5" y="0"/>
                  </a:lnTo>
                  <a:lnTo>
                    <a:pt x="30" y="16"/>
                  </a:lnTo>
                  <a:lnTo>
                    <a:pt x="49" y="16"/>
                  </a:lnTo>
                  <a:lnTo>
                    <a:pt x="40" y="27"/>
                  </a:lnTo>
                  <a:lnTo>
                    <a:pt x="47" y="42"/>
                  </a:lnTo>
                  <a:lnTo>
                    <a:pt x="30" y="35"/>
                  </a:lnTo>
                  <a:lnTo>
                    <a:pt x="17" y="48"/>
                  </a:lnTo>
                  <a:lnTo>
                    <a:pt x="13" y="31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82880" y="2368440"/>
              <a:ext cx="123840" cy="11592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8" y="32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40"/>
                  </a:lnTo>
                  <a:lnTo>
                    <a:pt x="72" y="59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8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08200" y="2576520"/>
              <a:ext cx="129960" cy="11268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6" y="38"/>
                  </a:lnTo>
                  <a:lnTo>
                    <a:pt x="76" y="59"/>
                  </a:lnTo>
                  <a:lnTo>
                    <a:pt x="83" y="91"/>
                  </a:lnTo>
                  <a:lnTo>
                    <a:pt x="53" y="68"/>
                  </a:lnTo>
                  <a:lnTo>
                    <a:pt x="21" y="89"/>
                  </a:lnTo>
                  <a:lnTo>
                    <a:pt x="26" y="57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52840" y="1442880"/>
              <a:ext cx="212760" cy="1857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59" y="57"/>
                  </a:moveTo>
                  <a:lnTo>
                    <a:pt x="93" y="0"/>
                  </a:lnTo>
                  <a:lnTo>
                    <a:pt x="112" y="57"/>
                  </a:lnTo>
                  <a:lnTo>
                    <a:pt x="175" y="67"/>
                  </a:lnTo>
                  <a:lnTo>
                    <a:pt x="126" y="99"/>
                  </a:lnTo>
                  <a:lnTo>
                    <a:pt x="135" y="152"/>
                  </a:lnTo>
                  <a:lnTo>
                    <a:pt x="86" y="116"/>
                  </a:lnTo>
                  <a:lnTo>
                    <a:pt x="33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5840" y="1797120"/>
              <a:ext cx="203400" cy="18900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55" y="59"/>
                  </a:moveTo>
                  <a:lnTo>
                    <a:pt x="72" y="0"/>
                  </a:lnTo>
                  <a:lnTo>
                    <a:pt x="104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6" y="135"/>
                  </a:lnTo>
                  <a:lnTo>
                    <a:pt x="99" y="112"/>
                  </a:lnTo>
                  <a:lnTo>
                    <a:pt x="55" y="154"/>
                  </a:lnTo>
                  <a:lnTo>
                    <a:pt x="49" y="103"/>
                  </a:lnTo>
                  <a:lnTo>
                    <a:pt x="0" y="78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3280" y="3290760"/>
              <a:ext cx="210960" cy="19224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61" y="57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3" y="98"/>
                  </a:lnTo>
                  <a:lnTo>
                    <a:pt x="137" y="155"/>
                  </a:lnTo>
                  <a:lnTo>
                    <a:pt x="83" y="119"/>
                  </a:lnTo>
                  <a:lnTo>
                    <a:pt x="30" y="146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61" y="57"/>
                  </a:lnTo>
                  <a:lnTo>
                    <a:pt x="61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1120" y="3179880"/>
              <a:ext cx="211320" cy="18864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63" y="53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7"/>
                  </a:lnTo>
                  <a:lnTo>
                    <a:pt x="126" y="101"/>
                  </a:lnTo>
                  <a:lnTo>
                    <a:pt x="135" y="154"/>
                  </a:lnTo>
                  <a:lnTo>
                    <a:pt x="86" y="116"/>
                  </a:lnTo>
                  <a:lnTo>
                    <a:pt x="33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3" y="53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67160" y="2987640"/>
              <a:ext cx="58680" cy="604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16" y="17"/>
                  </a:moveTo>
                  <a:lnTo>
                    <a:pt x="23" y="0"/>
                  </a:lnTo>
                  <a:lnTo>
                    <a:pt x="33" y="15"/>
                  </a:lnTo>
                  <a:lnTo>
                    <a:pt x="50" y="12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4"/>
                  </a:lnTo>
                  <a:lnTo>
                    <a:pt x="16" y="48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16" y="17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9440" y="2736720"/>
              <a:ext cx="127080" cy="1144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6" y="34"/>
                  </a:moveTo>
                  <a:lnTo>
                    <a:pt x="53" y="0"/>
                  </a:lnTo>
                  <a:lnTo>
                    <a:pt x="66" y="34"/>
                  </a:lnTo>
                  <a:lnTo>
                    <a:pt x="103" y="40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49" y="70"/>
                  </a:lnTo>
                  <a:lnTo>
                    <a:pt x="17" y="91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19720" y="1689120"/>
              <a:ext cx="125280" cy="11268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6" y="34"/>
                  </a:moveTo>
                  <a:lnTo>
                    <a:pt x="55" y="0"/>
                  </a:lnTo>
                  <a:lnTo>
                    <a:pt x="67" y="34"/>
                  </a:lnTo>
                  <a:lnTo>
                    <a:pt x="105" y="40"/>
                  </a:lnTo>
                  <a:lnTo>
                    <a:pt x="76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9" y="87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9600" y="1895400"/>
              <a:ext cx="207720" cy="1857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3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4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65320" y="2751120"/>
              <a:ext cx="203040" cy="19512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57" y="63"/>
                  </a:moveTo>
                  <a:lnTo>
                    <a:pt x="72" y="0"/>
                  </a:lnTo>
                  <a:lnTo>
                    <a:pt x="105" y="50"/>
                  </a:lnTo>
                  <a:lnTo>
                    <a:pt x="167" y="42"/>
                  </a:lnTo>
                  <a:lnTo>
                    <a:pt x="129" y="86"/>
                  </a:lnTo>
                  <a:lnTo>
                    <a:pt x="154" y="135"/>
                  </a:lnTo>
                  <a:lnTo>
                    <a:pt x="95" y="116"/>
                  </a:lnTo>
                  <a:lnTo>
                    <a:pt x="53" y="160"/>
                  </a:lnTo>
                  <a:lnTo>
                    <a:pt x="50" y="107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94000" y="3346560"/>
              <a:ext cx="211320" cy="185760"/>
            </a:xfrm>
            <a:custGeom>
              <a:avLst/>
              <a:gdLst/>
              <a:ahLst/>
              <a:rect l="l" t="t" r="r" b="b"/>
              <a:pathLst>
                <a:path w="173" h="150">
                  <a:moveTo>
                    <a:pt x="61" y="51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6"/>
                  </a:lnTo>
                  <a:lnTo>
                    <a:pt x="125" y="99"/>
                  </a:lnTo>
                  <a:lnTo>
                    <a:pt x="137" y="150"/>
                  </a:lnTo>
                  <a:lnTo>
                    <a:pt x="87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5"/>
                  </a:lnTo>
                  <a:lnTo>
                    <a:pt x="61" y="51"/>
                  </a:lnTo>
                  <a:lnTo>
                    <a:pt x="61" y="5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01920" y="3614760"/>
              <a:ext cx="212760" cy="1857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63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5" y="64"/>
                  </a:lnTo>
                  <a:lnTo>
                    <a:pt x="125" y="98"/>
                  </a:lnTo>
                  <a:lnTo>
                    <a:pt x="135" y="152"/>
                  </a:lnTo>
                  <a:lnTo>
                    <a:pt x="86" y="115"/>
                  </a:lnTo>
                  <a:lnTo>
                    <a:pt x="34" y="144"/>
                  </a:lnTo>
                  <a:lnTo>
                    <a:pt x="42" y="91"/>
                  </a:lnTo>
                  <a:lnTo>
                    <a:pt x="0" y="55"/>
                  </a:lnTo>
                  <a:lnTo>
                    <a:pt x="63" y="55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65360" y="3438360"/>
              <a:ext cx="58680" cy="619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5" y="19"/>
                  </a:moveTo>
                  <a:lnTo>
                    <a:pt x="19" y="0"/>
                  </a:lnTo>
                  <a:lnTo>
                    <a:pt x="29" y="17"/>
                  </a:lnTo>
                  <a:lnTo>
                    <a:pt x="49" y="13"/>
                  </a:lnTo>
                  <a:lnTo>
                    <a:pt x="36" y="27"/>
                  </a:lnTo>
                  <a:lnTo>
                    <a:pt x="46" y="44"/>
                  </a:lnTo>
                  <a:lnTo>
                    <a:pt x="27" y="36"/>
                  </a:lnTo>
                  <a:lnTo>
                    <a:pt x="13" y="49"/>
                  </a:lnTo>
                  <a:lnTo>
                    <a:pt x="13" y="32"/>
                  </a:lnTo>
                  <a:lnTo>
                    <a:pt x="0" y="27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8200" y="3433680"/>
              <a:ext cx="122040" cy="10980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4" y="34"/>
                  </a:moveTo>
                  <a:lnTo>
                    <a:pt x="57" y="0"/>
                  </a:lnTo>
                  <a:lnTo>
                    <a:pt x="69" y="34"/>
                  </a:lnTo>
                  <a:lnTo>
                    <a:pt x="103" y="42"/>
                  </a:lnTo>
                  <a:lnTo>
                    <a:pt x="74" y="61"/>
                  </a:lnTo>
                  <a:lnTo>
                    <a:pt x="80" y="91"/>
                  </a:lnTo>
                  <a:lnTo>
                    <a:pt x="52" y="72"/>
                  </a:lnTo>
                  <a:lnTo>
                    <a:pt x="19" y="88"/>
                  </a:lnTo>
                  <a:lnTo>
                    <a:pt x="25" y="55"/>
                  </a:lnTo>
                  <a:lnTo>
                    <a:pt x="0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30640" y="1873080"/>
              <a:ext cx="123840" cy="109800"/>
            </a:xfrm>
            <a:custGeom>
              <a:avLst/>
              <a:gdLst/>
              <a:ahLst/>
              <a:rect l="l" t="t" r="r" b="b"/>
              <a:pathLst>
                <a:path w="100" h="89">
                  <a:moveTo>
                    <a:pt x="32" y="32"/>
                  </a:moveTo>
                  <a:lnTo>
                    <a:pt x="51" y="0"/>
                  </a:lnTo>
                  <a:lnTo>
                    <a:pt x="66" y="32"/>
                  </a:lnTo>
                  <a:lnTo>
                    <a:pt x="100" y="40"/>
                  </a:lnTo>
                  <a:lnTo>
                    <a:pt x="72" y="59"/>
                  </a:lnTo>
                  <a:lnTo>
                    <a:pt x="78" y="89"/>
                  </a:lnTo>
                  <a:lnTo>
                    <a:pt x="49" y="68"/>
                  </a:lnTo>
                  <a:lnTo>
                    <a:pt x="17" y="85"/>
                  </a:lnTo>
                  <a:lnTo>
                    <a:pt x="23" y="57"/>
                  </a:lnTo>
                  <a:lnTo>
                    <a:pt x="0" y="32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90440" y="3622680"/>
              <a:ext cx="120960" cy="11268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37" y="33"/>
                  </a:moveTo>
                  <a:lnTo>
                    <a:pt x="56" y="0"/>
                  </a:lnTo>
                  <a:lnTo>
                    <a:pt x="67" y="33"/>
                  </a:lnTo>
                  <a:lnTo>
                    <a:pt x="101" y="40"/>
                  </a:lnTo>
                  <a:lnTo>
                    <a:pt x="75" y="59"/>
                  </a:lnTo>
                  <a:lnTo>
                    <a:pt x="78" y="93"/>
                  </a:lnTo>
                  <a:lnTo>
                    <a:pt x="50" y="71"/>
                  </a:lnTo>
                  <a:lnTo>
                    <a:pt x="19" y="90"/>
                  </a:lnTo>
                  <a:lnTo>
                    <a:pt x="25" y="57"/>
                  </a:lnTo>
                  <a:lnTo>
                    <a:pt x="0" y="33"/>
                  </a:lnTo>
                  <a:lnTo>
                    <a:pt x="37" y="33"/>
                  </a:lnTo>
                  <a:lnTo>
                    <a:pt x="37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5200" y="3790800"/>
              <a:ext cx="61560" cy="590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7" y="21"/>
                  </a:moveTo>
                  <a:lnTo>
                    <a:pt x="23" y="0"/>
                  </a:lnTo>
                  <a:lnTo>
                    <a:pt x="31" y="13"/>
                  </a:lnTo>
                  <a:lnTo>
                    <a:pt x="50" y="13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6"/>
                  </a:lnTo>
                  <a:lnTo>
                    <a:pt x="17" y="47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0200" y="2109960"/>
              <a:ext cx="123840" cy="1126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2" y="34"/>
                  </a:moveTo>
                  <a:lnTo>
                    <a:pt x="53" y="0"/>
                  </a:lnTo>
                  <a:lnTo>
                    <a:pt x="67" y="34"/>
                  </a:lnTo>
                  <a:lnTo>
                    <a:pt x="103" y="42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7" y="87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38320" y="2719440"/>
              <a:ext cx="60480" cy="60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7" y="19"/>
                  </a:moveTo>
                  <a:lnTo>
                    <a:pt x="19" y="0"/>
                  </a:lnTo>
                  <a:lnTo>
                    <a:pt x="32" y="15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2"/>
                  </a:lnTo>
                  <a:lnTo>
                    <a:pt x="28" y="36"/>
                  </a:lnTo>
                  <a:lnTo>
                    <a:pt x="17" y="49"/>
                  </a:lnTo>
                  <a:lnTo>
                    <a:pt x="13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8360" y="3070080"/>
              <a:ext cx="60120" cy="5724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5" y="21"/>
                  </a:moveTo>
                  <a:lnTo>
                    <a:pt x="23" y="0"/>
                  </a:lnTo>
                  <a:lnTo>
                    <a:pt x="32" y="13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3"/>
                  </a:lnTo>
                  <a:lnTo>
                    <a:pt x="30" y="36"/>
                  </a:lnTo>
                  <a:lnTo>
                    <a:pt x="15" y="47"/>
                  </a:lnTo>
                  <a:lnTo>
                    <a:pt x="15" y="32"/>
                  </a:lnTo>
                  <a:lnTo>
                    <a:pt x="0" y="24"/>
                  </a:lnTo>
                  <a:lnTo>
                    <a:pt x="15" y="21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98680" y="2624040"/>
              <a:ext cx="58680" cy="586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7" y="19"/>
                  </a:moveTo>
                  <a:lnTo>
                    <a:pt x="23" y="0"/>
                  </a:lnTo>
                  <a:lnTo>
                    <a:pt x="32" y="15"/>
                  </a:lnTo>
                  <a:lnTo>
                    <a:pt x="49" y="11"/>
                  </a:lnTo>
                  <a:lnTo>
                    <a:pt x="40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7"/>
                  </a:lnTo>
                  <a:lnTo>
                    <a:pt x="13" y="30"/>
                  </a:lnTo>
                  <a:lnTo>
                    <a:pt x="0" y="25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1000" y="3641760"/>
              <a:ext cx="61560" cy="5544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15" y="16"/>
                  </a:moveTo>
                  <a:lnTo>
                    <a:pt x="19" y="0"/>
                  </a:lnTo>
                  <a:lnTo>
                    <a:pt x="32" y="14"/>
                  </a:lnTo>
                  <a:lnTo>
                    <a:pt x="49" y="10"/>
                  </a:lnTo>
                  <a:lnTo>
                    <a:pt x="38" y="23"/>
                  </a:lnTo>
                  <a:lnTo>
                    <a:pt x="45" y="40"/>
                  </a:lnTo>
                  <a:lnTo>
                    <a:pt x="28" y="33"/>
                  </a:lnTo>
                  <a:lnTo>
                    <a:pt x="15" y="46"/>
                  </a:lnTo>
                  <a:lnTo>
                    <a:pt x="11" y="31"/>
                  </a:lnTo>
                  <a:lnTo>
                    <a:pt x="0" y="23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17600" y="3516480"/>
              <a:ext cx="66960" cy="6192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17" y="19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53" y="11"/>
                  </a:lnTo>
                  <a:lnTo>
                    <a:pt x="40" y="26"/>
                  </a:lnTo>
                  <a:lnTo>
                    <a:pt x="46" y="41"/>
                  </a:lnTo>
                  <a:lnTo>
                    <a:pt x="30" y="36"/>
                  </a:lnTo>
                  <a:lnTo>
                    <a:pt x="17" y="49"/>
                  </a:lnTo>
                  <a:lnTo>
                    <a:pt x="17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9480" y="3017880"/>
              <a:ext cx="61920" cy="572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49" y="11"/>
                  </a:lnTo>
                  <a:lnTo>
                    <a:pt x="42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8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73400" y="5608800"/>
              <a:ext cx="552600" cy="804600"/>
            </a:xfrm>
            <a:custGeom>
              <a:avLst/>
              <a:gdLst/>
              <a:ahLst/>
              <a:rect l="l" t="t" r="r" b="b"/>
              <a:pathLst>
                <a:path w="457" h="658">
                  <a:moveTo>
                    <a:pt x="457" y="0"/>
                  </a:moveTo>
                  <a:lnTo>
                    <a:pt x="449" y="173"/>
                  </a:lnTo>
                  <a:lnTo>
                    <a:pt x="434" y="303"/>
                  </a:lnTo>
                  <a:lnTo>
                    <a:pt x="439" y="456"/>
                  </a:lnTo>
                  <a:lnTo>
                    <a:pt x="439" y="582"/>
                  </a:lnTo>
                  <a:lnTo>
                    <a:pt x="434" y="658"/>
                  </a:lnTo>
                  <a:lnTo>
                    <a:pt x="373" y="658"/>
                  </a:lnTo>
                  <a:lnTo>
                    <a:pt x="234" y="658"/>
                  </a:lnTo>
                  <a:lnTo>
                    <a:pt x="0" y="624"/>
                  </a:lnTo>
                  <a:lnTo>
                    <a:pt x="261" y="599"/>
                  </a:lnTo>
                  <a:lnTo>
                    <a:pt x="363" y="460"/>
                  </a:lnTo>
                  <a:lnTo>
                    <a:pt x="377" y="285"/>
                  </a:lnTo>
                  <a:lnTo>
                    <a:pt x="457" y="0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60800" y="4275000"/>
              <a:ext cx="109440" cy="9864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78" y="0"/>
                  </a:moveTo>
                  <a:lnTo>
                    <a:pt x="90" y="23"/>
                  </a:lnTo>
                  <a:lnTo>
                    <a:pt x="76" y="38"/>
                  </a:lnTo>
                  <a:lnTo>
                    <a:pt x="37" y="46"/>
                  </a:lnTo>
                  <a:lnTo>
                    <a:pt x="25" y="65"/>
                  </a:lnTo>
                  <a:lnTo>
                    <a:pt x="0" y="80"/>
                  </a:lnTo>
                  <a:lnTo>
                    <a:pt x="6" y="54"/>
                  </a:lnTo>
                  <a:lnTo>
                    <a:pt x="25" y="23"/>
                  </a:lnTo>
                  <a:lnTo>
                    <a:pt x="52" y="27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16080" y="4754520"/>
              <a:ext cx="41400" cy="16200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17" y="0"/>
                  </a:moveTo>
                  <a:lnTo>
                    <a:pt x="17" y="36"/>
                  </a:lnTo>
                  <a:lnTo>
                    <a:pt x="30" y="72"/>
                  </a:lnTo>
                  <a:lnTo>
                    <a:pt x="26" y="102"/>
                  </a:lnTo>
                  <a:lnTo>
                    <a:pt x="34" y="131"/>
                  </a:lnTo>
                  <a:lnTo>
                    <a:pt x="17" y="131"/>
                  </a:lnTo>
                  <a:lnTo>
                    <a:pt x="13" y="95"/>
                  </a:lnTo>
                  <a:lnTo>
                    <a:pt x="13" y="68"/>
                  </a:lnTo>
                  <a:lnTo>
                    <a:pt x="0" y="3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35200" y="5635800"/>
              <a:ext cx="63360" cy="11556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3" y="0"/>
                  </a:moveTo>
                  <a:lnTo>
                    <a:pt x="41" y="27"/>
                  </a:lnTo>
                  <a:lnTo>
                    <a:pt x="41" y="55"/>
                  </a:lnTo>
                  <a:lnTo>
                    <a:pt x="41" y="72"/>
                  </a:lnTo>
                  <a:lnTo>
                    <a:pt x="38" y="88"/>
                  </a:lnTo>
                  <a:lnTo>
                    <a:pt x="11" y="95"/>
                  </a:lnTo>
                  <a:lnTo>
                    <a:pt x="0" y="91"/>
                  </a:lnTo>
                  <a:lnTo>
                    <a:pt x="26" y="82"/>
                  </a:lnTo>
                  <a:lnTo>
                    <a:pt x="32" y="55"/>
                  </a:lnTo>
                  <a:lnTo>
                    <a:pt x="38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44640" y="5413320"/>
              <a:ext cx="65160" cy="15732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0" y="0"/>
                  </a:moveTo>
                  <a:lnTo>
                    <a:pt x="8" y="22"/>
                  </a:lnTo>
                  <a:lnTo>
                    <a:pt x="11" y="49"/>
                  </a:lnTo>
                  <a:lnTo>
                    <a:pt x="8" y="76"/>
                  </a:lnTo>
                  <a:lnTo>
                    <a:pt x="0" y="127"/>
                  </a:lnTo>
                  <a:lnTo>
                    <a:pt x="27" y="83"/>
                  </a:lnTo>
                  <a:lnTo>
                    <a:pt x="53" y="49"/>
                  </a:lnTo>
                  <a:lnTo>
                    <a:pt x="27" y="26"/>
                  </a:lnTo>
                  <a:lnTo>
                    <a:pt x="8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44640" y="5156280"/>
              <a:ext cx="25560" cy="586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9" y="0"/>
                  </a:moveTo>
                  <a:lnTo>
                    <a:pt x="15" y="21"/>
                  </a:lnTo>
                  <a:lnTo>
                    <a:pt x="13" y="36"/>
                  </a:lnTo>
                  <a:lnTo>
                    <a:pt x="0" y="32"/>
                  </a:lnTo>
                  <a:lnTo>
                    <a:pt x="6" y="43"/>
                  </a:lnTo>
                  <a:lnTo>
                    <a:pt x="13" y="47"/>
                  </a:lnTo>
                  <a:lnTo>
                    <a:pt x="23" y="32"/>
                  </a:lnTo>
                  <a:lnTo>
                    <a:pt x="23" y="1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3440" y="4506840"/>
              <a:ext cx="49320" cy="493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2" y="27"/>
                  </a:moveTo>
                  <a:lnTo>
                    <a:pt x="30" y="21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11" y="31"/>
                  </a:lnTo>
                  <a:lnTo>
                    <a:pt x="0" y="40"/>
                  </a:lnTo>
                  <a:lnTo>
                    <a:pt x="4" y="23"/>
                  </a:lnTo>
                  <a:lnTo>
                    <a:pt x="17" y="16"/>
                  </a:lnTo>
                  <a:lnTo>
                    <a:pt x="27" y="0"/>
                  </a:lnTo>
                  <a:lnTo>
                    <a:pt x="34" y="12"/>
                  </a:lnTo>
                  <a:lnTo>
                    <a:pt x="44" y="21"/>
                  </a:lnTo>
                  <a:lnTo>
                    <a:pt x="42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4920" y="4576680"/>
              <a:ext cx="66600" cy="15876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18" y="14"/>
                  </a:lnTo>
                  <a:lnTo>
                    <a:pt x="37" y="23"/>
                  </a:lnTo>
                  <a:lnTo>
                    <a:pt x="56" y="37"/>
                  </a:lnTo>
                  <a:lnTo>
                    <a:pt x="48" y="67"/>
                  </a:lnTo>
                  <a:lnTo>
                    <a:pt x="48" y="80"/>
                  </a:lnTo>
                  <a:lnTo>
                    <a:pt x="44" y="103"/>
                  </a:lnTo>
                  <a:lnTo>
                    <a:pt x="44" y="130"/>
                  </a:lnTo>
                  <a:lnTo>
                    <a:pt x="37" y="99"/>
                  </a:lnTo>
                  <a:lnTo>
                    <a:pt x="21" y="7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8040" y="6202440"/>
              <a:ext cx="171360" cy="23652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97" y="0"/>
                  </a:moveTo>
                  <a:lnTo>
                    <a:pt x="107" y="45"/>
                  </a:lnTo>
                  <a:lnTo>
                    <a:pt x="113" y="80"/>
                  </a:lnTo>
                  <a:lnTo>
                    <a:pt x="116" y="118"/>
                  </a:lnTo>
                  <a:lnTo>
                    <a:pt x="126" y="156"/>
                  </a:lnTo>
                  <a:lnTo>
                    <a:pt x="139" y="182"/>
                  </a:lnTo>
                  <a:lnTo>
                    <a:pt x="109" y="192"/>
                  </a:lnTo>
                  <a:lnTo>
                    <a:pt x="54" y="192"/>
                  </a:lnTo>
                  <a:lnTo>
                    <a:pt x="0" y="188"/>
                  </a:lnTo>
                  <a:lnTo>
                    <a:pt x="44" y="175"/>
                  </a:lnTo>
                  <a:lnTo>
                    <a:pt x="103" y="175"/>
                  </a:lnTo>
                  <a:lnTo>
                    <a:pt x="86" y="84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95720" y="3849840"/>
              <a:ext cx="139680" cy="74520"/>
            </a:xfrm>
            <a:custGeom>
              <a:avLst/>
              <a:gdLst/>
              <a:ahLst/>
              <a:rect l="l" t="t" r="r" b="b"/>
              <a:pathLst>
                <a:path w="116" h="63">
                  <a:moveTo>
                    <a:pt x="0" y="0"/>
                  </a:moveTo>
                  <a:lnTo>
                    <a:pt x="0" y="31"/>
                  </a:lnTo>
                  <a:lnTo>
                    <a:pt x="0" y="56"/>
                  </a:lnTo>
                  <a:lnTo>
                    <a:pt x="21" y="63"/>
                  </a:lnTo>
                  <a:lnTo>
                    <a:pt x="57" y="63"/>
                  </a:lnTo>
                  <a:lnTo>
                    <a:pt x="74" y="59"/>
                  </a:lnTo>
                  <a:lnTo>
                    <a:pt x="116" y="59"/>
                  </a:lnTo>
                  <a:lnTo>
                    <a:pt x="84" y="46"/>
                  </a:lnTo>
                  <a:lnTo>
                    <a:pt x="57" y="42"/>
                  </a:lnTo>
                  <a:lnTo>
                    <a:pt x="17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6680" y="3800520"/>
              <a:ext cx="84240" cy="146160"/>
            </a:xfrm>
            <a:custGeom>
              <a:avLst/>
              <a:gdLst/>
              <a:ahLst/>
              <a:rect l="l" t="t" r="r" b="b"/>
              <a:pathLst>
                <a:path w="68" h="119">
                  <a:moveTo>
                    <a:pt x="68" y="0"/>
                  </a:moveTo>
                  <a:lnTo>
                    <a:pt x="68" y="51"/>
                  </a:lnTo>
                  <a:lnTo>
                    <a:pt x="68" y="89"/>
                  </a:lnTo>
                  <a:lnTo>
                    <a:pt x="68" y="116"/>
                  </a:lnTo>
                  <a:lnTo>
                    <a:pt x="45" y="119"/>
                  </a:lnTo>
                  <a:lnTo>
                    <a:pt x="0" y="112"/>
                  </a:lnTo>
                  <a:lnTo>
                    <a:pt x="36" y="98"/>
                  </a:lnTo>
                  <a:lnTo>
                    <a:pt x="55" y="6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38360" y="5006880"/>
              <a:ext cx="74520" cy="11124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63" y="0"/>
                  </a:moveTo>
                  <a:lnTo>
                    <a:pt x="63" y="19"/>
                  </a:lnTo>
                  <a:lnTo>
                    <a:pt x="63" y="29"/>
                  </a:lnTo>
                  <a:lnTo>
                    <a:pt x="63" y="42"/>
                  </a:lnTo>
                  <a:lnTo>
                    <a:pt x="59" y="59"/>
                  </a:lnTo>
                  <a:lnTo>
                    <a:pt x="57" y="65"/>
                  </a:lnTo>
                  <a:lnTo>
                    <a:pt x="53" y="78"/>
                  </a:lnTo>
                  <a:lnTo>
                    <a:pt x="53" y="86"/>
                  </a:lnTo>
                  <a:lnTo>
                    <a:pt x="36" y="91"/>
                  </a:lnTo>
                  <a:lnTo>
                    <a:pt x="0" y="91"/>
                  </a:lnTo>
                  <a:lnTo>
                    <a:pt x="45" y="76"/>
                  </a:lnTo>
                  <a:lnTo>
                    <a:pt x="42" y="4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0960" y="4762440"/>
              <a:ext cx="122400" cy="10476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4" y="0"/>
                  </a:moveTo>
                  <a:lnTo>
                    <a:pt x="27" y="14"/>
                  </a:lnTo>
                  <a:lnTo>
                    <a:pt x="48" y="25"/>
                  </a:lnTo>
                  <a:lnTo>
                    <a:pt x="59" y="37"/>
                  </a:lnTo>
                  <a:lnTo>
                    <a:pt x="80" y="54"/>
                  </a:lnTo>
                  <a:lnTo>
                    <a:pt x="99" y="71"/>
                  </a:lnTo>
                  <a:lnTo>
                    <a:pt x="103" y="86"/>
                  </a:lnTo>
                  <a:lnTo>
                    <a:pt x="90" y="75"/>
                  </a:lnTo>
                  <a:lnTo>
                    <a:pt x="55" y="71"/>
                  </a:lnTo>
                  <a:lnTo>
                    <a:pt x="55" y="57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’ESTIME de SOI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167652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Script MT Bold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un passeport pour la v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ermain Duclos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0880" y="380880"/>
            <a:ext cx="8077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S.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ÉQUILIB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Nom de fichier : j0282743.gif&#13;Mots clés : éléments pour le Web, émotions, hommes ...&#13;Taille de fichier : 7 Ko"/>
          <p:cNvPicPr/>
          <p:nvPr/>
        </p:nvPicPr>
        <p:blipFill>
          <a:blip r:embed="rId2"/>
          <a:stretch/>
        </p:blipFill>
        <p:spPr>
          <a:xfrm>
            <a:off x="1219320" y="3886200"/>
            <a:ext cx="1096920" cy="1096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33520" y="1447920"/>
            <a:ext cx="2895480" cy="58140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é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38480" y="17524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1447920"/>
            <a:ext cx="3124080" cy="58140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narcissi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4305240" y="571320"/>
            <a:ext cx="38088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750" y="1776"/>
                  <a:pt x="9900" y="5080"/>
                  <a:pt x="9900" y="10800"/>
                </a:cubicBezTo>
                <a:cubicBezTo>
                  <a:pt x="9900" y="16520"/>
                  <a:pt x="15750" y="198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410080" y="2209680"/>
            <a:ext cx="2811600" cy="4160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880" y="38088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e de soi  =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6699"/>
                </a:solidFill>
                <a:latin typeface="Arial"/>
              </a:rPr>
              <a:t>conscienc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de sa </a:t>
            </a:r>
            <a:r>
              <a:rPr b="1" i="1" lang="en-US" sz="3600" spc="-1" strike="noStrike">
                <a:solidFill>
                  <a:srgbClr val="336699"/>
                </a:solidFill>
                <a:latin typeface="Arial"/>
              </a:rPr>
              <a:t>valeu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personnelle global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(forces et limites)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336699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1828800"/>
            <a:ext cx="434340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Wingdings 3"/>
                <a:ea typeface="Wingdings 3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r les différents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e sa personnalit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ycholog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lectuel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3505320"/>
            <a:ext cx="601848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Wingdings 3"/>
                <a:ea typeface="Wingdings 3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ans les différents rôles qu’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st appelé à jou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 apprenant / travailleur / retrai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 membre d’une famille / d’un grou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 ami / conjoint / 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338040" y="1484280"/>
            <a:ext cx="4583160" cy="4608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822920" y="1125360"/>
            <a:ext cx="4321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’arrêter pou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prend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ONSCI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042920" y="836640"/>
            <a:ext cx="2233800" cy="1816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724360" y="4941720"/>
            <a:ext cx="2664000" cy="1008360"/>
          </a:xfrm>
          <a:custGeom>
            <a:avLst/>
            <a:gdLst>
              <a:gd name="textAreaLeft" fmla="*/ 65160 w 2664000"/>
              <a:gd name="textAreaRight" fmla="*/ 2598840 w 266400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57053" h="21600">
                <a:moveTo>
                  <a:pt x="0" y="0"/>
                </a:moveTo>
                <a:lnTo>
                  <a:pt x="57053" y="0"/>
                </a:lnTo>
                <a:lnTo>
                  <a:pt x="57053" y="21600"/>
                </a:lnTo>
                <a:lnTo>
                  <a:pt x="0" y="21600"/>
                </a:lnTo>
                <a:close/>
              </a:path>
              <a:path fill="lightenLess" w="57053" h="21600">
                <a:moveTo>
                  <a:pt x="0" y="0"/>
                </a:moveTo>
                <a:lnTo>
                  <a:pt x="57053" y="0"/>
                </a:lnTo>
                <a:lnTo>
                  <a:pt x="55653" y="1400"/>
                </a:lnTo>
                <a:lnTo>
                  <a:pt x="1400" y="1400"/>
                </a:lnTo>
                <a:close/>
              </a:path>
              <a:path fill="darken" w="57053" h="21600">
                <a:moveTo>
                  <a:pt x="57053" y="0"/>
                </a:moveTo>
                <a:lnTo>
                  <a:pt x="57053" y="21600"/>
                </a:lnTo>
                <a:lnTo>
                  <a:pt x="55653" y="20200"/>
                </a:lnTo>
                <a:lnTo>
                  <a:pt x="55653" y="1400"/>
                </a:lnTo>
                <a:close/>
              </a:path>
              <a:path fill="darkenLess" w="57053" h="21600">
                <a:moveTo>
                  <a:pt x="57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653" y="20200"/>
                </a:lnTo>
                <a:close/>
              </a:path>
              <a:path fill="lighten" w="57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Script MT Bold"/>
              </a:rPr>
              <a:t>Vivre e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yr4"/>
          <p:cNvSpPr/>
          <p:nvPr/>
        </p:nvSpPr>
        <p:spPr>
          <a:xfrm>
            <a:off x="2362320" y="2895480"/>
            <a:ext cx="3657600" cy="106704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oi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’ESTIME de SO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yr4"/>
          <p:cNvSpPr/>
          <p:nvPr/>
        </p:nvSpPr>
        <p:spPr>
          <a:xfrm>
            <a:off x="1905120" y="3733920"/>
            <a:ext cx="4572000" cy="914400"/>
          </a:xfrm>
          <a:prstGeom prst="pie">
            <a:avLst/>
          </a:prstGeom>
          <a:solidFill>
            <a:srgbClr val="ffc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oi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’amour 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’apparten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yr4"/>
          <p:cNvSpPr/>
          <p:nvPr/>
        </p:nvSpPr>
        <p:spPr>
          <a:xfrm>
            <a:off x="1219320" y="4572000"/>
            <a:ext cx="5943600" cy="101592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oi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sécuri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yr4"/>
          <p:cNvSpPr/>
          <p:nvPr/>
        </p:nvSpPr>
        <p:spPr>
          <a:xfrm>
            <a:off x="380880" y="5334120"/>
            <a:ext cx="7543800" cy="116820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oi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surv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590920" y="914400"/>
            <a:ext cx="3429000" cy="1743120"/>
            <a:chOff x="2590920" y="914400"/>
            <a:chExt cx="3429000" cy="1743120"/>
          </a:xfrm>
        </p:grpSpPr>
        <p:grpSp>
          <p:nvGrpSpPr>
            <p:cNvPr id="380" name=""/>
            <p:cNvGrpSpPr/>
            <p:nvPr/>
          </p:nvGrpSpPr>
          <p:grpSpPr>
            <a:xfrm>
              <a:off x="2819520" y="914400"/>
              <a:ext cx="2666520" cy="1743120"/>
              <a:chOff x="2819520" y="914400"/>
              <a:chExt cx="2666520" cy="1743120"/>
            </a:xfrm>
          </p:grpSpPr>
          <p:sp>
            <p:nvSpPr>
              <p:cNvPr id="381" name="Pyr1"/>
              <p:cNvSpPr/>
              <p:nvPr/>
            </p:nvSpPr>
            <p:spPr>
              <a:xfrm>
                <a:off x="3535560" y="914400"/>
                <a:ext cx="1239120" cy="80172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Pyr2"/>
              <p:cNvSpPr/>
              <p:nvPr/>
            </p:nvSpPr>
            <p:spPr>
              <a:xfrm>
                <a:off x="2819520" y="1716120"/>
                <a:ext cx="2666520" cy="941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2590920" y="1295280"/>
              <a:ext cx="3429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esoin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d’accomplissement personn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4920" y="457200"/>
            <a:ext cx="830556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yramide des besoins universels de MA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5562720"/>
            <a:ext cx="533520" cy="39888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4800600"/>
            <a:ext cx="533160" cy="39888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3809880"/>
            <a:ext cx="533520" cy="39888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28800" y="2971800"/>
            <a:ext cx="533520" cy="39888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1905120"/>
            <a:ext cx="533520" cy="39888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65760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 rot="20908800">
            <a:off x="304920" y="609120"/>
            <a:ext cx="266688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n passeport 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our la vie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04920" y="2514600"/>
            <a:ext cx="2895120" cy="3581280"/>
            <a:chOff x="304920" y="2514600"/>
            <a:chExt cx="2895120" cy="3581280"/>
          </a:xfrm>
        </p:grpSpPr>
        <p:sp>
          <p:nvSpPr>
            <p:cNvPr id="393" name=""/>
            <p:cNvSpPr/>
            <p:nvPr/>
          </p:nvSpPr>
          <p:spPr>
            <a:xfrm>
              <a:off x="311400" y="2532960"/>
              <a:ext cx="2863440" cy="1829520"/>
            </a:xfrm>
            <a:custGeom>
              <a:avLst/>
              <a:gdLst/>
              <a:ahLst/>
              <a:rect l="l" t="t" r="r" b="b"/>
              <a:pathLst>
                <a:path w="3418" h="2198">
                  <a:moveTo>
                    <a:pt x="36" y="6"/>
                  </a:moveTo>
                  <a:lnTo>
                    <a:pt x="327" y="0"/>
                  </a:lnTo>
                  <a:lnTo>
                    <a:pt x="859" y="10"/>
                  </a:lnTo>
                  <a:lnTo>
                    <a:pt x="1096" y="6"/>
                  </a:lnTo>
                  <a:lnTo>
                    <a:pt x="1444" y="10"/>
                  </a:lnTo>
                  <a:lnTo>
                    <a:pt x="1914" y="33"/>
                  </a:lnTo>
                  <a:lnTo>
                    <a:pt x="2235" y="21"/>
                  </a:lnTo>
                  <a:lnTo>
                    <a:pt x="2543" y="31"/>
                  </a:lnTo>
                  <a:lnTo>
                    <a:pt x="2807" y="37"/>
                  </a:lnTo>
                  <a:lnTo>
                    <a:pt x="3100" y="57"/>
                  </a:lnTo>
                  <a:lnTo>
                    <a:pt x="3408" y="67"/>
                  </a:lnTo>
                  <a:lnTo>
                    <a:pt x="3406" y="523"/>
                  </a:lnTo>
                  <a:lnTo>
                    <a:pt x="3418" y="871"/>
                  </a:lnTo>
                  <a:lnTo>
                    <a:pt x="3380" y="1268"/>
                  </a:lnTo>
                  <a:lnTo>
                    <a:pt x="3399" y="1852"/>
                  </a:lnTo>
                  <a:lnTo>
                    <a:pt x="3391" y="2181"/>
                  </a:lnTo>
                  <a:lnTo>
                    <a:pt x="2615" y="2162"/>
                  </a:lnTo>
                  <a:lnTo>
                    <a:pt x="1792" y="2192"/>
                  </a:lnTo>
                  <a:lnTo>
                    <a:pt x="1315" y="2158"/>
                  </a:lnTo>
                  <a:lnTo>
                    <a:pt x="872" y="2154"/>
                  </a:lnTo>
                  <a:lnTo>
                    <a:pt x="148" y="2198"/>
                  </a:lnTo>
                  <a:lnTo>
                    <a:pt x="0" y="2169"/>
                  </a:lnTo>
                  <a:lnTo>
                    <a:pt x="30" y="1656"/>
                  </a:lnTo>
                  <a:lnTo>
                    <a:pt x="32" y="1015"/>
                  </a:lnTo>
                  <a:lnTo>
                    <a:pt x="13" y="466"/>
                  </a:lnTo>
                  <a:lnTo>
                    <a:pt x="21" y="175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607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7080" y="4272840"/>
              <a:ext cx="2844000" cy="1804320"/>
            </a:xfrm>
            <a:custGeom>
              <a:avLst/>
              <a:gdLst/>
              <a:ahLst/>
              <a:rect l="l" t="t" r="r" b="b"/>
              <a:pathLst>
                <a:path w="3395" h="2165">
                  <a:moveTo>
                    <a:pt x="6" y="80"/>
                  </a:moveTo>
                  <a:lnTo>
                    <a:pt x="127" y="84"/>
                  </a:lnTo>
                  <a:lnTo>
                    <a:pt x="319" y="80"/>
                  </a:lnTo>
                  <a:lnTo>
                    <a:pt x="416" y="65"/>
                  </a:lnTo>
                  <a:lnTo>
                    <a:pt x="525" y="54"/>
                  </a:lnTo>
                  <a:lnTo>
                    <a:pt x="637" y="33"/>
                  </a:lnTo>
                  <a:lnTo>
                    <a:pt x="823" y="27"/>
                  </a:lnTo>
                  <a:lnTo>
                    <a:pt x="994" y="31"/>
                  </a:lnTo>
                  <a:lnTo>
                    <a:pt x="1133" y="23"/>
                  </a:lnTo>
                  <a:lnTo>
                    <a:pt x="1279" y="23"/>
                  </a:lnTo>
                  <a:lnTo>
                    <a:pt x="1374" y="33"/>
                  </a:lnTo>
                  <a:lnTo>
                    <a:pt x="1490" y="40"/>
                  </a:lnTo>
                  <a:lnTo>
                    <a:pt x="1616" y="57"/>
                  </a:lnTo>
                  <a:lnTo>
                    <a:pt x="1741" y="59"/>
                  </a:lnTo>
                  <a:lnTo>
                    <a:pt x="1834" y="57"/>
                  </a:lnTo>
                  <a:lnTo>
                    <a:pt x="1973" y="57"/>
                  </a:lnTo>
                  <a:lnTo>
                    <a:pt x="2099" y="59"/>
                  </a:lnTo>
                  <a:lnTo>
                    <a:pt x="2146" y="59"/>
                  </a:lnTo>
                  <a:lnTo>
                    <a:pt x="2224" y="63"/>
                  </a:lnTo>
                  <a:lnTo>
                    <a:pt x="2292" y="50"/>
                  </a:lnTo>
                  <a:lnTo>
                    <a:pt x="2334" y="31"/>
                  </a:lnTo>
                  <a:lnTo>
                    <a:pt x="2399" y="14"/>
                  </a:lnTo>
                  <a:lnTo>
                    <a:pt x="2475" y="0"/>
                  </a:lnTo>
                  <a:lnTo>
                    <a:pt x="2559" y="0"/>
                  </a:lnTo>
                  <a:lnTo>
                    <a:pt x="2707" y="36"/>
                  </a:lnTo>
                  <a:lnTo>
                    <a:pt x="2855" y="40"/>
                  </a:lnTo>
                  <a:lnTo>
                    <a:pt x="3026" y="42"/>
                  </a:lnTo>
                  <a:lnTo>
                    <a:pt x="3068" y="46"/>
                  </a:lnTo>
                  <a:lnTo>
                    <a:pt x="3186" y="63"/>
                  </a:lnTo>
                  <a:lnTo>
                    <a:pt x="3262" y="73"/>
                  </a:lnTo>
                  <a:lnTo>
                    <a:pt x="3370" y="84"/>
                  </a:lnTo>
                  <a:lnTo>
                    <a:pt x="3374" y="380"/>
                  </a:lnTo>
                  <a:lnTo>
                    <a:pt x="3395" y="707"/>
                  </a:lnTo>
                  <a:lnTo>
                    <a:pt x="3395" y="1032"/>
                  </a:lnTo>
                  <a:lnTo>
                    <a:pt x="3382" y="1430"/>
                  </a:lnTo>
                  <a:lnTo>
                    <a:pt x="3382" y="1836"/>
                  </a:lnTo>
                  <a:lnTo>
                    <a:pt x="3374" y="2142"/>
                  </a:lnTo>
                  <a:lnTo>
                    <a:pt x="3064" y="2165"/>
                  </a:lnTo>
                  <a:lnTo>
                    <a:pt x="2542" y="2148"/>
                  </a:lnTo>
                  <a:lnTo>
                    <a:pt x="2304" y="2152"/>
                  </a:lnTo>
                  <a:lnTo>
                    <a:pt x="1927" y="2142"/>
                  </a:lnTo>
                  <a:lnTo>
                    <a:pt x="1325" y="2127"/>
                  </a:lnTo>
                  <a:lnTo>
                    <a:pt x="739" y="2142"/>
                  </a:lnTo>
                  <a:lnTo>
                    <a:pt x="224" y="2142"/>
                  </a:lnTo>
                  <a:lnTo>
                    <a:pt x="51" y="2121"/>
                  </a:lnTo>
                  <a:lnTo>
                    <a:pt x="36" y="1971"/>
                  </a:lnTo>
                  <a:lnTo>
                    <a:pt x="23" y="1800"/>
                  </a:lnTo>
                  <a:lnTo>
                    <a:pt x="11" y="1532"/>
                  </a:lnTo>
                  <a:lnTo>
                    <a:pt x="6" y="1411"/>
                  </a:lnTo>
                  <a:lnTo>
                    <a:pt x="0" y="1029"/>
                  </a:lnTo>
                  <a:lnTo>
                    <a:pt x="2" y="563"/>
                  </a:lnTo>
                  <a:lnTo>
                    <a:pt x="6" y="80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536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8280" y="4297680"/>
              <a:ext cx="1344240" cy="843480"/>
            </a:xfrm>
            <a:custGeom>
              <a:avLst/>
              <a:gdLst/>
              <a:ahLst/>
              <a:rect l="l" t="t" r="r" b="b"/>
              <a:pathLst>
                <a:path w="1605" h="1011">
                  <a:moveTo>
                    <a:pt x="791" y="939"/>
                  </a:moveTo>
                  <a:lnTo>
                    <a:pt x="827" y="885"/>
                  </a:lnTo>
                  <a:lnTo>
                    <a:pt x="833" y="832"/>
                  </a:lnTo>
                  <a:lnTo>
                    <a:pt x="827" y="796"/>
                  </a:lnTo>
                  <a:lnTo>
                    <a:pt x="782" y="764"/>
                  </a:lnTo>
                  <a:lnTo>
                    <a:pt x="723" y="741"/>
                  </a:lnTo>
                  <a:lnTo>
                    <a:pt x="658" y="718"/>
                  </a:lnTo>
                  <a:lnTo>
                    <a:pt x="559" y="680"/>
                  </a:lnTo>
                  <a:lnTo>
                    <a:pt x="464" y="654"/>
                  </a:lnTo>
                  <a:lnTo>
                    <a:pt x="367" y="640"/>
                  </a:lnTo>
                  <a:lnTo>
                    <a:pt x="312" y="627"/>
                  </a:lnTo>
                  <a:lnTo>
                    <a:pt x="268" y="604"/>
                  </a:lnTo>
                  <a:lnTo>
                    <a:pt x="156" y="559"/>
                  </a:lnTo>
                  <a:lnTo>
                    <a:pt x="71" y="515"/>
                  </a:lnTo>
                  <a:lnTo>
                    <a:pt x="14" y="479"/>
                  </a:lnTo>
                  <a:lnTo>
                    <a:pt x="0" y="439"/>
                  </a:lnTo>
                  <a:lnTo>
                    <a:pt x="8" y="382"/>
                  </a:lnTo>
                  <a:lnTo>
                    <a:pt x="27" y="344"/>
                  </a:lnTo>
                  <a:lnTo>
                    <a:pt x="73" y="310"/>
                  </a:lnTo>
                  <a:lnTo>
                    <a:pt x="152" y="260"/>
                  </a:lnTo>
                  <a:lnTo>
                    <a:pt x="202" y="247"/>
                  </a:lnTo>
                  <a:lnTo>
                    <a:pt x="255" y="230"/>
                  </a:lnTo>
                  <a:lnTo>
                    <a:pt x="312" y="214"/>
                  </a:lnTo>
                  <a:lnTo>
                    <a:pt x="365" y="190"/>
                  </a:lnTo>
                  <a:lnTo>
                    <a:pt x="415" y="152"/>
                  </a:lnTo>
                  <a:lnTo>
                    <a:pt x="443" y="114"/>
                  </a:lnTo>
                  <a:lnTo>
                    <a:pt x="466" y="68"/>
                  </a:lnTo>
                  <a:lnTo>
                    <a:pt x="514" y="2"/>
                  </a:lnTo>
                  <a:lnTo>
                    <a:pt x="639" y="2"/>
                  </a:lnTo>
                  <a:lnTo>
                    <a:pt x="603" y="81"/>
                  </a:lnTo>
                  <a:lnTo>
                    <a:pt x="569" y="167"/>
                  </a:lnTo>
                  <a:lnTo>
                    <a:pt x="523" y="237"/>
                  </a:lnTo>
                  <a:lnTo>
                    <a:pt x="474" y="300"/>
                  </a:lnTo>
                  <a:lnTo>
                    <a:pt x="464" y="363"/>
                  </a:lnTo>
                  <a:lnTo>
                    <a:pt x="464" y="420"/>
                  </a:lnTo>
                  <a:lnTo>
                    <a:pt x="483" y="443"/>
                  </a:lnTo>
                  <a:lnTo>
                    <a:pt x="515" y="458"/>
                  </a:lnTo>
                  <a:lnTo>
                    <a:pt x="563" y="479"/>
                  </a:lnTo>
                  <a:lnTo>
                    <a:pt x="603" y="500"/>
                  </a:lnTo>
                  <a:lnTo>
                    <a:pt x="647" y="515"/>
                  </a:lnTo>
                  <a:lnTo>
                    <a:pt x="702" y="528"/>
                  </a:lnTo>
                  <a:lnTo>
                    <a:pt x="751" y="532"/>
                  </a:lnTo>
                  <a:lnTo>
                    <a:pt x="791" y="551"/>
                  </a:lnTo>
                  <a:lnTo>
                    <a:pt x="850" y="595"/>
                  </a:lnTo>
                  <a:lnTo>
                    <a:pt x="890" y="617"/>
                  </a:lnTo>
                  <a:lnTo>
                    <a:pt x="934" y="650"/>
                  </a:lnTo>
                  <a:lnTo>
                    <a:pt x="970" y="701"/>
                  </a:lnTo>
                  <a:lnTo>
                    <a:pt x="998" y="750"/>
                  </a:lnTo>
                  <a:lnTo>
                    <a:pt x="1017" y="796"/>
                  </a:lnTo>
                  <a:lnTo>
                    <a:pt x="1019" y="840"/>
                  </a:lnTo>
                  <a:lnTo>
                    <a:pt x="1046" y="809"/>
                  </a:lnTo>
                  <a:lnTo>
                    <a:pt x="1086" y="769"/>
                  </a:lnTo>
                  <a:lnTo>
                    <a:pt x="1139" y="718"/>
                  </a:lnTo>
                  <a:lnTo>
                    <a:pt x="1185" y="671"/>
                  </a:lnTo>
                  <a:lnTo>
                    <a:pt x="1221" y="608"/>
                  </a:lnTo>
                  <a:lnTo>
                    <a:pt x="1225" y="551"/>
                  </a:lnTo>
                  <a:lnTo>
                    <a:pt x="1217" y="511"/>
                  </a:lnTo>
                  <a:lnTo>
                    <a:pt x="1188" y="481"/>
                  </a:lnTo>
                  <a:lnTo>
                    <a:pt x="1135" y="462"/>
                  </a:lnTo>
                  <a:lnTo>
                    <a:pt x="1074" y="446"/>
                  </a:lnTo>
                  <a:lnTo>
                    <a:pt x="1025" y="425"/>
                  </a:lnTo>
                  <a:lnTo>
                    <a:pt x="953" y="393"/>
                  </a:lnTo>
                  <a:lnTo>
                    <a:pt x="913" y="348"/>
                  </a:lnTo>
                  <a:lnTo>
                    <a:pt x="911" y="283"/>
                  </a:lnTo>
                  <a:lnTo>
                    <a:pt x="917" y="180"/>
                  </a:lnTo>
                  <a:lnTo>
                    <a:pt x="934" y="121"/>
                  </a:lnTo>
                  <a:lnTo>
                    <a:pt x="960" y="72"/>
                  </a:lnTo>
                  <a:lnTo>
                    <a:pt x="979" y="42"/>
                  </a:lnTo>
                  <a:lnTo>
                    <a:pt x="991" y="5"/>
                  </a:lnTo>
                  <a:lnTo>
                    <a:pt x="1040" y="0"/>
                  </a:lnTo>
                  <a:lnTo>
                    <a:pt x="1095" y="9"/>
                  </a:lnTo>
                  <a:lnTo>
                    <a:pt x="1090" y="28"/>
                  </a:lnTo>
                  <a:lnTo>
                    <a:pt x="1067" y="76"/>
                  </a:lnTo>
                  <a:lnTo>
                    <a:pt x="1059" y="157"/>
                  </a:lnTo>
                  <a:lnTo>
                    <a:pt x="1059" y="194"/>
                  </a:lnTo>
                  <a:lnTo>
                    <a:pt x="1082" y="228"/>
                  </a:lnTo>
                  <a:lnTo>
                    <a:pt x="1112" y="273"/>
                  </a:lnTo>
                  <a:lnTo>
                    <a:pt x="1154" y="300"/>
                  </a:lnTo>
                  <a:lnTo>
                    <a:pt x="1202" y="313"/>
                  </a:lnTo>
                  <a:lnTo>
                    <a:pt x="1255" y="330"/>
                  </a:lnTo>
                  <a:lnTo>
                    <a:pt x="1293" y="336"/>
                  </a:lnTo>
                  <a:lnTo>
                    <a:pt x="1418" y="380"/>
                  </a:lnTo>
                  <a:lnTo>
                    <a:pt x="1489" y="412"/>
                  </a:lnTo>
                  <a:lnTo>
                    <a:pt x="1565" y="475"/>
                  </a:lnTo>
                  <a:lnTo>
                    <a:pt x="1595" y="511"/>
                  </a:lnTo>
                  <a:lnTo>
                    <a:pt x="1605" y="587"/>
                  </a:lnTo>
                  <a:lnTo>
                    <a:pt x="1601" y="612"/>
                  </a:lnTo>
                  <a:lnTo>
                    <a:pt x="1584" y="676"/>
                  </a:lnTo>
                  <a:lnTo>
                    <a:pt x="1555" y="724"/>
                  </a:lnTo>
                  <a:lnTo>
                    <a:pt x="1519" y="733"/>
                  </a:lnTo>
                  <a:lnTo>
                    <a:pt x="1479" y="787"/>
                  </a:lnTo>
                  <a:lnTo>
                    <a:pt x="1422" y="832"/>
                  </a:lnTo>
                  <a:lnTo>
                    <a:pt x="1369" y="872"/>
                  </a:lnTo>
                  <a:lnTo>
                    <a:pt x="1314" y="912"/>
                  </a:lnTo>
                  <a:lnTo>
                    <a:pt x="1266" y="946"/>
                  </a:lnTo>
                  <a:lnTo>
                    <a:pt x="1033" y="1011"/>
                  </a:lnTo>
                  <a:lnTo>
                    <a:pt x="791" y="939"/>
                  </a:lnTo>
                  <a:lnTo>
                    <a:pt x="791" y="93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0120" y="4310640"/>
              <a:ext cx="2337120" cy="1755000"/>
            </a:xfrm>
            <a:custGeom>
              <a:avLst/>
              <a:gdLst/>
              <a:ahLst/>
              <a:rect l="l" t="t" r="r" b="b"/>
              <a:pathLst>
                <a:path w="2790" h="2106">
                  <a:moveTo>
                    <a:pt x="80" y="2106"/>
                  </a:moveTo>
                  <a:lnTo>
                    <a:pt x="235" y="2102"/>
                  </a:lnTo>
                  <a:lnTo>
                    <a:pt x="386" y="2102"/>
                  </a:lnTo>
                  <a:lnTo>
                    <a:pt x="560" y="2093"/>
                  </a:lnTo>
                  <a:lnTo>
                    <a:pt x="775" y="2093"/>
                  </a:lnTo>
                  <a:lnTo>
                    <a:pt x="982" y="2089"/>
                  </a:lnTo>
                  <a:lnTo>
                    <a:pt x="992" y="2055"/>
                  </a:lnTo>
                  <a:lnTo>
                    <a:pt x="952" y="1996"/>
                  </a:lnTo>
                  <a:lnTo>
                    <a:pt x="922" y="1874"/>
                  </a:lnTo>
                  <a:lnTo>
                    <a:pt x="893" y="1773"/>
                  </a:lnTo>
                  <a:lnTo>
                    <a:pt x="895" y="1682"/>
                  </a:lnTo>
                  <a:lnTo>
                    <a:pt x="908" y="1570"/>
                  </a:lnTo>
                  <a:lnTo>
                    <a:pt x="958" y="1473"/>
                  </a:lnTo>
                  <a:lnTo>
                    <a:pt x="1059" y="1353"/>
                  </a:lnTo>
                  <a:lnTo>
                    <a:pt x="1078" y="1325"/>
                  </a:lnTo>
                  <a:lnTo>
                    <a:pt x="1123" y="1302"/>
                  </a:lnTo>
                  <a:lnTo>
                    <a:pt x="1211" y="1277"/>
                  </a:lnTo>
                  <a:lnTo>
                    <a:pt x="1275" y="1258"/>
                  </a:lnTo>
                  <a:lnTo>
                    <a:pt x="1342" y="1251"/>
                  </a:lnTo>
                  <a:lnTo>
                    <a:pt x="1431" y="1251"/>
                  </a:lnTo>
                  <a:lnTo>
                    <a:pt x="1498" y="1275"/>
                  </a:lnTo>
                  <a:lnTo>
                    <a:pt x="1574" y="1294"/>
                  </a:lnTo>
                  <a:lnTo>
                    <a:pt x="1633" y="1294"/>
                  </a:lnTo>
                  <a:lnTo>
                    <a:pt x="1731" y="1298"/>
                  </a:lnTo>
                  <a:lnTo>
                    <a:pt x="1828" y="1298"/>
                  </a:lnTo>
                  <a:lnTo>
                    <a:pt x="1923" y="1281"/>
                  </a:lnTo>
                  <a:lnTo>
                    <a:pt x="2000" y="1258"/>
                  </a:lnTo>
                  <a:lnTo>
                    <a:pt x="2076" y="1222"/>
                  </a:lnTo>
                  <a:lnTo>
                    <a:pt x="2136" y="1182"/>
                  </a:lnTo>
                  <a:lnTo>
                    <a:pt x="2174" y="1133"/>
                  </a:lnTo>
                  <a:lnTo>
                    <a:pt x="2214" y="1062"/>
                  </a:lnTo>
                  <a:lnTo>
                    <a:pt x="2218" y="986"/>
                  </a:lnTo>
                  <a:lnTo>
                    <a:pt x="2214" y="905"/>
                  </a:lnTo>
                  <a:lnTo>
                    <a:pt x="2192" y="794"/>
                  </a:lnTo>
                  <a:lnTo>
                    <a:pt x="2161" y="715"/>
                  </a:lnTo>
                  <a:lnTo>
                    <a:pt x="2161" y="633"/>
                  </a:lnTo>
                  <a:lnTo>
                    <a:pt x="2188" y="597"/>
                  </a:lnTo>
                  <a:lnTo>
                    <a:pt x="2235" y="572"/>
                  </a:lnTo>
                  <a:lnTo>
                    <a:pt x="2307" y="544"/>
                  </a:lnTo>
                  <a:lnTo>
                    <a:pt x="2439" y="540"/>
                  </a:lnTo>
                  <a:lnTo>
                    <a:pt x="2503" y="523"/>
                  </a:lnTo>
                  <a:lnTo>
                    <a:pt x="2589" y="473"/>
                  </a:lnTo>
                  <a:lnTo>
                    <a:pt x="2625" y="437"/>
                  </a:lnTo>
                  <a:lnTo>
                    <a:pt x="2661" y="393"/>
                  </a:lnTo>
                  <a:lnTo>
                    <a:pt x="2703" y="321"/>
                  </a:lnTo>
                  <a:lnTo>
                    <a:pt x="2729" y="255"/>
                  </a:lnTo>
                  <a:lnTo>
                    <a:pt x="2760" y="192"/>
                  </a:lnTo>
                  <a:lnTo>
                    <a:pt x="2769" y="116"/>
                  </a:lnTo>
                  <a:lnTo>
                    <a:pt x="2783" y="44"/>
                  </a:lnTo>
                  <a:lnTo>
                    <a:pt x="2790" y="13"/>
                  </a:lnTo>
                  <a:lnTo>
                    <a:pt x="2724" y="0"/>
                  </a:lnTo>
                  <a:lnTo>
                    <a:pt x="2722" y="44"/>
                  </a:lnTo>
                  <a:lnTo>
                    <a:pt x="2676" y="129"/>
                  </a:lnTo>
                  <a:lnTo>
                    <a:pt x="2642" y="192"/>
                  </a:lnTo>
                  <a:lnTo>
                    <a:pt x="2615" y="255"/>
                  </a:lnTo>
                  <a:lnTo>
                    <a:pt x="2570" y="302"/>
                  </a:lnTo>
                  <a:lnTo>
                    <a:pt x="2482" y="367"/>
                  </a:lnTo>
                  <a:lnTo>
                    <a:pt x="2420" y="397"/>
                  </a:lnTo>
                  <a:lnTo>
                    <a:pt x="2336" y="401"/>
                  </a:lnTo>
                  <a:lnTo>
                    <a:pt x="2186" y="405"/>
                  </a:lnTo>
                  <a:lnTo>
                    <a:pt x="2136" y="414"/>
                  </a:lnTo>
                  <a:lnTo>
                    <a:pt x="2072" y="443"/>
                  </a:lnTo>
                  <a:lnTo>
                    <a:pt x="2011" y="486"/>
                  </a:lnTo>
                  <a:lnTo>
                    <a:pt x="1988" y="517"/>
                  </a:lnTo>
                  <a:lnTo>
                    <a:pt x="1981" y="620"/>
                  </a:lnTo>
                  <a:lnTo>
                    <a:pt x="1954" y="730"/>
                  </a:lnTo>
                  <a:lnTo>
                    <a:pt x="1897" y="791"/>
                  </a:lnTo>
                  <a:lnTo>
                    <a:pt x="1811" y="831"/>
                  </a:lnTo>
                  <a:lnTo>
                    <a:pt x="1752" y="863"/>
                  </a:lnTo>
                  <a:lnTo>
                    <a:pt x="1600" y="893"/>
                  </a:lnTo>
                  <a:lnTo>
                    <a:pt x="1463" y="920"/>
                  </a:lnTo>
                  <a:lnTo>
                    <a:pt x="1395" y="927"/>
                  </a:lnTo>
                  <a:lnTo>
                    <a:pt x="1309" y="941"/>
                  </a:lnTo>
                  <a:lnTo>
                    <a:pt x="1311" y="931"/>
                  </a:lnTo>
                  <a:lnTo>
                    <a:pt x="859" y="914"/>
                  </a:lnTo>
                  <a:lnTo>
                    <a:pt x="779" y="964"/>
                  </a:lnTo>
                  <a:lnTo>
                    <a:pt x="751" y="1009"/>
                  </a:lnTo>
                  <a:lnTo>
                    <a:pt x="595" y="1116"/>
                  </a:lnTo>
                  <a:lnTo>
                    <a:pt x="363" y="1207"/>
                  </a:lnTo>
                  <a:lnTo>
                    <a:pt x="291" y="1245"/>
                  </a:lnTo>
                  <a:lnTo>
                    <a:pt x="214" y="1327"/>
                  </a:lnTo>
                  <a:lnTo>
                    <a:pt x="148" y="1378"/>
                  </a:lnTo>
                  <a:lnTo>
                    <a:pt x="95" y="1460"/>
                  </a:lnTo>
                  <a:lnTo>
                    <a:pt x="80" y="1532"/>
                  </a:lnTo>
                  <a:lnTo>
                    <a:pt x="40" y="1581"/>
                  </a:lnTo>
                  <a:lnTo>
                    <a:pt x="13" y="1684"/>
                  </a:lnTo>
                  <a:lnTo>
                    <a:pt x="0" y="1811"/>
                  </a:lnTo>
                  <a:lnTo>
                    <a:pt x="13" y="1899"/>
                  </a:lnTo>
                  <a:lnTo>
                    <a:pt x="49" y="2045"/>
                  </a:lnTo>
                  <a:lnTo>
                    <a:pt x="80" y="2106"/>
                  </a:lnTo>
                  <a:lnTo>
                    <a:pt x="80" y="210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36360" y="4698000"/>
              <a:ext cx="102960" cy="13284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40" y="159"/>
                  </a:moveTo>
                  <a:lnTo>
                    <a:pt x="32" y="133"/>
                  </a:lnTo>
                  <a:lnTo>
                    <a:pt x="24" y="108"/>
                  </a:lnTo>
                  <a:lnTo>
                    <a:pt x="9" y="97"/>
                  </a:lnTo>
                  <a:lnTo>
                    <a:pt x="0" y="76"/>
                  </a:lnTo>
                  <a:lnTo>
                    <a:pt x="0" y="49"/>
                  </a:lnTo>
                  <a:lnTo>
                    <a:pt x="17" y="17"/>
                  </a:lnTo>
                  <a:lnTo>
                    <a:pt x="32" y="0"/>
                  </a:lnTo>
                  <a:lnTo>
                    <a:pt x="70" y="2"/>
                  </a:lnTo>
                  <a:lnTo>
                    <a:pt x="93" y="9"/>
                  </a:lnTo>
                  <a:lnTo>
                    <a:pt x="108" y="26"/>
                  </a:lnTo>
                  <a:lnTo>
                    <a:pt x="123" y="45"/>
                  </a:lnTo>
                  <a:lnTo>
                    <a:pt x="123" y="70"/>
                  </a:lnTo>
                  <a:lnTo>
                    <a:pt x="112" y="85"/>
                  </a:lnTo>
                  <a:lnTo>
                    <a:pt x="102" y="108"/>
                  </a:lnTo>
                  <a:lnTo>
                    <a:pt x="100" y="129"/>
                  </a:lnTo>
                  <a:lnTo>
                    <a:pt x="97" y="148"/>
                  </a:lnTo>
                  <a:lnTo>
                    <a:pt x="62" y="156"/>
                  </a:lnTo>
                  <a:lnTo>
                    <a:pt x="40" y="159"/>
                  </a:lnTo>
                  <a:lnTo>
                    <a:pt x="40" y="159"/>
                  </a:lnTo>
                  <a:close/>
                </a:path>
              </a:pathLst>
            </a:custGeom>
            <a:solidFill>
              <a:srgbClr val="6b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6640" y="4679280"/>
              <a:ext cx="108360" cy="8424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0" y="66"/>
                  </a:moveTo>
                  <a:lnTo>
                    <a:pt x="27" y="61"/>
                  </a:lnTo>
                  <a:lnTo>
                    <a:pt x="46" y="38"/>
                  </a:lnTo>
                  <a:lnTo>
                    <a:pt x="63" y="21"/>
                  </a:lnTo>
                  <a:lnTo>
                    <a:pt x="86" y="4"/>
                  </a:lnTo>
                  <a:lnTo>
                    <a:pt x="116" y="0"/>
                  </a:lnTo>
                  <a:lnTo>
                    <a:pt x="131" y="21"/>
                  </a:lnTo>
                  <a:lnTo>
                    <a:pt x="108" y="38"/>
                  </a:lnTo>
                  <a:lnTo>
                    <a:pt x="95" y="53"/>
                  </a:lnTo>
                  <a:lnTo>
                    <a:pt x="99" y="64"/>
                  </a:lnTo>
                  <a:lnTo>
                    <a:pt x="108" y="64"/>
                  </a:lnTo>
                  <a:lnTo>
                    <a:pt x="125" y="64"/>
                  </a:lnTo>
                  <a:lnTo>
                    <a:pt x="116" y="74"/>
                  </a:lnTo>
                  <a:lnTo>
                    <a:pt x="95" y="74"/>
                  </a:lnTo>
                  <a:lnTo>
                    <a:pt x="76" y="83"/>
                  </a:lnTo>
                  <a:lnTo>
                    <a:pt x="53" y="93"/>
                  </a:lnTo>
                  <a:lnTo>
                    <a:pt x="27" y="101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6840" y="5141160"/>
              <a:ext cx="59400" cy="7992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40" y="0"/>
                  </a:moveTo>
                  <a:lnTo>
                    <a:pt x="31" y="17"/>
                  </a:lnTo>
                  <a:lnTo>
                    <a:pt x="14" y="26"/>
                  </a:lnTo>
                  <a:lnTo>
                    <a:pt x="0" y="44"/>
                  </a:lnTo>
                  <a:lnTo>
                    <a:pt x="6" y="53"/>
                  </a:lnTo>
                  <a:lnTo>
                    <a:pt x="27" y="40"/>
                  </a:lnTo>
                  <a:lnTo>
                    <a:pt x="23" y="53"/>
                  </a:lnTo>
                  <a:lnTo>
                    <a:pt x="14" y="63"/>
                  </a:lnTo>
                  <a:lnTo>
                    <a:pt x="14" y="74"/>
                  </a:lnTo>
                  <a:lnTo>
                    <a:pt x="23" y="97"/>
                  </a:lnTo>
                  <a:lnTo>
                    <a:pt x="44" y="85"/>
                  </a:lnTo>
                  <a:lnTo>
                    <a:pt x="59" y="63"/>
                  </a:lnTo>
                  <a:lnTo>
                    <a:pt x="71" y="30"/>
                  </a:lnTo>
                  <a:lnTo>
                    <a:pt x="71" y="1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75680" y="5557320"/>
              <a:ext cx="93240" cy="6696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4" y="7"/>
                  </a:moveTo>
                  <a:lnTo>
                    <a:pt x="0" y="43"/>
                  </a:lnTo>
                  <a:lnTo>
                    <a:pt x="0" y="76"/>
                  </a:lnTo>
                  <a:lnTo>
                    <a:pt x="40" y="80"/>
                  </a:lnTo>
                  <a:lnTo>
                    <a:pt x="97" y="70"/>
                  </a:lnTo>
                  <a:lnTo>
                    <a:pt x="112" y="53"/>
                  </a:lnTo>
                  <a:lnTo>
                    <a:pt x="112" y="32"/>
                  </a:lnTo>
                  <a:lnTo>
                    <a:pt x="89" y="32"/>
                  </a:lnTo>
                  <a:lnTo>
                    <a:pt x="76" y="30"/>
                  </a:lnTo>
                  <a:lnTo>
                    <a:pt x="57" y="30"/>
                  </a:lnTo>
                  <a:lnTo>
                    <a:pt x="46" y="21"/>
                  </a:lnTo>
                  <a:lnTo>
                    <a:pt x="44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36360" y="5601600"/>
              <a:ext cx="96480" cy="62640"/>
            </a:xfrm>
            <a:custGeom>
              <a:avLst/>
              <a:gdLst/>
              <a:ahLst/>
              <a:rect l="l" t="t" r="r" b="b"/>
              <a:pathLst>
                <a:path w="116" h="76">
                  <a:moveTo>
                    <a:pt x="0" y="9"/>
                  </a:moveTo>
                  <a:lnTo>
                    <a:pt x="0" y="47"/>
                  </a:lnTo>
                  <a:lnTo>
                    <a:pt x="0" y="76"/>
                  </a:lnTo>
                  <a:lnTo>
                    <a:pt x="24" y="74"/>
                  </a:lnTo>
                  <a:lnTo>
                    <a:pt x="47" y="70"/>
                  </a:lnTo>
                  <a:lnTo>
                    <a:pt x="70" y="59"/>
                  </a:lnTo>
                  <a:lnTo>
                    <a:pt x="93" y="47"/>
                  </a:lnTo>
                  <a:lnTo>
                    <a:pt x="108" y="40"/>
                  </a:lnTo>
                  <a:lnTo>
                    <a:pt x="116" y="23"/>
                  </a:lnTo>
                  <a:lnTo>
                    <a:pt x="108" y="9"/>
                  </a:lnTo>
                  <a:lnTo>
                    <a:pt x="80" y="9"/>
                  </a:lnTo>
                  <a:lnTo>
                    <a:pt x="57" y="17"/>
                  </a:lnTo>
                  <a:lnTo>
                    <a:pt x="36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05760" y="5133600"/>
              <a:ext cx="252000" cy="478800"/>
            </a:xfrm>
            <a:custGeom>
              <a:avLst/>
              <a:gdLst/>
              <a:ahLst/>
              <a:rect l="l" t="t" r="r" b="b"/>
              <a:pathLst>
                <a:path w="298" h="576">
                  <a:moveTo>
                    <a:pt x="7" y="10"/>
                  </a:moveTo>
                  <a:lnTo>
                    <a:pt x="60" y="4"/>
                  </a:lnTo>
                  <a:lnTo>
                    <a:pt x="110" y="0"/>
                  </a:lnTo>
                  <a:lnTo>
                    <a:pt x="165" y="0"/>
                  </a:lnTo>
                  <a:lnTo>
                    <a:pt x="192" y="8"/>
                  </a:lnTo>
                  <a:lnTo>
                    <a:pt x="192" y="54"/>
                  </a:lnTo>
                  <a:lnTo>
                    <a:pt x="205" y="99"/>
                  </a:lnTo>
                  <a:lnTo>
                    <a:pt x="228" y="130"/>
                  </a:lnTo>
                  <a:lnTo>
                    <a:pt x="258" y="170"/>
                  </a:lnTo>
                  <a:lnTo>
                    <a:pt x="273" y="213"/>
                  </a:lnTo>
                  <a:lnTo>
                    <a:pt x="290" y="251"/>
                  </a:lnTo>
                  <a:lnTo>
                    <a:pt x="298" y="291"/>
                  </a:lnTo>
                  <a:lnTo>
                    <a:pt x="290" y="341"/>
                  </a:lnTo>
                  <a:lnTo>
                    <a:pt x="281" y="407"/>
                  </a:lnTo>
                  <a:lnTo>
                    <a:pt x="268" y="460"/>
                  </a:lnTo>
                  <a:lnTo>
                    <a:pt x="264" y="504"/>
                  </a:lnTo>
                  <a:lnTo>
                    <a:pt x="228" y="514"/>
                  </a:lnTo>
                  <a:lnTo>
                    <a:pt x="192" y="517"/>
                  </a:lnTo>
                  <a:lnTo>
                    <a:pt x="197" y="491"/>
                  </a:lnTo>
                  <a:lnTo>
                    <a:pt x="201" y="466"/>
                  </a:lnTo>
                  <a:lnTo>
                    <a:pt x="209" y="432"/>
                  </a:lnTo>
                  <a:lnTo>
                    <a:pt x="211" y="394"/>
                  </a:lnTo>
                  <a:lnTo>
                    <a:pt x="218" y="361"/>
                  </a:lnTo>
                  <a:lnTo>
                    <a:pt x="224" y="322"/>
                  </a:lnTo>
                  <a:lnTo>
                    <a:pt x="220" y="299"/>
                  </a:lnTo>
                  <a:lnTo>
                    <a:pt x="193" y="265"/>
                  </a:lnTo>
                  <a:lnTo>
                    <a:pt x="169" y="236"/>
                  </a:lnTo>
                  <a:lnTo>
                    <a:pt x="155" y="215"/>
                  </a:lnTo>
                  <a:lnTo>
                    <a:pt x="133" y="190"/>
                  </a:lnTo>
                  <a:lnTo>
                    <a:pt x="125" y="225"/>
                  </a:lnTo>
                  <a:lnTo>
                    <a:pt x="129" y="268"/>
                  </a:lnTo>
                  <a:lnTo>
                    <a:pt x="116" y="308"/>
                  </a:lnTo>
                  <a:lnTo>
                    <a:pt x="106" y="367"/>
                  </a:lnTo>
                  <a:lnTo>
                    <a:pt x="102" y="417"/>
                  </a:lnTo>
                  <a:lnTo>
                    <a:pt x="98" y="451"/>
                  </a:lnTo>
                  <a:lnTo>
                    <a:pt x="87" y="485"/>
                  </a:lnTo>
                  <a:lnTo>
                    <a:pt x="93" y="519"/>
                  </a:lnTo>
                  <a:lnTo>
                    <a:pt x="95" y="557"/>
                  </a:lnTo>
                  <a:lnTo>
                    <a:pt x="43" y="572"/>
                  </a:lnTo>
                  <a:lnTo>
                    <a:pt x="3" y="576"/>
                  </a:lnTo>
                  <a:lnTo>
                    <a:pt x="13" y="500"/>
                  </a:lnTo>
                  <a:lnTo>
                    <a:pt x="30" y="398"/>
                  </a:lnTo>
                  <a:lnTo>
                    <a:pt x="22" y="285"/>
                  </a:lnTo>
                  <a:lnTo>
                    <a:pt x="36" y="213"/>
                  </a:lnTo>
                  <a:lnTo>
                    <a:pt x="3" y="126"/>
                  </a:lnTo>
                  <a:lnTo>
                    <a:pt x="0" y="44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3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8960" y="4735440"/>
              <a:ext cx="429480" cy="425880"/>
            </a:xfrm>
            <a:custGeom>
              <a:avLst/>
              <a:gdLst/>
              <a:ahLst/>
              <a:rect l="l" t="t" r="r" b="b"/>
              <a:pathLst>
                <a:path w="513" h="512">
                  <a:moveTo>
                    <a:pt x="72" y="0"/>
                  </a:moveTo>
                  <a:lnTo>
                    <a:pt x="93" y="21"/>
                  </a:lnTo>
                  <a:lnTo>
                    <a:pt x="126" y="44"/>
                  </a:lnTo>
                  <a:lnTo>
                    <a:pt x="110" y="71"/>
                  </a:lnTo>
                  <a:lnTo>
                    <a:pt x="99" y="90"/>
                  </a:lnTo>
                  <a:lnTo>
                    <a:pt x="80" y="101"/>
                  </a:lnTo>
                  <a:lnTo>
                    <a:pt x="80" y="116"/>
                  </a:lnTo>
                  <a:lnTo>
                    <a:pt x="103" y="130"/>
                  </a:lnTo>
                  <a:lnTo>
                    <a:pt x="139" y="133"/>
                  </a:lnTo>
                  <a:lnTo>
                    <a:pt x="169" y="141"/>
                  </a:lnTo>
                  <a:lnTo>
                    <a:pt x="219" y="143"/>
                  </a:lnTo>
                  <a:lnTo>
                    <a:pt x="245" y="120"/>
                  </a:lnTo>
                  <a:lnTo>
                    <a:pt x="268" y="114"/>
                  </a:lnTo>
                  <a:lnTo>
                    <a:pt x="299" y="103"/>
                  </a:lnTo>
                  <a:lnTo>
                    <a:pt x="304" y="147"/>
                  </a:lnTo>
                  <a:lnTo>
                    <a:pt x="331" y="168"/>
                  </a:lnTo>
                  <a:lnTo>
                    <a:pt x="380" y="196"/>
                  </a:lnTo>
                  <a:lnTo>
                    <a:pt x="420" y="223"/>
                  </a:lnTo>
                  <a:lnTo>
                    <a:pt x="453" y="259"/>
                  </a:lnTo>
                  <a:lnTo>
                    <a:pt x="474" y="304"/>
                  </a:lnTo>
                  <a:lnTo>
                    <a:pt x="506" y="335"/>
                  </a:lnTo>
                  <a:lnTo>
                    <a:pt x="513" y="379"/>
                  </a:lnTo>
                  <a:lnTo>
                    <a:pt x="500" y="411"/>
                  </a:lnTo>
                  <a:lnTo>
                    <a:pt x="487" y="460"/>
                  </a:lnTo>
                  <a:lnTo>
                    <a:pt x="470" y="485"/>
                  </a:lnTo>
                  <a:lnTo>
                    <a:pt x="466" y="512"/>
                  </a:lnTo>
                  <a:lnTo>
                    <a:pt x="437" y="494"/>
                  </a:lnTo>
                  <a:lnTo>
                    <a:pt x="407" y="481"/>
                  </a:lnTo>
                  <a:lnTo>
                    <a:pt x="428" y="455"/>
                  </a:lnTo>
                  <a:lnTo>
                    <a:pt x="447" y="418"/>
                  </a:lnTo>
                  <a:lnTo>
                    <a:pt x="451" y="392"/>
                  </a:lnTo>
                  <a:lnTo>
                    <a:pt x="434" y="371"/>
                  </a:lnTo>
                  <a:lnTo>
                    <a:pt x="411" y="358"/>
                  </a:lnTo>
                  <a:lnTo>
                    <a:pt x="384" y="335"/>
                  </a:lnTo>
                  <a:lnTo>
                    <a:pt x="384" y="358"/>
                  </a:lnTo>
                  <a:lnTo>
                    <a:pt x="377" y="407"/>
                  </a:lnTo>
                  <a:lnTo>
                    <a:pt x="363" y="455"/>
                  </a:lnTo>
                  <a:lnTo>
                    <a:pt x="354" y="481"/>
                  </a:lnTo>
                  <a:lnTo>
                    <a:pt x="287" y="477"/>
                  </a:lnTo>
                  <a:lnTo>
                    <a:pt x="238" y="481"/>
                  </a:lnTo>
                  <a:lnTo>
                    <a:pt x="173" y="485"/>
                  </a:lnTo>
                  <a:lnTo>
                    <a:pt x="175" y="447"/>
                  </a:lnTo>
                  <a:lnTo>
                    <a:pt x="160" y="401"/>
                  </a:lnTo>
                  <a:lnTo>
                    <a:pt x="143" y="365"/>
                  </a:lnTo>
                  <a:lnTo>
                    <a:pt x="126" y="299"/>
                  </a:lnTo>
                  <a:lnTo>
                    <a:pt x="86" y="259"/>
                  </a:lnTo>
                  <a:lnTo>
                    <a:pt x="23" y="236"/>
                  </a:lnTo>
                  <a:lnTo>
                    <a:pt x="0" y="173"/>
                  </a:lnTo>
                  <a:lnTo>
                    <a:pt x="8" y="116"/>
                  </a:lnTo>
                  <a:lnTo>
                    <a:pt x="8" y="67"/>
                  </a:lnTo>
                  <a:lnTo>
                    <a:pt x="19" y="35"/>
                  </a:lnTo>
                  <a:lnTo>
                    <a:pt x="57" y="4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800" y="4719240"/>
              <a:ext cx="168840" cy="421560"/>
            </a:xfrm>
            <a:custGeom>
              <a:avLst/>
              <a:gdLst/>
              <a:ahLst/>
              <a:rect l="l" t="t" r="r" b="b"/>
              <a:pathLst>
                <a:path w="201" h="506">
                  <a:moveTo>
                    <a:pt x="82" y="0"/>
                  </a:moveTo>
                  <a:lnTo>
                    <a:pt x="59" y="23"/>
                  </a:lnTo>
                  <a:lnTo>
                    <a:pt x="44" y="36"/>
                  </a:lnTo>
                  <a:lnTo>
                    <a:pt x="26" y="59"/>
                  </a:lnTo>
                  <a:lnTo>
                    <a:pt x="17" y="82"/>
                  </a:lnTo>
                  <a:lnTo>
                    <a:pt x="6" y="103"/>
                  </a:lnTo>
                  <a:lnTo>
                    <a:pt x="4" y="122"/>
                  </a:lnTo>
                  <a:lnTo>
                    <a:pt x="4" y="152"/>
                  </a:lnTo>
                  <a:lnTo>
                    <a:pt x="0" y="179"/>
                  </a:lnTo>
                  <a:lnTo>
                    <a:pt x="6" y="213"/>
                  </a:lnTo>
                  <a:lnTo>
                    <a:pt x="26" y="242"/>
                  </a:lnTo>
                  <a:lnTo>
                    <a:pt x="30" y="259"/>
                  </a:lnTo>
                  <a:lnTo>
                    <a:pt x="66" y="270"/>
                  </a:lnTo>
                  <a:lnTo>
                    <a:pt x="89" y="285"/>
                  </a:lnTo>
                  <a:lnTo>
                    <a:pt x="106" y="297"/>
                  </a:lnTo>
                  <a:lnTo>
                    <a:pt x="116" y="312"/>
                  </a:lnTo>
                  <a:lnTo>
                    <a:pt x="133" y="323"/>
                  </a:lnTo>
                  <a:lnTo>
                    <a:pt x="135" y="339"/>
                  </a:lnTo>
                  <a:lnTo>
                    <a:pt x="142" y="361"/>
                  </a:lnTo>
                  <a:lnTo>
                    <a:pt x="146" y="380"/>
                  </a:lnTo>
                  <a:lnTo>
                    <a:pt x="152" y="399"/>
                  </a:lnTo>
                  <a:lnTo>
                    <a:pt x="161" y="424"/>
                  </a:lnTo>
                  <a:lnTo>
                    <a:pt x="173" y="441"/>
                  </a:lnTo>
                  <a:lnTo>
                    <a:pt x="179" y="456"/>
                  </a:lnTo>
                  <a:lnTo>
                    <a:pt x="179" y="474"/>
                  </a:lnTo>
                  <a:lnTo>
                    <a:pt x="173" y="500"/>
                  </a:lnTo>
                  <a:lnTo>
                    <a:pt x="198" y="506"/>
                  </a:lnTo>
                  <a:lnTo>
                    <a:pt x="201" y="487"/>
                  </a:lnTo>
                  <a:lnTo>
                    <a:pt x="198" y="464"/>
                  </a:lnTo>
                  <a:lnTo>
                    <a:pt x="192" y="447"/>
                  </a:lnTo>
                  <a:lnTo>
                    <a:pt x="186" y="426"/>
                  </a:lnTo>
                  <a:lnTo>
                    <a:pt x="175" y="415"/>
                  </a:lnTo>
                  <a:lnTo>
                    <a:pt x="169" y="398"/>
                  </a:lnTo>
                  <a:lnTo>
                    <a:pt x="161" y="388"/>
                  </a:lnTo>
                  <a:lnTo>
                    <a:pt x="160" y="373"/>
                  </a:lnTo>
                  <a:lnTo>
                    <a:pt x="160" y="365"/>
                  </a:lnTo>
                  <a:lnTo>
                    <a:pt x="152" y="346"/>
                  </a:lnTo>
                  <a:lnTo>
                    <a:pt x="148" y="331"/>
                  </a:lnTo>
                  <a:lnTo>
                    <a:pt x="152" y="318"/>
                  </a:lnTo>
                  <a:lnTo>
                    <a:pt x="146" y="304"/>
                  </a:lnTo>
                  <a:lnTo>
                    <a:pt x="129" y="295"/>
                  </a:lnTo>
                  <a:lnTo>
                    <a:pt x="123" y="291"/>
                  </a:lnTo>
                  <a:lnTo>
                    <a:pt x="116" y="285"/>
                  </a:lnTo>
                  <a:lnTo>
                    <a:pt x="99" y="268"/>
                  </a:lnTo>
                  <a:lnTo>
                    <a:pt x="80" y="259"/>
                  </a:lnTo>
                  <a:lnTo>
                    <a:pt x="49" y="251"/>
                  </a:lnTo>
                  <a:lnTo>
                    <a:pt x="40" y="240"/>
                  </a:lnTo>
                  <a:lnTo>
                    <a:pt x="30" y="221"/>
                  </a:lnTo>
                  <a:lnTo>
                    <a:pt x="23" y="206"/>
                  </a:lnTo>
                  <a:lnTo>
                    <a:pt x="23" y="175"/>
                  </a:lnTo>
                  <a:lnTo>
                    <a:pt x="23" y="143"/>
                  </a:lnTo>
                  <a:lnTo>
                    <a:pt x="23" y="120"/>
                  </a:lnTo>
                  <a:lnTo>
                    <a:pt x="32" y="95"/>
                  </a:lnTo>
                  <a:lnTo>
                    <a:pt x="36" y="76"/>
                  </a:lnTo>
                  <a:lnTo>
                    <a:pt x="49" y="55"/>
                  </a:lnTo>
                  <a:lnTo>
                    <a:pt x="63" y="46"/>
                  </a:lnTo>
                  <a:lnTo>
                    <a:pt x="72" y="33"/>
                  </a:lnTo>
                  <a:lnTo>
                    <a:pt x="89" y="2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4960" y="4719240"/>
              <a:ext cx="76680" cy="164160"/>
            </a:xfrm>
            <a:custGeom>
              <a:avLst/>
              <a:gdLst/>
              <a:ahLst/>
              <a:rect l="l" t="t" r="r" b="b"/>
              <a:pathLst>
                <a:path w="93" h="198">
                  <a:moveTo>
                    <a:pt x="27" y="0"/>
                  </a:moveTo>
                  <a:lnTo>
                    <a:pt x="44" y="14"/>
                  </a:lnTo>
                  <a:lnTo>
                    <a:pt x="57" y="29"/>
                  </a:lnTo>
                  <a:lnTo>
                    <a:pt x="61" y="40"/>
                  </a:lnTo>
                  <a:lnTo>
                    <a:pt x="70" y="44"/>
                  </a:lnTo>
                  <a:lnTo>
                    <a:pt x="78" y="54"/>
                  </a:lnTo>
                  <a:lnTo>
                    <a:pt x="91" y="54"/>
                  </a:lnTo>
                  <a:lnTo>
                    <a:pt x="93" y="55"/>
                  </a:lnTo>
                  <a:lnTo>
                    <a:pt x="91" y="71"/>
                  </a:lnTo>
                  <a:lnTo>
                    <a:pt x="84" y="80"/>
                  </a:lnTo>
                  <a:lnTo>
                    <a:pt x="80" y="90"/>
                  </a:lnTo>
                  <a:lnTo>
                    <a:pt x="74" y="99"/>
                  </a:lnTo>
                  <a:lnTo>
                    <a:pt x="70" y="109"/>
                  </a:lnTo>
                  <a:lnTo>
                    <a:pt x="61" y="116"/>
                  </a:lnTo>
                  <a:lnTo>
                    <a:pt x="44" y="126"/>
                  </a:lnTo>
                  <a:lnTo>
                    <a:pt x="44" y="145"/>
                  </a:lnTo>
                  <a:lnTo>
                    <a:pt x="42" y="166"/>
                  </a:lnTo>
                  <a:lnTo>
                    <a:pt x="17" y="175"/>
                  </a:lnTo>
                  <a:lnTo>
                    <a:pt x="0" y="198"/>
                  </a:lnTo>
                  <a:lnTo>
                    <a:pt x="8" y="160"/>
                  </a:lnTo>
                  <a:lnTo>
                    <a:pt x="27" y="149"/>
                  </a:lnTo>
                  <a:lnTo>
                    <a:pt x="27" y="130"/>
                  </a:lnTo>
                  <a:lnTo>
                    <a:pt x="25" y="112"/>
                  </a:lnTo>
                  <a:lnTo>
                    <a:pt x="42" y="109"/>
                  </a:lnTo>
                  <a:lnTo>
                    <a:pt x="53" y="95"/>
                  </a:lnTo>
                  <a:lnTo>
                    <a:pt x="68" y="80"/>
                  </a:lnTo>
                  <a:lnTo>
                    <a:pt x="78" y="63"/>
                  </a:lnTo>
                  <a:lnTo>
                    <a:pt x="65" y="59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27" y="29"/>
                  </a:lnTo>
                  <a:lnTo>
                    <a:pt x="25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7720" y="4830840"/>
              <a:ext cx="141480" cy="32040"/>
            </a:xfrm>
            <a:custGeom>
              <a:avLst/>
              <a:gdLst/>
              <a:ahLst/>
              <a:rect l="l" t="t" r="r" b="b"/>
              <a:pathLst>
                <a:path w="169" h="38">
                  <a:moveTo>
                    <a:pt x="2" y="0"/>
                  </a:moveTo>
                  <a:lnTo>
                    <a:pt x="19" y="12"/>
                  </a:lnTo>
                  <a:lnTo>
                    <a:pt x="42" y="12"/>
                  </a:lnTo>
                  <a:lnTo>
                    <a:pt x="63" y="12"/>
                  </a:lnTo>
                  <a:lnTo>
                    <a:pt x="76" y="16"/>
                  </a:lnTo>
                  <a:lnTo>
                    <a:pt x="91" y="23"/>
                  </a:lnTo>
                  <a:lnTo>
                    <a:pt x="121" y="23"/>
                  </a:lnTo>
                  <a:lnTo>
                    <a:pt x="142" y="19"/>
                  </a:lnTo>
                  <a:lnTo>
                    <a:pt x="148" y="6"/>
                  </a:lnTo>
                  <a:lnTo>
                    <a:pt x="169" y="6"/>
                  </a:lnTo>
                  <a:lnTo>
                    <a:pt x="161" y="27"/>
                  </a:lnTo>
                  <a:lnTo>
                    <a:pt x="148" y="36"/>
                  </a:lnTo>
                  <a:lnTo>
                    <a:pt x="135" y="38"/>
                  </a:lnTo>
                  <a:lnTo>
                    <a:pt x="112" y="36"/>
                  </a:lnTo>
                  <a:lnTo>
                    <a:pt x="85" y="36"/>
                  </a:lnTo>
                  <a:lnTo>
                    <a:pt x="72" y="33"/>
                  </a:lnTo>
                  <a:lnTo>
                    <a:pt x="55" y="27"/>
                  </a:lnTo>
                  <a:lnTo>
                    <a:pt x="42" y="27"/>
                  </a:lnTo>
                  <a:lnTo>
                    <a:pt x="28" y="23"/>
                  </a:lnTo>
                  <a:lnTo>
                    <a:pt x="11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64080" y="4816800"/>
              <a:ext cx="243360" cy="352080"/>
            </a:xfrm>
            <a:custGeom>
              <a:avLst/>
              <a:gdLst/>
              <a:ahLst/>
              <a:rect l="l" t="t" r="r" b="b"/>
              <a:pathLst>
                <a:path w="293" h="424">
                  <a:moveTo>
                    <a:pt x="0" y="23"/>
                  </a:moveTo>
                  <a:lnTo>
                    <a:pt x="0" y="14"/>
                  </a:lnTo>
                  <a:lnTo>
                    <a:pt x="10" y="10"/>
                  </a:lnTo>
                  <a:lnTo>
                    <a:pt x="21" y="10"/>
                  </a:lnTo>
                  <a:lnTo>
                    <a:pt x="36" y="6"/>
                  </a:lnTo>
                  <a:lnTo>
                    <a:pt x="50" y="6"/>
                  </a:lnTo>
                  <a:lnTo>
                    <a:pt x="67" y="0"/>
                  </a:lnTo>
                  <a:lnTo>
                    <a:pt x="72" y="4"/>
                  </a:lnTo>
                  <a:lnTo>
                    <a:pt x="72" y="19"/>
                  </a:lnTo>
                  <a:lnTo>
                    <a:pt x="76" y="33"/>
                  </a:lnTo>
                  <a:lnTo>
                    <a:pt x="78" y="46"/>
                  </a:lnTo>
                  <a:lnTo>
                    <a:pt x="86" y="53"/>
                  </a:lnTo>
                  <a:lnTo>
                    <a:pt x="95" y="55"/>
                  </a:lnTo>
                  <a:lnTo>
                    <a:pt x="105" y="63"/>
                  </a:lnTo>
                  <a:lnTo>
                    <a:pt x="120" y="72"/>
                  </a:lnTo>
                  <a:lnTo>
                    <a:pt x="135" y="86"/>
                  </a:lnTo>
                  <a:lnTo>
                    <a:pt x="145" y="90"/>
                  </a:lnTo>
                  <a:lnTo>
                    <a:pt x="165" y="99"/>
                  </a:lnTo>
                  <a:lnTo>
                    <a:pt x="179" y="116"/>
                  </a:lnTo>
                  <a:lnTo>
                    <a:pt x="196" y="126"/>
                  </a:lnTo>
                  <a:lnTo>
                    <a:pt x="205" y="135"/>
                  </a:lnTo>
                  <a:lnTo>
                    <a:pt x="224" y="147"/>
                  </a:lnTo>
                  <a:lnTo>
                    <a:pt x="238" y="179"/>
                  </a:lnTo>
                  <a:lnTo>
                    <a:pt x="245" y="192"/>
                  </a:lnTo>
                  <a:lnTo>
                    <a:pt x="259" y="207"/>
                  </a:lnTo>
                  <a:lnTo>
                    <a:pt x="278" y="230"/>
                  </a:lnTo>
                  <a:lnTo>
                    <a:pt x="287" y="251"/>
                  </a:lnTo>
                  <a:lnTo>
                    <a:pt x="293" y="282"/>
                  </a:lnTo>
                  <a:lnTo>
                    <a:pt x="281" y="308"/>
                  </a:lnTo>
                  <a:lnTo>
                    <a:pt x="268" y="340"/>
                  </a:lnTo>
                  <a:lnTo>
                    <a:pt x="261" y="371"/>
                  </a:lnTo>
                  <a:lnTo>
                    <a:pt x="245" y="390"/>
                  </a:lnTo>
                  <a:lnTo>
                    <a:pt x="242" y="424"/>
                  </a:lnTo>
                  <a:lnTo>
                    <a:pt x="224" y="415"/>
                  </a:lnTo>
                  <a:lnTo>
                    <a:pt x="196" y="399"/>
                  </a:lnTo>
                  <a:lnTo>
                    <a:pt x="184" y="394"/>
                  </a:lnTo>
                  <a:lnTo>
                    <a:pt x="165" y="388"/>
                  </a:lnTo>
                  <a:lnTo>
                    <a:pt x="181" y="367"/>
                  </a:lnTo>
                  <a:lnTo>
                    <a:pt x="188" y="348"/>
                  </a:lnTo>
                  <a:lnTo>
                    <a:pt x="207" y="325"/>
                  </a:lnTo>
                  <a:lnTo>
                    <a:pt x="211" y="295"/>
                  </a:lnTo>
                  <a:lnTo>
                    <a:pt x="196" y="282"/>
                  </a:lnTo>
                  <a:lnTo>
                    <a:pt x="165" y="261"/>
                  </a:lnTo>
                  <a:lnTo>
                    <a:pt x="145" y="245"/>
                  </a:lnTo>
                  <a:lnTo>
                    <a:pt x="139" y="230"/>
                  </a:lnTo>
                  <a:lnTo>
                    <a:pt x="122" y="196"/>
                  </a:lnTo>
                  <a:lnTo>
                    <a:pt x="152" y="223"/>
                  </a:lnTo>
                  <a:lnTo>
                    <a:pt x="169" y="238"/>
                  </a:lnTo>
                  <a:lnTo>
                    <a:pt x="181" y="255"/>
                  </a:lnTo>
                  <a:lnTo>
                    <a:pt x="198" y="268"/>
                  </a:lnTo>
                  <a:lnTo>
                    <a:pt x="219" y="278"/>
                  </a:lnTo>
                  <a:lnTo>
                    <a:pt x="228" y="299"/>
                  </a:lnTo>
                  <a:lnTo>
                    <a:pt x="219" y="325"/>
                  </a:lnTo>
                  <a:lnTo>
                    <a:pt x="207" y="344"/>
                  </a:lnTo>
                  <a:lnTo>
                    <a:pt x="202" y="367"/>
                  </a:lnTo>
                  <a:lnTo>
                    <a:pt x="188" y="384"/>
                  </a:lnTo>
                  <a:lnTo>
                    <a:pt x="202" y="390"/>
                  </a:lnTo>
                  <a:lnTo>
                    <a:pt x="221" y="394"/>
                  </a:lnTo>
                  <a:lnTo>
                    <a:pt x="232" y="403"/>
                  </a:lnTo>
                  <a:lnTo>
                    <a:pt x="238" y="380"/>
                  </a:lnTo>
                  <a:lnTo>
                    <a:pt x="247" y="367"/>
                  </a:lnTo>
                  <a:lnTo>
                    <a:pt x="259" y="344"/>
                  </a:lnTo>
                  <a:lnTo>
                    <a:pt x="264" y="318"/>
                  </a:lnTo>
                  <a:lnTo>
                    <a:pt x="274" y="295"/>
                  </a:lnTo>
                  <a:lnTo>
                    <a:pt x="274" y="268"/>
                  </a:lnTo>
                  <a:lnTo>
                    <a:pt x="264" y="245"/>
                  </a:lnTo>
                  <a:lnTo>
                    <a:pt x="259" y="234"/>
                  </a:lnTo>
                  <a:lnTo>
                    <a:pt x="234" y="215"/>
                  </a:lnTo>
                  <a:lnTo>
                    <a:pt x="224" y="188"/>
                  </a:lnTo>
                  <a:lnTo>
                    <a:pt x="211" y="166"/>
                  </a:lnTo>
                  <a:lnTo>
                    <a:pt x="188" y="143"/>
                  </a:lnTo>
                  <a:lnTo>
                    <a:pt x="169" y="126"/>
                  </a:lnTo>
                  <a:lnTo>
                    <a:pt x="158" y="112"/>
                  </a:lnTo>
                  <a:lnTo>
                    <a:pt x="139" y="99"/>
                  </a:lnTo>
                  <a:lnTo>
                    <a:pt x="120" y="86"/>
                  </a:lnTo>
                  <a:lnTo>
                    <a:pt x="95" y="80"/>
                  </a:lnTo>
                  <a:lnTo>
                    <a:pt x="78" y="67"/>
                  </a:lnTo>
                  <a:lnTo>
                    <a:pt x="70" y="53"/>
                  </a:lnTo>
                  <a:lnTo>
                    <a:pt x="63" y="36"/>
                  </a:lnTo>
                  <a:lnTo>
                    <a:pt x="63" y="14"/>
                  </a:lnTo>
                  <a:lnTo>
                    <a:pt x="50" y="19"/>
                  </a:lnTo>
                  <a:lnTo>
                    <a:pt x="27" y="27"/>
                  </a:lnTo>
                  <a:lnTo>
                    <a:pt x="17" y="27"/>
                  </a:lnTo>
                  <a:lnTo>
                    <a:pt x="6" y="29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3800" y="5005800"/>
              <a:ext cx="29520" cy="132840"/>
            </a:xfrm>
            <a:custGeom>
              <a:avLst/>
              <a:gdLst/>
              <a:ahLst/>
              <a:rect l="l" t="t" r="r" b="b"/>
              <a:pathLst>
                <a:path w="36" h="160">
                  <a:moveTo>
                    <a:pt x="17" y="0"/>
                  </a:moveTo>
                  <a:lnTo>
                    <a:pt x="21" y="29"/>
                  </a:lnTo>
                  <a:lnTo>
                    <a:pt x="23" y="46"/>
                  </a:lnTo>
                  <a:lnTo>
                    <a:pt x="17" y="55"/>
                  </a:lnTo>
                  <a:lnTo>
                    <a:pt x="17" y="73"/>
                  </a:lnTo>
                  <a:lnTo>
                    <a:pt x="13" y="86"/>
                  </a:lnTo>
                  <a:lnTo>
                    <a:pt x="13" y="107"/>
                  </a:lnTo>
                  <a:lnTo>
                    <a:pt x="5" y="126"/>
                  </a:lnTo>
                  <a:lnTo>
                    <a:pt x="0" y="135"/>
                  </a:lnTo>
                  <a:lnTo>
                    <a:pt x="0" y="160"/>
                  </a:lnTo>
                  <a:lnTo>
                    <a:pt x="9" y="160"/>
                  </a:lnTo>
                  <a:lnTo>
                    <a:pt x="13" y="147"/>
                  </a:lnTo>
                  <a:lnTo>
                    <a:pt x="21" y="135"/>
                  </a:lnTo>
                  <a:lnTo>
                    <a:pt x="26" y="122"/>
                  </a:lnTo>
                  <a:lnTo>
                    <a:pt x="26" y="107"/>
                  </a:lnTo>
                  <a:lnTo>
                    <a:pt x="32" y="90"/>
                  </a:lnTo>
                  <a:lnTo>
                    <a:pt x="32" y="67"/>
                  </a:lnTo>
                  <a:lnTo>
                    <a:pt x="36" y="50"/>
                  </a:lnTo>
                  <a:lnTo>
                    <a:pt x="36" y="36"/>
                  </a:lnTo>
                  <a:lnTo>
                    <a:pt x="32" y="27"/>
                  </a:lnTo>
                  <a:lnTo>
                    <a:pt x="32" y="1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4760" y="5122800"/>
              <a:ext cx="154440" cy="2664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0" y="32"/>
                  </a:moveTo>
                  <a:lnTo>
                    <a:pt x="25" y="30"/>
                  </a:lnTo>
                  <a:lnTo>
                    <a:pt x="44" y="30"/>
                  </a:lnTo>
                  <a:lnTo>
                    <a:pt x="63" y="27"/>
                  </a:lnTo>
                  <a:lnTo>
                    <a:pt x="78" y="23"/>
                  </a:lnTo>
                  <a:lnTo>
                    <a:pt x="101" y="27"/>
                  </a:lnTo>
                  <a:lnTo>
                    <a:pt x="127" y="23"/>
                  </a:lnTo>
                  <a:lnTo>
                    <a:pt x="146" y="23"/>
                  </a:lnTo>
                  <a:lnTo>
                    <a:pt x="162" y="23"/>
                  </a:lnTo>
                  <a:lnTo>
                    <a:pt x="183" y="32"/>
                  </a:lnTo>
                  <a:lnTo>
                    <a:pt x="184" y="10"/>
                  </a:lnTo>
                  <a:lnTo>
                    <a:pt x="177" y="8"/>
                  </a:lnTo>
                  <a:lnTo>
                    <a:pt x="162" y="4"/>
                  </a:lnTo>
                  <a:lnTo>
                    <a:pt x="143" y="4"/>
                  </a:lnTo>
                  <a:lnTo>
                    <a:pt x="129" y="4"/>
                  </a:lnTo>
                  <a:lnTo>
                    <a:pt x="107" y="4"/>
                  </a:lnTo>
                  <a:lnTo>
                    <a:pt x="84" y="4"/>
                  </a:lnTo>
                  <a:lnTo>
                    <a:pt x="63" y="0"/>
                  </a:lnTo>
                  <a:lnTo>
                    <a:pt x="40" y="8"/>
                  </a:lnTo>
                  <a:lnTo>
                    <a:pt x="30" y="4"/>
                  </a:lnTo>
                  <a:lnTo>
                    <a:pt x="8" y="1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97120" y="5135760"/>
              <a:ext cx="124560" cy="479880"/>
            </a:xfrm>
            <a:custGeom>
              <a:avLst/>
              <a:gdLst/>
              <a:ahLst/>
              <a:rect l="l" t="t" r="r" b="b"/>
              <a:pathLst>
                <a:path w="150" h="576">
                  <a:moveTo>
                    <a:pt x="8" y="0"/>
                  </a:moveTo>
                  <a:lnTo>
                    <a:pt x="10" y="15"/>
                  </a:lnTo>
                  <a:lnTo>
                    <a:pt x="4" y="40"/>
                  </a:lnTo>
                  <a:lnTo>
                    <a:pt x="0" y="59"/>
                  </a:lnTo>
                  <a:lnTo>
                    <a:pt x="8" y="76"/>
                  </a:lnTo>
                  <a:lnTo>
                    <a:pt x="8" y="103"/>
                  </a:lnTo>
                  <a:lnTo>
                    <a:pt x="10" y="129"/>
                  </a:lnTo>
                  <a:lnTo>
                    <a:pt x="17" y="145"/>
                  </a:lnTo>
                  <a:lnTo>
                    <a:pt x="21" y="166"/>
                  </a:lnTo>
                  <a:lnTo>
                    <a:pt x="31" y="188"/>
                  </a:lnTo>
                  <a:lnTo>
                    <a:pt x="27" y="211"/>
                  </a:lnTo>
                  <a:lnTo>
                    <a:pt x="31" y="238"/>
                  </a:lnTo>
                  <a:lnTo>
                    <a:pt x="27" y="261"/>
                  </a:lnTo>
                  <a:lnTo>
                    <a:pt x="31" y="297"/>
                  </a:lnTo>
                  <a:lnTo>
                    <a:pt x="27" y="323"/>
                  </a:lnTo>
                  <a:lnTo>
                    <a:pt x="31" y="350"/>
                  </a:lnTo>
                  <a:lnTo>
                    <a:pt x="31" y="377"/>
                  </a:lnTo>
                  <a:lnTo>
                    <a:pt x="27" y="403"/>
                  </a:lnTo>
                  <a:lnTo>
                    <a:pt x="23" y="437"/>
                  </a:lnTo>
                  <a:lnTo>
                    <a:pt x="17" y="473"/>
                  </a:lnTo>
                  <a:lnTo>
                    <a:pt x="17" y="500"/>
                  </a:lnTo>
                  <a:lnTo>
                    <a:pt x="14" y="519"/>
                  </a:lnTo>
                  <a:lnTo>
                    <a:pt x="10" y="538"/>
                  </a:lnTo>
                  <a:lnTo>
                    <a:pt x="10" y="559"/>
                  </a:lnTo>
                  <a:lnTo>
                    <a:pt x="8" y="576"/>
                  </a:lnTo>
                  <a:lnTo>
                    <a:pt x="50" y="576"/>
                  </a:lnTo>
                  <a:lnTo>
                    <a:pt x="67" y="572"/>
                  </a:lnTo>
                  <a:lnTo>
                    <a:pt x="97" y="565"/>
                  </a:lnTo>
                  <a:lnTo>
                    <a:pt x="120" y="563"/>
                  </a:lnTo>
                  <a:lnTo>
                    <a:pt x="120" y="538"/>
                  </a:lnTo>
                  <a:lnTo>
                    <a:pt x="120" y="513"/>
                  </a:lnTo>
                  <a:lnTo>
                    <a:pt x="109" y="481"/>
                  </a:lnTo>
                  <a:lnTo>
                    <a:pt x="112" y="473"/>
                  </a:lnTo>
                  <a:lnTo>
                    <a:pt x="120" y="443"/>
                  </a:lnTo>
                  <a:lnTo>
                    <a:pt x="120" y="424"/>
                  </a:lnTo>
                  <a:lnTo>
                    <a:pt x="124" y="401"/>
                  </a:lnTo>
                  <a:lnTo>
                    <a:pt x="126" y="377"/>
                  </a:lnTo>
                  <a:lnTo>
                    <a:pt x="130" y="354"/>
                  </a:lnTo>
                  <a:lnTo>
                    <a:pt x="130" y="335"/>
                  </a:lnTo>
                  <a:lnTo>
                    <a:pt x="135" y="318"/>
                  </a:lnTo>
                  <a:lnTo>
                    <a:pt x="135" y="291"/>
                  </a:lnTo>
                  <a:lnTo>
                    <a:pt x="147" y="268"/>
                  </a:lnTo>
                  <a:lnTo>
                    <a:pt x="147" y="247"/>
                  </a:lnTo>
                  <a:lnTo>
                    <a:pt x="150" y="224"/>
                  </a:lnTo>
                  <a:lnTo>
                    <a:pt x="150" y="211"/>
                  </a:lnTo>
                  <a:lnTo>
                    <a:pt x="150" y="192"/>
                  </a:lnTo>
                  <a:lnTo>
                    <a:pt x="139" y="171"/>
                  </a:lnTo>
                  <a:lnTo>
                    <a:pt x="139" y="198"/>
                  </a:lnTo>
                  <a:lnTo>
                    <a:pt x="131" y="224"/>
                  </a:lnTo>
                  <a:lnTo>
                    <a:pt x="139" y="255"/>
                  </a:lnTo>
                  <a:lnTo>
                    <a:pt x="130" y="281"/>
                  </a:lnTo>
                  <a:lnTo>
                    <a:pt x="124" y="308"/>
                  </a:lnTo>
                  <a:lnTo>
                    <a:pt x="116" y="337"/>
                  </a:lnTo>
                  <a:lnTo>
                    <a:pt x="116" y="361"/>
                  </a:lnTo>
                  <a:lnTo>
                    <a:pt x="116" y="394"/>
                  </a:lnTo>
                  <a:lnTo>
                    <a:pt x="107" y="424"/>
                  </a:lnTo>
                  <a:lnTo>
                    <a:pt x="107" y="451"/>
                  </a:lnTo>
                  <a:lnTo>
                    <a:pt x="93" y="473"/>
                  </a:lnTo>
                  <a:lnTo>
                    <a:pt x="101" y="504"/>
                  </a:lnTo>
                  <a:lnTo>
                    <a:pt x="101" y="527"/>
                  </a:lnTo>
                  <a:lnTo>
                    <a:pt x="101" y="549"/>
                  </a:lnTo>
                  <a:lnTo>
                    <a:pt x="86" y="553"/>
                  </a:lnTo>
                  <a:lnTo>
                    <a:pt x="76" y="557"/>
                  </a:lnTo>
                  <a:lnTo>
                    <a:pt x="59" y="559"/>
                  </a:lnTo>
                  <a:lnTo>
                    <a:pt x="40" y="563"/>
                  </a:lnTo>
                  <a:lnTo>
                    <a:pt x="27" y="565"/>
                  </a:lnTo>
                  <a:lnTo>
                    <a:pt x="27" y="553"/>
                  </a:lnTo>
                  <a:lnTo>
                    <a:pt x="31" y="538"/>
                  </a:lnTo>
                  <a:lnTo>
                    <a:pt x="33" y="519"/>
                  </a:lnTo>
                  <a:lnTo>
                    <a:pt x="36" y="496"/>
                  </a:lnTo>
                  <a:lnTo>
                    <a:pt x="40" y="466"/>
                  </a:lnTo>
                  <a:lnTo>
                    <a:pt x="44" y="434"/>
                  </a:lnTo>
                  <a:lnTo>
                    <a:pt x="48" y="401"/>
                  </a:lnTo>
                  <a:lnTo>
                    <a:pt x="50" y="344"/>
                  </a:lnTo>
                  <a:lnTo>
                    <a:pt x="50" y="318"/>
                  </a:lnTo>
                  <a:lnTo>
                    <a:pt x="50" y="285"/>
                  </a:lnTo>
                  <a:lnTo>
                    <a:pt x="50" y="255"/>
                  </a:lnTo>
                  <a:lnTo>
                    <a:pt x="50" y="236"/>
                  </a:lnTo>
                  <a:lnTo>
                    <a:pt x="50" y="188"/>
                  </a:lnTo>
                  <a:lnTo>
                    <a:pt x="48" y="167"/>
                  </a:lnTo>
                  <a:lnTo>
                    <a:pt x="36" y="156"/>
                  </a:lnTo>
                  <a:lnTo>
                    <a:pt x="33" y="135"/>
                  </a:lnTo>
                  <a:lnTo>
                    <a:pt x="27" y="110"/>
                  </a:lnTo>
                  <a:lnTo>
                    <a:pt x="27" y="89"/>
                  </a:lnTo>
                  <a:lnTo>
                    <a:pt x="27" y="69"/>
                  </a:lnTo>
                  <a:lnTo>
                    <a:pt x="27" y="36"/>
                  </a:lnTo>
                  <a:lnTo>
                    <a:pt x="27" y="19"/>
                  </a:lnTo>
                  <a:lnTo>
                    <a:pt x="31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12320" y="5133600"/>
              <a:ext cx="147960" cy="437760"/>
            </a:xfrm>
            <a:custGeom>
              <a:avLst/>
              <a:gdLst/>
              <a:ahLst/>
              <a:rect l="l" t="t" r="r" b="b"/>
              <a:pathLst>
                <a:path w="179" h="527">
                  <a:moveTo>
                    <a:pt x="72" y="8"/>
                  </a:moveTo>
                  <a:lnTo>
                    <a:pt x="72" y="27"/>
                  </a:lnTo>
                  <a:lnTo>
                    <a:pt x="72" y="50"/>
                  </a:lnTo>
                  <a:lnTo>
                    <a:pt x="72" y="71"/>
                  </a:lnTo>
                  <a:lnTo>
                    <a:pt x="80" y="84"/>
                  </a:lnTo>
                  <a:lnTo>
                    <a:pt x="93" y="103"/>
                  </a:lnTo>
                  <a:lnTo>
                    <a:pt x="106" y="116"/>
                  </a:lnTo>
                  <a:lnTo>
                    <a:pt x="116" y="133"/>
                  </a:lnTo>
                  <a:lnTo>
                    <a:pt x="122" y="147"/>
                  </a:lnTo>
                  <a:lnTo>
                    <a:pt x="133" y="156"/>
                  </a:lnTo>
                  <a:lnTo>
                    <a:pt x="143" y="175"/>
                  </a:lnTo>
                  <a:lnTo>
                    <a:pt x="146" y="196"/>
                  </a:lnTo>
                  <a:lnTo>
                    <a:pt x="156" y="206"/>
                  </a:lnTo>
                  <a:lnTo>
                    <a:pt x="160" y="213"/>
                  </a:lnTo>
                  <a:lnTo>
                    <a:pt x="162" y="228"/>
                  </a:lnTo>
                  <a:lnTo>
                    <a:pt x="169" y="240"/>
                  </a:lnTo>
                  <a:lnTo>
                    <a:pt x="179" y="259"/>
                  </a:lnTo>
                  <a:lnTo>
                    <a:pt x="179" y="274"/>
                  </a:lnTo>
                  <a:lnTo>
                    <a:pt x="179" y="291"/>
                  </a:lnTo>
                  <a:lnTo>
                    <a:pt x="173" y="312"/>
                  </a:lnTo>
                  <a:lnTo>
                    <a:pt x="173" y="341"/>
                  </a:lnTo>
                  <a:lnTo>
                    <a:pt x="165" y="367"/>
                  </a:lnTo>
                  <a:lnTo>
                    <a:pt x="165" y="392"/>
                  </a:lnTo>
                  <a:lnTo>
                    <a:pt x="160" y="415"/>
                  </a:lnTo>
                  <a:lnTo>
                    <a:pt x="156" y="434"/>
                  </a:lnTo>
                  <a:lnTo>
                    <a:pt x="152" y="447"/>
                  </a:lnTo>
                  <a:lnTo>
                    <a:pt x="152" y="464"/>
                  </a:lnTo>
                  <a:lnTo>
                    <a:pt x="148" y="481"/>
                  </a:lnTo>
                  <a:lnTo>
                    <a:pt x="148" y="493"/>
                  </a:lnTo>
                  <a:lnTo>
                    <a:pt x="146" y="508"/>
                  </a:lnTo>
                  <a:lnTo>
                    <a:pt x="146" y="514"/>
                  </a:lnTo>
                  <a:lnTo>
                    <a:pt x="129" y="514"/>
                  </a:lnTo>
                  <a:lnTo>
                    <a:pt x="106" y="517"/>
                  </a:lnTo>
                  <a:lnTo>
                    <a:pt x="80" y="519"/>
                  </a:lnTo>
                  <a:lnTo>
                    <a:pt x="63" y="527"/>
                  </a:lnTo>
                  <a:lnTo>
                    <a:pt x="63" y="508"/>
                  </a:lnTo>
                  <a:lnTo>
                    <a:pt x="67" y="485"/>
                  </a:lnTo>
                  <a:lnTo>
                    <a:pt x="76" y="460"/>
                  </a:lnTo>
                  <a:lnTo>
                    <a:pt x="76" y="428"/>
                  </a:lnTo>
                  <a:lnTo>
                    <a:pt x="86" y="392"/>
                  </a:lnTo>
                  <a:lnTo>
                    <a:pt x="86" y="371"/>
                  </a:lnTo>
                  <a:lnTo>
                    <a:pt x="89" y="352"/>
                  </a:lnTo>
                  <a:lnTo>
                    <a:pt x="93" y="327"/>
                  </a:lnTo>
                  <a:lnTo>
                    <a:pt x="95" y="304"/>
                  </a:lnTo>
                  <a:lnTo>
                    <a:pt x="80" y="285"/>
                  </a:lnTo>
                  <a:lnTo>
                    <a:pt x="57" y="263"/>
                  </a:lnTo>
                  <a:lnTo>
                    <a:pt x="40" y="246"/>
                  </a:lnTo>
                  <a:lnTo>
                    <a:pt x="34" y="221"/>
                  </a:lnTo>
                  <a:lnTo>
                    <a:pt x="19" y="213"/>
                  </a:lnTo>
                  <a:lnTo>
                    <a:pt x="11" y="196"/>
                  </a:lnTo>
                  <a:lnTo>
                    <a:pt x="4" y="190"/>
                  </a:lnTo>
                  <a:lnTo>
                    <a:pt x="0" y="175"/>
                  </a:lnTo>
                  <a:lnTo>
                    <a:pt x="11" y="187"/>
                  </a:lnTo>
                  <a:lnTo>
                    <a:pt x="19" y="196"/>
                  </a:lnTo>
                  <a:lnTo>
                    <a:pt x="27" y="209"/>
                  </a:lnTo>
                  <a:lnTo>
                    <a:pt x="40" y="215"/>
                  </a:lnTo>
                  <a:lnTo>
                    <a:pt x="53" y="242"/>
                  </a:lnTo>
                  <a:lnTo>
                    <a:pt x="68" y="255"/>
                  </a:lnTo>
                  <a:lnTo>
                    <a:pt x="86" y="278"/>
                  </a:lnTo>
                  <a:lnTo>
                    <a:pt x="103" y="299"/>
                  </a:lnTo>
                  <a:lnTo>
                    <a:pt x="110" y="322"/>
                  </a:lnTo>
                  <a:lnTo>
                    <a:pt x="103" y="341"/>
                  </a:lnTo>
                  <a:lnTo>
                    <a:pt x="103" y="371"/>
                  </a:lnTo>
                  <a:lnTo>
                    <a:pt x="93" y="394"/>
                  </a:lnTo>
                  <a:lnTo>
                    <a:pt x="95" y="420"/>
                  </a:lnTo>
                  <a:lnTo>
                    <a:pt x="86" y="443"/>
                  </a:lnTo>
                  <a:lnTo>
                    <a:pt x="86" y="474"/>
                  </a:lnTo>
                  <a:lnTo>
                    <a:pt x="76" y="496"/>
                  </a:lnTo>
                  <a:lnTo>
                    <a:pt x="76" y="508"/>
                  </a:lnTo>
                  <a:lnTo>
                    <a:pt x="93" y="504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3" y="481"/>
                  </a:lnTo>
                  <a:lnTo>
                    <a:pt x="139" y="451"/>
                  </a:lnTo>
                  <a:lnTo>
                    <a:pt x="146" y="411"/>
                  </a:lnTo>
                  <a:lnTo>
                    <a:pt x="148" y="388"/>
                  </a:lnTo>
                  <a:lnTo>
                    <a:pt x="156" y="361"/>
                  </a:lnTo>
                  <a:lnTo>
                    <a:pt x="162" y="327"/>
                  </a:lnTo>
                  <a:lnTo>
                    <a:pt x="162" y="301"/>
                  </a:lnTo>
                  <a:lnTo>
                    <a:pt x="165" y="278"/>
                  </a:lnTo>
                  <a:lnTo>
                    <a:pt x="162" y="259"/>
                  </a:lnTo>
                  <a:lnTo>
                    <a:pt x="152" y="240"/>
                  </a:lnTo>
                  <a:lnTo>
                    <a:pt x="148" y="221"/>
                  </a:lnTo>
                  <a:lnTo>
                    <a:pt x="143" y="206"/>
                  </a:lnTo>
                  <a:lnTo>
                    <a:pt x="129" y="190"/>
                  </a:lnTo>
                  <a:lnTo>
                    <a:pt x="122" y="171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3" y="126"/>
                  </a:lnTo>
                  <a:lnTo>
                    <a:pt x="84" y="111"/>
                  </a:lnTo>
                  <a:lnTo>
                    <a:pt x="67" y="88"/>
                  </a:lnTo>
                  <a:lnTo>
                    <a:pt x="61" y="67"/>
                  </a:lnTo>
                  <a:lnTo>
                    <a:pt x="61" y="46"/>
                  </a:lnTo>
                  <a:lnTo>
                    <a:pt x="61" y="31"/>
                  </a:lnTo>
                  <a:lnTo>
                    <a:pt x="61" y="10"/>
                  </a:lnTo>
                  <a:lnTo>
                    <a:pt x="63" y="0"/>
                  </a:lnTo>
                  <a:lnTo>
                    <a:pt x="72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79280" y="5141160"/>
              <a:ext cx="72360" cy="86040"/>
            </a:xfrm>
            <a:custGeom>
              <a:avLst/>
              <a:gdLst/>
              <a:ahLst/>
              <a:rect l="l" t="t" r="r" b="b"/>
              <a:pathLst>
                <a:path w="85" h="104">
                  <a:moveTo>
                    <a:pt x="49" y="0"/>
                  </a:moveTo>
                  <a:lnTo>
                    <a:pt x="32" y="9"/>
                  </a:lnTo>
                  <a:lnTo>
                    <a:pt x="26" y="17"/>
                  </a:lnTo>
                  <a:lnTo>
                    <a:pt x="13" y="25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6" y="57"/>
                  </a:lnTo>
                  <a:lnTo>
                    <a:pt x="15" y="57"/>
                  </a:lnTo>
                  <a:lnTo>
                    <a:pt x="26" y="51"/>
                  </a:lnTo>
                  <a:lnTo>
                    <a:pt x="32" y="47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13" y="63"/>
                  </a:lnTo>
                  <a:lnTo>
                    <a:pt x="9" y="74"/>
                  </a:lnTo>
                  <a:lnTo>
                    <a:pt x="13" y="80"/>
                  </a:lnTo>
                  <a:lnTo>
                    <a:pt x="15" y="85"/>
                  </a:lnTo>
                  <a:lnTo>
                    <a:pt x="23" y="97"/>
                  </a:lnTo>
                  <a:lnTo>
                    <a:pt x="40" y="104"/>
                  </a:lnTo>
                  <a:lnTo>
                    <a:pt x="49" y="104"/>
                  </a:lnTo>
                  <a:lnTo>
                    <a:pt x="59" y="89"/>
                  </a:lnTo>
                  <a:lnTo>
                    <a:pt x="68" y="78"/>
                  </a:lnTo>
                  <a:lnTo>
                    <a:pt x="76" y="63"/>
                  </a:lnTo>
                  <a:lnTo>
                    <a:pt x="80" y="51"/>
                  </a:lnTo>
                  <a:lnTo>
                    <a:pt x="82" y="40"/>
                  </a:lnTo>
                  <a:lnTo>
                    <a:pt x="82" y="30"/>
                  </a:lnTo>
                  <a:lnTo>
                    <a:pt x="85" y="25"/>
                  </a:lnTo>
                  <a:lnTo>
                    <a:pt x="72" y="17"/>
                  </a:lnTo>
                  <a:lnTo>
                    <a:pt x="68" y="34"/>
                  </a:lnTo>
                  <a:lnTo>
                    <a:pt x="68" y="51"/>
                  </a:lnTo>
                  <a:lnTo>
                    <a:pt x="66" y="61"/>
                  </a:lnTo>
                  <a:lnTo>
                    <a:pt x="57" y="74"/>
                  </a:lnTo>
                  <a:lnTo>
                    <a:pt x="49" y="85"/>
                  </a:lnTo>
                  <a:lnTo>
                    <a:pt x="42" y="89"/>
                  </a:lnTo>
                  <a:lnTo>
                    <a:pt x="30" y="83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36" y="61"/>
                  </a:lnTo>
                  <a:lnTo>
                    <a:pt x="40" y="51"/>
                  </a:lnTo>
                  <a:lnTo>
                    <a:pt x="45" y="34"/>
                  </a:lnTo>
                  <a:lnTo>
                    <a:pt x="30" y="40"/>
                  </a:lnTo>
                  <a:lnTo>
                    <a:pt x="19" y="47"/>
                  </a:lnTo>
                  <a:lnTo>
                    <a:pt x="13" y="47"/>
                  </a:lnTo>
                  <a:lnTo>
                    <a:pt x="15" y="40"/>
                  </a:lnTo>
                  <a:lnTo>
                    <a:pt x="23" y="34"/>
                  </a:lnTo>
                  <a:lnTo>
                    <a:pt x="30" y="26"/>
                  </a:lnTo>
                  <a:lnTo>
                    <a:pt x="42" y="25"/>
                  </a:lnTo>
                  <a:lnTo>
                    <a:pt x="49" y="17"/>
                  </a:lnTo>
                  <a:lnTo>
                    <a:pt x="57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6640" y="4678200"/>
              <a:ext cx="121680" cy="8532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0" y="66"/>
                  </a:moveTo>
                  <a:lnTo>
                    <a:pt x="23" y="51"/>
                  </a:lnTo>
                  <a:lnTo>
                    <a:pt x="36" y="40"/>
                  </a:lnTo>
                  <a:lnTo>
                    <a:pt x="49" y="23"/>
                  </a:lnTo>
                  <a:lnTo>
                    <a:pt x="67" y="13"/>
                  </a:lnTo>
                  <a:lnTo>
                    <a:pt x="82" y="2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35" y="13"/>
                  </a:lnTo>
                  <a:lnTo>
                    <a:pt x="146" y="25"/>
                  </a:lnTo>
                  <a:lnTo>
                    <a:pt x="122" y="40"/>
                  </a:lnTo>
                  <a:lnTo>
                    <a:pt x="103" y="51"/>
                  </a:lnTo>
                  <a:lnTo>
                    <a:pt x="105" y="63"/>
                  </a:lnTo>
                  <a:lnTo>
                    <a:pt x="122" y="55"/>
                  </a:lnTo>
                  <a:lnTo>
                    <a:pt x="135" y="51"/>
                  </a:lnTo>
                  <a:lnTo>
                    <a:pt x="143" y="63"/>
                  </a:lnTo>
                  <a:lnTo>
                    <a:pt x="143" y="68"/>
                  </a:lnTo>
                  <a:lnTo>
                    <a:pt x="131" y="76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89" y="89"/>
                  </a:lnTo>
                  <a:lnTo>
                    <a:pt x="63" y="93"/>
                  </a:lnTo>
                  <a:lnTo>
                    <a:pt x="40" y="103"/>
                  </a:lnTo>
                  <a:lnTo>
                    <a:pt x="30" y="95"/>
                  </a:lnTo>
                  <a:lnTo>
                    <a:pt x="46" y="89"/>
                  </a:lnTo>
                  <a:lnTo>
                    <a:pt x="67" y="82"/>
                  </a:lnTo>
                  <a:lnTo>
                    <a:pt x="82" y="76"/>
                  </a:lnTo>
                  <a:lnTo>
                    <a:pt x="95" y="76"/>
                  </a:lnTo>
                  <a:lnTo>
                    <a:pt x="108" y="68"/>
                  </a:lnTo>
                  <a:lnTo>
                    <a:pt x="93" y="68"/>
                  </a:lnTo>
                  <a:lnTo>
                    <a:pt x="89" y="51"/>
                  </a:lnTo>
                  <a:lnTo>
                    <a:pt x="105" y="36"/>
                  </a:lnTo>
                  <a:lnTo>
                    <a:pt x="116" y="28"/>
                  </a:lnTo>
                  <a:lnTo>
                    <a:pt x="125" y="19"/>
                  </a:lnTo>
                  <a:lnTo>
                    <a:pt x="120" y="13"/>
                  </a:lnTo>
                  <a:lnTo>
                    <a:pt x="108" y="9"/>
                  </a:lnTo>
                  <a:lnTo>
                    <a:pt x="80" y="19"/>
                  </a:lnTo>
                  <a:lnTo>
                    <a:pt x="55" y="32"/>
                  </a:lnTo>
                  <a:lnTo>
                    <a:pt x="42" y="49"/>
                  </a:lnTo>
                  <a:lnTo>
                    <a:pt x="32" y="66"/>
                  </a:lnTo>
                  <a:lnTo>
                    <a:pt x="13" y="7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34560" y="4694400"/>
              <a:ext cx="111600" cy="12996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02" y="156"/>
                  </a:moveTo>
                  <a:lnTo>
                    <a:pt x="104" y="146"/>
                  </a:lnTo>
                  <a:lnTo>
                    <a:pt x="108" y="137"/>
                  </a:lnTo>
                  <a:lnTo>
                    <a:pt x="108" y="123"/>
                  </a:lnTo>
                  <a:lnTo>
                    <a:pt x="114" y="106"/>
                  </a:lnTo>
                  <a:lnTo>
                    <a:pt x="125" y="89"/>
                  </a:lnTo>
                  <a:lnTo>
                    <a:pt x="131" y="66"/>
                  </a:lnTo>
                  <a:lnTo>
                    <a:pt x="131" y="44"/>
                  </a:lnTo>
                  <a:lnTo>
                    <a:pt x="121" y="30"/>
                  </a:lnTo>
                  <a:lnTo>
                    <a:pt x="102" y="13"/>
                  </a:lnTo>
                  <a:lnTo>
                    <a:pt x="83" y="6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1" y="17"/>
                  </a:lnTo>
                  <a:lnTo>
                    <a:pt x="2" y="32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19" y="26"/>
                  </a:lnTo>
                  <a:lnTo>
                    <a:pt x="32" y="17"/>
                  </a:lnTo>
                  <a:lnTo>
                    <a:pt x="49" y="13"/>
                  </a:lnTo>
                  <a:lnTo>
                    <a:pt x="64" y="13"/>
                  </a:lnTo>
                  <a:lnTo>
                    <a:pt x="87" y="21"/>
                  </a:lnTo>
                  <a:lnTo>
                    <a:pt x="102" y="26"/>
                  </a:lnTo>
                  <a:lnTo>
                    <a:pt x="110" y="36"/>
                  </a:lnTo>
                  <a:lnTo>
                    <a:pt x="118" y="49"/>
                  </a:lnTo>
                  <a:lnTo>
                    <a:pt x="121" y="66"/>
                  </a:lnTo>
                  <a:lnTo>
                    <a:pt x="114" y="76"/>
                  </a:lnTo>
                  <a:lnTo>
                    <a:pt x="108" y="89"/>
                  </a:lnTo>
                  <a:lnTo>
                    <a:pt x="102" y="106"/>
                  </a:lnTo>
                  <a:lnTo>
                    <a:pt x="95" y="125"/>
                  </a:lnTo>
                  <a:lnTo>
                    <a:pt x="95" y="139"/>
                  </a:lnTo>
                  <a:lnTo>
                    <a:pt x="95" y="156"/>
                  </a:lnTo>
                  <a:lnTo>
                    <a:pt x="102" y="156"/>
                  </a:lnTo>
                  <a:lnTo>
                    <a:pt x="10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34560" y="4735440"/>
              <a:ext cx="42480" cy="97200"/>
            </a:xfrm>
            <a:custGeom>
              <a:avLst/>
              <a:gdLst/>
              <a:ahLst/>
              <a:rect l="l" t="t" r="r" b="b"/>
              <a:pathLst>
                <a:path w="49" h="116">
                  <a:moveTo>
                    <a:pt x="32" y="111"/>
                  </a:moveTo>
                  <a:lnTo>
                    <a:pt x="32" y="103"/>
                  </a:lnTo>
                  <a:lnTo>
                    <a:pt x="32" y="93"/>
                  </a:lnTo>
                  <a:lnTo>
                    <a:pt x="28" y="88"/>
                  </a:lnTo>
                  <a:lnTo>
                    <a:pt x="28" y="80"/>
                  </a:lnTo>
                  <a:lnTo>
                    <a:pt x="23" y="71"/>
                  </a:lnTo>
                  <a:lnTo>
                    <a:pt x="15" y="57"/>
                  </a:lnTo>
                  <a:lnTo>
                    <a:pt x="11" y="52"/>
                  </a:lnTo>
                  <a:lnTo>
                    <a:pt x="2" y="3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9" y="10"/>
                  </a:lnTo>
                  <a:lnTo>
                    <a:pt x="9" y="25"/>
                  </a:lnTo>
                  <a:lnTo>
                    <a:pt x="11" y="40"/>
                  </a:lnTo>
                  <a:lnTo>
                    <a:pt x="19" y="48"/>
                  </a:lnTo>
                  <a:lnTo>
                    <a:pt x="26" y="54"/>
                  </a:lnTo>
                  <a:lnTo>
                    <a:pt x="32" y="63"/>
                  </a:lnTo>
                  <a:lnTo>
                    <a:pt x="34" y="76"/>
                  </a:lnTo>
                  <a:lnTo>
                    <a:pt x="38" y="84"/>
                  </a:lnTo>
                  <a:lnTo>
                    <a:pt x="42" y="101"/>
                  </a:lnTo>
                  <a:lnTo>
                    <a:pt x="49" y="116"/>
                  </a:lnTo>
                  <a:lnTo>
                    <a:pt x="32" y="111"/>
                  </a:lnTo>
                  <a:lnTo>
                    <a:pt x="3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29880" y="5601600"/>
              <a:ext cx="109440" cy="66600"/>
            </a:xfrm>
            <a:custGeom>
              <a:avLst/>
              <a:gdLst/>
              <a:ahLst/>
              <a:rect l="l" t="t" r="r" b="b"/>
              <a:pathLst>
                <a:path w="133" h="82">
                  <a:moveTo>
                    <a:pt x="4" y="13"/>
                  </a:moveTo>
                  <a:lnTo>
                    <a:pt x="4" y="32"/>
                  </a:lnTo>
                  <a:lnTo>
                    <a:pt x="4" y="49"/>
                  </a:lnTo>
                  <a:lnTo>
                    <a:pt x="4" y="59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17" y="82"/>
                  </a:lnTo>
                  <a:lnTo>
                    <a:pt x="34" y="80"/>
                  </a:lnTo>
                  <a:lnTo>
                    <a:pt x="40" y="76"/>
                  </a:lnTo>
                  <a:lnTo>
                    <a:pt x="61" y="74"/>
                  </a:lnTo>
                  <a:lnTo>
                    <a:pt x="86" y="66"/>
                  </a:lnTo>
                  <a:lnTo>
                    <a:pt x="95" y="55"/>
                  </a:lnTo>
                  <a:lnTo>
                    <a:pt x="110" y="49"/>
                  </a:lnTo>
                  <a:lnTo>
                    <a:pt x="129" y="40"/>
                  </a:lnTo>
                  <a:lnTo>
                    <a:pt x="133" y="27"/>
                  </a:lnTo>
                  <a:lnTo>
                    <a:pt x="133" y="13"/>
                  </a:lnTo>
                  <a:lnTo>
                    <a:pt x="126" y="6"/>
                  </a:lnTo>
                  <a:lnTo>
                    <a:pt x="107" y="4"/>
                  </a:lnTo>
                  <a:lnTo>
                    <a:pt x="99" y="4"/>
                  </a:lnTo>
                  <a:lnTo>
                    <a:pt x="86" y="6"/>
                  </a:lnTo>
                  <a:lnTo>
                    <a:pt x="67" y="9"/>
                  </a:lnTo>
                  <a:lnTo>
                    <a:pt x="57" y="0"/>
                  </a:lnTo>
                  <a:lnTo>
                    <a:pt x="46" y="6"/>
                  </a:lnTo>
                  <a:lnTo>
                    <a:pt x="57" y="17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80" y="21"/>
                  </a:lnTo>
                  <a:lnTo>
                    <a:pt x="95" y="17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2" y="21"/>
                  </a:lnTo>
                  <a:lnTo>
                    <a:pt x="122" y="27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95" y="44"/>
                  </a:lnTo>
                  <a:lnTo>
                    <a:pt x="84" y="53"/>
                  </a:lnTo>
                  <a:lnTo>
                    <a:pt x="67" y="59"/>
                  </a:lnTo>
                  <a:lnTo>
                    <a:pt x="46" y="66"/>
                  </a:lnTo>
                  <a:lnTo>
                    <a:pt x="27" y="66"/>
                  </a:lnTo>
                  <a:lnTo>
                    <a:pt x="13" y="74"/>
                  </a:lnTo>
                  <a:lnTo>
                    <a:pt x="13" y="55"/>
                  </a:lnTo>
                  <a:lnTo>
                    <a:pt x="13" y="47"/>
                  </a:lnTo>
                  <a:lnTo>
                    <a:pt x="13" y="30"/>
                  </a:lnTo>
                  <a:lnTo>
                    <a:pt x="17" y="9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67040" y="5557320"/>
              <a:ext cx="112680" cy="70200"/>
            </a:xfrm>
            <a:custGeom>
              <a:avLst/>
              <a:gdLst/>
              <a:ahLst/>
              <a:rect l="l" t="t" r="r" b="b"/>
              <a:pathLst>
                <a:path w="133" h="83">
                  <a:moveTo>
                    <a:pt x="5" y="13"/>
                  </a:moveTo>
                  <a:lnTo>
                    <a:pt x="1" y="30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36" y="83"/>
                  </a:lnTo>
                  <a:lnTo>
                    <a:pt x="55" y="83"/>
                  </a:lnTo>
                  <a:lnTo>
                    <a:pt x="79" y="83"/>
                  </a:lnTo>
                  <a:lnTo>
                    <a:pt x="93" y="80"/>
                  </a:lnTo>
                  <a:lnTo>
                    <a:pt x="108" y="76"/>
                  </a:lnTo>
                  <a:lnTo>
                    <a:pt x="119" y="66"/>
                  </a:lnTo>
                  <a:lnTo>
                    <a:pt x="133" y="53"/>
                  </a:lnTo>
                  <a:lnTo>
                    <a:pt x="133" y="43"/>
                  </a:lnTo>
                  <a:lnTo>
                    <a:pt x="125" y="30"/>
                  </a:lnTo>
                  <a:lnTo>
                    <a:pt x="112" y="26"/>
                  </a:lnTo>
                  <a:lnTo>
                    <a:pt x="93" y="24"/>
                  </a:lnTo>
                  <a:lnTo>
                    <a:pt x="70" y="26"/>
                  </a:lnTo>
                  <a:lnTo>
                    <a:pt x="58" y="13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9" y="9"/>
                  </a:lnTo>
                  <a:lnTo>
                    <a:pt x="49" y="13"/>
                  </a:lnTo>
                  <a:lnTo>
                    <a:pt x="58" y="30"/>
                  </a:lnTo>
                  <a:lnTo>
                    <a:pt x="76" y="36"/>
                  </a:lnTo>
                  <a:lnTo>
                    <a:pt x="95" y="36"/>
                  </a:lnTo>
                  <a:lnTo>
                    <a:pt x="112" y="36"/>
                  </a:lnTo>
                  <a:lnTo>
                    <a:pt x="119" y="40"/>
                  </a:lnTo>
                  <a:lnTo>
                    <a:pt x="119" y="47"/>
                  </a:lnTo>
                  <a:lnTo>
                    <a:pt x="119" y="53"/>
                  </a:lnTo>
                  <a:lnTo>
                    <a:pt x="106" y="62"/>
                  </a:lnTo>
                  <a:lnTo>
                    <a:pt x="98" y="66"/>
                  </a:lnTo>
                  <a:lnTo>
                    <a:pt x="81" y="70"/>
                  </a:lnTo>
                  <a:lnTo>
                    <a:pt x="58" y="70"/>
                  </a:lnTo>
                  <a:lnTo>
                    <a:pt x="36" y="74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17" y="51"/>
                  </a:lnTo>
                  <a:lnTo>
                    <a:pt x="17" y="36"/>
                  </a:lnTo>
                  <a:lnTo>
                    <a:pt x="17" y="26"/>
                  </a:lnTo>
                  <a:lnTo>
                    <a:pt x="17" y="7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720" y="2514600"/>
              <a:ext cx="2884320" cy="3581280"/>
            </a:xfrm>
            <a:custGeom>
              <a:avLst/>
              <a:gdLst/>
              <a:ahLst/>
              <a:rect l="l" t="t" r="r" b="b"/>
              <a:pathLst>
                <a:path w="3443" h="4297">
                  <a:moveTo>
                    <a:pt x="48" y="4267"/>
                  </a:moveTo>
                  <a:lnTo>
                    <a:pt x="169" y="4276"/>
                  </a:lnTo>
                  <a:lnTo>
                    <a:pt x="215" y="4276"/>
                  </a:lnTo>
                  <a:lnTo>
                    <a:pt x="369" y="4280"/>
                  </a:lnTo>
                  <a:lnTo>
                    <a:pt x="464" y="4280"/>
                  </a:lnTo>
                  <a:lnTo>
                    <a:pt x="673" y="4280"/>
                  </a:lnTo>
                  <a:lnTo>
                    <a:pt x="816" y="4276"/>
                  </a:lnTo>
                  <a:lnTo>
                    <a:pt x="1050" y="4276"/>
                  </a:lnTo>
                  <a:lnTo>
                    <a:pt x="1190" y="4270"/>
                  </a:lnTo>
                  <a:lnTo>
                    <a:pt x="1371" y="4270"/>
                  </a:lnTo>
                  <a:lnTo>
                    <a:pt x="1426" y="4267"/>
                  </a:lnTo>
                  <a:lnTo>
                    <a:pt x="1626" y="4267"/>
                  </a:lnTo>
                  <a:lnTo>
                    <a:pt x="1673" y="4267"/>
                  </a:lnTo>
                  <a:lnTo>
                    <a:pt x="1797" y="4267"/>
                  </a:lnTo>
                  <a:lnTo>
                    <a:pt x="1985" y="4280"/>
                  </a:lnTo>
                  <a:lnTo>
                    <a:pt x="2150" y="4267"/>
                  </a:lnTo>
                  <a:lnTo>
                    <a:pt x="2361" y="4276"/>
                  </a:lnTo>
                  <a:lnTo>
                    <a:pt x="2513" y="4287"/>
                  </a:lnTo>
                  <a:lnTo>
                    <a:pt x="2650" y="4297"/>
                  </a:lnTo>
                  <a:lnTo>
                    <a:pt x="2745" y="4297"/>
                  </a:lnTo>
                  <a:lnTo>
                    <a:pt x="2829" y="4297"/>
                  </a:lnTo>
                  <a:lnTo>
                    <a:pt x="2916" y="4297"/>
                  </a:lnTo>
                  <a:lnTo>
                    <a:pt x="2977" y="4297"/>
                  </a:lnTo>
                  <a:lnTo>
                    <a:pt x="3034" y="4297"/>
                  </a:lnTo>
                  <a:lnTo>
                    <a:pt x="3067" y="4297"/>
                  </a:lnTo>
                  <a:lnTo>
                    <a:pt x="3152" y="4297"/>
                  </a:lnTo>
                  <a:lnTo>
                    <a:pt x="3264" y="4297"/>
                  </a:lnTo>
                  <a:lnTo>
                    <a:pt x="3340" y="4289"/>
                  </a:lnTo>
                  <a:lnTo>
                    <a:pt x="3384" y="4280"/>
                  </a:lnTo>
                  <a:lnTo>
                    <a:pt x="3403" y="4065"/>
                  </a:lnTo>
                  <a:lnTo>
                    <a:pt x="3403" y="3972"/>
                  </a:lnTo>
                  <a:lnTo>
                    <a:pt x="3397" y="3932"/>
                  </a:lnTo>
                  <a:lnTo>
                    <a:pt x="3394" y="3725"/>
                  </a:lnTo>
                  <a:lnTo>
                    <a:pt x="3390" y="3605"/>
                  </a:lnTo>
                  <a:lnTo>
                    <a:pt x="3411" y="3396"/>
                  </a:lnTo>
                  <a:lnTo>
                    <a:pt x="3413" y="3217"/>
                  </a:lnTo>
                  <a:lnTo>
                    <a:pt x="3413" y="3079"/>
                  </a:lnTo>
                  <a:lnTo>
                    <a:pt x="3413" y="2966"/>
                  </a:lnTo>
                  <a:lnTo>
                    <a:pt x="3413" y="2832"/>
                  </a:lnTo>
                  <a:lnTo>
                    <a:pt x="3411" y="2651"/>
                  </a:lnTo>
                  <a:lnTo>
                    <a:pt x="3397" y="2484"/>
                  </a:lnTo>
                  <a:lnTo>
                    <a:pt x="3397" y="2347"/>
                  </a:lnTo>
                  <a:lnTo>
                    <a:pt x="3413" y="2026"/>
                  </a:lnTo>
                  <a:lnTo>
                    <a:pt x="3413" y="1856"/>
                  </a:lnTo>
                  <a:lnTo>
                    <a:pt x="3413" y="1752"/>
                  </a:lnTo>
                  <a:lnTo>
                    <a:pt x="3411" y="1600"/>
                  </a:lnTo>
                  <a:lnTo>
                    <a:pt x="3403" y="1440"/>
                  </a:lnTo>
                  <a:lnTo>
                    <a:pt x="3403" y="1322"/>
                  </a:lnTo>
                  <a:lnTo>
                    <a:pt x="3403" y="1168"/>
                  </a:lnTo>
                  <a:lnTo>
                    <a:pt x="3411" y="1033"/>
                  </a:lnTo>
                  <a:lnTo>
                    <a:pt x="3433" y="861"/>
                  </a:lnTo>
                  <a:lnTo>
                    <a:pt x="3439" y="707"/>
                  </a:lnTo>
                  <a:lnTo>
                    <a:pt x="3433" y="613"/>
                  </a:lnTo>
                  <a:lnTo>
                    <a:pt x="3433" y="555"/>
                  </a:lnTo>
                  <a:lnTo>
                    <a:pt x="3443" y="448"/>
                  </a:lnTo>
                  <a:lnTo>
                    <a:pt x="3443" y="336"/>
                  </a:lnTo>
                  <a:lnTo>
                    <a:pt x="3443" y="159"/>
                  </a:lnTo>
                  <a:lnTo>
                    <a:pt x="3411" y="57"/>
                  </a:lnTo>
                  <a:lnTo>
                    <a:pt x="3234" y="60"/>
                  </a:lnTo>
                  <a:lnTo>
                    <a:pt x="3040" y="51"/>
                  </a:lnTo>
                  <a:lnTo>
                    <a:pt x="2905" y="51"/>
                  </a:lnTo>
                  <a:lnTo>
                    <a:pt x="2702" y="38"/>
                  </a:lnTo>
                  <a:lnTo>
                    <a:pt x="2570" y="38"/>
                  </a:lnTo>
                  <a:lnTo>
                    <a:pt x="2418" y="26"/>
                  </a:lnTo>
                  <a:lnTo>
                    <a:pt x="2221" y="17"/>
                  </a:lnTo>
                  <a:lnTo>
                    <a:pt x="2074" y="17"/>
                  </a:lnTo>
                  <a:lnTo>
                    <a:pt x="1896" y="30"/>
                  </a:lnTo>
                  <a:lnTo>
                    <a:pt x="1719" y="17"/>
                  </a:lnTo>
                  <a:lnTo>
                    <a:pt x="1479" y="11"/>
                  </a:lnTo>
                  <a:lnTo>
                    <a:pt x="1318" y="11"/>
                  </a:lnTo>
                  <a:lnTo>
                    <a:pt x="1112" y="11"/>
                  </a:lnTo>
                  <a:lnTo>
                    <a:pt x="835" y="11"/>
                  </a:lnTo>
                  <a:lnTo>
                    <a:pt x="688" y="11"/>
                  </a:lnTo>
                  <a:lnTo>
                    <a:pt x="576" y="11"/>
                  </a:lnTo>
                  <a:lnTo>
                    <a:pt x="487" y="11"/>
                  </a:lnTo>
                  <a:lnTo>
                    <a:pt x="259" y="11"/>
                  </a:lnTo>
                  <a:lnTo>
                    <a:pt x="0" y="0"/>
                  </a:lnTo>
                  <a:lnTo>
                    <a:pt x="12" y="53"/>
                  </a:lnTo>
                  <a:lnTo>
                    <a:pt x="230" y="51"/>
                  </a:lnTo>
                  <a:lnTo>
                    <a:pt x="398" y="41"/>
                  </a:lnTo>
                  <a:lnTo>
                    <a:pt x="576" y="47"/>
                  </a:lnTo>
                  <a:lnTo>
                    <a:pt x="675" y="47"/>
                  </a:lnTo>
                  <a:lnTo>
                    <a:pt x="831" y="47"/>
                  </a:lnTo>
                  <a:lnTo>
                    <a:pt x="968" y="51"/>
                  </a:lnTo>
                  <a:lnTo>
                    <a:pt x="1118" y="57"/>
                  </a:lnTo>
                  <a:lnTo>
                    <a:pt x="1206" y="57"/>
                  </a:lnTo>
                  <a:lnTo>
                    <a:pt x="1407" y="47"/>
                  </a:lnTo>
                  <a:lnTo>
                    <a:pt x="1561" y="60"/>
                  </a:lnTo>
                  <a:lnTo>
                    <a:pt x="1704" y="66"/>
                  </a:lnTo>
                  <a:lnTo>
                    <a:pt x="1846" y="66"/>
                  </a:lnTo>
                  <a:lnTo>
                    <a:pt x="1975" y="70"/>
                  </a:lnTo>
                  <a:lnTo>
                    <a:pt x="2101" y="60"/>
                  </a:lnTo>
                  <a:lnTo>
                    <a:pt x="2185" y="51"/>
                  </a:lnTo>
                  <a:lnTo>
                    <a:pt x="2339" y="70"/>
                  </a:lnTo>
                  <a:lnTo>
                    <a:pt x="2472" y="70"/>
                  </a:lnTo>
                  <a:lnTo>
                    <a:pt x="2584" y="70"/>
                  </a:lnTo>
                  <a:lnTo>
                    <a:pt x="2719" y="77"/>
                  </a:lnTo>
                  <a:lnTo>
                    <a:pt x="2867" y="79"/>
                  </a:lnTo>
                  <a:lnTo>
                    <a:pt x="2985" y="106"/>
                  </a:lnTo>
                  <a:lnTo>
                    <a:pt x="3116" y="100"/>
                  </a:lnTo>
                  <a:lnTo>
                    <a:pt x="3245" y="110"/>
                  </a:lnTo>
                  <a:lnTo>
                    <a:pt x="3348" y="110"/>
                  </a:lnTo>
                  <a:lnTo>
                    <a:pt x="3380" y="218"/>
                  </a:lnTo>
                  <a:lnTo>
                    <a:pt x="3380" y="359"/>
                  </a:lnTo>
                  <a:lnTo>
                    <a:pt x="3380" y="463"/>
                  </a:lnTo>
                  <a:lnTo>
                    <a:pt x="3375" y="613"/>
                  </a:lnTo>
                  <a:lnTo>
                    <a:pt x="3390" y="741"/>
                  </a:lnTo>
                  <a:lnTo>
                    <a:pt x="3384" y="914"/>
                  </a:lnTo>
                  <a:lnTo>
                    <a:pt x="3354" y="1132"/>
                  </a:lnTo>
                  <a:lnTo>
                    <a:pt x="3344" y="1281"/>
                  </a:lnTo>
                  <a:lnTo>
                    <a:pt x="3344" y="1490"/>
                  </a:lnTo>
                  <a:lnTo>
                    <a:pt x="3344" y="1668"/>
                  </a:lnTo>
                  <a:lnTo>
                    <a:pt x="3344" y="1822"/>
                  </a:lnTo>
                  <a:lnTo>
                    <a:pt x="3348" y="1940"/>
                  </a:lnTo>
                  <a:lnTo>
                    <a:pt x="3348" y="2124"/>
                  </a:lnTo>
                  <a:lnTo>
                    <a:pt x="3340" y="2261"/>
                  </a:lnTo>
                  <a:lnTo>
                    <a:pt x="3344" y="2417"/>
                  </a:lnTo>
                  <a:lnTo>
                    <a:pt x="3359" y="2583"/>
                  </a:lnTo>
                  <a:lnTo>
                    <a:pt x="3354" y="2780"/>
                  </a:lnTo>
                  <a:lnTo>
                    <a:pt x="3348" y="2999"/>
                  </a:lnTo>
                  <a:lnTo>
                    <a:pt x="3344" y="3111"/>
                  </a:lnTo>
                  <a:lnTo>
                    <a:pt x="3348" y="3307"/>
                  </a:lnTo>
                  <a:lnTo>
                    <a:pt x="3354" y="3489"/>
                  </a:lnTo>
                  <a:lnTo>
                    <a:pt x="3333" y="3634"/>
                  </a:lnTo>
                  <a:lnTo>
                    <a:pt x="3333" y="3793"/>
                  </a:lnTo>
                  <a:lnTo>
                    <a:pt x="3333" y="3959"/>
                  </a:lnTo>
                  <a:lnTo>
                    <a:pt x="3340" y="4092"/>
                  </a:lnTo>
                  <a:lnTo>
                    <a:pt x="3340" y="4204"/>
                  </a:lnTo>
                  <a:lnTo>
                    <a:pt x="3255" y="4251"/>
                  </a:lnTo>
                  <a:lnTo>
                    <a:pt x="3116" y="4240"/>
                  </a:lnTo>
                  <a:lnTo>
                    <a:pt x="2985" y="4240"/>
                  </a:lnTo>
                  <a:lnTo>
                    <a:pt x="2829" y="4236"/>
                  </a:lnTo>
                  <a:lnTo>
                    <a:pt x="2626" y="4227"/>
                  </a:lnTo>
                  <a:lnTo>
                    <a:pt x="2460" y="4236"/>
                  </a:lnTo>
                  <a:lnTo>
                    <a:pt x="2274" y="4236"/>
                  </a:lnTo>
                  <a:lnTo>
                    <a:pt x="2082" y="4230"/>
                  </a:lnTo>
                  <a:lnTo>
                    <a:pt x="1867" y="4227"/>
                  </a:lnTo>
                  <a:lnTo>
                    <a:pt x="1688" y="4221"/>
                  </a:lnTo>
                  <a:lnTo>
                    <a:pt x="1439" y="4210"/>
                  </a:lnTo>
                  <a:lnTo>
                    <a:pt x="1268" y="4217"/>
                  </a:lnTo>
                  <a:lnTo>
                    <a:pt x="1080" y="4221"/>
                  </a:lnTo>
                  <a:lnTo>
                    <a:pt x="871" y="4236"/>
                  </a:lnTo>
                  <a:lnTo>
                    <a:pt x="696" y="4227"/>
                  </a:lnTo>
                  <a:lnTo>
                    <a:pt x="527" y="4227"/>
                  </a:lnTo>
                  <a:lnTo>
                    <a:pt x="339" y="4227"/>
                  </a:lnTo>
                  <a:lnTo>
                    <a:pt x="181" y="4227"/>
                  </a:lnTo>
                  <a:lnTo>
                    <a:pt x="27" y="4204"/>
                  </a:lnTo>
                  <a:lnTo>
                    <a:pt x="48" y="4267"/>
                  </a:lnTo>
                  <a:lnTo>
                    <a:pt x="48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1120" y="5295600"/>
              <a:ext cx="338760" cy="748080"/>
            </a:xfrm>
            <a:custGeom>
              <a:avLst/>
              <a:gdLst/>
              <a:ahLst/>
              <a:rect l="l" t="t" r="r" b="b"/>
              <a:pathLst>
                <a:path w="403" h="897">
                  <a:moveTo>
                    <a:pt x="67" y="893"/>
                  </a:moveTo>
                  <a:lnTo>
                    <a:pt x="42" y="850"/>
                  </a:lnTo>
                  <a:lnTo>
                    <a:pt x="29" y="814"/>
                  </a:lnTo>
                  <a:lnTo>
                    <a:pt x="23" y="768"/>
                  </a:lnTo>
                  <a:lnTo>
                    <a:pt x="15" y="724"/>
                  </a:lnTo>
                  <a:lnTo>
                    <a:pt x="0" y="643"/>
                  </a:lnTo>
                  <a:lnTo>
                    <a:pt x="4" y="576"/>
                  </a:lnTo>
                  <a:lnTo>
                    <a:pt x="13" y="523"/>
                  </a:lnTo>
                  <a:lnTo>
                    <a:pt x="15" y="464"/>
                  </a:lnTo>
                  <a:lnTo>
                    <a:pt x="36" y="420"/>
                  </a:lnTo>
                  <a:lnTo>
                    <a:pt x="42" y="380"/>
                  </a:lnTo>
                  <a:lnTo>
                    <a:pt x="78" y="344"/>
                  </a:lnTo>
                  <a:lnTo>
                    <a:pt x="78" y="304"/>
                  </a:lnTo>
                  <a:lnTo>
                    <a:pt x="105" y="247"/>
                  </a:lnTo>
                  <a:lnTo>
                    <a:pt x="147" y="211"/>
                  </a:lnTo>
                  <a:lnTo>
                    <a:pt x="162" y="175"/>
                  </a:lnTo>
                  <a:lnTo>
                    <a:pt x="202" y="145"/>
                  </a:lnTo>
                  <a:lnTo>
                    <a:pt x="230" y="116"/>
                  </a:lnTo>
                  <a:lnTo>
                    <a:pt x="257" y="93"/>
                  </a:lnTo>
                  <a:lnTo>
                    <a:pt x="283" y="69"/>
                  </a:lnTo>
                  <a:lnTo>
                    <a:pt x="314" y="44"/>
                  </a:lnTo>
                  <a:lnTo>
                    <a:pt x="333" y="29"/>
                  </a:lnTo>
                  <a:lnTo>
                    <a:pt x="371" y="6"/>
                  </a:lnTo>
                  <a:lnTo>
                    <a:pt x="403" y="0"/>
                  </a:lnTo>
                  <a:lnTo>
                    <a:pt x="396" y="25"/>
                  </a:lnTo>
                  <a:lnTo>
                    <a:pt x="384" y="32"/>
                  </a:lnTo>
                  <a:lnTo>
                    <a:pt x="350" y="44"/>
                  </a:lnTo>
                  <a:lnTo>
                    <a:pt x="310" y="69"/>
                  </a:lnTo>
                  <a:lnTo>
                    <a:pt x="278" y="105"/>
                  </a:lnTo>
                  <a:lnTo>
                    <a:pt x="251" y="131"/>
                  </a:lnTo>
                  <a:lnTo>
                    <a:pt x="230" y="158"/>
                  </a:lnTo>
                  <a:lnTo>
                    <a:pt x="198" y="183"/>
                  </a:lnTo>
                  <a:lnTo>
                    <a:pt x="173" y="209"/>
                  </a:lnTo>
                  <a:lnTo>
                    <a:pt x="152" y="238"/>
                  </a:lnTo>
                  <a:lnTo>
                    <a:pt x="128" y="270"/>
                  </a:lnTo>
                  <a:lnTo>
                    <a:pt x="120" y="295"/>
                  </a:lnTo>
                  <a:lnTo>
                    <a:pt x="105" y="338"/>
                  </a:lnTo>
                  <a:lnTo>
                    <a:pt x="99" y="365"/>
                  </a:lnTo>
                  <a:lnTo>
                    <a:pt x="95" y="367"/>
                  </a:lnTo>
                  <a:lnTo>
                    <a:pt x="88" y="373"/>
                  </a:lnTo>
                  <a:lnTo>
                    <a:pt x="80" y="382"/>
                  </a:lnTo>
                  <a:lnTo>
                    <a:pt x="76" y="390"/>
                  </a:lnTo>
                  <a:lnTo>
                    <a:pt x="72" y="394"/>
                  </a:lnTo>
                  <a:lnTo>
                    <a:pt x="71" y="399"/>
                  </a:lnTo>
                  <a:lnTo>
                    <a:pt x="65" y="405"/>
                  </a:lnTo>
                  <a:lnTo>
                    <a:pt x="61" y="413"/>
                  </a:lnTo>
                  <a:lnTo>
                    <a:pt x="59" y="418"/>
                  </a:lnTo>
                  <a:lnTo>
                    <a:pt x="55" y="426"/>
                  </a:lnTo>
                  <a:lnTo>
                    <a:pt x="53" y="430"/>
                  </a:lnTo>
                  <a:lnTo>
                    <a:pt x="53" y="433"/>
                  </a:lnTo>
                  <a:lnTo>
                    <a:pt x="50" y="435"/>
                  </a:lnTo>
                  <a:lnTo>
                    <a:pt x="50" y="441"/>
                  </a:lnTo>
                  <a:lnTo>
                    <a:pt x="50" y="447"/>
                  </a:lnTo>
                  <a:lnTo>
                    <a:pt x="50" y="454"/>
                  </a:lnTo>
                  <a:lnTo>
                    <a:pt x="48" y="460"/>
                  </a:lnTo>
                  <a:lnTo>
                    <a:pt x="48" y="468"/>
                  </a:lnTo>
                  <a:lnTo>
                    <a:pt x="46" y="472"/>
                  </a:lnTo>
                  <a:lnTo>
                    <a:pt x="46" y="475"/>
                  </a:lnTo>
                  <a:lnTo>
                    <a:pt x="44" y="479"/>
                  </a:lnTo>
                  <a:lnTo>
                    <a:pt x="44" y="487"/>
                  </a:lnTo>
                  <a:lnTo>
                    <a:pt x="42" y="496"/>
                  </a:lnTo>
                  <a:lnTo>
                    <a:pt x="42" y="504"/>
                  </a:lnTo>
                  <a:lnTo>
                    <a:pt x="38" y="511"/>
                  </a:lnTo>
                  <a:lnTo>
                    <a:pt x="38" y="519"/>
                  </a:lnTo>
                  <a:lnTo>
                    <a:pt x="36" y="525"/>
                  </a:lnTo>
                  <a:lnTo>
                    <a:pt x="36" y="527"/>
                  </a:lnTo>
                  <a:lnTo>
                    <a:pt x="27" y="555"/>
                  </a:lnTo>
                  <a:lnTo>
                    <a:pt x="27" y="606"/>
                  </a:lnTo>
                  <a:lnTo>
                    <a:pt x="27" y="660"/>
                  </a:lnTo>
                  <a:lnTo>
                    <a:pt x="32" y="715"/>
                  </a:lnTo>
                  <a:lnTo>
                    <a:pt x="40" y="762"/>
                  </a:lnTo>
                  <a:lnTo>
                    <a:pt x="46" y="800"/>
                  </a:lnTo>
                  <a:lnTo>
                    <a:pt x="67" y="835"/>
                  </a:lnTo>
                  <a:lnTo>
                    <a:pt x="82" y="861"/>
                  </a:lnTo>
                  <a:lnTo>
                    <a:pt x="90" y="897"/>
                  </a:lnTo>
                  <a:lnTo>
                    <a:pt x="67" y="893"/>
                  </a:lnTo>
                  <a:lnTo>
                    <a:pt x="67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39200" y="4314960"/>
              <a:ext cx="1603440" cy="1725480"/>
            </a:xfrm>
            <a:custGeom>
              <a:avLst/>
              <a:gdLst/>
              <a:ahLst/>
              <a:rect l="l" t="t" r="r" b="b"/>
              <a:pathLst>
                <a:path w="1914" h="2071">
                  <a:moveTo>
                    <a:pt x="112" y="2071"/>
                  </a:moveTo>
                  <a:lnTo>
                    <a:pt x="62" y="2024"/>
                  </a:lnTo>
                  <a:lnTo>
                    <a:pt x="47" y="1969"/>
                  </a:lnTo>
                  <a:lnTo>
                    <a:pt x="34" y="1933"/>
                  </a:lnTo>
                  <a:lnTo>
                    <a:pt x="26" y="1887"/>
                  </a:lnTo>
                  <a:lnTo>
                    <a:pt x="26" y="1849"/>
                  </a:lnTo>
                  <a:lnTo>
                    <a:pt x="0" y="1784"/>
                  </a:lnTo>
                  <a:lnTo>
                    <a:pt x="0" y="1727"/>
                  </a:lnTo>
                  <a:lnTo>
                    <a:pt x="7" y="1670"/>
                  </a:lnTo>
                  <a:lnTo>
                    <a:pt x="13" y="1604"/>
                  </a:lnTo>
                  <a:lnTo>
                    <a:pt x="26" y="1551"/>
                  </a:lnTo>
                  <a:lnTo>
                    <a:pt x="66" y="1473"/>
                  </a:lnTo>
                  <a:lnTo>
                    <a:pt x="110" y="1416"/>
                  </a:lnTo>
                  <a:lnTo>
                    <a:pt x="150" y="1361"/>
                  </a:lnTo>
                  <a:lnTo>
                    <a:pt x="173" y="1323"/>
                  </a:lnTo>
                  <a:lnTo>
                    <a:pt x="215" y="1304"/>
                  </a:lnTo>
                  <a:lnTo>
                    <a:pt x="268" y="1286"/>
                  </a:lnTo>
                  <a:lnTo>
                    <a:pt x="302" y="1271"/>
                  </a:lnTo>
                  <a:lnTo>
                    <a:pt x="348" y="1254"/>
                  </a:lnTo>
                  <a:lnTo>
                    <a:pt x="405" y="1245"/>
                  </a:lnTo>
                  <a:lnTo>
                    <a:pt x="473" y="1241"/>
                  </a:lnTo>
                  <a:lnTo>
                    <a:pt x="553" y="1241"/>
                  </a:lnTo>
                  <a:lnTo>
                    <a:pt x="621" y="1260"/>
                  </a:lnTo>
                  <a:lnTo>
                    <a:pt x="682" y="1283"/>
                  </a:lnTo>
                  <a:lnTo>
                    <a:pt x="764" y="1286"/>
                  </a:lnTo>
                  <a:lnTo>
                    <a:pt x="844" y="1286"/>
                  </a:lnTo>
                  <a:lnTo>
                    <a:pt x="943" y="1286"/>
                  </a:lnTo>
                  <a:lnTo>
                    <a:pt x="1015" y="1273"/>
                  </a:lnTo>
                  <a:lnTo>
                    <a:pt x="1079" y="1260"/>
                  </a:lnTo>
                  <a:lnTo>
                    <a:pt x="1152" y="1229"/>
                  </a:lnTo>
                  <a:lnTo>
                    <a:pt x="1213" y="1201"/>
                  </a:lnTo>
                  <a:lnTo>
                    <a:pt x="1254" y="1153"/>
                  </a:lnTo>
                  <a:lnTo>
                    <a:pt x="1296" y="1108"/>
                  </a:lnTo>
                  <a:lnTo>
                    <a:pt x="1319" y="1066"/>
                  </a:lnTo>
                  <a:lnTo>
                    <a:pt x="1323" y="992"/>
                  </a:lnTo>
                  <a:lnTo>
                    <a:pt x="1323" y="916"/>
                  </a:lnTo>
                  <a:lnTo>
                    <a:pt x="1323" y="863"/>
                  </a:lnTo>
                  <a:lnTo>
                    <a:pt x="1306" y="813"/>
                  </a:lnTo>
                  <a:lnTo>
                    <a:pt x="1300" y="777"/>
                  </a:lnTo>
                  <a:lnTo>
                    <a:pt x="1279" y="731"/>
                  </a:lnTo>
                  <a:lnTo>
                    <a:pt x="1273" y="688"/>
                  </a:lnTo>
                  <a:lnTo>
                    <a:pt x="1270" y="631"/>
                  </a:lnTo>
                  <a:lnTo>
                    <a:pt x="1283" y="602"/>
                  </a:lnTo>
                  <a:lnTo>
                    <a:pt x="1300" y="585"/>
                  </a:lnTo>
                  <a:lnTo>
                    <a:pt x="1327" y="572"/>
                  </a:lnTo>
                  <a:lnTo>
                    <a:pt x="1359" y="557"/>
                  </a:lnTo>
                  <a:lnTo>
                    <a:pt x="1389" y="540"/>
                  </a:lnTo>
                  <a:lnTo>
                    <a:pt x="1429" y="532"/>
                  </a:lnTo>
                  <a:lnTo>
                    <a:pt x="1475" y="530"/>
                  </a:lnTo>
                  <a:lnTo>
                    <a:pt x="1530" y="530"/>
                  </a:lnTo>
                  <a:lnTo>
                    <a:pt x="1568" y="526"/>
                  </a:lnTo>
                  <a:lnTo>
                    <a:pt x="1614" y="515"/>
                  </a:lnTo>
                  <a:lnTo>
                    <a:pt x="1673" y="486"/>
                  </a:lnTo>
                  <a:lnTo>
                    <a:pt x="1722" y="439"/>
                  </a:lnTo>
                  <a:lnTo>
                    <a:pt x="1770" y="380"/>
                  </a:lnTo>
                  <a:lnTo>
                    <a:pt x="1815" y="308"/>
                  </a:lnTo>
                  <a:lnTo>
                    <a:pt x="1840" y="249"/>
                  </a:lnTo>
                  <a:lnTo>
                    <a:pt x="1868" y="195"/>
                  </a:lnTo>
                  <a:lnTo>
                    <a:pt x="1872" y="156"/>
                  </a:lnTo>
                  <a:lnTo>
                    <a:pt x="1874" y="125"/>
                  </a:lnTo>
                  <a:lnTo>
                    <a:pt x="1882" y="89"/>
                  </a:lnTo>
                  <a:lnTo>
                    <a:pt x="1887" y="49"/>
                  </a:lnTo>
                  <a:lnTo>
                    <a:pt x="1901" y="0"/>
                  </a:lnTo>
                  <a:lnTo>
                    <a:pt x="1914" y="0"/>
                  </a:lnTo>
                  <a:lnTo>
                    <a:pt x="1905" y="45"/>
                  </a:lnTo>
                  <a:lnTo>
                    <a:pt x="1901" y="95"/>
                  </a:lnTo>
                  <a:lnTo>
                    <a:pt x="1895" y="156"/>
                  </a:lnTo>
                  <a:lnTo>
                    <a:pt x="1882" y="209"/>
                  </a:lnTo>
                  <a:lnTo>
                    <a:pt x="1859" y="264"/>
                  </a:lnTo>
                  <a:lnTo>
                    <a:pt x="1842" y="298"/>
                  </a:lnTo>
                  <a:lnTo>
                    <a:pt x="1832" y="321"/>
                  </a:lnTo>
                  <a:lnTo>
                    <a:pt x="1809" y="355"/>
                  </a:lnTo>
                  <a:lnTo>
                    <a:pt x="1756" y="429"/>
                  </a:lnTo>
                  <a:lnTo>
                    <a:pt x="1699" y="486"/>
                  </a:lnTo>
                  <a:lnTo>
                    <a:pt x="1650" y="519"/>
                  </a:lnTo>
                  <a:lnTo>
                    <a:pt x="1610" y="536"/>
                  </a:lnTo>
                  <a:lnTo>
                    <a:pt x="1578" y="540"/>
                  </a:lnTo>
                  <a:lnTo>
                    <a:pt x="1515" y="545"/>
                  </a:lnTo>
                  <a:lnTo>
                    <a:pt x="1479" y="545"/>
                  </a:lnTo>
                  <a:lnTo>
                    <a:pt x="1431" y="549"/>
                  </a:lnTo>
                  <a:lnTo>
                    <a:pt x="1389" y="562"/>
                  </a:lnTo>
                  <a:lnTo>
                    <a:pt x="1344" y="579"/>
                  </a:lnTo>
                  <a:lnTo>
                    <a:pt x="1310" y="598"/>
                  </a:lnTo>
                  <a:lnTo>
                    <a:pt x="1292" y="629"/>
                  </a:lnTo>
                  <a:lnTo>
                    <a:pt x="1292" y="669"/>
                  </a:lnTo>
                  <a:lnTo>
                    <a:pt x="1296" y="722"/>
                  </a:lnTo>
                  <a:lnTo>
                    <a:pt x="1310" y="754"/>
                  </a:lnTo>
                  <a:lnTo>
                    <a:pt x="1317" y="787"/>
                  </a:lnTo>
                  <a:lnTo>
                    <a:pt x="1323" y="827"/>
                  </a:lnTo>
                  <a:lnTo>
                    <a:pt x="1340" y="884"/>
                  </a:lnTo>
                  <a:lnTo>
                    <a:pt x="1344" y="946"/>
                  </a:lnTo>
                  <a:lnTo>
                    <a:pt x="1340" y="1018"/>
                  </a:lnTo>
                  <a:lnTo>
                    <a:pt x="1336" y="1070"/>
                  </a:lnTo>
                  <a:lnTo>
                    <a:pt x="1319" y="1108"/>
                  </a:lnTo>
                  <a:lnTo>
                    <a:pt x="1296" y="1142"/>
                  </a:lnTo>
                  <a:lnTo>
                    <a:pt x="1264" y="1180"/>
                  </a:lnTo>
                  <a:lnTo>
                    <a:pt x="1232" y="1222"/>
                  </a:lnTo>
                  <a:lnTo>
                    <a:pt x="1197" y="1233"/>
                  </a:lnTo>
                  <a:lnTo>
                    <a:pt x="1154" y="1254"/>
                  </a:lnTo>
                  <a:lnTo>
                    <a:pt x="1108" y="1267"/>
                  </a:lnTo>
                  <a:lnTo>
                    <a:pt x="1060" y="1281"/>
                  </a:lnTo>
                  <a:lnTo>
                    <a:pt x="988" y="1298"/>
                  </a:lnTo>
                  <a:lnTo>
                    <a:pt x="920" y="1304"/>
                  </a:lnTo>
                  <a:lnTo>
                    <a:pt x="844" y="1304"/>
                  </a:lnTo>
                  <a:lnTo>
                    <a:pt x="804" y="1309"/>
                  </a:lnTo>
                  <a:lnTo>
                    <a:pt x="762" y="1307"/>
                  </a:lnTo>
                  <a:lnTo>
                    <a:pt x="720" y="1307"/>
                  </a:lnTo>
                  <a:lnTo>
                    <a:pt x="671" y="1300"/>
                  </a:lnTo>
                  <a:lnTo>
                    <a:pt x="625" y="1283"/>
                  </a:lnTo>
                  <a:lnTo>
                    <a:pt x="572" y="1267"/>
                  </a:lnTo>
                  <a:lnTo>
                    <a:pt x="509" y="1256"/>
                  </a:lnTo>
                  <a:lnTo>
                    <a:pt x="446" y="1256"/>
                  </a:lnTo>
                  <a:lnTo>
                    <a:pt x="380" y="1267"/>
                  </a:lnTo>
                  <a:lnTo>
                    <a:pt x="340" y="1283"/>
                  </a:lnTo>
                  <a:lnTo>
                    <a:pt x="302" y="1298"/>
                  </a:lnTo>
                  <a:lnTo>
                    <a:pt x="262" y="1309"/>
                  </a:lnTo>
                  <a:lnTo>
                    <a:pt x="203" y="1330"/>
                  </a:lnTo>
                  <a:lnTo>
                    <a:pt x="169" y="1370"/>
                  </a:lnTo>
                  <a:lnTo>
                    <a:pt x="146" y="1393"/>
                  </a:lnTo>
                  <a:lnTo>
                    <a:pt x="100" y="1448"/>
                  </a:lnTo>
                  <a:lnTo>
                    <a:pt x="66" y="1509"/>
                  </a:lnTo>
                  <a:lnTo>
                    <a:pt x="34" y="1589"/>
                  </a:lnTo>
                  <a:lnTo>
                    <a:pt x="26" y="1634"/>
                  </a:lnTo>
                  <a:lnTo>
                    <a:pt x="23" y="1693"/>
                  </a:lnTo>
                  <a:lnTo>
                    <a:pt x="17" y="1750"/>
                  </a:lnTo>
                  <a:lnTo>
                    <a:pt x="26" y="1794"/>
                  </a:lnTo>
                  <a:lnTo>
                    <a:pt x="43" y="1847"/>
                  </a:lnTo>
                  <a:lnTo>
                    <a:pt x="53" y="1902"/>
                  </a:lnTo>
                  <a:lnTo>
                    <a:pt x="61" y="1946"/>
                  </a:lnTo>
                  <a:lnTo>
                    <a:pt x="70" y="1992"/>
                  </a:lnTo>
                  <a:lnTo>
                    <a:pt x="97" y="2022"/>
                  </a:lnTo>
                  <a:lnTo>
                    <a:pt x="129" y="2062"/>
                  </a:lnTo>
                  <a:lnTo>
                    <a:pt x="112" y="2071"/>
                  </a:lnTo>
                  <a:lnTo>
                    <a:pt x="112" y="20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88760" y="4307400"/>
              <a:ext cx="1200960" cy="795600"/>
            </a:xfrm>
            <a:custGeom>
              <a:avLst/>
              <a:gdLst/>
              <a:ahLst/>
              <a:rect l="l" t="t" r="r" b="b"/>
              <a:pathLst>
                <a:path w="1433" h="954">
                  <a:moveTo>
                    <a:pt x="1418" y="4"/>
                  </a:moveTo>
                  <a:lnTo>
                    <a:pt x="1414" y="34"/>
                  </a:lnTo>
                  <a:lnTo>
                    <a:pt x="1410" y="57"/>
                  </a:lnTo>
                  <a:lnTo>
                    <a:pt x="1388" y="99"/>
                  </a:lnTo>
                  <a:lnTo>
                    <a:pt x="1365" y="152"/>
                  </a:lnTo>
                  <a:lnTo>
                    <a:pt x="1342" y="177"/>
                  </a:lnTo>
                  <a:lnTo>
                    <a:pt x="1321" y="226"/>
                  </a:lnTo>
                  <a:lnTo>
                    <a:pt x="1296" y="259"/>
                  </a:lnTo>
                  <a:lnTo>
                    <a:pt x="1276" y="293"/>
                  </a:lnTo>
                  <a:lnTo>
                    <a:pt x="1239" y="321"/>
                  </a:lnTo>
                  <a:lnTo>
                    <a:pt x="1205" y="348"/>
                  </a:lnTo>
                  <a:lnTo>
                    <a:pt x="1154" y="378"/>
                  </a:lnTo>
                  <a:lnTo>
                    <a:pt x="1112" y="394"/>
                  </a:lnTo>
                  <a:lnTo>
                    <a:pt x="1080" y="397"/>
                  </a:lnTo>
                  <a:lnTo>
                    <a:pt x="1028" y="394"/>
                  </a:lnTo>
                  <a:lnTo>
                    <a:pt x="981" y="397"/>
                  </a:lnTo>
                  <a:lnTo>
                    <a:pt x="949" y="394"/>
                  </a:lnTo>
                  <a:lnTo>
                    <a:pt x="892" y="397"/>
                  </a:lnTo>
                  <a:lnTo>
                    <a:pt x="848" y="401"/>
                  </a:lnTo>
                  <a:lnTo>
                    <a:pt x="825" y="414"/>
                  </a:lnTo>
                  <a:lnTo>
                    <a:pt x="798" y="428"/>
                  </a:lnTo>
                  <a:lnTo>
                    <a:pt x="760" y="441"/>
                  </a:lnTo>
                  <a:lnTo>
                    <a:pt x="722" y="470"/>
                  </a:lnTo>
                  <a:lnTo>
                    <a:pt x="696" y="494"/>
                  </a:lnTo>
                  <a:lnTo>
                    <a:pt x="688" y="513"/>
                  </a:lnTo>
                  <a:lnTo>
                    <a:pt x="681" y="553"/>
                  </a:lnTo>
                  <a:lnTo>
                    <a:pt x="677" y="584"/>
                  </a:lnTo>
                  <a:lnTo>
                    <a:pt x="673" y="616"/>
                  </a:lnTo>
                  <a:lnTo>
                    <a:pt x="669" y="654"/>
                  </a:lnTo>
                  <a:lnTo>
                    <a:pt x="661" y="681"/>
                  </a:lnTo>
                  <a:lnTo>
                    <a:pt x="646" y="709"/>
                  </a:lnTo>
                  <a:lnTo>
                    <a:pt x="635" y="745"/>
                  </a:lnTo>
                  <a:lnTo>
                    <a:pt x="618" y="772"/>
                  </a:lnTo>
                  <a:lnTo>
                    <a:pt x="578" y="802"/>
                  </a:lnTo>
                  <a:lnTo>
                    <a:pt x="515" y="825"/>
                  </a:lnTo>
                  <a:lnTo>
                    <a:pt x="485" y="848"/>
                  </a:lnTo>
                  <a:lnTo>
                    <a:pt x="426" y="861"/>
                  </a:lnTo>
                  <a:lnTo>
                    <a:pt x="373" y="871"/>
                  </a:lnTo>
                  <a:lnTo>
                    <a:pt x="314" y="888"/>
                  </a:lnTo>
                  <a:lnTo>
                    <a:pt x="270" y="893"/>
                  </a:lnTo>
                  <a:lnTo>
                    <a:pt x="220" y="905"/>
                  </a:lnTo>
                  <a:lnTo>
                    <a:pt x="175" y="911"/>
                  </a:lnTo>
                  <a:lnTo>
                    <a:pt x="127" y="920"/>
                  </a:lnTo>
                  <a:lnTo>
                    <a:pt x="91" y="920"/>
                  </a:lnTo>
                  <a:lnTo>
                    <a:pt x="65" y="924"/>
                  </a:lnTo>
                  <a:lnTo>
                    <a:pt x="19" y="935"/>
                  </a:lnTo>
                  <a:lnTo>
                    <a:pt x="0" y="937"/>
                  </a:lnTo>
                  <a:lnTo>
                    <a:pt x="2" y="954"/>
                  </a:lnTo>
                  <a:lnTo>
                    <a:pt x="46" y="945"/>
                  </a:lnTo>
                  <a:lnTo>
                    <a:pt x="80" y="941"/>
                  </a:lnTo>
                  <a:lnTo>
                    <a:pt x="108" y="941"/>
                  </a:lnTo>
                  <a:lnTo>
                    <a:pt x="154" y="937"/>
                  </a:lnTo>
                  <a:lnTo>
                    <a:pt x="190" y="924"/>
                  </a:lnTo>
                  <a:lnTo>
                    <a:pt x="251" y="914"/>
                  </a:lnTo>
                  <a:lnTo>
                    <a:pt x="310" y="911"/>
                  </a:lnTo>
                  <a:lnTo>
                    <a:pt x="359" y="897"/>
                  </a:lnTo>
                  <a:lnTo>
                    <a:pt x="399" y="884"/>
                  </a:lnTo>
                  <a:lnTo>
                    <a:pt x="445" y="878"/>
                  </a:lnTo>
                  <a:lnTo>
                    <a:pt x="504" y="855"/>
                  </a:lnTo>
                  <a:lnTo>
                    <a:pt x="546" y="825"/>
                  </a:lnTo>
                  <a:lnTo>
                    <a:pt x="595" y="815"/>
                  </a:lnTo>
                  <a:lnTo>
                    <a:pt x="614" y="791"/>
                  </a:lnTo>
                  <a:lnTo>
                    <a:pt x="637" y="776"/>
                  </a:lnTo>
                  <a:lnTo>
                    <a:pt x="661" y="745"/>
                  </a:lnTo>
                  <a:lnTo>
                    <a:pt x="667" y="713"/>
                  </a:lnTo>
                  <a:lnTo>
                    <a:pt x="684" y="673"/>
                  </a:lnTo>
                  <a:lnTo>
                    <a:pt x="694" y="629"/>
                  </a:lnTo>
                  <a:lnTo>
                    <a:pt x="694" y="593"/>
                  </a:lnTo>
                  <a:lnTo>
                    <a:pt x="696" y="549"/>
                  </a:lnTo>
                  <a:lnTo>
                    <a:pt x="700" y="521"/>
                  </a:lnTo>
                  <a:lnTo>
                    <a:pt x="722" y="490"/>
                  </a:lnTo>
                  <a:lnTo>
                    <a:pt x="762" y="462"/>
                  </a:lnTo>
                  <a:lnTo>
                    <a:pt x="793" y="445"/>
                  </a:lnTo>
                  <a:lnTo>
                    <a:pt x="821" y="435"/>
                  </a:lnTo>
                  <a:lnTo>
                    <a:pt x="842" y="420"/>
                  </a:lnTo>
                  <a:lnTo>
                    <a:pt x="874" y="414"/>
                  </a:lnTo>
                  <a:lnTo>
                    <a:pt x="928" y="413"/>
                  </a:lnTo>
                  <a:lnTo>
                    <a:pt x="990" y="413"/>
                  </a:lnTo>
                  <a:lnTo>
                    <a:pt x="1040" y="413"/>
                  </a:lnTo>
                  <a:lnTo>
                    <a:pt x="1078" y="413"/>
                  </a:lnTo>
                  <a:lnTo>
                    <a:pt x="1127" y="409"/>
                  </a:lnTo>
                  <a:lnTo>
                    <a:pt x="1154" y="394"/>
                  </a:lnTo>
                  <a:lnTo>
                    <a:pt x="1186" y="378"/>
                  </a:lnTo>
                  <a:lnTo>
                    <a:pt x="1243" y="337"/>
                  </a:lnTo>
                  <a:lnTo>
                    <a:pt x="1276" y="312"/>
                  </a:lnTo>
                  <a:lnTo>
                    <a:pt x="1308" y="280"/>
                  </a:lnTo>
                  <a:lnTo>
                    <a:pt x="1329" y="253"/>
                  </a:lnTo>
                  <a:lnTo>
                    <a:pt x="1338" y="219"/>
                  </a:lnTo>
                  <a:lnTo>
                    <a:pt x="1361" y="183"/>
                  </a:lnTo>
                  <a:lnTo>
                    <a:pt x="1380" y="150"/>
                  </a:lnTo>
                  <a:lnTo>
                    <a:pt x="1391" y="120"/>
                  </a:lnTo>
                  <a:lnTo>
                    <a:pt x="1414" y="88"/>
                  </a:lnTo>
                  <a:lnTo>
                    <a:pt x="1429" y="53"/>
                  </a:lnTo>
                  <a:lnTo>
                    <a:pt x="1428" y="27"/>
                  </a:lnTo>
                  <a:lnTo>
                    <a:pt x="1433" y="0"/>
                  </a:lnTo>
                  <a:lnTo>
                    <a:pt x="1418" y="4"/>
                  </a:lnTo>
                  <a:lnTo>
                    <a:pt x="14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88760" y="4588560"/>
              <a:ext cx="301680" cy="500400"/>
            </a:xfrm>
            <a:custGeom>
              <a:avLst/>
              <a:gdLst/>
              <a:ahLst/>
              <a:rect l="l" t="t" r="r" b="b"/>
              <a:pathLst>
                <a:path w="359" h="599">
                  <a:moveTo>
                    <a:pt x="19" y="597"/>
                  </a:moveTo>
                  <a:lnTo>
                    <a:pt x="46" y="582"/>
                  </a:lnTo>
                  <a:lnTo>
                    <a:pt x="76" y="567"/>
                  </a:lnTo>
                  <a:lnTo>
                    <a:pt x="108" y="540"/>
                  </a:lnTo>
                  <a:lnTo>
                    <a:pt x="131" y="517"/>
                  </a:lnTo>
                  <a:lnTo>
                    <a:pt x="158" y="502"/>
                  </a:lnTo>
                  <a:lnTo>
                    <a:pt x="184" y="491"/>
                  </a:lnTo>
                  <a:lnTo>
                    <a:pt x="213" y="468"/>
                  </a:lnTo>
                  <a:lnTo>
                    <a:pt x="238" y="447"/>
                  </a:lnTo>
                  <a:lnTo>
                    <a:pt x="257" y="420"/>
                  </a:lnTo>
                  <a:lnTo>
                    <a:pt x="266" y="398"/>
                  </a:lnTo>
                  <a:lnTo>
                    <a:pt x="297" y="384"/>
                  </a:lnTo>
                  <a:lnTo>
                    <a:pt x="310" y="371"/>
                  </a:lnTo>
                  <a:lnTo>
                    <a:pt x="327" y="348"/>
                  </a:lnTo>
                  <a:lnTo>
                    <a:pt x="340" y="327"/>
                  </a:lnTo>
                  <a:lnTo>
                    <a:pt x="346" y="295"/>
                  </a:lnTo>
                  <a:lnTo>
                    <a:pt x="359" y="263"/>
                  </a:lnTo>
                  <a:lnTo>
                    <a:pt x="359" y="238"/>
                  </a:lnTo>
                  <a:lnTo>
                    <a:pt x="355" y="202"/>
                  </a:lnTo>
                  <a:lnTo>
                    <a:pt x="350" y="175"/>
                  </a:lnTo>
                  <a:lnTo>
                    <a:pt x="344" y="143"/>
                  </a:lnTo>
                  <a:lnTo>
                    <a:pt x="317" y="116"/>
                  </a:lnTo>
                  <a:lnTo>
                    <a:pt x="297" y="94"/>
                  </a:lnTo>
                  <a:lnTo>
                    <a:pt x="277" y="76"/>
                  </a:lnTo>
                  <a:lnTo>
                    <a:pt x="220" y="40"/>
                  </a:lnTo>
                  <a:lnTo>
                    <a:pt x="184" y="27"/>
                  </a:lnTo>
                  <a:lnTo>
                    <a:pt x="167" y="21"/>
                  </a:lnTo>
                  <a:lnTo>
                    <a:pt x="144" y="14"/>
                  </a:lnTo>
                  <a:lnTo>
                    <a:pt x="122" y="0"/>
                  </a:lnTo>
                  <a:lnTo>
                    <a:pt x="118" y="25"/>
                  </a:lnTo>
                  <a:lnTo>
                    <a:pt x="144" y="33"/>
                  </a:lnTo>
                  <a:lnTo>
                    <a:pt x="167" y="37"/>
                  </a:lnTo>
                  <a:lnTo>
                    <a:pt x="184" y="48"/>
                  </a:lnTo>
                  <a:lnTo>
                    <a:pt x="203" y="54"/>
                  </a:lnTo>
                  <a:lnTo>
                    <a:pt x="224" y="67"/>
                  </a:lnTo>
                  <a:lnTo>
                    <a:pt x="251" y="80"/>
                  </a:lnTo>
                  <a:lnTo>
                    <a:pt x="274" y="103"/>
                  </a:lnTo>
                  <a:lnTo>
                    <a:pt x="293" y="120"/>
                  </a:lnTo>
                  <a:lnTo>
                    <a:pt x="310" y="143"/>
                  </a:lnTo>
                  <a:lnTo>
                    <a:pt x="327" y="156"/>
                  </a:lnTo>
                  <a:lnTo>
                    <a:pt x="336" y="179"/>
                  </a:lnTo>
                  <a:lnTo>
                    <a:pt x="336" y="206"/>
                  </a:lnTo>
                  <a:lnTo>
                    <a:pt x="340" y="232"/>
                  </a:lnTo>
                  <a:lnTo>
                    <a:pt x="340" y="255"/>
                  </a:lnTo>
                  <a:lnTo>
                    <a:pt x="336" y="286"/>
                  </a:lnTo>
                  <a:lnTo>
                    <a:pt x="327" y="312"/>
                  </a:lnTo>
                  <a:lnTo>
                    <a:pt x="314" y="335"/>
                  </a:lnTo>
                  <a:lnTo>
                    <a:pt x="297" y="362"/>
                  </a:lnTo>
                  <a:lnTo>
                    <a:pt x="283" y="371"/>
                  </a:lnTo>
                  <a:lnTo>
                    <a:pt x="260" y="381"/>
                  </a:lnTo>
                  <a:lnTo>
                    <a:pt x="247" y="398"/>
                  </a:lnTo>
                  <a:lnTo>
                    <a:pt x="230" y="415"/>
                  </a:lnTo>
                  <a:lnTo>
                    <a:pt x="220" y="430"/>
                  </a:lnTo>
                  <a:lnTo>
                    <a:pt x="201" y="447"/>
                  </a:lnTo>
                  <a:lnTo>
                    <a:pt x="184" y="460"/>
                  </a:lnTo>
                  <a:lnTo>
                    <a:pt x="160" y="477"/>
                  </a:lnTo>
                  <a:lnTo>
                    <a:pt x="135" y="495"/>
                  </a:lnTo>
                  <a:lnTo>
                    <a:pt x="114" y="502"/>
                  </a:lnTo>
                  <a:lnTo>
                    <a:pt x="95" y="521"/>
                  </a:lnTo>
                  <a:lnTo>
                    <a:pt x="68" y="540"/>
                  </a:lnTo>
                  <a:lnTo>
                    <a:pt x="46" y="563"/>
                  </a:lnTo>
                  <a:lnTo>
                    <a:pt x="27" y="573"/>
                  </a:lnTo>
                  <a:lnTo>
                    <a:pt x="0" y="599"/>
                  </a:lnTo>
                  <a:lnTo>
                    <a:pt x="19" y="597"/>
                  </a:lnTo>
                  <a:lnTo>
                    <a:pt x="19" y="5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14520" y="4299840"/>
              <a:ext cx="219240" cy="288360"/>
            </a:xfrm>
            <a:custGeom>
              <a:avLst/>
              <a:gdLst/>
              <a:ahLst/>
              <a:rect l="l" t="t" r="r" b="b"/>
              <a:pathLst>
                <a:path w="260" h="347">
                  <a:moveTo>
                    <a:pt x="260" y="325"/>
                  </a:moveTo>
                  <a:lnTo>
                    <a:pt x="226" y="319"/>
                  </a:lnTo>
                  <a:lnTo>
                    <a:pt x="196" y="319"/>
                  </a:lnTo>
                  <a:lnTo>
                    <a:pt x="159" y="304"/>
                  </a:lnTo>
                  <a:lnTo>
                    <a:pt x="137" y="298"/>
                  </a:lnTo>
                  <a:lnTo>
                    <a:pt x="110" y="281"/>
                  </a:lnTo>
                  <a:lnTo>
                    <a:pt x="80" y="268"/>
                  </a:lnTo>
                  <a:lnTo>
                    <a:pt x="64" y="245"/>
                  </a:lnTo>
                  <a:lnTo>
                    <a:pt x="38" y="226"/>
                  </a:lnTo>
                  <a:lnTo>
                    <a:pt x="24" y="199"/>
                  </a:lnTo>
                  <a:lnTo>
                    <a:pt x="21" y="182"/>
                  </a:lnTo>
                  <a:lnTo>
                    <a:pt x="19" y="150"/>
                  </a:lnTo>
                  <a:lnTo>
                    <a:pt x="19" y="116"/>
                  </a:lnTo>
                  <a:lnTo>
                    <a:pt x="26" y="89"/>
                  </a:lnTo>
                  <a:lnTo>
                    <a:pt x="30" y="62"/>
                  </a:lnTo>
                  <a:lnTo>
                    <a:pt x="43" y="36"/>
                  </a:lnTo>
                  <a:lnTo>
                    <a:pt x="76" y="7"/>
                  </a:lnTo>
                  <a:lnTo>
                    <a:pt x="57" y="0"/>
                  </a:lnTo>
                  <a:lnTo>
                    <a:pt x="30" y="21"/>
                  </a:lnTo>
                  <a:lnTo>
                    <a:pt x="15" y="43"/>
                  </a:lnTo>
                  <a:lnTo>
                    <a:pt x="4" y="76"/>
                  </a:lnTo>
                  <a:lnTo>
                    <a:pt x="4" y="102"/>
                  </a:lnTo>
                  <a:lnTo>
                    <a:pt x="0" y="138"/>
                  </a:lnTo>
                  <a:lnTo>
                    <a:pt x="4" y="173"/>
                  </a:lnTo>
                  <a:lnTo>
                    <a:pt x="7" y="209"/>
                  </a:lnTo>
                  <a:lnTo>
                    <a:pt x="21" y="241"/>
                  </a:lnTo>
                  <a:lnTo>
                    <a:pt x="47" y="262"/>
                  </a:lnTo>
                  <a:lnTo>
                    <a:pt x="68" y="289"/>
                  </a:lnTo>
                  <a:lnTo>
                    <a:pt x="97" y="304"/>
                  </a:lnTo>
                  <a:lnTo>
                    <a:pt x="127" y="311"/>
                  </a:lnTo>
                  <a:lnTo>
                    <a:pt x="154" y="321"/>
                  </a:lnTo>
                  <a:lnTo>
                    <a:pt x="180" y="334"/>
                  </a:lnTo>
                  <a:lnTo>
                    <a:pt x="213" y="334"/>
                  </a:lnTo>
                  <a:lnTo>
                    <a:pt x="249" y="347"/>
                  </a:lnTo>
                  <a:lnTo>
                    <a:pt x="260" y="325"/>
                  </a:lnTo>
                  <a:lnTo>
                    <a:pt x="26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07280" y="4447080"/>
              <a:ext cx="258840" cy="19764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6" y="52"/>
                  </a:moveTo>
                  <a:lnTo>
                    <a:pt x="166" y="82"/>
                  </a:lnTo>
                  <a:lnTo>
                    <a:pt x="175" y="0"/>
                  </a:lnTo>
                  <a:lnTo>
                    <a:pt x="221" y="29"/>
                  </a:lnTo>
                  <a:lnTo>
                    <a:pt x="301" y="118"/>
                  </a:lnTo>
                  <a:lnTo>
                    <a:pt x="310" y="154"/>
                  </a:lnTo>
                  <a:lnTo>
                    <a:pt x="221" y="208"/>
                  </a:lnTo>
                  <a:lnTo>
                    <a:pt x="175" y="238"/>
                  </a:lnTo>
                  <a:lnTo>
                    <a:pt x="162" y="154"/>
                  </a:lnTo>
                  <a:lnTo>
                    <a:pt x="99" y="177"/>
                  </a:lnTo>
                  <a:lnTo>
                    <a:pt x="6" y="198"/>
                  </a:lnTo>
                  <a:lnTo>
                    <a:pt x="0" y="139"/>
                  </a:lnTo>
                  <a:lnTo>
                    <a:pt x="0" y="73"/>
                  </a:lnTo>
                  <a:lnTo>
                    <a:pt x="6" y="52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02880" y="4221000"/>
              <a:ext cx="276120" cy="192240"/>
            </a:xfrm>
            <a:custGeom>
              <a:avLst/>
              <a:gdLst/>
              <a:ahLst/>
              <a:rect l="l" t="t" r="r" b="b"/>
              <a:pathLst>
                <a:path w="329" h="230">
                  <a:moveTo>
                    <a:pt x="317" y="58"/>
                  </a:moveTo>
                  <a:lnTo>
                    <a:pt x="213" y="70"/>
                  </a:lnTo>
                  <a:lnTo>
                    <a:pt x="146" y="70"/>
                  </a:lnTo>
                  <a:lnTo>
                    <a:pt x="137" y="0"/>
                  </a:lnTo>
                  <a:lnTo>
                    <a:pt x="0" y="104"/>
                  </a:lnTo>
                  <a:lnTo>
                    <a:pt x="150" y="230"/>
                  </a:lnTo>
                  <a:lnTo>
                    <a:pt x="146" y="161"/>
                  </a:lnTo>
                  <a:lnTo>
                    <a:pt x="329" y="174"/>
                  </a:lnTo>
                  <a:lnTo>
                    <a:pt x="329" y="104"/>
                  </a:lnTo>
                  <a:lnTo>
                    <a:pt x="317" y="58"/>
                  </a:lnTo>
                  <a:lnTo>
                    <a:pt x="317" y="58"/>
                  </a:lnTo>
                  <a:close/>
                </a:path>
              </a:pathLst>
            </a:custGeom>
            <a:solidFill>
              <a:srgbClr val="335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84240" y="3976560"/>
              <a:ext cx="361800" cy="207360"/>
            </a:xfrm>
            <a:custGeom>
              <a:avLst/>
              <a:gdLst/>
              <a:ahLst/>
              <a:rect l="l" t="t" r="r" b="b"/>
              <a:pathLst>
                <a:path w="429" h="249">
                  <a:moveTo>
                    <a:pt x="66" y="0"/>
                  </a:moveTo>
                  <a:lnTo>
                    <a:pt x="26" y="47"/>
                  </a:lnTo>
                  <a:lnTo>
                    <a:pt x="0" y="125"/>
                  </a:lnTo>
                  <a:lnTo>
                    <a:pt x="49" y="125"/>
                  </a:lnTo>
                  <a:lnTo>
                    <a:pt x="205" y="137"/>
                  </a:lnTo>
                  <a:lnTo>
                    <a:pt x="215" y="150"/>
                  </a:lnTo>
                  <a:lnTo>
                    <a:pt x="215" y="199"/>
                  </a:lnTo>
                  <a:lnTo>
                    <a:pt x="211" y="249"/>
                  </a:lnTo>
                  <a:lnTo>
                    <a:pt x="291" y="217"/>
                  </a:lnTo>
                  <a:lnTo>
                    <a:pt x="357" y="186"/>
                  </a:lnTo>
                  <a:lnTo>
                    <a:pt x="429" y="156"/>
                  </a:lnTo>
                  <a:lnTo>
                    <a:pt x="344" y="114"/>
                  </a:lnTo>
                  <a:lnTo>
                    <a:pt x="287" y="61"/>
                  </a:lnTo>
                  <a:lnTo>
                    <a:pt x="255" y="21"/>
                  </a:lnTo>
                  <a:lnTo>
                    <a:pt x="201" y="47"/>
                  </a:lnTo>
                  <a:lnTo>
                    <a:pt x="148" y="3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8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29720" y="3664080"/>
              <a:ext cx="481320" cy="288360"/>
            </a:xfrm>
            <a:custGeom>
              <a:avLst/>
              <a:gdLst/>
              <a:ahLst/>
              <a:rect l="l" t="t" r="r" b="b"/>
              <a:pathLst>
                <a:path w="574" h="346">
                  <a:moveTo>
                    <a:pt x="0" y="145"/>
                  </a:moveTo>
                  <a:lnTo>
                    <a:pt x="49" y="107"/>
                  </a:lnTo>
                  <a:lnTo>
                    <a:pt x="104" y="71"/>
                  </a:lnTo>
                  <a:lnTo>
                    <a:pt x="150" y="42"/>
                  </a:lnTo>
                  <a:lnTo>
                    <a:pt x="224" y="0"/>
                  </a:lnTo>
                  <a:lnTo>
                    <a:pt x="228" y="111"/>
                  </a:lnTo>
                  <a:lnTo>
                    <a:pt x="441" y="124"/>
                  </a:lnTo>
                  <a:lnTo>
                    <a:pt x="572" y="133"/>
                  </a:lnTo>
                  <a:lnTo>
                    <a:pt x="574" y="208"/>
                  </a:lnTo>
                  <a:lnTo>
                    <a:pt x="568" y="257"/>
                  </a:lnTo>
                  <a:lnTo>
                    <a:pt x="298" y="261"/>
                  </a:lnTo>
                  <a:lnTo>
                    <a:pt x="224" y="263"/>
                  </a:lnTo>
                  <a:lnTo>
                    <a:pt x="207" y="346"/>
                  </a:lnTo>
                  <a:lnTo>
                    <a:pt x="150" y="299"/>
                  </a:lnTo>
                  <a:lnTo>
                    <a:pt x="119" y="257"/>
                  </a:lnTo>
                  <a:lnTo>
                    <a:pt x="62" y="198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49040" y="3700800"/>
              <a:ext cx="55440" cy="5832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0" y="70"/>
                  </a:moveTo>
                  <a:lnTo>
                    <a:pt x="4" y="4"/>
                  </a:lnTo>
                  <a:lnTo>
                    <a:pt x="66" y="0"/>
                  </a:lnTo>
                  <a:lnTo>
                    <a:pt x="57" y="67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44720" y="3880440"/>
              <a:ext cx="60120" cy="1188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12"/>
                  </a:moveTo>
                  <a:lnTo>
                    <a:pt x="8" y="84"/>
                  </a:lnTo>
                  <a:lnTo>
                    <a:pt x="4" y="0"/>
                  </a:lnTo>
                  <a:lnTo>
                    <a:pt x="72" y="6"/>
                  </a:lnTo>
                  <a:lnTo>
                    <a:pt x="70" y="68"/>
                  </a:lnTo>
                  <a:lnTo>
                    <a:pt x="67" y="144"/>
                  </a:lnTo>
                  <a:lnTo>
                    <a:pt x="30" y="135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52280" y="4086720"/>
              <a:ext cx="52200" cy="185760"/>
            </a:xfrm>
            <a:custGeom>
              <a:avLst/>
              <a:gdLst/>
              <a:ahLst/>
              <a:rect l="l" t="t" r="r" b="b"/>
              <a:pathLst>
                <a:path w="64" h="222">
                  <a:moveTo>
                    <a:pt x="0" y="218"/>
                  </a:moveTo>
                  <a:lnTo>
                    <a:pt x="0" y="165"/>
                  </a:lnTo>
                  <a:lnTo>
                    <a:pt x="0" y="12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2" y="76"/>
                  </a:lnTo>
                  <a:lnTo>
                    <a:pt x="62" y="129"/>
                  </a:lnTo>
                  <a:lnTo>
                    <a:pt x="59" y="222"/>
                  </a:lnTo>
                  <a:lnTo>
                    <a:pt x="0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4720" y="4361400"/>
              <a:ext cx="67680" cy="14688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0" y="154"/>
                  </a:moveTo>
                  <a:lnTo>
                    <a:pt x="21" y="85"/>
                  </a:lnTo>
                  <a:lnTo>
                    <a:pt x="8" y="0"/>
                  </a:lnTo>
                  <a:lnTo>
                    <a:pt x="80" y="0"/>
                  </a:lnTo>
                  <a:lnTo>
                    <a:pt x="67" y="64"/>
                  </a:lnTo>
                  <a:lnTo>
                    <a:pt x="65" y="125"/>
                  </a:lnTo>
                  <a:lnTo>
                    <a:pt x="67" y="175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44720" y="4592880"/>
              <a:ext cx="71280" cy="399600"/>
            </a:xfrm>
            <a:custGeom>
              <a:avLst/>
              <a:gdLst/>
              <a:ahLst/>
              <a:rect l="l" t="t" r="r" b="b"/>
              <a:pathLst>
                <a:path w="84" h="479">
                  <a:moveTo>
                    <a:pt x="0" y="473"/>
                  </a:moveTo>
                  <a:lnTo>
                    <a:pt x="0" y="388"/>
                  </a:lnTo>
                  <a:lnTo>
                    <a:pt x="11" y="179"/>
                  </a:lnTo>
                  <a:lnTo>
                    <a:pt x="4" y="17"/>
                  </a:lnTo>
                  <a:lnTo>
                    <a:pt x="80" y="0"/>
                  </a:lnTo>
                  <a:lnTo>
                    <a:pt x="84" y="99"/>
                  </a:lnTo>
                  <a:lnTo>
                    <a:pt x="67" y="169"/>
                  </a:lnTo>
                  <a:lnTo>
                    <a:pt x="70" y="301"/>
                  </a:lnTo>
                  <a:lnTo>
                    <a:pt x="70" y="392"/>
                  </a:lnTo>
                  <a:lnTo>
                    <a:pt x="72" y="479"/>
                  </a:lnTo>
                  <a:lnTo>
                    <a:pt x="0" y="47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18560" y="3651840"/>
              <a:ext cx="498960" cy="326520"/>
            </a:xfrm>
            <a:custGeom>
              <a:avLst/>
              <a:gdLst/>
              <a:ahLst/>
              <a:rect l="l" t="t" r="r" b="b"/>
              <a:pathLst>
                <a:path w="595" h="394">
                  <a:moveTo>
                    <a:pt x="595" y="139"/>
                  </a:moveTo>
                  <a:lnTo>
                    <a:pt x="555" y="137"/>
                  </a:lnTo>
                  <a:lnTo>
                    <a:pt x="527" y="137"/>
                  </a:lnTo>
                  <a:lnTo>
                    <a:pt x="489" y="133"/>
                  </a:lnTo>
                  <a:lnTo>
                    <a:pt x="443" y="129"/>
                  </a:lnTo>
                  <a:lnTo>
                    <a:pt x="411" y="126"/>
                  </a:lnTo>
                  <a:lnTo>
                    <a:pt x="371" y="126"/>
                  </a:lnTo>
                  <a:lnTo>
                    <a:pt x="335" y="122"/>
                  </a:lnTo>
                  <a:lnTo>
                    <a:pt x="301" y="118"/>
                  </a:lnTo>
                  <a:lnTo>
                    <a:pt x="285" y="118"/>
                  </a:lnTo>
                  <a:lnTo>
                    <a:pt x="255" y="118"/>
                  </a:lnTo>
                  <a:lnTo>
                    <a:pt x="251" y="99"/>
                  </a:lnTo>
                  <a:lnTo>
                    <a:pt x="251" y="76"/>
                  </a:lnTo>
                  <a:lnTo>
                    <a:pt x="251" y="53"/>
                  </a:lnTo>
                  <a:lnTo>
                    <a:pt x="251" y="23"/>
                  </a:lnTo>
                  <a:lnTo>
                    <a:pt x="251" y="0"/>
                  </a:lnTo>
                  <a:lnTo>
                    <a:pt x="232" y="4"/>
                  </a:lnTo>
                  <a:lnTo>
                    <a:pt x="202" y="23"/>
                  </a:lnTo>
                  <a:lnTo>
                    <a:pt x="179" y="36"/>
                  </a:lnTo>
                  <a:lnTo>
                    <a:pt x="149" y="57"/>
                  </a:lnTo>
                  <a:lnTo>
                    <a:pt x="130" y="63"/>
                  </a:lnTo>
                  <a:lnTo>
                    <a:pt x="103" y="90"/>
                  </a:lnTo>
                  <a:lnTo>
                    <a:pt x="76" y="103"/>
                  </a:lnTo>
                  <a:lnTo>
                    <a:pt x="46" y="126"/>
                  </a:lnTo>
                  <a:lnTo>
                    <a:pt x="14" y="148"/>
                  </a:lnTo>
                  <a:lnTo>
                    <a:pt x="0" y="162"/>
                  </a:lnTo>
                  <a:lnTo>
                    <a:pt x="44" y="196"/>
                  </a:lnTo>
                  <a:lnTo>
                    <a:pt x="84" y="236"/>
                  </a:lnTo>
                  <a:lnTo>
                    <a:pt x="126" y="278"/>
                  </a:lnTo>
                  <a:lnTo>
                    <a:pt x="156" y="325"/>
                  </a:lnTo>
                  <a:lnTo>
                    <a:pt x="189" y="356"/>
                  </a:lnTo>
                  <a:lnTo>
                    <a:pt x="228" y="394"/>
                  </a:lnTo>
                  <a:lnTo>
                    <a:pt x="238" y="363"/>
                  </a:lnTo>
                  <a:lnTo>
                    <a:pt x="238" y="321"/>
                  </a:lnTo>
                  <a:lnTo>
                    <a:pt x="244" y="291"/>
                  </a:lnTo>
                  <a:lnTo>
                    <a:pt x="274" y="285"/>
                  </a:lnTo>
                  <a:lnTo>
                    <a:pt x="318" y="285"/>
                  </a:lnTo>
                  <a:lnTo>
                    <a:pt x="371" y="282"/>
                  </a:lnTo>
                  <a:lnTo>
                    <a:pt x="420" y="282"/>
                  </a:lnTo>
                  <a:lnTo>
                    <a:pt x="474" y="285"/>
                  </a:lnTo>
                  <a:lnTo>
                    <a:pt x="512" y="285"/>
                  </a:lnTo>
                  <a:lnTo>
                    <a:pt x="546" y="285"/>
                  </a:lnTo>
                  <a:lnTo>
                    <a:pt x="592" y="282"/>
                  </a:lnTo>
                  <a:lnTo>
                    <a:pt x="592" y="261"/>
                  </a:lnTo>
                  <a:lnTo>
                    <a:pt x="546" y="264"/>
                  </a:lnTo>
                  <a:lnTo>
                    <a:pt x="500" y="268"/>
                  </a:lnTo>
                  <a:lnTo>
                    <a:pt x="470" y="268"/>
                  </a:lnTo>
                  <a:lnTo>
                    <a:pt x="420" y="264"/>
                  </a:lnTo>
                  <a:lnTo>
                    <a:pt x="367" y="264"/>
                  </a:lnTo>
                  <a:lnTo>
                    <a:pt x="331" y="268"/>
                  </a:lnTo>
                  <a:lnTo>
                    <a:pt x="282" y="268"/>
                  </a:lnTo>
                  <a:lnTo>
                    <a:pt x="228" y="268"/>
                  </a:lnTo>
                  <a:lnTo>
                    <a:pt x="221" y="312"/>
                  </a:lnTo>
                  <a:lnTo>
                    <a:pt x="219" y="344"/>
                  </a:lnTo>
                  <a:lnTo>
                    <a:pt x="189" y="329"/>
                  </a:lnTo>
                  <a:lnTo>
                    <a:pt x="166" y="304"/>
                  </a:lnTo>
                  <a:lnTo>
                    <a:pt x="145" y="278"/>
                  </a:lnTo>
                  <a:lnTo>
                    <a:pt x="133" y="255"/>
                  </a:lnTo>
                  <a:lnTo>
                    <a:pt x="107" y="228"/>
                  </a:lnTo>
                  <a:lnTo>
                    <a:pt x="80" y="205"/>
                  </a:lnTo>
                  <a:lnTo>
                    <a:pt x="54" y="183"/>
                  </a:lnTo>
                  <a:lnTo>
                    <a:pt x="27" y="162"/>
                  </a:lnTo>
                  <a:lnTo>
                    <a:pt x="50" y="143"/>
                  </a:lnTo>
                  <a:lnTo>
                    <a:pt x="86" y="122"/>
                  </a:lnTo>
                  <a:lnTo>
                    <a:pt x="112" y="99"/>
                  </a:lnTo>
                  <a:lnTo>
                    <a:pt x="149" y="72"/>
                  </a:lnTo>
                  <a:lnTo>
                    <a:pt x="189" y="59"/>
                  </a:lnTo>
                  <a:lnTo>
                    <a:pt x="225" y="34"/>
                  </a:lnTo>
                  <a:lnTo>
                    <a:pt x="225" y="50"/>
                  </a:lnTo>
                  <a:lnTo>
                    <a:pt x="232" y="76"/>
                  </a:lnTo>
                  <a:lnTo>
                    <a:pt x="232" y="107"/>
                  </a:lnTo>
                  <a:lnTo>
                    <a:pt x="228" y="129"/>
                  </a:lnTo>
                  <a:lnTo>
                    <a:pt x="255" y="139"/>
                  </a:lnTo>
                  <a:lnTo>
                    <a:pt x="301" y="143"/>
                  </a:lnTo>
                  <a:lnTo>
                    <a:pt x="361" y="148"/>
                  </a:lnTo>
                  <a:lnTo>
                    <a:pt x="413" y="145"/>
                  </a:lnTo>
                  <a:lnTo>
                    <a:pt x="479" y="148"/>
                  </a:lnTo>
                  <a:lnTo>
                    <a:pt x="527" y="156"/>
                  </a:lnTo>
                  <a:lnTo>
                    <a:pt x="576" y="156"/>
                  </a:lnTo>
                  <a:lnTo>
                    <a:pt x="595" y="139"/>
                  </a:lnTo>
                  <a:lnTo>
                    <a:pt x="595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98080" y="3767760"/>
              <a:ext cx="23040" cy="112320"/>
            </a:xfrm>
            <a:custGeom>
              <a:avLst/>
              <a:gdLst/>
              <a:ahLst/>
              <a:rect l="l" t="t" r="r" b="b"/>
              <a:pathLst>
                <a:path w="26" h="133">
                  <a:moveTo>
                    <a:pt x="22" y="0"/>
                  </a:moveTo>
                  <a:lnTo>
                    <a:pt x="22" y="30"/>
                  </a:lnTo>
                  <a:lnTo>
                    <a:pt x="26" y="84"/>
                  </a:lnTo>
                  <a:lnTo>
                    <a:pt x="26" y="97"/>
                  </a:lnTo>
                  <a:lnTo>
                    <a:pt x="19" y="122"/>
                  </a:lnTo>
                  <a:lnTo>
                    <a:pt x="9" y="133"/>
                  </a:lnTo>
                  <a:lnTo>
                    <a:pt x="3" y="116"/>
                  </a:lnTo>
                  <a:lnTo>
                    <a:pt x="7" y="85"/>
                  </a:lnTo>
                  <a:lnTo>
                    <a:pt x="7" y="57"/>
                  </a:lnTo>
                  <a:lnTo>
                    <a:pt x="3" y="17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66600" y="3954960"/>
              <a:ext cx="399960" cy="241920"/>
            </a:xfrm>
            <a:custGeom>
              <a:avLst/>
              <a:gdLst/>
              <a:ahLst/>
              <a:rect l="l" t="t" r="r" b="b"/>
              <a:pathLst>
                <a:path w="477" h="293">
                  <a:moveTo>
                    <a:pt x="74" y="0"/>
                  </a:moveTo>
                  <a:lnTo>
                    <a:pt x="97" y="8"/>
                  </a:lnTo>
                  <a:lnTo>
                    <a:pt x="139" y="44"/>
                  </a:lnTo>
                  <a:lnTo>
                    <a:pt x="177" y="48"/>
                  </a:lnTo>
                  <a:lnTo>
                    <a:pt x="213" y="69"/>
                  </a:lnTo>
                  <a:lnTo>
                    <a:pt x="232" y="61"/>
                  </a:lnTo>
                  <a:lnTo>
                    <a:pt x="241" y="48"/>
                  </a:lnTo>
                  <a:lnTo>
                    <a:pt x="262" y="31"/>
                  </a:lnTo>
                  <a:lnTo>
                    <a:pt x="276" y="15"/>
                  </a:lnTo>
                  <a:lnTo>
                    <a:pt x="295" y="42"/>
                  </a:lnTo>
                  <a:lnTo>
                    <a:pt x="306" y="65"/>
                  </a:lnTo>
                  <a:lnTo>
                    <a:pt x="342" y="88"/>
                  </a:lnTo>
                  <a:lnTo>
                    <a:pt x="357" y="114"/>
                  </a:lnTo>
                  <a:lnTo>
                    <a:pt x="388" y="141"/>
                  </a:lnTo>
                  <a:lnTo>
                    <a:pt x="424" y="160"/>
                  </a:lnTo>
                  <a:lnTo>
                    <a:pt x="448" y="173"/>
                  </a:lnTo>
                  <a:lnTo>
                    <a:pt x="477" y="190"/>
                  </a:lnTo>
                  <a:lnTo>
                    <a:pt x="437" y="204"/>
                  </a:lnTo>
                  <a:lnTo>
                    <a:pt x="397" y="209"/>
                  </a:lnTo>
                  <a:lnTo>
                    <a:pt x="361" y="232"/>
                  </a:lnTo>
                  <a:lnTo>
                    <a:pt x="325" y="253"/>
                  </a:lnTo>
                  <a:lnTo>
                    <a:pt x="302" y="263"/>
                  </a:lnTo>
                  <a:lnTo>
                    <a:pt x="256" y="276"/>
                  </a:lnTo>
                  <a:lnTo>
                    <a:pt x="218" y="293"/>
                  </a:lnTo>
                  <a:lnTo>
                    <a:pt x="222" y="253"/>
                  </a:lnTo>
                  <a:lnTo>
                    <a:pt x="226" y="209"/>
                  </a:lnTo>
                  <a:lnTo>
                    <a:pt x="230" y="183"/>
                  </a:lnTo>
                  <a:lnTo>
                    <a:pt x="215" y="177"/>
                  </a:lnTo>
                  <a:lnTo>
                    <a:pt x="177" y="169"/>
                  </a:lnTo>
                  <a:lnTo>
                    <a:pt x="142" y="168"/>
                  </a:lnTo>
                  <a:lnTo>
                    <a:pt x="110" y="168"/>
                  </a:lnTo>
                  <a:lnTo>
                    <a:pt x="61" y="168"/>
                  </a:lnTo>
                  <a:lnTo>
                    <a:pt x="21" y="168"/>
                  </a:lnTo>
                  <a:lnTo>
                    <a:pt x="0" y="169"/>
                  </a:lnTo>
                  <a:lnTo>
                    <a:pt x="4" y="145"/>
                  </a:lnTo>
                  <a:lnTo>
                    <a:pt x="44" y="145"/>
                  </a:lnTo>
                  <a:lnTo>
                    <a:pt x="78" y="145"/>
                  </a:lnTo>
                  <a:lnTo>
                    <a:pt x="106" y="145"/>
                  </a:lnTo>
                  <a:lnTo>
                    <a:pt x="165" y="147"/>
                  </a:lnTo>
                  <a:lnTo>
                    <a:pt x="209" y="150"/>
                  </a:lnTo>
                  <a:lnTo>
                    <a:pt x="232" y="156"/>
                  </a:lnTo>
                  <a:lnTo>
                    <a:pt x="262" y="168"/>
                  </a:lnTo>
                  <a:lnTo>
                    <a:pt x="245" y="190"/>
                  </a:lnTo>
                  <a:lnTo>
                    <a:pt x="245" y="223"/>
                  </a:lnTo>
                  <a:lnTo>
                    <a:pt x="239" y="257"/>
                  </a:lnTo>
                  <a:lnTo>
                    <a:pt x="279" y="244"/>
                  </a:lnTo>
                  <a:lnTo>
                    <a:pt x="317" y="223"/>
                  </a:lnTo>
                  <a:lnTo>
                    <a:pt x="344" y="209"/>
                  </a:lnTo>
                  <a:lnTo>
                    <a:pt x="384" y="204"/>
                  </a:lnTo>
                  <a:lnTo>
                    <a:pt x="428" y="183"/>
                  </a:lnTo>
                  <a:lnTo>
                    <a:pt x="397" y="173"/>
                  </a:lnTo>
                  <a:lnTo>
                    <a:pt x="348" y="145"/>
                  </a:lnTo>
                  <a:lnTo>
                    <a:pt x="295" y="107"/>
                  </a:lnTo>
                  <a:lnTo>
                    <a:pt x="283" y="76"/>
                  </a:lnTo>
                  <a:lnTo>
                    <a:pt x="258" y="69"/>
                  </a:lnTo>
                  <a:lnTo>
                    <a:pt x="236" y="80"/>
                  </a:lnTo>
                  <a:lnTo>
                    <a:pt x="213" y="88"/>
                  </a:lnTo>
                  <a:lnTo>
                    <a:pt x="186" y="76"/>
                  </a:lnTo>
                  <a:lnTo>
                    <a:pt x="163" y="69"/>
                  </a:lnTo>
                  <a:lnTo>
                    <a:pt x="137" y="65"/>
                  </a:lnTo>
                  <a:lnTo>
                    <a:pt x="116" y="53"/>
                  </a:lnTo>
                  <a:lnTo>
                    <a:pt x="97" y="44"/>
                  </a:lnTo>
                  <a:lnTo>
                    <a:pt x="80" y="3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69840" y="3954960"/>
              <a:ext cx="85320" cy="131760"/>
            </a:xfrm>
            <a:custGeom>
              <a:avLst/>
              <a:gdLst/>
              <a:ahLst/>
              <a:rect l="l" t="t" r="r" b="b"/>
              <a:pathLst>
                <a:path w="100" h="160">
                  <a:moveTo>
                    <a:pt x="70" y="0"/>
                  </a:moveTo>
                  <a:lnTo>
                    <a:pt x="49" y="34"/>
                  </a:lnTo>
                  <a:lnTo>
                    <a:pt x="40" y="65"/>
                  </a:lnTo>
                  <a:lnTo>
                    <a:pt x="22" y="99"/>
                  </a:lnTo>
                  <a:lnTo>
                    <a:pt x="0" y="145"/>
                  </a:lnTo>
                  <a:lnTo>
                    <a:pt x="17" y="160"/>
                  </a:lnTo>
                  <a:lnTo>
                    <a:pt x="40" y="145"/>
                  </a:lnTo>
                  <a:lnTo>
                    <a:pt x="36" y="118"/>
                  </a:lnTo>
                  <a:lnTo>
                    <a:pt x="62" y="88"/>
                  </a:lnTo>
                  <a:lnTo>
                    <a:pt x="70" y="61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76600" y="4195800"/>
              <a:ext cx="312480" cy="233640"/>
            </a:xfrm>
            <a:custGeom>
              <a:avLst/>
              <a:gdLst/>
              <a:ahLst/>
              <a:rect l="l" t="t" r="r" b="b"/>
              <a:pathLst>
                <a:path w="372" h="281">
                  <a:moveTo>
                    <a:pt x="366" y="76"/>
                  </a:moveTo>
                  <a:lnTo>
                    <a:pt x="334" y="82"/>
                  </a:lnTo>
                  <a:lnTo>
                    <a:pt x="298" y="82"/>
                  </a:lnTo>
                  <a:lnTo>
                    <a:pt x="273" y="82"/>
                  </a:lnTo>
                  <a:lnTo>
                    <a:pt x="245" y="86"/>
                  </a:lnTo>
                  <a:lnTo>
                    <a:pt x="209" y="89"/>
                  </a:lnTo>
                  <a:lnTo>
                    <a:pt x="186" y="89"/>
                  </a:lnTo>
                  <a:lnTo>
                    <a:pt x="186" y="63"/>
                  </a:lnTo>
                  <a:lnTo>
                    <a:pt x="186" y="44"/>
                  </a:lnTo>
                  <a:lnTo>
                    <a:pt x="186" y="0"/>
                  </a:lnTo>
                  <a:lnTo>
                    <a:pt x="155" y="21"/>
                  </a:lnTo>
                  <a:lnTo>
                    <a:pt x="119" y="48"/>
                  </a:lnTo>
                  <a:lnTo>
                    <a:pt x="85" y="70"/>
                  </a:lnTo>
                  <a:lnTo>
                    <a:pt x="49" y="89"/>
                  </a:lnTo>
                  <a:lnTo>
                    <a:pt x="30" y="108"/>
                  </a:lnTo>
                  <a:lnTo>
                    <a:pt x="0" y="124"/>
                  </a:lnTo>
                  <a:lnTo>
                    <a:pt x="43" y="152"/>
                  </a:lnTo>
                  <a:lnTo>
                    <a:pt x="85" y="192"/>
                  </a:lnTo>
                  <a:lnTo>
                    <a:pt x="115" y="219"/>
                  </a:lnTo>
                  <a:lnTo>
                    <a:pt x="142" y="234"/>
                  </a:lnTo>
                  <a:lnTo>
                    <a:pt x="159" y="255"/>
                  </a:lnTo>
                  <a:lnTo>
                    <a:pt x="186" y="281"/>
                  </a:lnTo>
                  <a:lnTo>
                    <a:pt x="192" y="234"/>
                  </a:lnTo>
                  <a:lnTo>
                    <a:pt x="192" y="205"/>
                  </a:lnTo>
                  <a:lnTo>
                    <a:pt x="222" y="205"/>
                  </a:lnTo>
                  <a:lnTo>
                    <a:pt x="254" y="205"/>
                  </a:lnTo>
                  <a:lnTo>
                    <a:pt x="294" y="211"/>
                  </a:lnTo>
                  <a:lnTo>
                    <a:pt x="344" y="215"/>
                  </a:lnTo>
                  <a:lnTo>
                    <a:pt x="370" y="219"/>
                  </a:lnTo>
                  <a:lnTo>
                    <a:pt x="372" y="200"/>
                  </a:lnTo>
                  <a:lnTo>
                    <a:pt x="330" y="192"/>
                  </a:lnTo>
                  <a:lnTo>
                    <a:pt x="277" y="185"/>
                  </a:lnTo>
                  <a:lnTo>
                    <a:pt x="231" y="183"/>
                  </a:lnTo>
                  <a:lnTo>
                    <a:pt x="192" y="179"/>
                  </a:lnTo>
                  <a:lnTo>
                    <a:pt x="172" y="179"/>
                  </a:lnTo>
                  <a:lnTo>
                    <a:pt x="169" y="211"/>
                  </a:lnTo>
                  <a:lnTo>
                    <a:pt x="174" y="234"/>
                  </a:lnTo>
                  <a:lnTo>
                    <a:pt x="146" y="211"/>
                  </a:lnTo>
                  <a:lnTo>
                    <a:pt x="108" y="185"/>
                  </a:lnTo>
                  <a:lnTo>
                    <a:pt x="81" y="166"/>
                  </a:lnTo>
                  <a:lnTo>
                    <a:pt x="49" y="135"/>
                  </a:lnTo>
                  <a:lnTo>
                    <a:pt x="74" y="120"/>
                  </a:lnTo>
                  <a:lnTo>
                    <a:pt x="96" y="93"/>
                  </a:lnTo>
                  <a:lnTo>
                    <a:pt x="125" y="76"/>
                  </a:lnTo>
                  <a:lnTo>
                    <a:pt x="155" y="50"/>
                  </a:lnTo>
                  <a:lnTo>
                    <a:pt x="161" y="76"/>
                  </a:lnTo>
                  <a:lnTo>
                    <a:pt x="161" y="107"/>
                  </a:lnTo>
                  <a:lnTo>
                    <a:pt x="186" y="108"/>
                  </a:lnTo>
                  <a:lnTo>
                    <a:pt x="224" y="107"/>
                  </a:lnTo>
                  <a:lnTo>
                    <a:pt x="273" y="107"/>
                  </a:lnTo>
                  <a:lnTo>
                    <a:pt x="317" y="103"/>
                  </a:lnTo>
                  <a:lnTo>
                    <a:pt x="357" y="101"/>
                  </a:lnTo>
                  <a:lnTo>
                    <a:pt x="366" y="76"/>
                  </a:lnTo>
                  <a:lnTo>
                    <a:pt x="3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65320" y="4258800"/>
              <a:ext cx="24120" cy="10800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2" y="0"/>
                  </a:moveTo>
                  <a:lnTo>
                    <a:pt x="22" y="27"/>
                  </a:lnTo>
                  <a:lnTo>
                    <a:pt x="22" y="57"/>
                  </a:lnTo>
                  <a:lnTo>
                    <a:pt x="22" y="90"/>
                  </a:lnTo>
                  <a:lnTo>
                    <a:pt x="28" y="124"/>
                  </a:lnTo>
                  <a:lnTo>
                    <a:pt x="9" y="129"/>
                  </a:lnTo>
                  <a:lnTo>
                    <a:pt x="5" y="103"/>
                  </a:lnTo>
                  <a:lnTo>
                    <a:pt x="3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93240" y="4429440"/>
              <a:ext cx="299160" cy="23148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57"/>
                  </a:moveTo>
                  <a:lnTo>
                    <a:pt x="44" y="73"/>
                  </a:lnTo>
                  <a:lnTo>
                    <a:pt x="80" y="76"/>
                  </a:lnTo>
                  <a:lnTo>
                    <a:pt x="128" y="84"/>
                  </a:lnTo>
                  <a:lnTo>
                    <a:pt x="169" y="90"/>
                  </a:lnTo>
                  <a:lnTo>
                    <a:pt x="177" y="59"/>
                  </a:lnTo>
                  <a:lnTo>
                    <a:pt x="179" y="33"/>
                  </a:lnTo>
                  <a:lnTo>
                    <a:pt x="179" y="0"/>
                  </a:lnTo>
                  <a:lnTo>
                    <a:pt x="200" y="4"/>
                  </a:lnTo>
                  <a:lnTo>
                    <a:pt x="234" y="31"/>
                  </a:lnTo>
                  <a:lnTo>
                    <a:pt x="261" y="63"/>
                  </a:lnTo>
                  <a:lnTo>
                    <a:pt x="282" y="97"/>
                  </a:lnTo>
                  <a:lnTo>
                    <a:pt x="312" y="122"/>
                  </a:lnTo>
                  <a:lnTo>
                    <a:pt x="344" y="153"/>
                  </a:lnTo>
                  <a:lnTo>
                    <a:pt x="358" y="170"/>
                  </a:lnTo>
                  <a:lnTo>
                    <a:pt x="335" y="187"/>
                  </a:lnTo>
                  <a:lnTo>
                    <a:pt x="312" y="198"/>
                  </a:lnTo>
                  <a:lnTo>
                    <a:pt x="282" y="219"/>
                  </a:lnTo>
                  <a:lnTo>
                    <a:pt x="261" y="240"/>
                  </a:lnTo>
                  <a:lnTo>
                    <a:pt x="232" y="251"/>
                  </a:lnTo>
                  <a:lnTo>
                    <a:pt x="211" y="268"/>
                  </a:lnTo>
                  <a:lnTo>
                    <a:pt x="185" y="278"/>
                  </a:lnTo>
                  <a:lnTo>
                    <a:pt x="183" y="248"/>
                  </a:lnTo>
                  <a:lnTo>
                    <a:pt x="179" y="210"/>
                  </a:lnTo>
                  <a:lnTo>
                    <a:pt x="177" y="192"/>
                  </a:lnTo>
                  <a:lnTo>
                    <a:pt x="143" y="196"/>
                  </a:lnTo>
                  <a:lnTo>
                    <a:pt x="116" y="210"/>
                  </a:lnTo>
                  <a:lnTo>
                    <a:pt x="76" y="217"/>
                  </a:lnTo>
                  <a:lnTo>
                    <a:pt x="63" y="225"/>
                  </a:lnTo>
                  <a:lnTo>
                    <a:pt x="8" y="232"/>
                  </a:lnTo>
                  <a:lnTo>
                    <a:pt x="4" y="196"/>
                  </a:lnTo>
                  <a:lnTo>
                    <a:pt x="63" y="202"/>
                  </a:lnTo>
                  <a:lnTo>
                    <a:pt x="107" y="191"/>
                  </a:lnTo>
                  <a:lnTo>
                    <a:pt x="143" y="175"/>
                  </a:lnTo>
                  <a:lnTo>
                    <a:pt x="185" y="166"/>
                  </a:lnTo>
                  <a:lnTo>
                    <a:pt x="188" y="191"/>
                  </a:lnTo>
                  <a:lnTo>
                    <a:pt x="196" y="219"/>
                  </a:lnTo>
                  <a:lnTo>
                    <a:pt x="200" y="240"/>
                  </a:lnTo>
                  <a:lnTo>
                    <a:pt x="228" y="223"/>
                  </a:lnTo>
                  <a:lnTo>
                    <a:pt x="265" y="198"/>
                  </a:lnTo>
                  <a:lnTo>
                    <a:pt x="287" y="183"/>
                  </a:lnTo>
                  <a:lnTo>
                    <a:pt x="318" y="170"/>
                  </a:lnTo>
                  <a:lnTo>
                    <a:pt x="295" y="134"/>
                  </a:lnTo>
                  <a:lnTo>
                    <a:pt x="261" y="107"/>
                  </a:lnTo>
                  <a:lnTo>
                    <a:pt x="238" y="73"/>
                  </a:lnTo>
                  <a:lnTo>
                    <a:pt x="209" y="40"/>
                  </a:lnTo>
                  <a:lnTo>
                    <a:pt x="196" y="67"/>
                  </a:lnTo>
                  <a:lnTo>
                    <a:pt x="196" y="97"/>
                  </a:lnTo>
                  <a:lnTo>
                    <a:pt x="188" y="120"/>
                  </a:lnTo>
                  <a:lnTo>
                    <a:pt x="143" y="113"/>
                  </a:lnTo>
                  <a:lnTo>
                    <a:pt x="107" y="103"/>
                  </a:lnTo>
                  <a:lnTo>
                    <a:pt x="76" y="97"/>
                  </a:lnTo>
                  <a:lnTo>
                    <a:pt x="36" y="90"/>
                  </a:lnTo>
                  <a:lnTo>
                    <a:pt x="4" y="9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7200" y="4490280"/>
              <a:ext cx="25200" cy="113400"/>
            </a:xfrm>
            <a:custGeom>
              <a:avLst/>
              <a:gdLst/>
              <a:ahLst/>
              <a:rect l="l" t="t" r="r" b="b"/>
              <a:pathLst>
                <a:path w="30" h="137">
                  <a:moveTo>
                    <a:pt x="0" y="17"/>
                  </a:moveTo>
                  <a:lnTo>
                    <a:pt x="0" y="49"/>
                  </a:lnTo>
                  <a:lnTo>
                    <a:pt x="4" y="76"/>
                  </a:lnTo>
                  <a:lnTo>
                    <a:pt x="0" y="123"/>
                  </a:lnTo>
                  <a:lnTo>
                    <a:pt x="19" y="137"/>
                  </a:lnTo>
                  <a:lnTo>
                    <a:pt x="30" y="118"/>
                  </a:lnTo>
                  <a:lnTo>
                    <a:pt x="27" y="83"/>
                  </a:lnTo>
                  <a:lnTo>
                    <a:pt x="23" y="57"/>
                  </a:lnTo>
                  <a:lnTo>
                    <a:pt x="23" y="24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42200" y="3687840"/>
              <a:ext cx="69840" cy="799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0" y="91"/>
                  </a:moveTo>
                  <a:lnTo>
                    <a:pt x="0" y="61"/>
                  </a:lnTo>
                  <a:lnTo>
                    <a:pt x="4" y="30"/>
                  </a:lnTo>
                  <a:lnTo>
                    <a:pt x="4" y="11"/>
                  </a:lnTo>
                  <a:lnTo>
                    <a:pt x="48" y="11"/>
                  </a:lnTo>
                  <a:lnTo>
                    <a:pt x="84" y="0"/>
                  </a:lnTo>
                  <a:lnTo>
                    <a:pt x="80" y="25"/>
                  </a:lnTo>
                  <a:lnTo>
                    <a:pt x="76" y="65"/>
                  </a:lnTo>
                  <a:lnTo>
                    <a:pt x="76" y="97"/>
                  </a:lnTo>
                  <a:lnTo>
                    <a:pt x="50" y="97"/>
                  </a:lnTo>
                  <a:lnTo>
                    <a:pt x="57" y="74"/>
                  </a:lnTo>
                  <a:lnTo>
                    <a:pt x="65" y="49"/>
                  </a:lnTo>
                  <a:lnTo>
                    <a:pt x="65" y="27"/>
                  </a:lnTo>
                  <a:lnTo>
                    <a:pt x="50" y="30"/>
                  </a:lnTo>
                  <a:lnTo>
                    <a:pt x="21" y="27"/>
                  </a:lnTo>
                  <a:lnTo>
                    <a:pt x="21" y="53"/>
                  </a:lnTo>
                  <a:lnTo>
                    <a:pt x="21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40040" y="3881160"/>
              <a:ext cx="19800" cy="104760"/>
            </a:xfrm>
            <a:custGeom>
              <a:avLst/>
              <a:gdLst/>
              <a:ahLst/>
              <a:rect l="l" t="t" r="r" b="b"/>
              <a:pathLst>
                <a:path w="23" h="125">
                  <a:moveTo>
                    <a:pt x="2" y="0"/>
                  </a:moveTo>
                  <a:lnTo>
                    <a:pt x="2" y="23"/>
                  </a:lnTo>
                  <a:lnTo>
                    <a:pt x="10" y="61"/>
                  </a:lnTo>
                  <a:lnTo>
                    <a:pt x="2" y="76"/>
                  </a:lnTo>
                  <a:lnTo>
                    <a:pt x="0" y="114"/>
                  </a:lnTo>
                  <a:lnTo>
                    <a:pt x="17" y="125"/>
                  </a:lnTo>
                  <a:lnTo>
                    <a:pt x="23" y="95"/>
                  </a:lnTo>
                  <a:lnTo>
                    <a:pt x="23" y="61"/>
                  </a:lnTo>
                  <a:lnTo>
                    <a:pt x="23" y="38"/>
                  </a:lnTo>
                  <a:lnTo>
                    <a:pt x="2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90440" y="3881160"/>
              <a:ext cx="28440" cy="117720"/>
            </a:xfrm>
            <a:custGeom>
              <a:avLst/>
              <a:gdLst/>
              <a:ahLst/>
              <a:rect l="l" t="t" r="r" b="b"/>
              <a:pathLst>
                <a:path w="34" h="140">
                  <a:moveTo>
                    <a:pt x="0" y="2"/>
                  </a:moveTo>
                  <a:lnTo>
                    <a:pt x="0" y="28"/>
                  </a:lnTo>
                  <a:lnTo>
                    <a:pt x="8" y="45"/>
                  </a:lnTo>
                  <a:lnTo>
                    <a:pt x="8" y="64"/>
                  </a:lnTo>
                  <a:lnTo>
                    <a:pt x="4" y="140"/>
                  </a:lnTo>
                  <a:lnTo>
                    <a:pt x="23" y="140"/>
                  </a:lnTo>
                  <a:lnTo>
                    <a:pt x="23" y="106"/>
                  </a:lnTo>
                  <a:lnTo>
                    <a:pt x="27" y="82"/>
                  </a:lnTo>
                  <a:lnTo>
                    <a:pt x="31" y="49"/>
                  </a:lnTo>
                  <a:lnTo>
                    <a:pt x="34" y="28"/>
                  </a:lnTo>
                  <a:lnTo>
                    <a:pt x="3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40040" y="4086720"/>
              <a:ext cx="24120" cy="189000"/>
            </a:xfrm>
            <a:custGeom>
              <a:avLst/>
              <a:gdLst/>
              <a:ahLst/>
              <a:rect l="l" t="t" r="r" b="b"/>
              <a:pathLst>
                <a:path w="29" h="226">
                  <a:moveTo>
                    <a:pt x="0" y="4"/>
                  </a:moveTo>
                  <a:lnTo>
                    <a:pt x="6" y="44"/>
                  </a:lnTo>
                  <a:lnTo>
                    <a:pt x="6" y="84"/>
                  </a:lnTo>
                  <a:lnTo>
                    <a:pt x="2" y="129"/>
                  </a:lnTo>
                  <a:lnTo>
                    <a:pt x="6" y="165"/>
                  </a:lnTo>
                  <a:lnTo>
                    <a:pt x="0" y="226"/>
                  </a:lnTo>
                  <a:lnTo>
                    <a:pt x="29" y="226"/>
                  </a:lnTo>
                  <a:lnTo>
                    <a:pt x="23" y="188"/>
                  </a:lnTo>
                  <a:lnTo>
                    <a:pt x="19" y="139"/>
                  </a:lnTo>
                  <a:lnTo>
                    <a:pt x="19" y="103"/>
                  </a:lnTo>
                  <a:lnTo>
                    <a:pt x="19" y="70"/>
                  </a:lnTo>
                  <a:lnTo>
                    <a:pt x="23" y="30"/>
                  </a:lnTo>
                  <a:lnTo>
                    <a:pt x="2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0440" y="4084560"/>
              <a:ext cx="18360" cy="191160"/>
            </a:xfrm>
            <a:custGeom>
              <a:avLst/>
              <a:gdLst/>
              <a:ahLst/>
              <a:rect l="l" t="t" r="r" b="b"/>
              <a:pathLst>
                <a:path w="23" h="230">
                  <a:moveTo>
                    <a:pt x="0" y="0"/>
                  </a:moveTo>
                  <a:lnTo>
                    <a:pt x="4" y="27"/>
                  </a:lnTo>
                  <a:lnTo>
                    <a:pt x="8" y="65"/>
                  </a:lnTo>
                  <a:lnTo>
                    <a:pt x="4" y="93"/>
                  </a:lnTo>
                  <a:lnTo>
                    <a:pt x="4" y="116"/>
                  </a:lnTo>
                  <a:lnTo>
                    <a:pt x="4" y="150"/>
                  </a:lnTo>
                  <a:lnTo>
                    <a:pt x="4" y="183"/>
                  </a:lnTo>
                  <a:lnTo>
                    <a:pt x="4" y="230"/>
                  </a:lnTo>
                  <a:lnTo>
                    <a:pt x="23" y="226"/>
                  </a:lnTo>
                  <a:lnTo>
                    <a:pt x="23" y="192"/>
                  </a:lnTo>
                  <a:lnTo>
                    <a:pt x="23" y="156"/>
                  </a:lnTo>
                  <a:lnTo>
                    <a:pt x="23" y="110"/>
                  </a:lnTo>
                  <a:lnTo>
                    <a:pt x="23" y="76"/>
                  </a:lnTo>
                  <a:lnTo>
                    <a:pt x="23" y="48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36800" y="4357080"/>
              <a:ext cx="30240" cy="146880"/>
            </a:xfrm>
            <a:custGeom>
              <a:avLst/>
              <a:gdLst/>
              <a:ahLst/>
              <a:rect l="l" t="t" r="r" b="b"/>
              <a:pathLst>
                <a:path w="36" h="175">
                  <a:moveTo>
                    <a:pt x="5" y="4"/>
                  </a:moveTo>
                  <a:lnTo>
                    <a:pt x="5" y="27"/>
                  </a:lnTo>
                  <a:lnTo>
                    <a:pt x="13" y="72"/>
                  </a:lnTo>
                  <a:lnTo>
                    <a:pt x="9" y="103"/>
                  </a:lnTo>
                  <a:lnTo>
                    <a:pt x="5" y="135"/>
                  </a:lnTo>
                  <a:lnTo>
                    <a:pt x="0" y="169"/>
                  </a:lnTo>
                  <a:lnTo>
                    <a:pt x="26" y="175"/>
                  </a:lnTo>
                  <a:lnTo>
                    <a:pt x="30" y="144"/>
                  </a:lnTo>
                  <a:lnTo>
                    <a:pt x="30" y="118"/>
                  </a:lnTo>
                  <a:lnTo>
                    <a:pt x="36" y="91"/>
                  </a:lnTo>
                  <a:lnTo>
                    <a:pt x="30" y="59"/>
                  </a:lnTo>
                  <a:lnTo>
                    <a:pt x="30" y="32"/>
                  </a:lnTo>
                  <a:lnTo>
                    <a:pt x="30" y="0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3960" y="4357080"/>
              <a:ext cx="28080" cy="151200"/>
            </a:xfrm>
            <a:custGeom>
              <a:avLst/>
              <a:gdLst/>
              <a:ahLst/>
              <a:rect l="l" t="t" r="r" b="b"/>
              <a:pathLst>
                <a:path w="34" h="179">
                  <a:moveTo>
                    <a:pt x="15" y="0"/>
                  </a:moveTo>
                  <a:lnTo>
                    <a:pt x="15" y="27"/>
                  </a:lnTo>
                  <a:lnTo>
                    <a:pt x="11" y="53"/>
                  </a:lnTo>
                  <a:lnTo>
                    <a:pt x="11" y="91"/>
                  </a:lnTo>
                  <a:lnTo>
                    <a:pt x="0" y="122"/>
                  </a:lnTo>
                  <a:lnTo>
                    <a:pt x="3" y="148"/>
                  </a:lnTo>
                  <a:lnTo>
                    <a:pt x="7" y="175"/>
                  </a:lnTo>
                  <a:lnTo>
                    <a:pt x="26" y="179"/>
                  </a:lnTo>
                  <a:lnTo>
                    <a:pt x="30" y="148"/>
                  </a:lnTo>
                  <a:lnTo>
                    <a:pt x="26" y="125"/>
                  </a:lnTo>
                  <a:lnTo>
                    <a:pt x="26" y="95"/>
                  </a:lnTo>
                  <a:lnTo>
                    <a:pt x="34" y="76"/>
                  </a:lnTo>
                  <a:lnTo>
                    <a:pt x="34" y="57"/>
                  </a:lnTo>
                  <a:lnTo>
                    <a:pt x="34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31400" y="4584240"/>
              <a:ext cx="93960" cy="418320"/>
            </a:xfrm>
            <a:custGeom>
              <a:avLst/>
              <a:gdLst/>
              <a:ahLst/>
              <a:rect l="l" t="t" r="r" b="b"/>
              <a:pathLst>
                <a:path w="112" h="502">
                  <a:moveTo>
                    <a:pt x="11" y="26"/>
                  </a:moveTo>
                  <a:lnTo>
                    <a:pt x="11" y="64"/>
                  </a:lnTo>
                  <a:lnTo>
                    <a:pt x="11" y="95"/>
                  </a:lnTo>
                  <a:lnTo>
                    <a:pt x="9" y="140"/>
                  </a:lnTo>
                  <a:lnTo>
                    <a:pt x="11" y="171"/>
                  </a:lnTo>
                  <a:lnTo>
                    <a:pt x="11" y="207"/>
                  </a:lnTo>
                  <a:lnTo>
                    <a:pt x="11" y="237"/>
                  </a:lnTo>
                  <a:lnTo>
                    <a:pt x="11" y="277"/>
                  </a:lnTo>
                  <a:lnTo>
                    <a:pt x="9" y="313"/>
                  </a:lnTo>
                  <a:lnTo>
                    <a:pt x="9" y="348"/>
                  </a:lnTo>
                  <a:lnTo>
                    <a:pt x="6" y="376"/>
                  </a:lnTo>
                  <a:lnTo>
                    <a:pt x="2" y="408"/>
                  </a:lnTo>
                  <a:lnTo>
                    <a:pt x="0" y="452"/>
                  </a:lnTo>
                  <a:lnTo>
                    <a:pt x="6" y="482"/>
                  </a:lnTo>
                  <a:lnTo>
                    <a:pt x="0" y="496"/>
                  </a:lnTo>
                  <a:lnTo>
                    <a:pt x="28" y="500"/>
                  </a:lnTo>
                  <a:lnTo>
                    <a:pt x="72" y="502"/>
                  </a:lnTo>
                  <a:lnTo>
                    <a:pt x="102" y="502"/>
                  </a:lnTo>
                  <a:lnTo>
                    <a:pt x="99" y="465"/>
                  </a:lnTo>
                  <a:lnTo>
                    <a:pt x="99" y="408"/>
                  </a:lnTo>
                  <a:lnTo>
                    <a:pt x="99" y="359"/>
                  </a:lnTo>
                  <a:lnTo>
                    <a:pt x="91" y="281"/>
                  </a:lnTo>
                  <a:lnTo>
                    <a:pt x="95" y="243"/>
                  </a:lnTo>
                  <a:lnTo>
                    <a:pt x="91" y="190"/>
                  </a:lnTo>
                  <a:lnTo>
                    <a:pt x="95" y="157"/>
                  </a:lnTo>
                  <a:lnTo>
                    <a:pt x="104" y="129"/>
                  </a:lnTo>
                  <a:lnTo>
                    <a:pt x="112" y="108"/>
                  </a:lnTo>
                  <a:lnTo>
                    <a:pt x="104" y="64"/>
                  </a:lnTo>
                  <a:lnTo>
                    <a:pt x="102" y="36"/>
                  </a:lnTo>
                  <a:lnTo>
                    <a:pt x="99" y="0"/>
                  </a:lnTo>
                  <a:lnTo>
                    <a:pt x="76" y="5"/>
                  </a:lnTo>
                  <a:lnTo>
                    <a:pt x="82" y="38"/>
                  </a:lnTo>
                  <a:lnTo>
                    <a:pt x="82" y="68"/>
                  </a:lnTo>
                  <a:lnTo>
                    <a:pt x="82" y="125"/>
                  </a:lnTo>
                  <a:lnTo>
                    <a:pt x="80" y="144"/>
                  </a:lnTo>
                  <a:lnTo>
                    <a:pt x="76" y="188"/>
                  </a:lnTo>
                  <a:lnTo>
                    <a:pt x="68" y="241"/>
                  </a:lnTo>
                  <a:lnTo>
                    <a:pt x="64" y="270"/>
                  </a:lnTo>
                  <a:lnTo>
                    <a:pt x="64" y="300"/>
                  </a:lnTo>
                  <a:lnTo>
                    <a:pt x="64" y="348"/>
                  </a:lnTo>
                  <a:lnTo>
                    <a:pt x="68" y="389"/>
                  </a:lnTo>
                  <a:lnTo>
                    <a:pt x="82" y="416"/>
                  </a:lnTo>
                  <a:lnTo>
                    <a:pt x="80" y="452"/>
                  </a:lnTo>
                  <a:lnTo>
                    <a:pt x="82" y="482"/>
                  </a:lnTo>
                  <a:lnTo>
                    <a:pt x="28" y="482"/>
                  </a:lnTo>
                  <a:lnTo>
                    <a:pt x="26" y="425"/>
                  </a:lnTo>
                  <a:lnTo>
                    <a:pt x="28" y="367"/>
                  </a:lnTo>
                  <a:lnTo>
                    <a:pt x="32" y="313"/>
                  </a:lnTo>
                  <a:lnTo>
                    <a:pt x="32" y="270"/>
                  </a:lnTo>
                  <a:lnTo>
                    <a:pt x="32" y="220"/>
                  </a:lnTo>
                  <a:lnTo>
                    <a:pt x="32" y="171"/>
                  </a:lnTo>
                  <a:lnTo>
                    <a:pt x="32" y="125"/>
                  </a:lnTo>
                  <a:lnTo>
                    <a:pt x="32" y="80"/>
                  </a:lnTo>
                  <a:lnTo>
                    <a:pt x="32" y="42"/>
                  </a:lnTo>
                  <a:lnTo>
                    <a:pt x="32" y="23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90680" y="4292280"/>
              <a:ext cx="278280" cy="728640"/>
            </a:xfrm>
            <a:custGeom>
              <a:avLst/>
              <a:gdLst/>
              <a:ahLst/>
              <a:rect l="l" t="t" r="r" b="b"/>
              <a:pathLst>
                <a:path w="331" h="874">
                  <a:moveTo>
                    <a:pt x="115" y="0"/>
                  </a:moveTo>
                  <a:lnTo>
                    <a:pt x="92" y="46"/>
                  </a:lnTo>
                  <a:lnTo>
                    <a:pt x="77" y="76"/>
                  </a:lnTo>
                  <a:lnTo>
                    <a:pt x="57" y="95"/>
                  </a:lnTo>
                  <a:lnTo>
                    <a:pt x="40" y="133"/>
                  </a:lnTo>
                  <a:lnTo>
                    <a:pt x="38" y="137"/>
                  </a:lnTo>
                  <a:lnTo>
                    <a:pt x="37" y="146"/>
                  </a:lnTo>
                  <a:lnTo>
                    <a:pt x="33" y="152"/>
                  </a:lnTo>
                  <a:lnTo>
                    <a:pt x="33" y="158"/>
                  </a:lnTo>
                  <a:lnTo>
                    <a:pt x="31" y="164"/>
                  </a:lnTo>
                  <a:lnTo>
                    <a:pt x="31" y="169"/>
                  </a:lnTo>
                  <a:lnTo>
                    <a:pt x="29" y="173"/>
                  </a:lnTo>
                  <a:lnTo>
                    <a:pt x="27" y="181"/>
                  </a:lnTo>
                  <a:lnTo>
                    <a:pt x="27" y="188"/>
                  </a:lnTo>
                  <a:lnTo>
                    <a:pt x="27" y="198"/>
                  </a:lnTo>
                  <a:lnTo>
                    <a:pt x="27" y="207"/>
                  </a:lnTo>
                  <a:lnTo>
                    <a:pt x="27" y="217"/>
                  </a:lnTo>
                  <a:lnTo>
                    <a:pt x="27" y="222"/>
                  </a:lnTo>
                  <a:lnTo>
                    <a:pt x="27" y="224"/>
                  </a:lnTo>
                  <a:lnTo>
                    <a:pt x="25" y="249"/>
                  </a:lnTo>
                  <a:lnTo>
                    <a:pt x="21" y="285"/>
                  </a:lnTo>
                  <a:lnTo>
                    <a:pt x="18" y="314"/>
                  </a:lnTo>
                  <a:lnTo>
                    <a:pt x="21" y="348"/>
                  </a:lnTo>
                  <a:lnTo>
                    <a:pt x="40" y="371"/>
                  </a:lnTo>
                  <a:lnTo>
                    <a:pt x="65" y="390"/>
                  </a:lnTo>
                  <a:lnTo>
                    <a:pt x="94" y="413"/>
                  </a:lnTo>
                  <a:lnTo>
                    <a:pt x="118" y="420"/>
                  </a:lnTo>
                  <a:lnTo>
                    <a:pt x="141" y="437"/>
                  </a:lnTo>
                  <a:lnTo>
                    <a:pt x="164" y="447"/>
                  </a:lnTo>
                  <a:lnTo>
                    <a:pt x="191" y="451"/>
                  </a:lnTo>
                  <a:lnTo>
                    <a:pt x="213" y="456"/>
                  </a:lnTo>
                  <a:lnTo>
                    <a:pt x="232" y="460"/>
                  </a:lnTo>
                  <a:lnTo>
                    <a:pt x="255" y="466"/>
                  </a:lnTo>
                  <a:lnTo>
                    <a:pt x="286" y="477"/>
                  </a:lnTo>
                  <a:lnTo>
                    <a:pt x="305" y="492"/>
                  </a:lnTo>
                  <a:lnTo>
                    <a:pt x="326" y="513"/>
                  </a:lnTo>
                  <a:lnTo>
                    <a:pt x="331" y="557"/>
                  </a:lnTo>
                  <a:lnTo>
                    <a:pt x="331" y="593"/>
                  </a:lnTo>
                  <a:lnTo>
                    <a:pt x="326" y="625"/>
                  </a:lnTo>
                  <a:lnTo>
                    <a:pt x="312" y="652"/>
                  </a:lnTo>
                  <a:lnTo>
                    <a:pt x="293" y="679"/>
                  </a:lnTo>
                  <a:lnTo>
                    <a:pt x="276" y="700"/>
                  </a:lnTo>
                  <a:lnTo>
                    <a:pt x="259" y="715"/>
                  </a:lnTo>
                  <a:lnTo>
                    <a:pt x="246" y="728"/>
                  </a:lnTo>
                  <a:lnTo>
                    <a:pt x="223" y="749"/>
                  </a:lnTo>
                  <a:lnTo>
                    <a:pt x="206" y="764"/>
                  </a:lnTo>
                  <a:lnTo>
                    <a:pt x="191" y="787"/>
                  </a:lnTo>
                  <a:lnTo>
                    <a:pt x="170" y="804"/>
                  </a:lnTo>
                  <a:lnTo>
                    <a:pt x="147" y="827"/>
                  </a:lnTo>
                  <a:lnTo>
                    <a:pt x="134" y="848"/>
                  </a:lnTo>
                  <a:lnTo>
                    <a:pt x="111" y="874"/>
                  </a:lnTo>
                  <a:lnTo>
                    <a:pt x="126" y="831"/>
                  </a:lnTo>
                  <a:lnTo>
                    <a:pt x="149" y="798"/>
                  </a:lnTo>
                  <a:lnTo>
                    <a:pt x="179" y="772"/>
                  </a:lnTo>
                  <a:lnTo>
                    <a:pt x="206" y="749"/>
                  </a:lnTo>
                  <a:lnTo>
                    <a:pt x="232" y="715"/>
                  </a:lnTo>
                  <a:lnTo>
                    <a:pt x="263" y="684"/>
                  </a:lnTo>
                  <a:lnTo>
                    <a:pt x="299" y="652"/>
                  </a:lnTo>
                  <a:lnTo>
                    <a:pt x="316" y="608"/>
                  </a:lnTo>
                  <a:lnTo>
                    <a:pt x="318" y="559"/>
                  </a:lnTo>
                  <a:lnTo>
                    <a:pt x="308" y="515"/>
                  </a:lnTo>
                  <a:lnTo>
                    <a:pt x="278" y="492"/>
                  </a:lnTo>
                  <a:lnTo>
                    <a:pt x="255" y="483"/>
                  </a:lnTo>
                  <a:lnTo>
                    <a:pt x="210" y="473"/>
                  </a:lnTo>
                  <a:lnTo>
                    <a:pt x="156" y="460"/>
                  </a:lnTo>
                  <a:lnTo>
                    <a:pt x="111" y="443"/>
                  </a:lnTo>
                  <a:lnTo>
                    <a:pt x="65" y="416"/>
                  </a:lnTo>
                  <a:lnTo>
                    <a:pt x="27" y="394"/>
                  </a:lnTo>
                  <a:lnTo>
                    <a:pt x="4" y="361"/>
                  </a:lnTo>
                  <a:lnTo>
                    <a:pt x="0" y="318"/>
                  </a:lnTo>
                  <a:lnTo>
                    <a:pt x="0" y="262"/>
                  </a:lnTo>
                  <a:lnTo>
                    <a:pt x="8" y="222"/>
                  </a:lnTo>
                  <a:lnTo>
                    <a:pt x="8" y="183"/>
                  </a:lnTo>
                  <a:lnTo>
                    <a:pt x="18" y="145"/>
                  </a:lnTo>
                  <a:lnTo>
                    <a:pt x="35" y="103"/>
                  </a:lnTo>
                  <a:lnTo>
                    <a:pt x="40" y="80"/>
                  </a:lnTo>
                  <a:lnTo>
                    <a:pt x="61" y="61"/>
                  </a:lnTo>
                  <a:lnTo>
                    <a:pt x="75" y="34"/>
                  </a:lnTo>
                  <a:lnTo>
                    <a:pt x="77" y="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18800" y="4286880"/>
              <a:ext cx="477000" cy="734040"/>
            </a:xfrm>
            <a:custGeom>
              <a:avLst/>
              <a:gdLst/>
              <a:ahLst/>
              <a:rect l="l" t="t" r="r" b="b"/>
              <a:pathLst>
                <a:path w="570" h="882">
                  <a:moveTo>
                    <a:pt x="197" y="12"/>
                  </a:moveTo>
                  <a:lnTo>
                    <a:pt x="184" y="50"/>
                  </a:lnTo>
                  <a:lnTo>
                    <a:pt x="161" y="101"/>
                  </a:lnTo>
                  <a:lnTo>
                    <a:pt x="144" y="145"/>
                  </a:lnTo>
                  <a:lnTo>
                    <a:pt x="131" y="177"/>
                  </a:lnTo>
                  <a:lnTo>
                    <a:pt x="108" y="210"/>
                  </a:lnTo>
                  <a:lnTo>
                    <a:pt x="78" y="257"/>
                  </a:lnTo>
                  <a:lnTo>
                    <a:pt x="64" y="272"/>
                  </a:lnTo>
                  <a:lnTo>
                    <a:pt x="49" y="289"/>
                  </a:lnTo>
                  <a:lnTo>
                    <a:pt x="38" y="310"/>
                  </a:lnTo>
                  <a:lnTo>
                    <a:pt x="22" y="337"/>
                  </a:lnTo>
                  <a:lnTo>
                    <a:pt x="15" y="365"/>
                  </a:lnTo>
                  <a:lnTo>
                    <a:pt x="11" y="409"/>
                  </a:lnTo>
                  <a:lnTo>
                    <a:pt x="22" y="441"/>
                  </a:lnTo>
                  <a:lnTo>
                    <a:pt x="49" y="464"/>
                  </a:lnTo>
                  <a:lnTo>
                    <a:pt x="81" y="474"/>
                  </a:lnTo>
                  <a:lnTo>
                    <a:pt x="121" y="491"/>
                  </a:lnTo>
                  <a:lnTo>
                    <a:pt x="167" y="516"/>
                  </a:lnTo>
                  <a:lnTo>
                    <a:pt x="224" y="531"/>
                  </a:lnTo>
                  <a:lnTo>
                    <a:pt x="309" y="548"/>
                  </a:lnTo>
                  <a:lnTo>
                    <a:pt x="329" y="557"/>
                  </a:lnTo>
                  <a:lnTo>
                    <a:pt x="349" y="567"/>
                  </a:lnTo>
                  <a:lnTo>
                    <a:pt x="372" y="580"/>
                  </a:lnTo>
                  <a:lnTo>
                    <a:pt x="399" y="597"/>
                  </a:lnTo>
                  <a:lnTo>
                    <a:pt x="429" y="620"/>
                  </a:lnTo>
                  <a:lnTo>
                    <a:pt x="452" y="633"/>
                  </a:lnTo>
                  <a:lnTo>
                    <a:pt x="475" y="654"/>
                  </a:lnTo>
                  <a:lnTo>
                    <a:pt x="492" y="673"/>
                  </a:lnTo>
                  <a:lnTo>
                    <a:pt x="515" y="690"/>
                  </a:lnTo>
                  <a:lnTo>
                    <a:pt x="524" y="709"/>
                  </a:lnTo>
                  <a:lnTo>
                    <a:pt x="538" y="734"/>
                  </a:lnTo>
                  <a:lnTo>
                    <a:pt x="547" y="746"/>
                  </a:lnTo>
                  <a:lnTo>
                    <a:pt x="559" y="772"/>
                  </a:lnTo>
                  <a:lnTo>
                    <a:pt x="568" y="806"/>
                  </a:lnTo>
                  <a:lnTo>
                    <a:pt x="568" y="822"/>
                  </a:lnTo>
                  <a:lnTo>
                    <a:pt x="570" y="839"/>
                  </a:lnTo>
                  <a:lnTo>
                    <a:pt x="555" y="882"/>
                  </a:lnTo>
                  <a:lnTo>
                    <a:pt x="559" y="839"/>
                  </a:lnTo>
                  <a:lnTo>
                    <a:pt x="551" y="795"/>
                  </a:lnTo>
                  <a:lnTo>
                    <a:pt x="536" y="766"/>
                  </a:lnTo>
                  <a:lnTo>
                    <a:pt x="515" y="736"/>
                  </a:lnTo>
                  <a:lnTo>
                    <a:pt x="498" y="713"/>
                  </a:lnTo>
                  <a:lnTo>
                    <a:pt x="479" y="687"/>
                  </a:lnTo>
                  <a:lnTo>
                    <a:pt x="456" y="660"/>
                  </a:lnTo>
                  <a:lnTo>
                    <a:pt x="431" y="647"/>
                  </a:lnTo>
                  <a:lnTo>
                    <a:pt x="405" y="630"/>
                  </a:lnTo>
                  <a:lnTo>
                    <a:pt x="386" y="614"/>
                  </a:lnTo>
                  <a:lnTo>
                    <a:pt x="363" y="594"/>
                  </a:lnTo>
                  <a:lnTo>
                    <a:pt x="327" y="575"/>
                  </a:lnTo>
                  <a:lnTo>
                    <a:pt x="300" y="561"/>
                  </a:lnTo>
                  <a:lnTo>
                    <a:pt x="268" y="554"/>
                  </a:lnTo>
                  <a:lnTo>
                    <a:pt x="233" y="548"/>
                  </a:lnTo>
                  <a:lnTo>
                    <a:pt x="207" y="544"/>
                  </a:lnTo>
                  <a:lnTo>
                    <a:pt x="171" y="531"/>
                  </a:lnTo>
                  <a:lnTo>
                    <a:pt x="129" y="512"/>
                  </a:lnTo>
                  <a:lnTo>
                    <a:pt x="98" y="497"/>
                  </a:lnTo>
                  <a:lnTo>
                    <a:pt x="60" y="485"/>
                  </a:lnTo>
                  <a:lnTo>
                    <a:pt x="32" y="468"/>
                  </a:lnTo>
                  <a:lnTo>
                    <a:pt x="5" y="445"/>
                  </a:lnTo>
                  <a:lnTo>
                    <a:pt x="0" y="402"/>
                  </a:lnTo>
                  <a:lnTo>
                    <a:pt x="0" y="365"/>
                  </a:lnTo>
                  <a:lnTo>
                    <a:pt x="9" y="322"/>
                  </a:lnTo>
                  <a:lnTo>
                    <a:pt x="26" y="286"/>
                  </a:lnTo>
                  <a:lnTo>
                    <a:pt x="45" y="267"/>
                  </a:lnTo>
                  <a:lnTo>
                    <a:pt x="60" y="240"/>
                  </a:lnTo>
                  <a:lnTo>
                    <a:pt x="87" y="213"/>
                  </a:lnTo>
                  <a:lnTo>
                    <a:pt x="102" y="191"/>
                  </a:lnTo>
                  <a:lnTo>
                    <a:pt x="121" y="153"/>
                  </a:lnTo>
                  <a:lnTo>
                    <a:pt x="129" y="118"/>
                  </a:lnTo>
                  <a:lnTo>
                    <a:pt x="144" y="84"/>
                  </a:lnTo>
                  <a:lnTo>
                    <a:pt x="157" y="58"/>
                  </a:lnTo>
                  <a:lnTo>
                    <a:pt x="171" y="27"/>
                  </a:lnTo>
                  <a:lnTo>
                    <a:pt x="175" y="0"/>
                  </a:lnTo>
                  <a:lnTo>
                    <a:pt x="197" y="12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6040" y="4292280"/>
              <a:ext cx="452880" cy="486360"/>
            </a:xfrm>
            <a:custGeom>
              <a:avLst/>
              <a:gdLst/>
              <a:ahLst/>
              <a:rect l="l" t="t" r="r" b="b"/>
              <a:pathLst>
                <a:path w="540" h="586">
                  <a:moveTo>
                    <a:pt x="540" y="0"/>
                  </a:moveTo>
                  <a:lnTo>
                    <a:pt x="521" y="34"/>
                  </a:lnTo>
                  <a:lnTo>
                    <a:pt x="506" y="50"/>
                  </a:lnTo>
                  <a:lnTo>
                    <a:pt x="494" y="69"/>
                  </a:lnTo>
                  <a:lnTo>
                    <a:pt x="477" y="89"/>
                  </a:lnTo>
                  <a:lnTo>
                    <a:pt x="464" y="126"/>
                  </a:lnTo>
                  <a:lnTo>
                    <a:pt x="445" y="148"/>
                  </a:lnTo>
                  <a:lnTo>
                    <a:pt x="428" y="165"/>
                  </a:lnTo>
                  <a:lnTo>
                    <a:pt x="403" y="192"/>
                  </a:lnTo>
                  <a:lnTo>
                    <a:pt x="365" y="215"/>
                  </a:lnTo>
                  <a:lnTo>
                    <a:pt x="325" y="232"/>
                  </a:lnTo>
                  <a:lnTo>
                    <a:pt x="279" y="245"/>
                  </a:lnTo>
                  <a:lnTo>
                    <a:pt x="236" y="262"/>
                  </a:lnTo>
                  <a:lnTo>
                    <a:pt x="209" y="272"/>
                  </a:lnTo>
                  <a:lnTo>
                    <a:pt x="160" y="281"/>
                  </a:lnTo>
                  <a:lnTo>
                    <a:pt x="131" y="302"/>
                  </a:lnTo>
                  <a:lnTo>
                    <a:pt x="105" y="318"/>
                  </a:lnTo>
                  <a:lnTo>
                    <a:pt x="80" y="329"/>
                  </a:lnTo>
                  <a:lnTo>
                    <a:pt x="53" y="348"/>
                  </a:lnTo>
                  <a:lnTo>
                    <a:pt x="36" y="367"/>
                  </a:lnTo>
                  <a:lnTo>
                    <a:pt x="27" y="394"/>
                  </a:lnTo>
                  <a:lnTo>
                    <a:pt x="25" y="416"/>
                  </a:lnTo>
                  <a:lnTo>
                    <a:pt x="25" y="454"/>
                  </a:lnTo>
                  <a:lnTo>
                    <a:pt x="30" y="470"/>
                  </a:lnTo>
                  <a:lnTo>
                    <a:pt x="51" y="496"/>
                  </a:lnTo>
                  <a:lnTo>
                    <a:pt x="80" y="513"/>
                  </a:lnTo>
                  <a:lnTo>
                    <a:pt x="106" y="523"/>
                  </a:lnTo>
                  <a:lnTo>
                    <a:pt x="124" y="530"/>
                  </a:lnTo>
                  <a:lnTo>
                    <a:pt x="139" y="540"/>
                  </a:lnTo>
                  <a:lnTo>
                    <a:pt x="160" y="549"/>
                  </a:lnTo>
                  <a:lnTo>
                    <a:pt x="196" y="567"/>
                  </a:lnTo>
                  <a:lnTo>
                    <a:pt x="179" y="586"/>
                  </a:lnTo>
                  <a:lnTo>
                    <a:pt x="154" y="567"/>
                  </a:lnTo>
                  <a:lnTo>
                    <a:pt x="106" y="542"/>
                  </a:lnTo>
                  <a:lnTo>
                    <a:pt x="48" y="515"/>
                  </a:lnTo>
                  <a:lnTo>
                    <a:pt x="13" y="487"/>
                  </a:lnTo>
                  <a:lnTo>
                    <a:pt x="0" y="432"/>
                  </a:lnTo>
                  <a:lnTo>
                    <a:pt x="4" y="397"/>
                  </a:lnTo>
                  <a:lnTo>
                    <a:pt x="17" y="357"/>
                  </a:lnTo>
                  <a:lnTo>
                    <a:pt x="53" y="329"/>
                  </a:lnTo>
                  <a:lnTo>
                    <a:pt x="84" y="308"/>
                  </a:lnTo>
                  <a:lnTo>
                    <a:pt x="105" y="299"/>
                  </a:lnTo>
                  <a:lnTo>
                    <a:pt x="120" y="285"/>
                  </a:lnTo>
                  <a:lnTo>
                    <a:pt x="150" y="272"/>
                  </a:lnTo>
                  <a:lnTo>
                    <a:pt x="177" y="255"/>
                  </a:lnTo>
                  <a:lnTo>
                    <a:pt x="200" y="255"/>
                  </a:lnTo>
                  <a:lnTo>
                    <a:pt x="226" y="249"/>
                  </a:lnTo>
                  <a:lnTo>
                    <a:pt x="249" y="238"/>
                  </a:lnTo>
                  <a:lnTo>
                    <a:pt x="272" y="228"/>
                  </a:lnTo>
                  <a:lnTo>
                    <a:pt x="298" y="222"/>
                  </a:lnTo>
                  <a:lnTo>
                    <a:pt x="335" y="209"/>
                  </a:lnTo>
                  <a:lnTo>
                    <a:pt x="357" y="202"/>
                  </a:lnTo>
                  <a:lnTo>
                    <a:pt x="384" y="183"/>
                  </a:lnTo>
                  <a:lnTo>
                    <a:pt x="422" y="156"/>
                  </a:lnTo>
                  <a:lnTo>
                    <a:pt x="445" y="126"/>
                  </a:lnTo>
                  <a:lnTo>
                    <a:pt x="452" y="110"/>
                  </a:lnTo>
                  <a:lnTo>
                    <a:pt x="471" y="84"/>
                  </a:lnTo>
                  <a:lnTo>
                    <a:pt x="483" y="63"/>
                  </a:lnTo>
                  <a:lnTo>
                    <a:pt x="496" y="42"/>
                  </a:lnTo>
                  <a:lnTo>
                    <a:pt x="509" y="19"/>
                  </a:lnTo>
                  <a:lnTo>
                    <a:pt x="517" y="0"/>
                  </a:lnTo>
                  <a:lnTo>
                    <a:pt x="540" y="0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1040" y="4802400"/>
              <a:ext cx="114840" cy="4320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10"/>
                  </a:moveTo>
                  <a:lnTo>
                    <a:pt x="17" y="17"/>
                  </a:lnTo>
                  <a:lnTo>
                    <a:pt x="30" y="23"/>
                  </a:lnTo>
                  <a:lnTo>
                    <a:pt x="48" y="27"/>
                  </a:lnTo>
                  <a:lnTo>
                    <a:pt x="70" y="34"/>
                  </a:lnTo>
                  <a:lnTo>
                    <a:pt x="84" y="40"/>
                  </a:lnTo>
                  <a:lnTo>
                    <a:pt x="106" y="44"/>
                  </a:lnTo>
                  <a:lnTo>
                    <a:pt x="116" y="44"/>
                  </a:lnTo>
                  <a:lnTo>
                    <a:pt x="133" y="53"/>
                  </a:lnTo>
                  <a:lnTo>
                    <a:pt x="139" y="40"/>
                  </a:lnTo>
                  <a:lnTo>
                    <a:pt x="124" y="31"/>
                  </a:lnTo>
                  <a:lnTo>
                    <a:pt x="106" y="23"/>
                  </a:lnTo>
                  <a:lnTo>
                    <a:pt x="89" y="21"/>
                  </a:lnTo>
                  <a:lnTo>
                    <a:pt x="74" y="17"/>
                  </a:lnTo>
                  <a:lnTo>
                    <a:pt x="57" y="10"/>
                  </a:lnTo>
                  <a:lnTo>
                    <a:pt x="36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22040" y="4839480"/>
              <a:ext cx="323280" cy="409680"/>
            </a:xfrm>
            <a:custGeom>
              <a:avLst/>
              <a:gdLst/>
              <a:ahLst/>
              <a:rect l="l" t="t" r="r" b="b"/>
              <a:pathLst>
                <a:path w="386" h="490">
                  <a:moveTo>
                    <a:pt x="2" y="0"/>
                  </a:moveTo>
                  <a:lnTo>
                    <a:pt x="23" y="0"/>
                  </a:lnTo>
                  <a:lnTo>
                    <a:pt x="50" y="7"/>
                  </a:lnTo>
                  <a:lnTo>
                    <a:pt x="78" y="17"/>
                  </a:lnTo>
                  <a:lnTo>
                    <a:pt x="105" y="26"/>
                  </a:lnTo>
                  <a:lnTo>
                    <a:pt x="132" y="30"/>
                  </a:lnTo>
                  <a:lnTo>
                    <a:pt x="164" y="42"/>
                  </a:lnTo>
                  <a:lnTo>
                    <a:pt x="181" y="53"/>
                  </a:lnTo>
                  <a:lnTo>
                    <a:pt x="215" y="57"/>
                  </a:lnTo>
                  <a:lnTo>
                    <a:pt x="248" y="74"/>
                  </a:lnTo>
                  <a:lnTo>
                    <a:pt x="284" y="91"/>
                  </a:lnTo>
                  <a:lnTo>
                    <a:pt x="316" y="97"/>
                  </a:lnTo>
                  <a:lnTo>
                    <a:pt x="343" y="118"/>
                  </a:lnTo>
                  <a:lnTo>
                    <a:pt x="356" y="125"/>
                  </a:lnTo>
                  <a:lnTo>
                    <a:pt x="373" y="140"/>
                  </a:lnTo>
                  <a:lnTo>
                    <a:pt x="379" y="159"/>
                  </a:lnTo>
                  <a:lnTo>
                    <a:pt x="386" y="182"/>
                  </a:lnTo>
                  <a:lnTo>
                    <a:pt x="386" y="209"/>
                  </a:lnTo>
                  <a:lnTo>
                    <a:pt x="375" y="245"/>
                  </a:lnTo>
                  <a:lnTo>
                    <a:pt x="356" y="279"/>
                  </a:lnTo>
                  <a:lnTo>
                    <a:pt x="333" y="302"/>
                  </a:lnTo>
                  <a:lnTo>
                    <a:pt x="306" y="321"/>
                  </a:lnTo>
                  <a:lnTo>
                    <a:pt x="287" y="342"/>
                  </a:lnTo>
                  <a:lnTo>
                    <a:pt x="270" y="365"/>
                  </a:lnTo>
                  <a:lnTo>
                    <a:pt x="248" y="382"/>
                  </a:lnTo>
                  <a:lnTo>
                    <a:pt x="198" y="418"/>
                  </a:lnTo>
                  <a:lnTo>
                    <a:pt x="185" y="424"/>
                  </a:lnTo>
                  <a:lnTo>
                    <a:pt x="168" y="441"/>
                  </a:lnTo>
                  <a:lnTo>
                    <a:pt x="151" y="446"/>
                  </a:lnTo>
                  <a:lnTo>
                    <a:pt x="137" y="462"/>
                  </a:lnTo>
                  <a:lnTo>
                    <a:pt x="118" y="477"/>
                  </a:lnTo>
                  <a:lnTo>
                    <a:pt x="99" y="490"/>
                  </a:lnTo>
                  <a:lnTo>
                    <a:pt x="82" y="462"/>
                  </a:lnTo>
                  <a:lnTo>
                    <a:pt x="105" y="458"/>
                  </a:lnTo>
                  <a:lnTo>
                    <a:pt x="118" y="458"/>
                  </a:lnTo>
                  <a:lnTo>
                    <a:pt x="128" y="444"/>
                  </a:lnTo>
                  <a:lnTo>
                    <a:pt x="137" y="435"/>
                  </a:lnTo>
                  <a:lnTo>
                    <a:pt x="154" y="424"/>
                  </a:lnTo>
                  <a:lnTo>
                    <a:pt x="177" y="418"/>
                  </a:lnTo>
                  <a:lnTo>
                    <a:pt x="189" y="401"/>
                  </a:lnTo>
                  <a:lnTo>
                    <a:pt x="204" y="391"/>
                  </a:lnTo>
                  <a:lnTo>
                    <a:pt x="223" y="374"/>
                  </a:lnTo>
                  <a:lnTo>
                    <a:pt x="238" y="361"/>
                  </a:lnTo>
                  <a:lnTo>
                    <a:pt x="257" y="351"/>
                  </a:lnTo>
                  <a:lnTo>
                    <a:pt x="261" y="334"/>
                  </a:lnTo>
                  <a:lnTo>
                    <a:pt x="284" y="315"/>
                  </a:lnTo>
                  <a:lnTo>
                    <a:pt x="306" y="298"/>
                  </a:lnTo>
                  <a:lnTo>
                    <a:pt x="337" y="270"/>
                  </a:lnTo>
                  <a:lnTo>
                    <a:pt x="348" y="253"/>
                  </a:lnTo>
                  <a:lnTo>
                    <a:pt x="356" y="232"/>
                  </a:lnTo>
                  <a:lnTo>
                    <a:pt x="365" y="209"/>
                  </a:lnTo>
                  <a:lnTo>
                    <a:pt x="365" y="167"/>
                  </a:lnTo>
                  <a:lnTo>
                    <a:pt x="352" y="144"/>
                  </a:lnTo>
                  <a:lnTo>
                    <a:pt x="329" y="125"/>
                  </a:lnTo>
                  <a:lnTo>
                    <a:pt x="306" y="118"/>
                  </a:lnTo>
                  <a:lnTo>
                    <a:pt x="287" y="114"/>
                  </a:lnTo>
                  <a:lnTo>
                    <a:pt x="265" y="102"/>
                  </a:lnTo>
                  <a:lnTo>
                    <a:pt x="242" y="87"/>
                  </a:lnTo>
                  <a:lnTo>
                    <a:pt x="211" y="74"/>
                  </a:lnTo>
                  <a:lnTo>
                    <a:pt x="185" y="68"/>
                  </a:lnTo>
                  <a:lnTo>
                    <a:pt x="164" y="64"/>
                  </a:lnTo>
                  <a:lnTo>
                    <a:pt x="149" y="53"/>
                  </a:lnTo>
                  <a:lnTo>
                    <a:pt x="122" y="47"/>
                  </a:lnTo>
                  <a:lnTo>
                    <a:pt x="99" y="43"/>
                  </a:lnTo>
                  <a:lnTo>
                    <a:pt x="75" y="34"/>
                  </a:lnTo>
                  <a:lnTo>
                    <a:pt x="50" y="26"/>
                  </a:lnTo>
                  <a:lnTo>
                    <a:pt x="29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9040" y="4286880"/>
              <a:ext cx="1488240" cy="62640"/>
            </a:xfrm>
            <a:custGeom>
              <a:avLst/>
              <a:gdLst/>
              <a:ahLst/>
              <a:rect l="l" t="t" r="r" b="b"/>
              <a:pathLst>
                <a:path w="1777" h="77">
                  <a:moveTo>
                    <a:pt x="0" y="61"/>
                  </a:moveTo>
                  <a:lnTo>
                    <a:pt x="49" y="65"/>
                  </a:lnTo>
                  <a:lnTo>
                    <a:pt x="77" y="65"/>
                  </a:lnTo>
                  <a:lnTo>
                    <a:pt x="142" y="65"/>
                  </a:lnTo>
                  <a:lnTo>
                    <a:pt x="174" y="65"/>
                  </a:lnTo>
                  <a:lnTo>
                    <a:pt x="249" y="61"/>
                  </a:lnTo>
                  <a:lnTo>
                    <a:pt x="290" y="58"/>
                  </a:lnTo>
                  <a:lnTo>
                    <a:pt x="342" y="50"/>
                  </a:lnTo>
                  <a:lnTo>
                    <a:pt x="422" y="42"/>
                  </a:lnTo>
                  <a:lnTo>
                    <a:pt x="467" y="31"/>
                  </a:lnTo>
                  <a:lnTo>
                    <a:pt x="532" y="21"/>
                  </a:lnTo>
                  <a:lnTo>
                    <a:pt x="608" y="12"/>
                  </a:lnTo>
                  <a:lnTo>
                    <a:pt x="690" y="12"/>
                  </a:lnTo>
                  <a:lnTo>
                    <a:pt x="735" y="8"/>
                  </a:lnTo>
                  <a:lnTo>
                    <a:pt x="806" y="0"/>
                  </a:lnTo>
                  <a:lnTo>
                    <a:pt x="872" y="8"/>
                  </a:lnTo>
                  <a:lnTo>
                    <a:pt x="954" y="0"/>
                  </a:lnTo>
                  <a:lnTo>
                    <a:pt x="1037" y="0"/>
                  </a:lnTo>
                  <a:lnTo>
                    <a:pt x="1123" y="0"/>
                  </a:lnTo>
                  <a:lnTo>
                    <a:pt x="1186" y="0"/>
                  </a:lnTo>
                  <a:lnTo>
                    <a:pt x="1243" y="0"/>
                  </a:lnTo>
                  <a:lnTo>
                    <a:pt x="1311" y="0"/>
                  </a:lnTo>
                  <a:lnTo>
                    <a:pt x="1344" y="12"/>
                  </a:lnTo>
                  <a:lnTo>
                    <a:pt x="1410" y="4"/>
                  </a:lnTo>
                  <a:lnTo>
                    <a:pt x="1450" y="8"/>
                  </a:lnTo>
                  <a:lnTo>
                    <a:pt x="1492" y="25"/>
                  </a:lnTo>
                  <a:lnTo>
                    <a:pt x="1534" y="25"/>
                  </a:lnTo>
                  <a:lnTo>
                    <a:pt x="1549" y="31"/>
                  </a:lnTo>
                  <a:lnTo>
                    <a:pt x="1596" y="31"/>
                  </a:lnTo>
                  <a:lnTo>
                    <a:pt x="1710" y="39"/>
                  </a:lnTo>
                  <a:lnTo>
                    <a:pt x="1758" y="27"/>
                  </a:lnTo>
                  <a:lnTo>
                    <a:pt x="1777" y="50"/>
                  </a:lnTo>
                  <a:lnTo>
                    <a:pt x="1718" y="58"/>
                  </a:lnTo>
                  <a:lnTo>
                    <a:pt x="1610" y="50"/>
                  </a:lnTo>
                  <a:lnTo>
                    <a:pt x="1583" y="48"/>
                  </a:lnTo>
                  <a:lnTo>
                    <a:pt x="1556" y="44"/>
                  </a:lnTo>
                  <a:lnTo>
                    <a:pt x="1536" y="42"/>
                  </a:lnTo>
                  <a:lnTo>
                    <a:pt x="1516" y="42"/>
                  </a:lnTo>
                  <a:lnTo>
                    <a:pt x="1480" y="39"/>
                  </a:lnTo>
                  <a:lnTo>
                    <a:pt x="1467" y="31"/>
                  </a:lnTo>
                  <a:lnTo>
                    <a:pt x="1437" y="25"/>
                  </a:lnTo>
                  <a:lnTo>
                    <a:pt x="1404" y="21"/>
                  </a:lnTo>
                  <a:lnTo>
                    <a:pt x="1359" y="21"/>
                  </a:lnTo>
                  <a:lnTo>
                    <a:pt x="1321" y="21"/>
                  </a:lnTo>
                  <a:lnTo>
                    <a:pt x="1279" y="16"/>
                  </a:lnTo>
                  <a:lnTo>
                    <a:pt x="1218" y="16"/>
                  </a:lnTo>
                  <a:lnTo>
                    <a:pt x="1159" y="16"/>
                  </a:lnTo>
                  <a:lnTo>
                    <a:pt x="1079" y="21"/>
                  </a:lnTo>
                  <a:lnTo>
                    <a:pt x="1030" y="21"/>
                  </a:lnTo>
                  <a:lnTo>
                    <a:pt x="1001" y="21"/>
                  </a:lnTo>
                  <a:lnTo>
                    <a:pt x="975" y="21"/>
                  </a:lnTo>
                  <a:lnTo>
                    <a:pt x="940" y="21"/>
                  </a:lnTo>
                  <a:lnTo>
                    <a:pt x="908" y="21"/>
                  </a:lnTo>
                  <a:lnTo>
                    <a:pt x="872" y="25"/>
                  </a:lnTo>
                  <a:lnTo>
                    <a:pt x="826" y="21"/>
                  </a:lnTo>
                  <a:lnTo>
                    <a:pt x="769" y="18"/>
                  </a:lnTo>
                  <a:lnTo>
                    <a:pt x="729" y="25"/>
                  </a:lnTo>
                  <a:lnTo>
                    <a:pt x="693" y="27"/>
                  </a:lnTo>
                  <a:lnTo>
                    <a:pt x="663" y="27"/>
                  </a:lnTo>
                  <a:lnTo>
                    <a:pt x="627" y="25"/>
                  </a:lnTo>
                  <a:lnTo>
                    <a:pt x="587" y="27"/>
                  </a:lnTo>
                  <a:lnTo>
                    <a:pt x="534" y="35"/>
                  </a:lnTo>
                  <a:lnTo>
                    <a:pt x="488" y="48"/>
                  </a:lnTo>
                  <a:lnTo>
                    <a:pt x="441" y="54"/>
                  </a:lnTo>
                  <a:lnTo>
                    <a:pt x="403" y="65"/>
                  </a:lnTo>
                  <a:lnTo>
                    <a:pt x="368" y="69"/>
                  </a:lnTo>
                  <a:lnTo>
                    <a:pt x="319" y="69"/>
                  </a:lnTo>
                  <a:lnTo>
                    <a:pt x="269" y="77"/>
                  </a:lnTo>
                  <a:lnTo>
                    <a:pt x="220" y="77"/>
                  </a:lnTo>
                  <a:lnTo>
                    <a:pt x="184" y="77"/>
                  </a:lnTo>
                  <a:lnTo>
                    <a:pt x="134" y="77"/>
                  </a:lnTo>
                  <a:lnTo>
                    <a:pt x="98" y="77"/>
                  </a:lnTo>
                  <a:lnTo>
                    <a:pt x="62" y="77"/>
                  </a:lnTo>
                  <a:lnTo>
                    <a:pt x="36" y="77"/>
                  </a:lnTo>
                  <a:lnTo>
                    <a:pt x="0" y="77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79360" y="4261680"/>
              <a:ext cx="1053720" cy="87480"/>
            </a:xfrm>
            <a:custGeom>
              <a:avLst/>
              <a:gdLst/>
              <a:ahLst/>
              <a:rect l="l" t="t" r="r" b="b"/>
              <a:pathLst>
                <a:path w="1258" h="103">
                  <a:moveTo>
                    <a:pt x="0" y="68"/>
                  </a:moveTo>
                  <a:lnTo>
                    <a:pt x="45" y="65"/>
                  </a:lnTo>
                  <a:lnTo>
                    <a:pt x="81" y="68"/>
                  </a:lnTo>
                  <a:lnTo>
                    <a:pt x="129" y="68"/>
                  </a:lnTo>
                  <a:lnTo>
                    <a:pt x="175" y="53"/>
                  </a:lnTo>
                  <a:lnTo>
                    <a:pt x="203" y="34"/>
                  </a:lnTo>
                  <a:lnTo>
                    <a:pt x="268" y="19"/>
                  </a:lnTo>
                  <a:lnTo>
                    <a:pt x="310" y="4"/>
                  </a:lnTo>
                  <a:lnTo>
                    <a:pt x="348" y="0"/>
                  </a:lnTo>
                  <a:lnTo>
                    <a:pt x="382" y="0"/>
                  </a:lnTo>
                  <a:lnTo>
                    <a:pt x="433" y="0"/>
                  </a:lnTo>
                  <a:lnTo>
                    <a:pt x="483" y="11"/>
                  </a:lnTo>
                  <a:lnTo>
                    <a:pt x="532" y="25"/>
                  </a:lnTo>
                  <a:lnTo>
                    <a:pt x="591" y="34"/>
                  </a:lnTo>
                  <a:lnTo>
                    <a:pt x="661" y="42"/>
                  </a:lnTo>
                  <a:lnTo>
                    <a:pt x="733" y="42"/>
                  </a:lnTo>
                  <a:lnTo>
                    <a:pt x="800" y="42"/>
                  </a:lnTo>
                  <a:lnTo>
                    <a:pt x="865" y="44"/>
                  </a:lnTo>
                  <a:lnTo>
                    <a:pt x="908" y="47"/>
                  </a:lnTo>
                  <a:lnTo>
                    <a:pt x="956" y="47"/>
                  </a:lnTo>
                  <a:lnTo>
                    <a:pt x="967" y="51"/>
                  </a:lnTo>
                  <a:lnTo>
                    <a:pt x="1017" y="61"/>
                  </a:lnTo>
                  <a:lnTo>
                    <a:pt x="1047" y="61"/>
                  </a:lnTo>
                  <a:lnTo>
                    <a:pt x="1087" y="74"/>
                  </a:lnTo>
                  <a:lnTo>
                    <a:pt x="1136" y="74"/>
                  </a:lnTo>
                  <a:lnTo>
                    <a:pt x="1182" y="80"/>
                  </a:lnTo>
                  <a:lnTo>
                    <a:pt x="1209" y="84"/>
                  </a:lnTo>
                  <a:lnTo>
                    <a:pt x="1258" y="80"/>
                  </a:lnTo>
                  <a:lnTo>
                    <a:pt x="1254" y="103"/>
                  </a:lnTo>
                  <a:lnTo>
                    <a:pt x="1222" y="101"/>
                  </a:lnTo>
                  <a:lnTo>
                    <a:pt x="1176" y="95"/>
                  </a:lnTo>
                  <a:lnTo>
                    <a:pt x="1144" y="91"/>
                  </a:lnTo>
                  <a:lnTo>
                    <a:pt x="1079" y="87"/>
                  </a:lnTo>
                  <a:lnTo>
                    <a:pt x="1047" y="80"/>
                  </a:lnTo>
                  <a:lnTo>
                    <a:pt x="1024" y="80"/>
                  </a:lnTo>
                  <a:lnTo>
                    <a:pt x="994" y="74"/>
                  </a:lnTo>
                  <a:lnTo>
                    <a:pt x="963" y="65"/>
                  </a:lnTo>
                  <a:lnTo>
                    <a:pt x="941" y="65"/>
                  </a:lnTo>
                  <a:lnTo>
                    <a:pt x="925" y="61"/>
                  </a:lnTo>
                  <a:lnTo>
                    <a:pt x="868" y="57"/>
                  </a:lnTo>
                  <a:lnTo>
                    <a:pt x="810" y="57"/>
                  </a:lnTo>
                  <a:lnTo>
                    <a:pt x="737" y="57"/>
                  </a:lnTo>
                  <a:lnTo>
                    <a:pt x="684" y="57"/>
                  </a:lnTo>
                  <a:lnTo>
                    <a:pt x="627" y="53"/>
                  </a:lnTo>
                  <a:lnTo>
                    <a:pt x="551" y="47"/>
                  </a:lnTo>
                  <a:lnTo>
                    <a:pt x="502" y="34"/>
                  </a:lnTo>
                  <a:lnTo>
                    <a:pt x="456" y="25"/>
                  </a:lnTo>
                  <a:lnTo>
                    <a:pt x="412" y="19"/>
                  </a:lnTo>
                  <a:lnTo>
                    <a:pt x="367" y="19"/>
                  </a:lnTo>
                  <a:lnTo>
                    <a:pt x="332" y="21"/>
                  </a:lnTo>
                  <a:lnTo>
                    <a:pt x="302" y="25"/>
                  </a:lnTo>
                  <a:lnTo>
                    <a:pt x="256" y="38"/>
                  </a:lnTo>
                  <a:lnTo>
                    <a:pt x="228" y="44"/>
                  </a:lnTo>
                  <a:lnTo>
                    <a:pt x="201" y="61"/>
                  </a:lnTo>
                  <a:lnTo>
                    <a:pt x="157" y="74"/>
                  </a:lnTo>
                  <a:lnTo>
                    <a:pt x="116" y="80"/>
                  </a:lnTo>
                  <a:lnTo>
                    <a:pt x="81" y="80"/>
                  </a:lnTo>
                  <a:lnTo>
                    <a:pt x="32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920" y="2514600"/>
              <a:ext cx="64800" cy="3556440"/>
            </a:xfrm>
            <a:custGeom>
              <a:avLst/>
              <a:gdLst/>
              <a:ahLst/>
              <a:rect l="l" t="t" r="r" b="b"/>
              <a:pathLst>
                <a:path w="78" h="4267">
                  <a:moveTo>
                    <a:pt x="61" y="4267"/>
                  </a:moveTo>
                  <a:lnTo>
                    <a:pt x="25" y="4137"/>
                  </a:lnTo>
                  <a:lnTo>
                    <a:pt x="21" y="4019"/>
                  </a:lnTo>
                  <a:lnTo>
                    <a:pt x="4" y="3905"/>
                  </a:lnTo>
                  <a:lnTo>
                    <a:pt x="2" y="3877"/>
                  </a:lnTo>
                  <a:lnTo>
                    <a:pt x="2" y="3727"/>
                  </a:lnTo>
                  <a:lnTo>
                    <a:pt x="0" y="3552"/>
                  </a:lnTo>
                  <a:lnTo>
                    <a:pt x="0" y="3343"/>
                  </a:lnTo>
                  <a:lnTo>
                    <a:pt x="0" y="3181"/>
                  </a:lnTo>
                  <a:lnTo>
                    <a:pt x="0" y="2995"/>
                  </a:lnTo>
                  <a:lnTo>
                    <a:pt x="0" y="2814"/>
                  </a:lnTo>
                  <a:lnTo>
                    <a:pt x="0" y="2678"/>
                  </a:lnTo>
                  <a:lnTo>
                    <a:pt x="0" y="2588"/>
                  </a:lnTo>
                  <a:lnTo>
                    <a:pt x="0" y="2545"/>
                  </a:lnTo>
                  <a:lnTo>
                    <a:pt x="0" y="2347"/>
                  </a:lnTo>
                  <a:lnTo>
                    <a:pt x="0" y="2227"/>
                  </a:lnTo>
                  <a:lnTo>
                    <a:pt x="0" y="2128"/>
                  </a:lnTo>
                  <a:lnTo>
                    <a:pt x="4" y="1900"/>
                  </a:lnTo>
                  <a:lnTo>
                    <a:pt x="21" y="1693"/>
                  </a:lnTo>
                  <a:lnTo>
                    <a:pt x="21" y="1526"/>
                  </a:lnTo>
                  <a:lnTo>
                    <a:pt x="21" y="1324"/>
                  </a:lnTo>
                  <a:lnTo>
                    <a:pt x="25" y="1085"/>
                  </a:lnTo>
                  <a:lnTo>
                    <a:pt x="25" y="967"/>
                  </a:lnTo>
                  <a:lnTo>
                    <a:pt x="25" y="845"/>
                  </a:lnTo>
                  <a:lnTo>
                    <a:pt x="21" y="636"/>
                  </a:lnTo>
                  <a:lnTo>
                    <a:pt x="2" y="450"/>
                  </a:lnTo>
                  <a:lnTo>
                    <a:pt x="4" y="359"/>
                  </a:lnTo>
                  <a:lnTo>
                    <a:pt x="4" y="203"/>
                  </a:lnTo>
                  <a:lnTo>
                    <a:pt x="25" y="53"/>
                  </a:lnTo>
                  <a:lnTo>
                    <a:pt x="13" y="0"/>
                  </a:lnTo>
                  <a:lnTo>
                    <a:pt x="61" y="3"/>
                  </a:lnTo>
                  <a:lnTo>
                    <a:pt x="51" y="142"/>
                  </a:lnTo>
                  <a:lnTo>
                    <a:pt x="40" y="266"/>
                  </a:lnTo>
                  <a:lnTo>
                    <a:pt x="38" y="448"/>
                  </a:lnTo>
                  <a:lnTo>
                    <a:pt x="38" y="543"/>
                  </a:lnTo>
                  <a:lnTo>
                    <a:pt x="40" y="665"/>
                  </a:lnTo>
                  <a:lnTo>
                    <a:pt x="57" y="834"/>
                  </a:lnTo>
                  <a:lnTo>
                    <a:pt x="65" y="1030"/>
                  </a:lnTo>
                  <a:lnTo>
                    <a:pt x="61" y="1149"/>
                  </a:lnTo>
                  <a:lnTo>
                    <a:pt x="53" y="1284"/>
                  </a:lnTo>
                  <a:lnTo>
                    <a:pt x="51" y="1383"/>
                  </a:lnTo>
                  <a:lnTo>
                    <a:pt x="51" y="1583"/>
                  </a:lnTo>
                  <a:lnTo>
                    <a:pt x="48" y="1727"/>
                  </a:lnTo>
                  <a:lnTo>
                    <a:pt x="30" y="1883"/>
                  </a:lnTo>
                  <a:lnTo>
                    <a:pt x="30" y="2012"/>
                  </a:lnTo>
                  <a:lnTo>
                    <a:pt x="34" y="2132"/>
                  </a:lnTo>
                  <a:lnTo>
                    <a:pt x="29" y="2231"/>
                  </a:lnTo>
                  <a:lnTo>
                    <a:pt x="29" y="2400"/>
                  </a:lnTo>
                  <a:lnTo>
                    <a:pt x="21" y="2560"/>
                  </a:lnTo>
                  <a:lnTo>
                    <a:pt x="17" y="2668"/>
                  </a:lnTo>
                  <a:lnTo>
                    <a:pt x="21" y="2873"/>
                  </a:lnTo>
                  <a:lnTo>
                    <a:pt x="13" y="2986"/>
                  </a:lnTo>
                  <a:lnTo>
                    <a:pt x="13" y="3111"/>
                  </a:lnTo>
                  <a:lnTo>
                    <a:pt x="21" y="3482"/>
                  </a:lnTo>
                  <a:lnTo>
                    <a:pt x="21" y="3588"/>
                  </a:lnTo>
                  <a:lnTo>
                    <a:pt x="21" y="3660"/>
                  </a:lnTo>
                  <a:lnTo>
                    <a:pt x="21" y="3793"/>
                  </a:lnTo>
                  <a:lnTo>
                    <a:pt x="29" y="3904"/>
                  </a:lnTo>
                  <a:lnTo>
                    <a:pt x="40" y="4016"/>
                  </a:lnTo>
                  <a:lnTo>
                    <a:pt x="61" y="4124"/>
                  </a:lnTo>
                  <a:lnTo>
                    <a:pt x="78" y="4227"/>
                  </a:lnTo>
                  <a:lnTo>
                    <a:pt x="61" y="4267"/>
                  </a:lnTo>
                  <a:lnTo>
                    <a:pt x="61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17560" y="4571280"/>
              <a:ext cx="78840" cy="4212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8" y="22"/>
                  </a:moveTo>
                  <a:lnTo>
                    <a:pt x="38" y="28"/>
                  </a:lnTo>
                  <a:lnTo>
                    <a:pt x="53" y="32"/>
                  </a:lnTo>
                  <a:lnTo>
                    <a:pt x="88" y="49"/>
                  </a:lnTo>
                  <a:lnTo>
                    <a:pt x="93" y="43"/>
                  </a:lnTo>
                  <a:lnTo>
                    <a:pt x="88" y="22"/>
                  </a:lnTo>
                  <a:lnTo>
                    <a:pt x="71" y="21"/>
                  </a:lnTo>
                  <a:lnTo>
                    <a:pt x="51" y="5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62720" y="5800680"/>
              <a:ext cx="304920" cy="209880"/>
            </a:xfrm>
            <a:custGeom>
              <a:avLst/>
              <a:gdLst/>
              <a:ahLst/>
              <a:rect l="l" t="t" r="r" b="b"/>
              <a:pathLst>
                <a:path w="363" h="251">
                  <a:moveTo>
                    <a:pt x="0" y="251"/>
                  </a:moveTo>
                  <a:lnTo>
                    <a:pt x="104" y="251"/>
                  </a:lnTo>
                  <a:lnTo>
                    <a:pt x="230" y="248"/>
                  </a:lnTo>
                  <a:lnTo>
                    <a:pt x="355" y="251"/>
                  </a:lnTo>
                  <a:lnTo>
                    <a:pt x="363" y="232"/>
                  </a:lnTo>
                  <a:lnTo>
                    <a:pt x="329" y="179"/>
                  </a:lnTo>
                  <a:lnTo>
                    <a:pt x="314" y="69"/>
                  </a:lnTo>
                  <a:lnTo>
                    <a:pt x="287" y="0"/>
                  </a:lnTo>
                  <a:lnTo>
                    <a:pt x="279" y="63"/>
                  </a:lnTo>
                  <a:lnTo>
                    <a:pt x="283" y="135"/>
                  </a:lnTo>
                  <a:lnTo>
                    <a:pt x="266" y="187"/>
                  </a:lnTo>
                  <a:lnTo>
                    <a:pt x="256" y="206"/>
                  </a:lnTo>
                  <a:lnTo>
                    <a:pt x="230" y="213"/>
                  </a:lnTo>
                  <a:lnTo>
                    <a:pt x="144" y="213"/>
                  </a:lnTo>
                  <a:lnTo>
                    <a:pt x="91" y="234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27120" y="4786200"/>
              <a:ext cx="100800" cy="119880"/>
            </a:xfrm>
            <a:custGeom>
              <a:avLst/>
              <a:gdLst/>
              <a:ahLst/>
              <a:rect l="l" t="t" r="r" b="b"/>
              <a:pathLst>
                <a:path w="120" h="145">
                  <a:moveTo>
                    <a:pt x="0" y="107"/>
                  </a:moveTo>
                  <a:lnTo>
                    <a:pt x="4" y="76"/>
                  </a:lnTo>
                  <a:lnTo>
                    <a:pt x="6" y="55"/>
                  </a:lnTo>
                  <a:lnTo>
                    <a:pt x="23" y="42"/>
                  </a:lnTo>
                  <a:lnTo>
                    <a:pt x="46" y="29"/>
                  </a:lnTo>
                  <a:lnTo>
                    <a:pt x="72" y="13"/>
                  </a:lnTo>
                  <a:lnTo>
                    <a:pt x="120" y="0"/>
                  </a:lnTo>
                  <a:lnTo>
                    <a:pt x="82" y="23"/>
                  </a:lnTo>
                  <a:lnTo>
                    <a:pt x="55" y="42"/>
                  </a:lnTo>
                  <a:lnTo>
                    <a:pt x="40" y="59"/>
                  </a:lnTo>
                  <a:lnTo>
                    <a:pt x="23" y="76"/>
                  </a:lnTo>
                  <a:lnTo>
                    <a:pt x="23" y="108"/>
                  </a:lnTo>
                  <a:lnTo>
                    <a:pt x="10" y="145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4960" y="2646360"/>
              <a:ext cx="143640" cy="12744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1" y="55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5"/>
                  </a:lnTo>
                  <a:lnTo>
                    <a:pt x="124" y="99"/>
                  </a:lnTo>
                  <a:lnTo>
                    <a:pt x="133" y="154"/>
                  </a:lnTo>
                  <a:lnTo>
                    <a:pt x="84" y="114"/>
                  </a:lnTo>
                  <a:lnTo>
                    <a:pt x="30" y="145"/>
                  </a:lnTo>
                  <a:lnTo>
                    <a:pt x="44" y="95"/>
                  </a:lnTo>
                  <a:lnTo>
                    <a:pt x="0" y="55"/>
                  </a:lnTo>
                  <a:lnTo>
                    <a:pt x="61" y="55"/>
                  </a:lnTo>
                  <a:lnTo>
                    <a:pt x="61" y="55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160" y="2662560"/>
              <a:ext cx="140040" cy="129960"/>
            </a:xfrm>
            <a:custGeom>
              <a:avLst/>
              <a:gdLst/>
              <a:ahLst/>
              <a:rect l="l" t="t" r="r" b="b"/>
              <a:pathLst>
                <a:path w="167" h="156">
                  <a:moveTo>
                    <a:pt x="55" y="59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8" y="135"/>
                  </a:lnTo>
                  <a:lnTo>
                    <a:pt x="99" y="112"/>
                  </a:lnTo>
                  <a:lnTo>
                    <a:pt x="55" y="156"/>
                  </a:lnTo>
                  <a:lnTo>
                    <a:pt x="51" y="103"/>
                  </a:lnTo>
                  <a:lnTo>
                    <a:pt x="0" y="80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03920" y="3047400"/>
              <a:ext cx="144720" cy="1285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59" y="53"/>
                  </a:moveTo>
                  <a:lnTo>
                    <a:pt x="91" y="0"/>
                  </a:lnTo>
                  <a:lnTo>
                    <a:pt x="112" y="57"/>
                  </a:lnTo>
                  <a:lnTo>
                    <a:pt x="175" y="69"/>
                  </a:lnTo>
                  <a:lnTo>
                    <a:pt x="125" y="101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2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59" y="53"/>
                  </a:lnTo>
                  <a:lnTo>
                    <a:pt x="59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94600" y="2684520"/>
              <a:ext cx="145800" cy="1306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59" y="57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5"/>
                  </a:lnTo>
                  <a:lnTo>
                    <a:pt x="126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3" y="148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2040" y="2859480"/>
              <a:ext cx="41400" cy="410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17" y="21"/>
                  </a:moveTo>
                  <a:lnTo>
                    <a:pt x="21" y="0"/>
                  </a:lnTo>
                  <a:lnTo>
                    <a:pt x="31" y="17"/>
                  </a:lnTo>
                  <a:lnTo>
                    <a:pt x="50" y="13"/>
                  </a:lnTo>
                  <a:lnTo>
                    <a:pt x="40" y="26"/>
                  </a:lnTo>
                  <a:lnTo>
                    <a:pt x="48" y="44"/>
                  </a:lnTo>
                  <a:lnTo>
                    <a:pt x="27" y="36"/>
                  </a:lnTo>
                  <a:lnTo>
                    <a:pt x="17" y="49"/>
                  </a:lnTo>
                  <a:lnTo>
                    <a:pt x="14" y="34"/>
                  </a:lnTo>
                  <a:lnTo>
                    <a:pt x="0" y="26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48480" y="2857320"/>
              <a:ext cx="84240" cy="7560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37" y="28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36"/>
                  </a:lnTo>
                  <a:lnTo>
                    <a:pt x="73" y="59"/>
                  </a:lnTo>
                  <a:lnTo>
                    <a:pt x="80" y="89"/>
                  </a:lnTo>
                  <a:lnTo>
                    <a:pt x="50" y="68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7" y="28"/>
                  </a:lnTo>
                  <a:lnTo>
                    <a:pt x="37" y="28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04840" y="3635640"/>
              <a:ext cx="86760" cy="766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8" y="33"/>
                  </a:moveTo>
                  <a:lnTo>
                    <a:pt x="57" y="0"/>
                  </a:lnTo>
                  <a:lnTo>
                    <a:pt x="67" y="33"/>
                  </a:lnTo>
                  <a:lnTo>
                    <a:pt x="103" y="38"/>
                  </a:lnTo>
                  <a:lnTo>
                    <a:pt x="74" y="59"/>
                  </a:lnTo>
                  <a:lnTo>
                    <a:pt x="80" y="91"/>
                  </a:lnTo>
                  <a:lnTo>
                    <a:pt x="50" y="69"/>
                  </a:lnTo>
                  <a:lnTo>
                    <a:pt x="17" y="88"/>
                  </a:lnTo>
                  <a:lnTo>
                    <a:pt x="25" y="55"/>
                  </a:lnTo>
                  <a:lnTo>
                    <a:pt x="0" y="33"/>
                  </a:lnTo>
                  <a:lnTo>
                    <a:pt x="38" y="3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03920" y="2719800"/>
              <a:ext cx="143280" cy="12960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1" y="0"/>
                  </a:lnTo>
                  <a:lnTo>
                    <a:pt x="108" y="57"/>
                  </a:lnTo>
                  <a:lnTo>
                    <a:pt x="171" y="70"/>
                  </a:lnTo>
                  <a:lnTo>
                    <a:pt x="122" y="102"/>
                  </a:lnTo>
                  <a:lnTo>
                    <a:pt x="131" y="156"/>
                  </a:lnTo>
                  <a:lnTo>
                    <a:pt x="82" y="119"/>
                  </a:lnTo>
                  <a:lnTo>
                    <a:pt x="28" y="146"/>
                  </a:lnTo>
                  <a:lnTo>
                    <a:pt x="42" y="97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36600" y="3182760"/>
              <a:ext cx="142200" cy="129600"/>
            </a:xfrm>
            <a:custGeom>
              <a:avLst/>
              <a:gdLst/>
              <a:ahLst/>
              <a:rect l="l" t="t" r="r" b="b"/>
              <a:pathLst>
                <a:path w="169" h="155">
                  <a:moveTo>
                    <a:pt x="57" y="59"/>
                  </a:moveTo>
                  <a:lnTo>
                    <a:pt x="74" y="0"/>
                  </a:lnTo>
                  <a:lnTo>
                    <a:pt x="107" y="45"/>
                  </a:lnTo>
                  <a:lnTo>
                    <a:pt x="169" y="40"/>
                  </a:lnTo>
                  <a:lnTo>
                    <a:pt x="133" y="85"/>
                  </a:lnTo>
                  <a:lnTo>
                    <a:pt x="156" y="135"/>
                  </a:lnTo>
                  <a:lnTo>
                    <a:pt x="101" y="112"/>
                  </a:lnTo>
                  <a:lnTo>
                    <a:pt x="57" y="155"/>
                  </a:lnTo>
                  <a:lnTo>
                    <a:pt x="53" y="102"/>
                  </a:lnTo>
                  <a:lnTo>
                    <a:pt x="0" y="79"/>
                  </a:lnTo>
                  <a:lnTo>
                    <a:pt x="57" y="59"/>
                  </a:lnTo>
                  <a:lnTo>
                    <a:pt x="57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26720" y="3463920"/>
              <a:ext cx="142560" cy="12636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61" y="53"/>
                  </a:moveTo>
                  <a:lnTo>
                    <a:pt x="93" y="0"/>
                  </a:lnTo>
                  <a:lnTo>
                    <a:pt x="110" y="53"/>
                  </a:lnTo>
                  <a:lnTo>
                    <a:pt x="171" y="67"/>
                  </a:lnTo>
                  <a:lnTo>
                    <a:pt x="122" y="101"/>
                  </a:lnTo>
                  <a:lnTo>
                    <a:pt x="133" y="154"/>
                  </a:lnTo>
                  <a:lnTo>
                    <a:pt x="84" y="116"/>
                  </a:lnTo>
                  <a:lnTo>
                    <a:pt x="31" y="146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63200" y="3059640"/>
              <a:ext cx="144720" cy="12852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0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9"/>
                  </a:lnTo>
                  <a:lnTo>
                    <a:pt x="121" y="103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4" y="149"/>
                  </a:lnTo>
                  <a:lnTo>
                    <a:pt x="41" y="95"/>
                  </a:lnTo>
                  <a:lnTo>
                    <a:pt x="0" y="55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33640" y="3525480"/>
              <a:ext cx="42480" cy="41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17" y="19"/>
                  </a:moveTo>
                  <a:lnTo>
                    <a:pt x="20" y="0"/>
                  </a:lnTo>
                  <a:lnTo>
                    <a:pt x="30" y="13"/>
                  </a:lnTo>
                  <a:lnTo>
                    <a:pt x="49" y="13"/>
                  </a:lnTo>
                  <a:lnTo>
                    <a:pt x="39" y="27"/>
                  </a:lnTo>
                  <a:lnTo>
                    <a:pt x="47" y="42"/>
                  </a:lnTo>
                  <a:lnTo>
                    <a:pt x="26" y="36"/>
                  </a:lnTo>
                  <a:lnTo>
                    <a:pt x="17" y="50"/>
                  </a:lnTo>
                  <a:lnTo>
                    <a:pt x="13" y="32"/>
                  </a:lnTo>
                  <a:lnTo>
                    <a:pt x="0" y="23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68400" y="3272760"/>
              <a:ext cx="89640" cy="7740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6" y="32"/>
                  </a:moveTo>
                  <a:lnTo>
                    <a:pt x="57" y="0"/>
                  </a:lnTo>
                  <a:lnTo>
                    <a:pt x="64" y="32"/>
                  </a:lnTo>
                  <a:lnTo>
                    <a:pt x="106" y="40"/>
                  </a:lnTo>
                  <a:lnTo>
                    <a:pt x="76" y="59"/>
                  </a:lnTo>
                  <a:lnTo>
                    <a:pt x="80" y="93"/>
                  </a:lnTo>
                  <a:lnTo>
                    <a:pt x="49" y="68"/>
                  </a:lnTo>
                  <a:lnTo>
                    <a:pt x="19" y="89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27640" y="4053240"/>
              <a:ext cx="85320" cy="76680"/>
            </a:xfrm>
            <a:custGeom>
              <a:avLst/>
              <a:gdLst/>
              <a:ahLst/>
              <a:rect l="l" t="t" r="r" b="b"/>
              <a:pathLst>
                <a:path w="102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2" y="38"/>
                  </a:lnTo>
                  <a:lnTo>
                    <a:pt x="72" y="59"/>
                  </a:lnTo>
                  <a:lnTo>
                    <a:pt x="79" y="91"/>
                  </a:lnTo>
                  <a:lnTo>
                    <a:pt x="49" y="69"/>
                  </a:lnTo>
                  <a:lnTo>
                    <a:pt x="19" y="88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09160" y="2677680"/>
              <a:ext cx="14580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4"/>
                  </a:moveTo>
                  <a:lnTo>
                    <a:pt x="93" y="0"/>
                  </a:lnTo>
                  <a:lnTo>
                    <a:pt x="110" y="54"/>
                  </a:lnTo>
                  <a:lnTo>
                    <a:pt x="173" y="65"/>
                  </a:lnTo>
                  <a:lnTo>
                    <a:pt x="122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4"/>
                  </a:lnTo>
                  <a:lnTo>
                    <a:pt x="61" y="5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12960" y="2794320"/>
              <a:ext cx="142200" cy="12852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55" y="61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9" y="38"/>
                  </a:lnTo>
                  <a:lnTo>
                    <a:pt x="129" y="85"/>
                  </a:lnTo>
                  <a:lnTo>
                    <a:pt x="154" y="135"/>
                  </a:lnTo>
                  <a:lnTo>
                    <a:pt x="95" y="112"/>
                  </a:lnTo>
                  <a:lnTo>
                    <a:pt x="53" y="154"/>
                  </a:lnTo>
                  <a:lnTo>
                    <a:pt x="50" y="101"/>
                  </a:lnTo>
                  <a:lnTo>
                    <a:pt x="0" y="78"/>
                  </a:lnTo>
                  <a:lnTo>
                    <a:pt x="55" y="61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00680" y="3771000"/>
              <a:ext cx="145800" cy="12996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59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6"/>
                  </a:lnTo>
                  <a:lnTo>
                    <a:pt x="122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1" y="148"/>
                  </a:lnTo>
                  <a:lnTo>
                    <a:pt x="42" y="95"/>
                  </a:lnTo>
                  <a:lnTo>
                    <a:pt x="0" y="55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91360" y="3409920"/>
              <a:ext cx="14364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59" y="54"/>
                  </a:moveTo>
                  <a:lnTo>
                    <a:pt x="93" y="0"/>
                  </a:lnTo>
                  <a:lnTo>
                    <a:pt x="108" y="56"/>
                  </a:lnTo>
                  <a:lnTo>
                    <a:pt x="173" y="65"/>
                  </a:lnTo>
                  <a:lnTo>
                    <a:pt x="123" y="99"/>
                  </a:lnTo>
                  <a:lnTo>
                    <a:pt x="135" y="152"/>
                  </a:lnTo>
                  <a:lnTo>
                    <a:pt x="85" y="116"/>
                  </a:lnTo>
                  <a:lnTo>
                    <a:pt x="30" y="145"/>
                  </a:lnTo>
                  <a:lnTo>
                    <a:pt x="43" y="92"/>
                  </a:lnTo>
                  <a:lnTo>
                    <a:pt x="0" y="56"/>
                  </a:lnTo>
                  <a:lnTo>
                    <a:pt x="59" y="54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47720" y="3585960"/>
              <a:ext cx="45000" cy="3672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9" y="17"/>
                  </a:moveTo>
                  <a:lnTo>
                    <a:pt x="22" y="0"/>
                  </a:lnTo>
                  <a:lnTo>
                    <a:pt x="32" y="14"/>
                  </a:lnTo>
                  <a:lnTo>
                    <a:pt x="53" y="14"/>
                  </a:lnTo>
                  <a:lnTo>
                    <a:pt x="38" y="27"/>
                  </a:lnTo>
                  <a:lnTo>
                    <a:pt x="49" y="40"/>
                  </a:lnTo>
                  <a:lnTo>
                    <a:pt x="28" y="35"/>
                  </a:lnTo>
                  <a:lnTo>
                    <a:pt x="15" y="46"/>
                  </a:lnTo>
                  <a:lnTo>
                    <a:pt x="15" y="31"/>
                  </a:lnTo>
                  <a:lnTo>
                    <a:pt x="0" y="23"/>
                  </a:lnTo>
                  <a:lnTo>
                    <a:pt x="19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43080" y="3582000"/>
              <a:ext cx="87480" cy="7524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36" y="32"/>
                  </a:moveTo>
                  <a:lnTo>
                    <a:pt x="55" y="0"/>
                  </a:lnTo>
                  <a:lnTo>
                    <a:pt x="68" y="32"/>
                  </a:lnTo>
                  <a:lnTo>
                    <a:pt x="104" y="40"/>
                  </a:lnTo>
                  <a:lnTo>
                    <a:pt x="76" y="59"/>
                  </a:lnTo>
                  <a:lnTo>
                    <a:pt x="81" y="93"/>
                  </a:lnTo>
                  <a:lnTo>
                    <a:pt x="53" y="70"/>
                  </a:lnTo>
                  <a:lnTo>
                    <a:pt x="19" y="85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9760" y="2807280"/>
              <a:ext cx="87480" cy="7776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8" y="34"/>
                  </a:moveTo>
                  <a:lnTo>
                    <a:pt x="57" y="0"/>
                  </a:lnTo>
                  <a:lnTo>
                    <a:pt x="70" y="34"/>
                  </a:lnTo>
                  <a:lnTo>
                    <a:pt x="106" y="40"/>
                  </a:lnTo>
                  <a:lnTo>
                    <a:pt x="78" y="61"/>
                  </a:lnTo>
                  <a:lnTo>
                    <a:pt x="83" y="93"/>
                  </a:lnTo>
                  <a:lnTo>
                    <a:pt x="53" y="70"/>
                  </a:lnTo>
                  <a:lnTo>
                    <a:pt x="21" y="86"/>
                  </a:lnTo>
                  <a:lnTo>
                    <a:pt x="26" y="57"/>
                  </a:lnTo>
                  <a:lnTo>
                    <a:pt x="0" y="34"/>
                  </a:lnTo>
                  <a:lnTo>
                    <a:pt x="38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7320" y="3257280"/>
              <a:ext cx="141480" cy="12960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3" y="0"/>
                  </a:lnTo>
                  <a:lnTo>
                    <a:pt x="108" y="57"/>
                  </a:lnTo>
                  <a:lnTo>
                    <a:pt x="171" y="68"/>
                  </a:lnTo>
                  <a:lnTo>
                    <a:pt x="121" y="103"/>
                  </a:lnTo>
                  <a:lnTo>
                    <a:pt x="131" y="156"/>
                  </a:lnTo>
                  <a:lnTo>
                    <a:pt x="81" y="118"/>
                  </a:lnTo>
                  <a:lnTo>
                    <a:pt x="28" y="148"/>
                  </a:lnTo>
                  <a:lnTo>
                    <a:pt x="40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4040" y="3801240"/>
              <a:ext cx="140040" cy="130680"/>
            </a:xfrm>
            <a:custGeom>
              <a:avLst/>
              <a:gdLst/>
              <a:ahLst/>
              <a:rect l="l" t="t" r="r" b="b"/>
              <a:pathLst>
                <a:path w="167" h="158">
                  <a:moveTo>
                    <a:pt x="57" y="63"/>
                  </a:moveTo>
                  <a:lnTo>
                    <a:pt x="72" y="0"/>
                  </a:lnTo>
                  <a:lnTo>
                    <a:pt x="107" y="49"/>
                  </a:lnTo>
                  <a:lnTo>
                    <a:pt x="167" y="44"/>
                  </a:lnTo>
                  <a:lnTo>
                    <a:pt x="129" y="89"/>
                  </a:lnTo>
                  <a:lnTo>
                    <a:pt x="156" y="135"/>
                  </a:lnTo>
                  <a:lnTo>
                    <a:pt x="95" y="116"/>
                  </a:lnTo>
                  <a:lnTo>
                    <a:pt x="53" y="158"/>
                  </a:lnTo>
                  <a:lnTo>
                    <a:pt x="50" y="106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23920" y="3019680"/>
              <a:ext cx="142200" cy="12636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61" y="53"/>
                  </a:moveTo>
                  <a:lnTo>
                    <a:pt x="93" y="0"/>
                  </a:lnTo>
                  <a:lnTo>
                    <a:pt x="114" y="53"/>
                  </a:lnTo>
                  <a:lnTo>
                    <a:pt x="171" y="66"/>
                  </a:lnTo>
                  <a:lnTo>
                    <a:pt x="122" y="101"/>
                  </a:lnTo>
                  <a:lnTo>
                    <a:pt x="137" y="152"/>
                  </a:lnTo>
                  <a:lnTo>
                    <a:pt x="88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02160" y="3075840"/>
              <a:ext cx="142200" cy="13068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5" y="57"/>
                  </a:moveTo>
                  <a:lnTo>
                    <a:pt x="89" y="0"/>
                  </a:lnTo>
                  <a:lnTo>
                    <a:pt x="108" y="57"/>
                  </a:lnTo>
                  <a:lnTo>
                    <a:pt x="171" y="67"/>
                  </a:lnTo>
                  <a:lnTo>
                    <a:pt x="122" y="99"/>
                  </a:lnTo>
                  <a:lnTo>
                    <a:pt x="131" y="156"/>
                  </a:lnTo>
                  <a:lnTo>
                    <a:pt x="82" y="116"/>
                  </a:lnTo>
                  <a:lnTo>
                    <a:pt x="28" y="147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55" y="57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57440" y="3250800"/>
              <a:ext cx="41400" cy="39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5" y="0"/>
                  </a:lnTo>
                  <a:lnTo>
                    <a:pt x="30" y="16"/>
                  </a:lnTo>
                  <a:lnTo>
                    <a:pt x="49" y="16"/>
                  </a:lnTo>
                  <a:lnTo>
                    <a:pt x="40" y="27"/>
                  </a:lnTo>
                  <a:lnTo>
                    <a:pt x="47" y="42"/>
                  </a:lnTo>
                  <a:lnTo>
                    <a:pt x="30" y="35"/>
                  </a:lnTo>
                  <a:lnTo>
                    <a:pt x="17" y="48"/>
                  </a:lnTo>
                  <a:lnTo>
                    <a:pt x="13" y="31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3520" y="3245400"/>
              <a:ext cx="85320" cy="7884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8" y="32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40"/>
                  </a:lnTo>
                  <a:lnTo>
                    <a:pt x="72" y="59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8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3800" y="3387240"/>
              <a:ext cx="89640" cy="7668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6" y="38"/>
                  </a:lnTo>
                  <a:lnTo>
                    <a:pt x="76" y="59"/>
                  </a:lnTo>
                  <a:lnTo>
                    <a:pt x="83" y="91"/>
                  </a:lnTo>
                  <a:lnTo>
                    <a:pt x="53" y="68"/>
                  </a:lnTo>
                  <a:lnTo>
                    <a:pt x="21" y="89"/>
                  </a:lnTo>
                  <a:lnTo>
                    <a:pt x="26" y="57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6480" y="2615040"/>
              <a:ext cx="146880" cy="1263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59" y="57"/>
                  </a:moveTo>
                  <a:lnTo>
                    <a:pt x="93" y="0"/>
                  </a:lnTo>
                  <a:lnTo>
                    <a:pt x="112" y="57"/>
                  </a:lnTo>
                  <a:lnTo>
                    <a:pt x="175" y="67"/>
                  </a:lnTo>
                  <a:lnTo>
                    <a:pt x="126" y="99"/>
                  </a:lnTo>
                  <a:lnTo>
                    <a:pt x="135" y="152"/>
                  </a:lnTo>
                  <a:lnTo>
                    <a:pt x="86" y="116"/>
                  </a:lnTo>
                  <a:lnTo>
                    <a:pt x="33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6240" y="2856240"/>
              <a:ext cx="140400" cy="12852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55" y="59"/>
                  </a:moveTo>
                  <a:lnTo>
                    <a:pt x="72" y="0"/>
                  </a:lnTo>
                  <a:lnTo>
                    <a:pt x="104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6" y="135"/>
                  </a:lnTo>
                  <a:lnTo>
                    <a:pt x="99" y="112"/>
                  </a:lnTo>
                  <a:lnTo>
                    <a:pt x="55" y="154"/>
                  </a:lnTo>
                  <a:lnTo>
                    <a:pt x="49" y="103"/>
                  </a:lnTo>
                  <a:lnTo>
                    <a:pt x="0" y="78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39680" y="3873600"/>
              <a:ext cx="145440" cy="13068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61" y="57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3" y="98"/>
                  </a:lnTo>
                  <a:lnTo>
                    <a:pt x="137" y="155"/>
                  </a:lnTo>
                  <a:lnTo>
                    <a:pt x="83" y="119"/>
                  </a:lnTo>
                  <a:lnTo>
                    <a:pt x="30" y="146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61" y="57"/>
                  </a:lnTo>
                  <a:lnTo>
                    <a:pt x="61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06240" y="3798000"/>
              <a:ext cx="145800" cy="12816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63" y="53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7"/>
                  </a:lnTo>
                  <a:lnTo>
                    <a:pt x="126" y="101"/>
                  </a:lnTo>
                  <a:lnTo>
                    <a:pt x="135" y="154"/>
                  </a:lnTo>
                  <a:lnTo>
                    <a:pt x="86" y="116"/>
                  </a:lnTo>
                  <a:lnTo>
                    <a:pt x="33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3" y="53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79160" y="3667320"/>
              <a:ext cx="40320" cy="4104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16" y="17"/>
                  </a:moveTo>
                  <a:lnTo>
                    <a:pt x="23" y="0"/>
                  </a:lnTo>
                  <a:lnTo>
                    <a:pt x="33" y="15"/>
                  </a:lnTo>
                  <a:lnTo>
                    <a:pt x="50" y="12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4"/>
                  </a:lnTo>
                  <a:lnTo>
                    <a:pt x="16" y="48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16" y="17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76080" y="3496320"/>
              <a:ext cx="87480" cy="7776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6" y="34"/>
                  </a:moveTo>
                  <a:lnTo>
                    <a:pt x="53" y="0"/>
                  </a:lnTo>
                  <a:lnTo>
                    <a:pt x="66" y="34"/>
                  </a:lnTo>
                  <a:lnTo>
                    <a:pt x="103" y="40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49" y="70"/>
                  </a:lnTo>
                  <a:lnTo>
                    <a:pt x="17" y="91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37240" y="2782800"/>
              <a:ext cx="86400" cy="7668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6" y="34"/>
                  </a:moveTo>
                  <a:lnTo>
                    <a:pt x="55" y="0"/>
                  </a:lnTo>
                  <a:lnTo>
                    <a:pt x="67" y="34"/>
                  </a:lnTo>
                  <a:lnTo>
                    <a:pt x="105" y="40"/>
                  </a:lnTo>
                  <a:lnTo>
                    <a:pt x="76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9" y="87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92600" y="2923200"/>
              <a:ext cx="14328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3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4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8680" y="3506040"/>
              <a:ext cx="140040" cy="13284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57" y="63"/>
                  </a:moveTo>
                  <a:lnTo>
                    <a:pt x="72" y="0"/>
                  </a:lnTo>
                  <a:lnTo>
                    <a:pt x="105" y="50"/>
                  </a:lnTo>
                  <a:lnTo>
                    <a:pt x="167" y="42"/>
                  </a:lnTo>
                  <a:lnTo>
                    <a:pt x="129" y="86"/>
                  </a:lnTo>
                  <a:lnTo>
                    <a:pt x="154" y="135"/>
                  </a:lnTo>
                  <a:lnTo>
                    <a:pt x="95" y="116"/>
                  </a:lnTo>
                  <a:lnTo>
                    <a:pt x="53" y="160"/>
                  </a:lnTo>
                  <a:lnTo>
                    <a:pt x="50" y="107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81360" y="3911760"/>
              <a:ext cx="145800" cy="126360"/>
            </a:xfrm>
            <a:custGeom>
              <a:avLst/>
              <a:gdLst/>
              <a:ahLst/>
              <a:rect l="l" t="t" r="r" b="b"/>
              <a:pathLst>
                <a:path w="173" h="150">
                  <a:moveTo>
                    <a:pt x="61" y="51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6"/>
                  </a:lnTo>
                  <a:lnTo>
                    <a:pt x="125" y="99"/>
                  </a:lnTo>
                  <a:lnTo>
                    <a:pt x="137" y="150"/>
                  </a:lnTo>
                  <a:lnTo>
                    <a:pt x="87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5"/>
                  </a:lnTo>
                  <a:lnTo>
                    <a:pt x="61" y="51"/>
                  </a:lnTo>
                  <a:lnTo>
                    <a:pt x="61" y="5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42960" y="4094280"/>
              <a:ext cx="146880" cy="1263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63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5" y="64"/>
                  </a:lnTo>
                  <a:lnTo>
                    <a:pt x="125" y="98"/>
                  </a:lnTo>
                  <a:lnTo>
                    <a:pt x="135" y="152"/>
                  </a:lnTo>
                  <a:lnTo>
                    <a:pt x="86" y="115"/>
                  </a:lnTo>
                  <a:lnTo>
                    <a:pt x="34" y="144"/>
                  </a:lnTo>
                  <a:lnTo>
                    <a:pt x="42" y="91"/>
                  </a:lnTo>
                  <a:lnTo>
                    <a:pt x="0" y="55"/>
                  </a:lnTo>
                  <a:lnTo>
                    <a:pt x="63" y="55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56000" y="3974040"/>
              <a:ext cx="40320" cy="42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5" y="19"/>
                  </a:moveTo>
                  <a:lnTo>
                    <a:pt x="19" y="0"/>
                  </a:lnTo>
                  <a:lnTo>
                    <a:pt x="29" y="17"/>
                  </a:lnTo>
                  <a:lnTo>
                    <a:pt x="49" y="13"/>
                  </a:lnTo>
                  <a:lnTo>
                    <a:pt x="36" y="27"/>
                  </a:lnTo>
                  <a:lnTo>
                    <a:pt x="46" y="44"/>
                  </a:lnTo>
                  <a:lnTo>
                    <a:pt x="27" y="36"/>
                  </a:lnTo>
                  <a:lnTo>
                    <a:pt x="13" y="49"/>
                  </a:lnTo>
                  <a:lnTo>
                    <a:pt x="13" y="32"/>
                  </a:lnTo>
                  <a:lnTo>
                    <a:pt x="0" y="27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50280" y="3971160"/>
              <a:ext cx="84240" cy="7452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4" y="34"/>
                  </a:moveTo>
                  <a:lnTo>
                    <a:pt x="57" y="0"/>
                  </a:lnTo>
                  <a:lnTo>
                    <a:pt x="69" y="34"/>
                  </a:lnTo>
                  <a:lnTo>
                    <a:pt x="103" y="42"/>
                  </a:lnTo>
                  <a:lnTo>
                    <a:pt x="74" y="61"/>
                  </a:lnTo>
                  <a:lnTo>
                    <a:pt x="80" y="91"/>
                  </a:lnTo>
                  <a:lnTo>
                    <a:pt x="52" y="72"/>
                  </a:lnTo>
                  <a:lnTo>
                    <a:pt x="19" y="88"/>
                  </a:lnTo>
                  <a:lnTo>
                    <a:pt x="25" y="55"/>
                  </a:lnTo>
                  <a:lnTo>
                    <a:pt x="0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37440" y="2908080"/>
              <a:ext cx="85320" cy="74520"/>
            </a:xfrm>
            <a:custGeom>
              <a:avLst/>
              <a:gdLst/>
              <a:ahLst/>
              <a:rect l="l" t="t" r="r" b="b"/>
              <a:pathLst>
                <a:path w="100" h="89">
                  <a:moveTo>
                    <a:pt x="32" y="32"/>
                  </a:moveTo>
                  <a:lnTo>
                    <a:pt x="51" y="0"/>
                  </a:lnTo>
                  <a:lnTo>
                    <a:pt x="66" y="32"/>
                  </a:lnTo>
                  <a:lnTo>
                    <a:pt x="100" y="40"/>
                  </a:lnTo>
                  <a:lnTo>
                    <a:pt x="72" y="59"/>
                  </a:lnTo>
                  <a:lnTo>
                    <a:pt x="78" y="89"/>
                  </a:lnTo>
                  <a:lnTo>
                    <a:pt x="49" y="68"/>
                  </a:lnTo>
                  <a:lnTo>
                    <a:pt x="17" y="85"/>
                  </a:lnTo>
                  <a:lnTo>
                    <a:pt x="23" y="57"/>
                  </a:lnTo>
                  <a:lnTo>
                    <a:pt x="0" y="32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7200" y="4099680"/>
              <a:ext cx="83520" cy="7668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37" y="33"/>
                  </a:moveTo>
                  <a:lnTo>
                    <a:pt x="56" y="0"/>
                  </a:lnTo>
                  <a:lnTo>
                    <a:pt x="67" y="33"/>
                  </a:lnTo>
                  <a:lnTo>
                    <a:pt x="101" y="40"/>
                  </a:lnTo>
                  <a:lnTo>
                    <a:pt x="75" y="59"/>
                  </a:lnTo>
                  <a:lnTo>
                    <a:pt x="78" y="93"/>
                  </a:lnTo>
                  <a:lnTo>
                    <a:pt x="50" y="71"/>
                  </a:lnTo>
                  <a:lnTo>
                    <a:pt x="19" y="90"/>
                  </a:lnTo>
                  <a:lnTo>
                    <a:pt x="25" y="57"/>
                  </a:lnTo>
                  <a:lnTo>
                    <a:pt x="0" y="33"/>
                  </a:lnTo>
                  <a:lnTo>
                    <a:pt x="37" y="33"/>
                  </a:lnTo>
                  <a:lnTo>
                    <a:pt x="37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0800" y="4214160"/>
              <a:ext cx="42480" cy="3996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7" y="21"/>
                  </a:moveTo>
                  <a:lnTo>
                    <a:pt x="23" y="0"/>
                  </a:lnTo>
                  <a:lnTo>
                    <a:pt x="31" y="13"/>
                  </a:lnTo>
                  <a:lnTo>
                    <a:pt x="50" y="13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6"/>
                  </a:lnTo>
                  <a:lnTo>
                    <a:pt x="17" y="47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800" y="3069360"/>
              <a:ext cx="85320" cy="766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2" y="34"/>
                  </a:moveTo>
                  <a:lnTo>
                    <a:pt x="53" y="0"/>
                  </a:lnTo>
                  <a:lnTo>
                    <a:pt x="67" y="34"/>
                  </a:lnTo>
                  <a:lnTo>
                    <a:pt x="103" y="42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7" y="87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92040" y="3484440"/>
              <a:ext cx="41760" cy="406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7" y="19"/>
                  </a:moveTo>
                  <a:lnTo>
                    <a:pt x="19" y="0"/>
                  </a:lnTo>
                  <a:lnTo>
                    <a:pt x="32" y="15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2"/>
                  </a:lnTo>
                  <a:lnTo>
                    <a:pt x="28" y="36"/>
                  </a:lnTo>
                  <a:lnTo>
                    <a:pt x="17" y="49"/>
                  </a:lnTo>
                  <a:lnTo>
                    <a:pt x="13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15560" y="3723480"/>
              <a:ext cx="41400" cy="388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5" y="21"/>
                  </a:moveTo>
                  <a:lnTo>
                    <a:pt x="23" y="0"/>
                  </a:lnTo>
                  <a:lnTo>
                    <a:pt x="32" y="13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3"/>
                  </a:lnTo>
                  <a:lnTo>
                    <a:pt x="30" y="36"/>
                  </a:lnTo>
                  <a:lnTo>
                    <a:pt x="15" y="47"/>
                  </a:lnTo>
                  <a:lnTo>
                    <a:pt x="15" y="32"/>
                  </a:lnTo>
                  <a:lnTo>
                    <a:pt x="0" y="24"/>
                  </a:lnTo>
                  <a:lnTo>
                    <a:pt x="15" y="21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9080" y="3419640"/>
              <a:ext cx="40320" cy="399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7" y="19"/>
                  </a:moveTo>
                  <a:lnTo>
                    <a:pt x="23" y="0"/>
                  </a:lnTo>
                  <a:lnTo>
                    <a:pt x="32" y="15"/>
                  </a:lnTo>
                  <a:lnTo>
                    <a:pt x="49" y="11"/>
                  </a:lnTo>
                  <a:lnTo>
                    <a:pt x="40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7"/>
                  </a:lnTo>
                  <a:lnTo>
                    <a:pt x="13" y="30"/>
                  </a:lnTo>
                  <a:lnTo>
                    <a:pt x="0" y="25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34560" y="4112640"/>
              <a:ext cx="42480" cy="3744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15" y="16"/>
                  </a:moveTo>
                  <a:lnTo>
                    <a:pt x="19" y="0"/>
                  </a:lnTo>
                  <a:lnTo>
                    <a:pt x="32" y="14"/>
                  </a:lnTo>
                  <a:lnTo>
                    <a:pt x="49" y="10"/>
                  </a:lnTo>
                  <a:lnTo>
                    <a:pt x="38" y="23"/>
                  </a:lnTo>
                  <a:lnTo>
                    <a:pt x="45" y="40"/>
                  </a:lnTo>
                  <a:lnTo>
                    <a:pt x="28" y="33"/>
                  </a:lnTo>
                  <a:lnTo>
                    <a:pt x="15" y="46"/>
                  </a:lnTo>
                  <a:lnTo>
                    <a:pt x="11" y="31"/>
                  </a:lnTo>
                  <a:lnTo>
                    <a:pt x="0" y="23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15880" y="4027320"/>
              <a:ext cx="46080" cy="4212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17" y="19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53" y="11"/>
                  </a:lnTo>
                  <a:lnTo>
                    <a:pt x="40" y="26"/>
                  </a:lnTo>
                  <a:lnTo>
                    <a:pt x="46" y="41"/>
                  </a:lnTo>
                  <a:lnTo>
                    <a:pt x="30" y="36"/>
                  </a:lnTo>
                  <a:lnTo>
                    <a:pt x="17" y="49"/>
                  </a:lnTo>
                  <a:lnTo>
                    <a:pt x="17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7880" y="3687840"/>
              <a:ext cx="42480" cy="3888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49" y="11"/>
                  </a:lnTo>
                  <a:lnTo>
                    <a:pt x="42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8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97840" y="5452560"/>
              <a:ext cx="381600" cy="547920"/>
            </a:xfrm>
            <a:custGeom>
              <a:avLst/>
              <a:gdLst/>
              <a:ahLst/>
              <a:rect l="l" t="t" r="r" b="b"/>
              <a:pathLst>
                <a:path w="457" h="658">
                  <a:moveTo>
                    <a:pt x="457" y="0"/>
                  </a:moveTo>
                  <a:lnTo>
                    <a:pt x="449" y="173"/>
                  </a:lnTo>
                  <a:lnTo>
                    <a:pt x="434" y="303"/>
                  </a:lnTo>
                  <a:lnTo>
                    <a:pt x="439" y="456"/>
                  </a:lnTo>
                  <a:lnTo>
                    <a:pt x="439" y="582"/>
                  </a:lnTo>
                  <a:lnTo>
                    <a:pt x="434" y="658"/>
                  </a:lnTo>
                  <a:lnTo>
                    <a:pt x="373" y="658"/>
                  </a:lnTo>
                  <a:lnTo>
                    <a:pt x="234" y="658"/>
                  </a:lnTo>
                  <a:lnTo>
                    <a:pt x="0" y="624"/>
                  </a:lnTo>
                  <a:lnTo>
                    <a:pt x="261" y="599"/>
                  </a:lnTo>
                  <a:lnTo>
                    <a:pt x="363" y="460"/>
                  </a:lnTo>
                  <a:lnTo>
                    <a:pt x="377" y="285"/>
                  </a:lnTo>
                  <a:lnTo>
                    <a:pt x="457" y="0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67480" y="4543920"/>
              <a:ext cx="75600" cy="6696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78" y="0"/>
                  </a:moveTo>
                  <a:lnTo>
                    <a:pt x="90" y="23"/>
                  </a:lnTo>
                  <a:lnTo>
                    <a:pt x="76" y="38"/>
                  </a:lnTo>
                  <a:lnTo>
                    <a:pt x="37" y="46"/>
                  </a:lnTo>
                  <a:lnTo>
                    <a:pt x="25" y="65"/>
                  </a:lnTo>
                  <a:lnTo>
                    <a:pt x="0" y="80"/>
                  </a:lnTo>
                  <a:lnTo>
                    <a:pt x="6" y="54"/>
                  </a:lnTo>
                  <a:lnTo>
                    <a:pt x="25" y="23"/>
                  </a:lnTo>
                  <a:lnTo>
                    <a:pt x="52" y="27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67400" y="4870800"/>
              <a:ext cx="28440" cy="11016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17" y="0"/>
                  </a:moveTo>
                  <a:lnTo>
                    <a:pt x="17" y="36"/>
                  </a:lnTo>
                  <a:lnTo>
                    <a:pt x="30" y="72"/>
                  </a:lnTo>
                  <a:lnTo>
                    <a:pt x="26" y="102"/>
                  </a:lnTo>
                  <a:lnTo>
                    <a:pt x="34" y="131"/>
                  </a:lnTo>
                  <a:lnTo>
                    <a:pt x="17" y="131"/>
                  </a:lnTo>
                  <a:lnTo>
                    <a:pt x="13" y="95"/>
                  </a:lnTo>
                  <a:lnTo>
                    <a:pt x="13" y="68"/>
                  </a:lnTo>
                  <a:lnTo>
                    <a:pt x="0" y="3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082520" y="5470920"/>
              <a:ext cx="43560" cy="7848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3" y="0"/>
                  </a:moveTo>
                  <a:lnTo>
                    <a:pt x="41" y="27"/>
                  </a:lnTo>
                  <a:lnTo>
                    <a:pt x="41" y="55"/>
                  </a:lnTo>
                  <a:lnTo>
                    <a:pt x="41" y="72"/>
                  </a:lnTo>
                  <a:lnTo>
                    <a:pt x="38" y="88"/>
                  </a:lnTo>
                  <a:lnTo>
                    <a:pt x="11" y="95"/>
                  </a:lnTo>
                  <a:lnTo>
                    <a:pt x="0" y="91"/>
                  </a:lnTo>
                  <a:lnTo>
                    <a:pt x="26" y="82"/>
                  </a:lnTo>
                  <a:lnTo>
                    <a:pt x="32" y="55"/>
                  </a:lnTo>
                  <a:lnTo>
                    <a:pt x="38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58120" y="5319360"/>
              <a:ext cx="45000" cy="10692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0" y="0"/>
                  </a:moveTo>
                  <a:lnTo>
                    <a:pt x="8" y="22"/>
                  </a:lnTo>
                  <a:lnTo>
                    <a:pt x="11" y="49"/>
                  </a:lnTo>
                  <a:lnTo>
                    <a:pt x="8" y="76"/>
                  </a:lnTo>
                  <a:lnTo>
                    <a:pt x="0" y="127"/>
                  </a:lnTo>
                  <a:lnTo>
                    <a:pt x="27" y="83"/>
                  </a:lnTo>
                  <a:lnTo>
                    <a:pt x="53" y="49"/>
                  </a:lnTo>
                  <a:lnTo>
                    <a:pt x="27" y="26"/>
                  </a:lnTo>
                  <a:lnTo>
                    <a:pt x="8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58120" y="5144400"/>
              <a:ext cx="17640" cy="3996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9" y="0"/>
                  </a:moveTo>
                  <a:lnTo>
                    <a:pt x="15" y="21"/>
                  </a:lnTo>
                  <a:lnTo>
                    <a:pt x="13" y="36"/>
                  </a:lnTo>
                  <a:lnTo>
                    <a:pt x="0" y="32"/>
                  </a:lnTo>
                  <a:lnTo>
                    <a:pt x="6" y="43"/>
                  </a:lnTo>
                  <a:lnTo>
                    <a:pt x="13" y="47"/>
                  </a:lnTo>
                  <a:lnTo>
                    <a:pt x="23" y="32"/>
                  </a:lnTo>
                  <a:lnTo>
                    <a:pt x="23" y="1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4960" y="4701960"/>
              <a:ext cx="33840" cy="3348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2" y="27"/>
                  </a:moveTo>
                  <a:lnTo>
                    <a:pt x="30" y="21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11" y="31"/>
                  </a:lnTo>
                  <a:lnTo>
                    <a:pt x="0" y="40"/>
                  </a:lnTo>
                  <a:lnTo>
                    <a:pt x="4" y="23"/>
                  </a:lnTo>
                  <a:lnTo>
                    <a:pt x="17" y="16"/>
                  </a:lnTo>
                  <a:lnTo>
                    <a:pt x="27" y="0"/>
                  </a:lnTo>
                  <a:lnTo>
                    <a:pt x="34" y="12"/>
                  </a:lnTo>
                  <a:lnTo>
                    <a:pt x="44" y="21"/>
                  </a:lnTo>
                  <a:lnTo>
                    <a:pt x="42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6040" y="4749480"/>
              <a:ext cx="45720" cy="10800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18" y="14"/>
                  </a:lnTo>
                  <a:lnTo>
                    <a:pt x="37" y="23"/>
                  </a:lnTo>
                  <a:lnTo>
                    <a:pt x="56" y="37"/>
                  </a:lnTo>
                  <a:lnTo>
                    <a:pt x="48" y="67"/>
                  </a:lnTo>
                  <a:lnTo>
                    <a:pt x="48" y="80"/>
                  </a:lnTo>
                  <a:lnTo>
                    <a:pt x="44" y="103"/>
                  </a:lnTo>
                  <a:lnTo>
                    <a:pt x="44" y="130"/>
                  </a:lnTo>
                  <a:lnTo>
                    <a:pt x="37" y="99"/>
                  </a:lnTo>
                  <a:lnTo>
                    <a:pt x="21" y="7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0320" y="5856840"/>
              <a:ext cx="118080" cy="16092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97" y="0"/>
                  </a:moveTo>
                  <a:lnTo>
                    <a:pt x="107" y="45"/>
                  </a:lnTo>
                  <a:lnTo>
                    <a:pt x="113" y="80"/>
                  </a:lnTo>
                  <a:lnTo>
                    <a:pt x="116" y="118"/>
                  </a:lnTo>
                  <a:lnTo>
                    <a:pt x="126" y="156"/>
                  </a:lnTo>
                  <a:lnTo>
                    <a:pt x="139" y="182"/>
                  </a:lnTo>
                  <a:lnTo>
                    <a:pt x="109" y="192"/>
                  </a:lnTo>
                  <a:lnTo>
                    <a:pt x="54" y="192"/>
                  </a:lnTo>
                  <a:lnTo>
                    <a:pt x="0" y="188"/>
                  </a:lnTo>
                  <a:lnTo>
                    <a:pt x="44" y="175"/>
                  </a:lnTo>
                  <a:lnTo>
                    <a:pt x="103" y="175"/>
                  </a:lnTo>
                  <a:lnTo>
                    <a:pt x="86" y="84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91600" y="4254480"/>
              <a:ext cx="96480" cy="50400"/>
            </a:xfrm>
            <a:custGeom>
              <a:avLst/>
              <a:gdLst/>
              <a:ahLst/>
              <a:rect l="l" t="t" r="r" b="b"/>
              <a:pathLst>
                <a:path w="116" h="63">
                  <a:moveTo>
                    <a:pt x="0" y="0"/>
                  </a:moveTo>
                  <a:lnTo>
                    <a:pt x="0" y="31"/>
                  </a:lnTo>
                  <a:lnTo>
                    <a:pt x="0" y="56"/>
                  </a:lnTo>
                  <a:lnTo>
                    <a:pt x="21" y="63"/>
                  </a:lnTo>
                  <a:lnTo>
                    <a:pt x="57" y="63"/>
                  </a:lnTo>
                  <a:lnTo>
                    <a:pt x="74" y="59"/>
                  </a:lnTo>
                  <a:lnTo>
                    <a:pt x="116" y="59"/>
                  </a:lnTo>
                  <a:lnTo>
                    <a:pt x="84" y="46"/>
                  </a:lnTo>
                  <a:lnTo>
                    <a:pt x="57" y="42"/>
                  </a:lnTo>
                  <a:lnTo>
                    <a:pt x="17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45600" y="4221000"/>
              <a:ext cx="57960" cy="99360"/>
            </a:xfrm>
            <a:custGeom>
              <a:avLst/>
              <a:gdLst/>
              <a:ahLst/>
              <a:rect l="l" t="t" r="r" b="b"/>
              <a:pathLst>
                <a:path w="68" h="119">
                  <a:moveTo>
                    <a:pt x="68" y="0"/>
                  </a:moveTo>
                  <a:lnTo>
                    <a:pt x="68" y="51"/>
                  </a:lnTo>
                  <a:lnTo>
                    <a:pt x="68" y="89"/>
                  </a:lnTo>
                  <a:lnTo>
                    <a:pt x="68" y="116"/>
                  </a:lnTo>
                  <a:lnTo>
                    <a:pt x="45" y="119"/>
                  </a:lnTo>
                  <a:lnTo>
                    <a:pt x="0" y="112"/>
                  </a:lnTo>
                  <a:lnTo>
                    <a:pt x="36" y="98"/>
                  </a:lnTo>
                  <a:lnTo>
                    <a:pt x="55" y="6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15560" y="5042520"/>
              <a:ext cx="51480" cy="7560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63" y="0"/>
                  </a:moveTo>
                  <a:lnTo>
                    <a:pt x="63" y="19"/>
                  </a:lnTo>
                  <a:lnTo>
                    <a:pt x="63" y="29"/>
                  </a:lnTo>
                  <a:lnTo>
                    <a:pt x="63" y="42"/>
                  </a:lnTo>
                  <a:lnTo>
                    <a:pt x="59" y="59"/>
                  </a:lnTo>
                  <a:lnTo>
                    <a:pt x="57" y="65"/>
                  </a:lnTo>
                  <a:lnTo>
                    <a:pt x="53" y="78"/>
                  </a:lnTo>
                  <a:lnTo>
                    <a:pt x="53" y="86"/>
                  </a:lnTo>
                  <a:lnTo>
                    <a:pt x="36" y="91"/>
                  </a:lnTo>
                  <a:lnTo>
                    <a:pt x="0" y="91"/>
                  </a:lnTo>
                  <a:lnTo>
                    <a:pt x="45" y="76"/>
                  </a:lnTo>
                  <a:lnTo>
                    <a:pt x="42" y="4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24200" y="4876200"/>
              <a:ext cx="84240" cy="7128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4" y="0"/>
                  </a:moveTo>
                  <a:lnTo>
                    <a:pt x="27" y="14"/>
                  </a:lnTo>
                  <a:lnTo>
                    <a:pt x="48" y="25"/>
                  </a:lnTo>
                  <a:lnTo>
                    <a:pt x="59" y="37"/>
                  </a:lnTo>
                  <a:lnTo>
                    <a:pt x="80" y="54"/>
                  </a:lnTo>
                  <a:lnTo>
                    <a:pt x="99" y="71"/>
                  </a:lnTo>
                  <a:lnTo>
                    <a:pt x="103" y="86"/>
                  </a:lnTo>
                  <a:lnTo>
                    <a:pt x="90" y="75"/>
                  </a:lnTo>
                  <a:lnTo>
                    <a:pt x="55" y="71"/>
                  </a:lnTo>
                  <a:lnTo>
                    <a:pt x="55" y="57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276720" y="685800"/>
            <a:ext cx="5638680" cy="5310000"/>
            <a:chOff x="3276720" y="685800"/>
            <a:chExt cx="5638680" cy="5310000"/>
          </a:xfrm>
        </p:grpSpPr>
        <p:sp>
          <p:nvSpPr>
            <p:cNvPr id="525" name=""/>
            <p:cNvSpPr/>
            <p:nvPr/>
          </p:nvSpPr>
          <p:spPr>
            <a:xfrm>
              <a:off x="3276720" y="685800"/>
              <a:ext cx="5333760" cy="53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 L’estime de soi est la conscience acquise à travers les années de sa valeur personnelle ainsi que des forces, des qualités et des habiletés qui permettent à une personne de vivre en harmonie avec elle-même et les autr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le constitue une réserve consciente des forces qu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’aident à surmonter 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épreuves et à gérer le stress de la vie, et c’est en ce sens qu’elle est un passeport pour la vie. 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ermain Duclos dans : L’estime de soi, un passeport pour la vi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6" name="" descr=""/>
            <p:cNvPicPr/>
            <p:nvPr/>
          </p:nvPicPr>
          <p:blipFill>
            <a:blip r:embed="rId6"/>
            <a:stretch/>
          </p:blipFill>
          <p:spPr>
            <a:xfrm>
              <a:off x="7238880" y="3048120"/>
              <a:ext cx="1676520" cy="1314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380880" y="2743200"/>
            <a:ext cx="2514240" cy="3581280"/>
            <a:chOff x="380880" y="2743200"/>
            <a:chExt cx="2514240" cy="3581280"/>
          </a:xfrm>
        </p:grpSpPr>
        <p:sp>
          <p:nvSpPr>
            <p:cNvPr id="528" name=""/>
            <p:cNvSpPr/>
            <p:nvPr/>
          </p:nvSpPr>
          <p:spPr>
            <a:xfrm>
              <a:off x="386640" y="2761560"/>
              <a:ext cx="2486880" cy="1829520"/>
            </a:xfrm>
            <a:custGeom>
              <a:avLst/>
              <a:gdLst/>
              <a:ahLst/>
              <a:rect l="l" t="t" r="r" b="b"/>
              <a:pathLst>
                <a:path w="3418" h="2198">
                  <a:moveTo>
                    <a:pt x="36" y="6"/>
                  </a:moveTo>
                  <a:lnTo>
                    <a:pt x="327" y="0"/>
                  </a:lnTo>
                  <a:lnTo>
                    <a:pt x="859" y="10"/>
                  </a:lnTo>
                  <a:lnTo>
                    <a:pt x="1096" y="6"/>
                  </a:lnTo>
                  <a:lnTo>
                    <a:pt x="1444" y="10"/>
                  </a:lnTo>
                  <a:lnTo>
                    <a:pt x="1914" y="33"/>
                  </a:lnTo>
                  <a:lnTo>
                    <a:pt x="2235" y="21"/>
                  </a:lnTo>
                  <a:lnTo>
                    <a:pt x="2543" y="31"/>
                  </a:lnTo>
                  <a:lnTo>
                    <a:pt x="2807" y="37"/>
                  </a:lnTo>
                  <a:lnTo>
                    <a:pt x="3100" y="57"/>
                  </a:lnTo>
                  <a:lnTo>
                    <a:pt x="3408" y="67"/>
                  </a:lnTo>
                  <a:lnTo>
                    <a:pt x="3406" y="523"/>
                  </a:lnTo>
                  <a:lnTo>
                    <a:pt x="3418" y="871"/>
                  </a:lnTo>
                  <a:lnTo>
                    <a:pt x="3380" y="1268"/>
                  </a:lnTo>
                  <a:lnTo>
                    <a:pt x="3399" y="1852"/>
                  </a:lnTo>
                  <a:lnTo>
                    <a:pt x="3391" y="2181"/>
                  </a:lnTo>
                  <a:lnTo>
                    <a:pt x="2615" y="2162"/>
                  </a:lnTo>
                  <a:lnTo>
                    <a:pt x="1792" y="2192"/>
                  </a:lnTo>
                  <a:lnTo>
                    <a:pt x="1315" y="2158"/>
                  </a:lnTo>
                  <a:lnTo>
                    <a:pt x="872" y="2154"/>
                  </a:lnTo>
                  <a:lnTo>
                    <a:pt x="148" y="2198"/>
                  </a:lnTo>
                  <a:lnTo>
                    <a:pt x="0" y="2169"/>
                  </a:lnTo>
                  <a:lnTo>
                    <a:pt x="30" y="1656"/>
                  </a:lnTo>
                  <a:lnTo>
                    <a:pt x="32" y="1015"/>
                  </a:lnTo>
                  <a:lnTo>
                    <a:pt x="13" y="466"/>
                  </a:lnTo>
                  <a:lnTo>
                    <a:pt x="21" y="175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607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2680" y="4501440"/>
              <a:ext cx="2469960" cy="1804320"/>
            </a:xfrm>
            <a:custGeom>
              <a:avLst/>
              <a:gdLst/>
              <a:ahLst/>
              <a:rect l="l" t="t" r="r" b="b"/>
              <a:pathLst>
                <a:path w="3395" h="2165">
                  <a:moveTo>
                    <a:pt x="6" y="80"/>
                  </a:moveTo>
                  <a:lnTo>
                    <a:pt x="127" y="84"/>
                  </a:lnTo>
                  <a:lnTo>
                    <a:pt x="319" y="80"/>
                  </a:lnTo>
                  <a:lnTo>
                    <a:pt x="416" y="65"/>
                  </a:lnTo>
                  <a:lnTo>
                    <a:pt x="525" y="54"/>
                  </a:lnTo>
                  <a:lnTo>
                    <a:pt x="637" y="33"/>
                  </a:lnTo>
                  <a:lnTo>
                    <a:pt x="823" y="27"/>
                  </a:lnTo>
                  <a:lnTo>
                    <a:pt x="994" y="31"/>
                  </a:lnTo>
                  <a:lnTo>
                    <a:pt x="1133" y="23"/>
                  </a:lnTo>
                  <a:lnTo>
                    <a:pt x="1279" y="23"/>
                  </a:lnTo>
                  <a:lnTo>
                    <a:pt x="1374" y="33"/>
                  </a:lnTo>
                  <a:lnTo>
                    <a:pt x="1490" y="40"/>
                  </a:lnTo>
                  <a:lnTo>
                    <a:pt x="1616" y="57"/>
                  </a:lnTo>
                  <a:lnTo>
                    <a:pt x="1741" y="59"/>
                  </a:lnTo>
                  <a:lnTo>
                    <a:pt x="1834" y="57"/>
                  </a:lnTo>
                  <a:lnTo>
                    <a:pt x="1973" y="57"/>
                  </a:lnTo>
                  <a:lnTo>
                    <a:pt x="2099" y="59"/>
                  </a:lnTo>
                  <a:lnTo>
                    <a:pt x="2146" y="59"/>
                  </a:lnTo>
                  <a:lnTo>
                    <a:pt x="2224" y="63"/>
                  </a:lnTo>
                  <a:lnTo>
                    <a:pt x="2292" y="50"/>
                  </a:lnTo>
                  <a:lnTo>
                    <a:pt x="2334" y="31"/>
                  </a:lnTo>
                  <a:lnTo>
                    <a:pt x="2399" y="14"/>
                  </a:lnTo>
                  <a:lnTo>
                    <a:pt x="2475" y="0"/>
                  </a:lnTo>
                  <a:lnTo>
                    <a:pt x="2559" y="0"/>
                  </a:lnTo>
                  <a:lnTo>
                    <a:pt x="2707" y="36"/>
                  </a:lnTo>
                  <a:lnTo>
                    <a:pt x="2855" y="40"/>
                  </a:lnTo>
                  <a:lnTo>
                    <a:pt x="3026" y="42"/>
                  </a:lnTo>
                  <a:lnTo>
                    <a:pt x="3068" y="46"/>
                  </a:lnTo>
                  <a:lnTo>
                    <a:pt x="3186" y="63"/>
                  </a:lnTo>
                  <a:lnTo>
                    <a:pt x="3262" y="73"/>
                  </a:lnTo>
                  <a:lnTo>
                    <a:pt x="3370" y="84"/>
                  </a:lnTo>
                  <a:lnTo>
                    <a:pt x="3374" y="380"/>
                  </a:lnTo>
                  <a:lnTo>
                    <a:pt x="3395" y="707"/>
                  </a:lnTo>
                  <a:lnTo>
                    <a:pt x="3395" y="1032"/>
                  </a:lnTo>
                  <a:lnTo>
                    <a:pt x="3382" y="1430"/>
                  </a:lnTo>
                  <a:lnTo>
                    <a:pt x="3382" y="1836"/>
                  </a:lnTo>
                  <a:lnTo>
                    <a:pt x="3374" y="2142"/>
                  </a:lnTo>
                  <a:lnTo>
                    <a:pt x="3064" y="2165"/>
                  </a:lnTo>
                  <a:lnTo>
                    <a:pt x="2542" y="2148"/>
                  </a:lnTo>
                  <a:lnTo>
                    <a:pt x="2304" y="2152"/>
                  </a:lnTo>
                  <a:lnTo>
                    <a:pt x="1927" y="2142"/>
                  </a:lnTo>
                  <a:lnTo>
                    <a:pt x="1325" y="2127"/>
                  </a:lnTo>
                  <a:lnTo>
                    <a:pt x="739" y="2142"/>
                  </a:lnTo>
                  <a:lnTo>
                    <a:pt x="224" y="2142"/>
                  </a:lnTo>
                  <a:lnTo>
                    <a:pt x="51" y="2121"/>
                  </a:lnTo>
                  <a:lnTo>
                    <a:pt x="36" y="1971"/>
                  </a:lnTo>
                  <a:lnTo>
                    <a:pt x="23" y="1800"/>
                  </a:lnTo>
                  <a:lnTo>
                    <a:pt x="11" y="1532"/>
                  </a:lnTo>
                  <a:lnTo>
                    <a:pt x="6" y="1411"/>
                  </a:lnTo>
                  <a:lnTo>
                    <a:pt x="0" y="1029"/>
                  </a:lnTo>
                  <a:lnTo>
                    <a:pt x="2" y="563"/>
                  </a:lnTo>
                  <a:lnTo>
                    <a:pt x="6" y="80"/>
                  </a:lnTo>
                  <a:lnTo>
                    <a:pt x="6" y="80"/>
                  </a:lnTo>
                  <a:close/>
                </a:path>
              </a:pathLst>
            </a:custGeom>
            <a:solidFill>
              <a:srgbClr val="536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0320" y="4526280"/>
              <a:ext cx="1167480" cy="843480"/>
            </a:xfrm>
            <a:custGeom>
              <a:avLst/>
              <a:gdLst/>
              <a:ahLst/>
              <a:rect l="l" t="t" r="r" b="b"/>
              <a:pathLst>
                <a:path w="1605" h="1011">
                  <a:moveTo>
                    <a:pt x="791" y="939"/>
                  </a:moveTo>
                  <a:lnTo>
                    <a:pt x="827" y="885"/>
                  </a:lnTo>
                  <a:lnTo>
                    <a:pt x="833" y="832"/>
                  </a:lnTo>
                  <a:lnTo>
                    <a:pt x="827" y="796"/>
                  </a:lnTo>
                  <a:lnTo>
                    <a:pt x="782" y="764"/>
                  </a:lnTo>
                  <a:lnTo>
                    <a:pt x="723" y="741"/>
                  </a:lnTo>
                  <a:lnTo>
                    <a:pt x="658" y="718"/>
                  </a:lnTo>
                  <a:lnTo>
                    <a:pt x="559" y="680"/>
                  </a:lnTo>
                  <a:lnTo>
                    <a:pt x="464" y="654"/>
                  </a:lnTo>
                  <a:lnTo>
                    <a:pt x="367" y="640"/>
                  </a:lnTo>
                  <a:lnTo>
                    <a:pt x="312" y="627"/>
                  </a:lnTo>
                  <a:lnTo>
                    <a:pt x="268" y="604"/>
                  </a:lnTo>
                  <a:lnTo>
                    <a:pt x="156" y="559"/>
                  </a:lnTo>
                  <a:lnTo>
                    <a:pt x="71" y="515"/>
                  </a:lnTo>
                  <a:lnTo>
                    <a:pt x="14" y="479"/>
                  </a:lnTo>
                  <a:lnTo>
                    <a:pt x="0" y="439"/>
                  </a:lnTo>
                  <a:lnTo>
                    <a:pt x="8" y="382"/>
                  </a:lnTo>
                  <a:lnTo>
                    <a:pt x="27" y="344"/>
                  </a:lnTo>
                  <a:lnTo>
                    <a:pt x="73" y="310"/>
                  </a:lnTo>
                  <a:lnTo>
                    <a:pt x="152" y="260"/>
                  </a:lnTo>
                  <a:lnTo>
                    <a:pt x="202" y="247"/>
                  </a:lnTo>
                  <a:lnTo>
                    <a:pt x="255" y="230"/>
                  </a:lnTo>
                  <a:lnTo>
                    <a:pt x="312" y="214"/>
                  </a:lnTo>
                  <a:lnTo>
                    <a:pt x="365" y="190"/>
                  </a:lnTo>
                  <a:lnTo>
                    <a:pt x="415" y="152"/>
                  </a:lnTo>
                  <a:lnTo>
                    <a:pt x="443" y="114"/>
                  </a:lnTo>
                  <a:lnTo>
                    <a:pt x="466" y="68"/>
                  </a:lnTo>
                  <a:lnTo>
                    <a:pt x="514" y="2"/>
                  </a:lnTo>
                  <a:lnTo>
                    <a:pt x="639" y="2"/>
                  </a:lnTo>
                  <a:lnTo>
                    <a:pt x="603" y="81"/>
                  </a:lnTo>
                  <a:lnTo>
                    <a:pt x="569" y="167"/>
                  </a:lnTo>
                  <a:lnTo>
                    <a:pt x="523" y="237"/>
                  </a:lnTo>
                  <a:lnTo>
                    <a:pt x="474" y="300"/>
                  </a:lnTo>
                  <a:lnTo>
                    <a:pt x="464" y="363"/>
                  </a:lnTo>
                  <a:lnTo>
                    <a:pt x="464" y="420"/>
                  </a:lnTo>
                  <a:lnTo>
                    <a:pt x="483" y="443"/>
                  </a:lnTo>
                  <a:lnTo>
                    <a:pt x="515" y="458"/>
                  </a:lnTo>
                  <a:lnTo>
                    <a:pt x="563" y="479"/>
                  </a:lnTo>
                  <a:lnTo>
                    <a:pt x="603" y="500"/>
                  </a:lnTo>
                  <a:lnTo>
                    <a:pt x="647" y="515"/>
                  </a:lnTo>
                  <a:lnTo>
                    <a:pt x="702" y="528"/>
                  </a:lnTo>
                  <a:lnTo>
                    <a:pt x="751" y="532"/>
                  </a:lnTo>
                  <a:lnTo>
                    <a:pt x="791" y="551"/>
                  </a:lnTo>
                  <a:lnTo>
                    <a:pt x="850" y="595"/>
                  </a:lnTo>
                  <a:lnTo>
                    <a:pt x="890" y="617"/>
                  </a:lnTo>
                  <a:lnTo>
                    <a:pt x="934" y="650"/>
                  </a:lnTo>
                  <a:lnTo>
                    <a:pt x="970" y="701"/>
                  </a:lnTo>
                  <a:lnTo>
                    <a:pt x="998" y="750"/>
                  </a:lnTo>
                  <a:lnTo>
                    <a:pt x="1017" y="796"/>
                  </a:lnTo>
                  <a:lnTo>
                    <a:pt x="1019" y="840"/>
                  </a:lnTo>
                  <a:lnTo>
                    <a:pt x="1046" y="809"/>
                  </a:lnTo>
                  <a:lnTo>
                    <a:pt x="1086" y="769"/>
                  </a:lnTo>
                  <a:lnTo>
                    <a:pt x="1139" y="718"/>
                  </a:lnTo>
                  <a:lnTo>
                    <a:pt x="1185" y="671"/>
                  </a:lnTo>
                  <a:lnTo>
                    <a:pt x="1221" y="608"/>
                  </a:lnTo>
                  <a:lnTo>
                    <a:pt x="1225" y="551"/>
                  </a:lnTo>
                  <a:lnTo>
                    <a:pt x="1217" y="511"/>
                  </a:lnTo>
                  <a:lnTo>
                    <a:pt x="1188" y="481"/>
                  </a:lnTo>
                  <a:lnTo>
                    <a:pt x="1135" y="462"/>
                  </a:lnTo>
                  <a:lnTo>
                    <a:pt x="1074" y="446"/>
                  </a:lnTo>
                  <a:lnTo>
                    <a:pt x="1025" y="425"/>
                  </a:lnTo>
                  <a:lnTo>
                    <a:pt x="953" y="393"/>
                  </a:lnTo>
                  <a:lnTo>
                    <a:pt x="913" y="348"/>
                  </a:lnTo>
                  <a:lnTo>
                    <a:pt x="911" y="283"/>
                  </a:lnTo>
                  <a:lnTo>
                    <a:pt x="917" y="180"/>
                  </a:lnTo>
                  <a:lnTo>
                    <a:pt x="934" y="121"/>
                  </a:lnTo>
                  <a:lnTo>
                    <a:pt x="960" y="72"/>
                  </a:lnTo>
                  <a:lnTo>
                    <a:pt x="979" y="42"/>
                  </a:lnTo>
                  <a:lnTo>
                    <a:pt x="991" y="5"/>
                  </a:lnTo>
                  <a:lnTo>
                    <a:pt x="1040" y="0"/>
                  </a:lnTo>
                  <a:lnTo>
                    <a:pt x="1095" y="9"/>
                  </a:lnTo>
                  <a:lnTo>
                    <a:pt x="1090" y="28"/>
                  </a:lnTo>
                  <a:lnTo>
                    <a:pt x="1067" y="76"/>
                  </a:lnTo>
                  <a:lnTo>
                    <a:pt x="1059" y="157"/>
                  </a:lnTo>
                  <a:lnTo>
                    <a:pt x="1059" y="194"/>
                  </a:lnTo>
                  <a:lnTo>
                    <a:pt x="1082" y="228"/>
                  </a:lnTo>
                  <a:lnTo>
                    <a:pt x="1112" y="273"/>
                  </a:lnTo>
                  <a:lnTo>
                    <a:pt x="1154" y="300"/>
                  </a:lnTo>
                  <a:lnTo>
                    <a:pt x="1202" y="313"/>
                  </a:lnTo>
                  <a:lnTo>
                    <a:pt x="1255" y="330"/>
                  </a:lnTo>
                  <a:lnTo>
                    <a:pt x="1293" y="336"/>
                  </a:lnTo>
                  <a:lnTo>
                    <a:pt x="1418" y="380"/>
                  </a:lnTo>
                  <a:lnTo>
                    <a:pt x="1489" y="412"/>
                  </a:lnTo>
                  <a:lnTo>
                    <a:pt x="1565" y="475"/>
                  </a:lnTo>
                  <a:lnTo>
                    <a:pt x="1595" y="511"/>
                  </a:lnTo>
                  <a:lnTo>
                    <a:pt x="1605" y="587"/>
                  </a:lnTo>
                  <a:lnTo>
                    <a:pt x="1601" y="612"/>
                  </a:lnTo>
                  <a:lnTo>
                    <a:pt x="1584" y="676"/>
                  </a:lnTo>
                  <a:lnTo>
                    <a:pt x="1555" y="724"/>
                  </a:lnTo>
                  <a:lnTo>
                    <a:pt x="1519" y="733"/>
                  </a:lnTo>
                  <a:lnTo>
                    <a:pt x="1479" y="787"/>
                  </a:lnTo>
                  <a:lnTo>
                    <a:pt x="1422" y="832"/>
                  </a:lnTo>
                  <a:lnTo>
                    <a:pt x="1369" y="872"/>
                  </a:lnTo>
                  <a:lnTo>
                    <a:pt x="1314" y="912"/>
                  </a:lnTo>
                  <a:lnTo>
                    <a:pt x="1266" y="946"/>
                  </a:lnTo>
                  <a:lnTo>
                    <a:pt x="1033" y="1011"/>
                  </a:lnTo>
                  <a:lnTo>
                    <a:pt x="791" y="939"/>
                  </a:lnTo>
                  <a:lnTo>
                    <a:pt x="791" y="93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7200" y="4539240"/>
              <a:ext cx="2029680" cy="1755000"/>
            </a:xfrm>
            <a:custGeom>
              <a:avLst/>
              <a:gdLst/>
              <a:ahLst/>
              <a:rect l="l" t="t" r="r" b="b"/>
              <a:pathLst>
                <a:path w="2790" h="2106">
                  <a:moveTo>
                    <a:pt x="80" y="2106"/>
                  </a:moveTo>
                  <a:lnTo>
                    <a:pt x="235" y="2102"/>
                  </a:lnTo>
                  <a:lnTo>
                    <a:pt x="386" y="2102"/>
                  </a:lnTo>
                  <a:lnTo>
                    <a:pt x="560" y="2093"/>
                  </a:lnTo>
                  <a:lnTo>
                    <a:pt x="775" y="2093"/>
                  </a:lnTo>
                  <a:lnTo>
                    <a:pt x="982" y="2089"/>
                  </a:lnTo>
                  <a:lnTo>
                    <a:pt x="992" y="2055"/>
                  </a:lnTo>
                  <a:lnTo>
                    <a:pt x="952" y="1996"/>
                  </a:lnTo>
                  <a:lnTo>
                    <a:pt x="922" y="1874"/>
                  </a:lnTo>
                  <a:lnTo>
                    <a:pt x="893" y="1773"/>
                  </a:lnTo>
                  <a:lnTo>
                    <a:pt x="895" y="1682"/>
                  </a:lnTo>
                  <a:lnTo>
                    <a:pt x="908" y="1570"/>
                  </a:lnTo>
                  <a:lnTo>
                    <a:pt x="958" y="1473"/>
                  </a:lnTo>
                  <a:lnTo>
                    <a:pt x="1059" y="1353"/>
                  </a:lnTo>
                  <a:lnTo>
                    <a:pt x="1078" y="1325"/>
                  </a:lnTo>
                  <a:lnTo>
                    <a:pt x="1123" y="1302"/>
                  </a:lnTo>
                  <a:lnTo>
                    <a:pt x="1211" y="1277"/>
                  </a:lnTo>
                  <a:lnTo>
                    <a:pt x="1275" y="1258"/>
                  </a:lnTo>
                  <a:lnTo>
                    <a:pt x="1342" y="1251"/>
                  </a:lnTo>
                  <a:lnTo>
                    <a:pt x="1431" y="1251"/>
                  </a:lnTo>
                  <a:lnTo>
                    <a:pt x="1498" y="1275"/>
                  </a:lnTo>
                  <a:lnTo>
                    <a:pt x="1574" y="1294"/>
                  </a:lnTo>
                  <a:lnTo>
                    <a:pt x="1633" y="1294"/>
                  </a:lnTo>
                  <a:lnTo>
                    <a:pt x="1731" y="1298"/>
                  </a:lnTo>
                  <a:lnTo>
                    <a:pt x="1828" y="1298"/>
                  </a:lnTo>
                  <a:lnTo>
                    <a:pt x="1923" y="1281"/>
                  </a:lnTo>
                  <a:lnTo>
                    <a:pt x="2000" y="1258"/>
                  </a:lnTo>
                  <a:lnTo>
                    <a:pt x="2076" y="1222"/>
                  </a:lnTo>
                  <a:lnTo>
                    <a:pt x="2136" y="1182"/>
                  </a:lnTo>
                  <a:lnTo>
                    <a:pt x="2174" y="1133"/>
                  </a:lnTo>
                  <a:lnTo>
                    <a:pt x="2214" y="1062"/>
                  </a:lnTo>
                  <a:lnTo>
                    <a:pt x="2218" y="986"/>
                  </a:lnTo>
                  <a:lnTo>
                    <a:pt x="2214" y="905"/>
                  </a:lnTo>
                  <a:lnTo>
                    <a:pt x="2192" y="794"/>
                  </a:lnTo>
                  <a:lnTo>
                    <a:pt x="2161" y="715"/>
                  </a:lnTo>
                  <a:lnTo>
                    <a:pt x="2161" y="633"/>
                  </a:lnTo>
                  <a:lnTo>
                    <a:pt x="2188" y="597"/>
                  </a:lnTo>
                  <a:lnTo>
                    <a:pt x="2235" y="572"/>
                  </a:lnTo>
                  <a:lnTo>
                    <a:pt x="2307" y="544"/>
                  </a:lnTo>
                  <a:lnTo>
                    <a:pt x="2439" y="540"/>
                  </a:lnTo>
                  <a:lnTo>
                    <a:pt x="2503" y="523"/>
                  </a:lnTo>
                  <a:lnTo>
                    <a:pt x="2589" y="473"/>
                  </a:lnTo>
                  <a:lnTo>
                    <a:pt x="2625" y="437"/>
                  </a:lnTo>
                  <a:lnTo>
                    <a:pt x="2661" y="393"/>
                  </a:lnTo>
                  <a:lnTo>
                    <a:pt x="2703" y="321"/>
                  </a:lnTo>
                  <a:lnTo>
                    <a:pt x="2729" y="255"/>
                  </a:lnTo>
                  <a:lnTo>
                    <a:pt x="2760" y="192"/>
                  </a:lnTo>
                  <a:lnTo>
                    <a:pt x="2769" y="116"/>
                  </a:lnTo>
                  <a:lnTo>
                    <a:pt x="2783" y="44"/>
                  </a:lnTo>
                  <a:lnTo>
                    <a:pt x="2790" y="13"/>
                  </a:lnTo>
                  <a:lnTo>
                    <a:pt x="2724" y="0"/>
                  </a:lnTo>
                  <a:lnTo>
                    <a:pt x="2722" y="44"/>
                  </a:lnTo>
                  <a:lnTo>
                    <a:pt x="2676" y="129"/>
                  </a:lnTo>
                  <a:lnTo>
                    <a:pt x="2642" y="192"/>
                  </a:lnTo>
                  <a:lnTo>
                    <a:pt x="2615" y="255"/>
                  </a:lnTo>
                  <a:lnTo>
                    <a:pt x="2570" y="302"/>
                  </a:lnTo>
                  <a:lnTo>
                    <a:pt x="2482" y="367"/>
                  </a:lnTo>
                  <a:lnTo>
                    <a:pt x="2420" y="397"/>
                  </a:lnTo>
                  <a:lnTo>
                    <a:pt x="2336" y="401"/>
                  </a:lnTo>
                  <a:lnTo>
                    <a:pt x="2186" y="405"/>
                  </a:lnTo>
                  <a:lnTo>
                    <a:pt x="2136" y="414"/>
                  </a:lnTo>
                  <a:lnTo>
                    <a:pt x="2072" y="443"/>
                  </a:lnTo>
                  <a:lnTo>
                    <a:pt x="2011" y="486"/>
                  </a:lnTo>
                  <a:lnTo>
                    <a:pt x="1988" y="517"/>
                  </a:lnTo>
                  <a:lnTo>
                    <a:pt x="1981" y="620"/>
                  </a:lnTo>
                  <a:lnTo>
                    <a:pt x="1954" y="730"/>
                  </a:lnTo>
                  <a:lnTo>
                    <a:pt x="1897" y="791"/>
                  </a:lnTo>
                  <a:lnTo>
                    <a:pt x="1811" y="831"/>
                  </a:lnTo>
                  <a:lnTo>
                    <a:pt x="1752" y="863"/>
                  </a:lnTo>
                  <a:lnTo>
                    <a:pt x="1600" y="893"/>
                  </a:lnTo>
                  <a:lnTo>
                    <a:pt x="1463" y="920"/>
                  </a:lnTo>
                  <a:lnTo>
                    <a:pt x="1395" y="927"/>
                  </a:lnTo>
                  <a:lnTo>
                    <a:pt x="1309" y="941"/>
                  </a:lnTo>
                  <a:lnTo>
                    <a:pt x="1311" y="931"/>
                  </a:lnTo>
                  <a:lnTo>
                    <a:pt x="859" y="914"/>
                  </a:lnTo>
                  <a:lnTo>
                    <a:pt x="779" y="964"/>
                  </a:lnTo>
                  <a:lnTo>
                    <a:pt x="751" y="1009"/>
                  </a:lnTo>
                  <a:lnTo>
                    <a:pt x="595" y="1116"/>
                  </a:lnTo>
                  <a:lnTo>
                    <a:pt x="363" y="1207"/>
                  </a:lnTo>
                  <a:lnTo>
                    <a:pt x="291" y="1245"/>
                  </a:lnTo>
                  <a:lnTo>
                    <a:pt x="214" y="1327"/>
                  </a:lnTo>
                  <a:lnTo>
                    <a:pt x="148" y="1378"/>
                  </a:lnTo>
                  <a:lnTo>
                    <a:pt x="95" y="1460"/>
                  </a:lnTo>
                  <a:lnTo>
                    <a:pt x="80" y="1532"/>
                  </a:lnTo>
                  <a:lnTo>
                    <a:pt x="40" y="1581"/>
                  </a:lnTo>
                  <a:lnTo>
                    <a:pt x="13" y="1684"/>
                  </a:lnTo>
                  <a:lnTo>
                    <a:pt x="0" y="1811"/>
                  </a:lnTo>
                  <a:lnTo>
                    <a:pt x="13" y="1899"/>
                  </a:lnTo>
                  <a:lnTo>
                    <a:pt x="49" y="2045"/>
                  </a:lnTo>
                  <a:lnTo>
                    <a:pt x="80" y="2106"/>
                  </a:lnTo>
                  <a:lnTo>
                    <a:pt x="80" y="210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29520" y="4926600"/>
              <a:ext cx="89640" cy="13284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40" y="159"/>
                  </a:moveTo>
                  <a:lnTo>
                    <a:pt x="32" y="133"/>
                  </a:lnTo>
                  <a:lnTo>
                    <a:pt x="24" y="108"/>
                  </a:lnTo>
                  <a:lnTo>
                    <a:pt x="9" y="97"/>
                  </a:lnTo>
                  <a:lnTo>
                    <a:pt x="0" y="76"/>
                  </a:lnTo>
                  <a:lnTo>
                    <a:pt x="0" y="49"/>
                  </a:lnTo>
                  <a:lnTo>
                    <a:pt x="17" y="17"/>
                  </a:lnTo>
                  <a:lnTo>
                    <a:pt x="32" y="0"/>
                  </a:lnTo>
                  <a:lnTo>
                    <a:pt x="70" y="2"/>
                  </a:lnTo>
                  <a:lnTo>
                    <a:pt x="93" y="9"/>
                  </a:lnTo>
                  <a:lnTo>
                    <a:pt x="108" y="26"/>
                  </a:lnTo>
                  <a:lnTo>
                    <a:pt x="123" y="45"/>
                  </a:lnTo>
                  <a:lnTo>
                    <a:pt x="123" y="70"/>
                  </a:lnTo>
                  <a:lnTo>
                    <a:pt x="112" y="85"/>
                  </a:lnTo>
                  <a:lnTo>
                    <a:pt x="102" y="108"/>
                  </a:lnTo>
                  <a:lnTo>
                    <a:pt x="100" y="129"/>
                  </a:lnTo>
                  <a:lnTo>
                    <a:pt x="97" y="148"/>
                  </a:lnTo>
                  <a:lnTo>
                    <a:pt x="62" y="156"/>
                  </a:lnTo>
                  <a:lnTo>
                    <a:pt x="40" y="159"/>
                  </a:lnTo>
                  <a:lnTo>
                    <a:pt x="40" y="159"/>
                  </a:lnTo>
                  <a:close/>
                </a:path>
              </a:pathLst>
            </a:custGeom>
            <a:solidFill>
              <a:srgbClr val="6b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2760" y="4907880"/>
              <a:ext cx="94320" cy="8424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0" y="66"/>
                  </a:moveTo>
                  <a:lnTo>
                    <a:pt x="27" y="61"/>
                  </a:lnTo>
                  <a:lnTo>
                    <a:pt x="46" y="38"/>
                  </a:lnTo>
                  <a:lnTo>
                    <a:pt x="63" y="21"/>
                  </a:lnTo>
                  <a:lnTo>
                    <a:pt x="86" y="4"/>
                  </a:lnTo>
                  <a:lnTo>
                    <a:pt x="116" y="0"/>
                  </a:lnTo>
                  <a:lnTo>
                    <a:pt x="131" y="21"/>
                  </a:lnTo>
                  <a:lnTo>
                    <a:pt x="108" y="38"/>
                  </a:lnTo>
                  <a:lnTo>
                    <a:pt x="95" y="53"/>
                  </a:lnTo>
                  <a:lnTo>
                    <a:pt x="99" y="64"/>
                  </a:lnTo>
                  <a:lnTo>
                    <a:pt x="108" y="64"/>
                  </a:lnTo>
                  <a:lnTo>
                    <a:pt x="125" y="64"/>
                  </a:lnTo>
                  <a:lnTo>
                    <a:pt x="116" y="74"/>
                  </a:lnTo>
                  <a:lnTo>
                    <a:pt x="95" y="74"/>
                  </a:lnTo>
                  <a:lnTo>
                    <a:pt x="76" y="83"/>
                  </a:lnTo>
                  <a:lnTo>
                    <a:pt x="53" y="93"/>
                  </a:lnTo>
                  <a:lnTo>
                    <a:pt x="27" y="101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59840" y="5369760"/>
              <a:ext cx="51480" cy="7992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40" y="0"/>
                  </a:moveTo>
                  <a:lnTo>
                    <a:pt x="31" y="17"/>
                  </a:lnTo>
                  <a:lnTo>
                    <a:pt x="14" y="26"/>
                  </a:lnTo>
                  <a:lnTo>
                    <a:pt x="0" y="44"/>
                  </a:lnTo>
                  <a:lnTo>
                    <a:pt x="6" y="53"/>
                  </a:lnTo>
                  <a:lnTo>
                    <a:pt x="27" y="40"/>
                  </a:lnTo>
                  <a:lnTo>
                    <a:pt x="23" y="53"/>
                  </a:lnTo>
                  <a:lnTo>
                    <a:pt x="14" y="63"/>
                  </a:lnTo>
                  <a:lnTo>
                    <a:pt x="14" y="74"/>
                  </a:lnTo>
                  <a:lnTo>
                    <a:pt x="23" y="97"/>
                  </a:lnTo>
                  <a:lnTo>
                    <a:pt x="44" y="85"/>
                  </a:lnTo>
                  <a:lnTo>
                    <a:pt x="59" y="63"/>
                  </a:lnTo>
                  <a:lnTo>
                    <a:pt x="71" y="30"/>
                  </a:lnTo>
                  <a:lnTo>
                    <a:pt x="71" y="1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50480" y="5785920"/>
              <a:ext cx="81000" cy="6696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4" y="7"/>
                  </a:moveTo>
                  <a:lnTo>
                    <a:pt x="0" y="43"/>
                  </a:lnTo>
                  <a:lnTo>
                    <a:pt x="0" y="76"/>
                  </a:lnTo>
                  <a:lnTo>
                    <a:pt x="40" y="80"/>
                  </a:lnTo>
                  <a:lnTo>
                    <a:pt x="97" y="70"/>
                  </a:lnTo>
                  <a:lnTo>
                    <a:pt x="112" y="53"/>
                  </a:lnTo>
                  <a:lnTo>
                    <a:pt x="112" y="32"/>
                  </a:lnTo>
                  <a:lnTo>
                    <a:pt x="89" y="32"/>
                  </a:lnTo>
                  <a:lnTo>
                    <a:pt x="76" y="30"/>
                  </a:lnTo>
                  <a:lnTo>
                    <a:pt x="57" y="30"/>
                  </a:lnTo>
                  <a:lnTo>
                    <a:pt x="46" y="21"/>
                  </a:lnTo>
                  <a:lnTo>
                    <a:pt x="44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29520" y="5830200"/>
              <a:ext cx="83520" cy="62640"/>
            </a:xfrm>
            <a:custGeom>
              <a:avLst/>
              <a:gdLst/>
              <a:ahLst/>
              <a:rect l="l" t="t" r="r" b="b"/>
              <a:pathLst>
                <a:path w="116" h="76">
                  <a:moveTo>
                    <a:pt x="0" y="9"/>
                  </a:moveTo>
                  <a:lnTo>
                    <a:pt x="0" y="47"/>
                  </a:lnTo>
                  <a:lnTo>
                    <a:pt x="0" y="76"/>
                  </a:lnTo>
                  <a:lnTo>
                    <a:pt x="24" y="74"/>
                  </a:lnTo>
                  <a:lnTo>
                    <a:pt x="47" y="70"/>
                  </a:lnTo>
                  <a:lnTo>
                    <a:pt x="70" y="59"/>
                  </a:lnTo>
                  <a:lnTo>
                    <a:pt x="93" y="47"/>
                  </a:lnTo>
                  <a:lnTo>
                    <a:pt x="108" y="40"/>
                  </a:lnTo>
                  <a:lnTo>
                    <a:pt x="116" y="23"/>
                  </a:lnTo>
                  <a:lnTo>
                    <a:pt x="108" y="9"/>
                  </a:lnTo>
                  <a:lnTo>
                    <a:pt x="80" y="9"/>
                  </a:lnTo>
                  <a:lnTo>
                    <a:pt x="57" y="17"/>
                  </a:lnTo>
                  <a:lnTo>
                    <a:pt x="36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02880" y="5362200"/>
              <a:ext cx="218880" cy="478800"/>
            </a:xfrm>
            <a:custGeom>
              <a:avLst/>
              <a:gdLst/>
              <a:ahLst/>
              <a:rect l="l" t="t" r="r" b="b"/>
              <a:pathLst>
                <a:path w="298" h="576">
                  <a:moveTo>
                    <a:pt x="7" y="10"/>
                  </a:moveTo>
                  <a:lnTo>
                    <a:pt x="60" y="4"/>
                  </a:lnTo>
                  <a:lnTo>
                    <a:pt x="110" y="0"/>
                  </a:lnTo>
                  <a:lnTo>
                    <a:pt x="165" y="0"/>
                  </a:lnTo>
                  <a:lnTo>
                    <a:pt x="192" y="8"/>
                  </a:lnTo>
                  <a:lnTo>
                    <a:pt x="192" y="54"/>
                  </a:lnTo>
                  <a:lnTo>
                    <a:pt x="205" y="99"/>
                  </a:lnTo>
                  <a:lnTo>
                    <a:pt x="228" y="130"/>
                  </a:lnTo>
                  <a:lnTo>
                    <a:pt x="258" y="170"/>
                  </a:lnTo>
                  <a:lnTo>
                    <a:pt x="273" y="213"/>
                  </a:lnTo>
                  <a:lnTo>
                    <a:pt x="290" y="251"/>
                  </a:lnTo>
                  <a:lnTo>
                    <a:pt x="298" y="291"/>
                  </a:lnTo>
                  <a:lnTo>
                    <a:pt x="290" y="341"/>
                  </a:lnTo>
                  <a:lnTo>
                    <a:pt x="281" y="407"/>
                  </a:lnTo>
                  <a:lnTo>
                    <a:pt x="268" y="460"/>
                  </a:lnTo>
                  <a:lnTo>
                    <a:pt x="264" y="504"/>
                  </a:lnTo>
                  <a:lnTo>
                    <a:pt x="228" y="514"/>
                  </a:lnTo>
                  <a:lnTo>
                    <a:pt x="192" y="517"/>
                  </a:lnTo>
                  <a:lnTo>
                    <a:pt x="197" y="491"/>
                  </a:lnTo>
                  <a:lnTo>
                    <a:pt x="201" y="466"/>
                  </a:lnTo>
                  <a:lnTo>
                    <a:pt x="209" y="432"/>
                  </a:lnTo>
                  <a:lnTo>
                    <a:pt x="211" y="394"/>
                  </a:lnTo>
                  <a:lnTo>
                    <a:pt x="218" y="361"/>
                  </a:lnTo>
                  <a:lnTo>
                    <a:pt x="224" y="322"/>
                  </a:lnTo>
                  <a:lnTo>
                    <a:pt x="220" y="299"/>
                  </a:lnTo>
                  <a:lnTo>
                    <a:pt x="193" y="265"/>
                  </a:lnTo>
                  <a:lnTo>
                    <a:pt x="169" y="236"/>
                  </a:lnTo>
                  <a:lnTo>
                    <a:pt x="155" y="215"/>
                  </a:lnTo>
                  <a:lnTo>
                    <a:pt x="133" y="190"/>
                  </a:lnTo>
                  <a:lnTo>
                    <a:pt x="125" y="225"/>
                  </a:lnTo>
                  <a:lnTo>
                    <a:pt x="129" y="268"/>
                  </a:lnTo>
                  <a:lnTo>
                    <a:pt x="116" y="308"/>
                  </a:lnTo>
                  <a:lnTo>
                    <a:pt x="106" y="367"/>
                  </a:lnTo>
                  <a:lnTo>
                    <a:pt x="102" y="417"/>
                  </a:lnTo>
                  <a:lnTo>
                    <a:pt x="98" y="451"/>
                  </a:lnTo>
                  <a:lnTo>
                    <a:pt x="87" y="485"/>
                  </a:lnTo>
                  <a:lnTo>
                    <a:pt x="93" y="519"/>
                  </a:lnTo>
                  <a:lnTo>
                    <a:pt x="95" y="557"/>
                  </a:lnTo>
                  <a:lnTo>
                    <a:pt x="43" y="572"/>
                  </a:lnTo>
                  <a:lnTo>
                    <a:pt x="3" y="576"/>
                  </a:lnTo>
                  <a:lnTo>
                    <a:pt x="13" y="500"/>
                  </a:lnTo>
                  <a:lnTo>
                    <a:pt x="30" y="398"/>
                  </a:lnTo>
                  <a:lnTo>
                    <a:pt x="22" y="285"/>
                  </a:lnTo>
                  <a:lnTo>
                    <a:pt x="36" y="213"/>
                  </a:lnTo>
                  <a:lnTo>
                    <a:pt x="3" y="126"/>
                  </a:lnTo>
                  <a:lnTo>
                    <a:pt x="0" y="44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3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964040"/>
              <a:ext cx="372960" cy="425880"/>
            </a:xfrm>
            <a:custGeom>
              <a:avLst/>
              <a:gdLst/>
              <a:ahLst/>
              <a:rect l="l" t="t" r="r" b="b"/>
              <a:pathLst>
                <a:path w="513" h="512">
                  <a:moveTo>
                    <a:pt x="72" y="0"/>
                  </a:moveTo>
                  <a:lnTo>
                    <a:pt x="93" y="21"/>
                  </a:lnTo>
                  <a:lnTo>
                    <a:pt x="126" y="44"/>
                  </a:lnTo>
                  <a:lnTo>
                    <a:pt x="110" y="71"/>
                  </a:lnTo>
                  <a:lnTo>
                    <a:pt x="99" y="90"/>
                  </a:lnTo>
                  <a:lnTo>
                    <a:pt x="80" y="101"/>
                  </a:lnTo>
                  <a:lnTo>
                    <a:pt x="80" y="116"/>
                  </a:lnTo>
                  <a:lnTo>
                    <a:pt x="103" y="130"/>
                  </a:lnTo>
                  <a:lnTo>
                    <a:pt x="139" y="133"/>
                  </a:lnTo>
                  <a:lnTo>
                    <a:pt x="169" y="141"/>
                  </a:lnTo>
                  <a:lnTo>
                    <a:pt x="219" y="143"/>
                  </a:lnTo>
                  <a:lnTo>
                    <a:pt x="245" y="120"/>
                  </a:lnTo>
                  <a:lnTo>
                    <a:pt x="268" y="114"/>
                  </a:lnTo>
                  <a:lnTo>
                    <a:pt x="299" y="103"/>
                  </a:lnTo>
                  <a:lnTo>
                    <a:pt x="304" y="147"/>
                  </a:lnTo>
                  <a:lnTo>
                    <a:pt x="331" y="168"/>
                  </a:lnTo>
                  <a:lnTo>
                    <a:pt x="380" y="196"/>
                  </a:lnTo>
                  <a:lnTo>
                    <a:pt x="420" y="223"/>
                  </a:lnTo>
                  <a:lnTo>
                    <a:pt x="453" y="259"/>
                  </a:lnTo>
                  <a:lnTo>
                    <a:pt x="474" y="304"/>
                  </a:lnTo>
                  <a:lnTo>
                    <a:pt x="506" y="335"/>
                  </a:lnTo>
                  <a:lnTo>
                    <a:pt x="513" y="379"/>
                  </a:lnTo>
                  <a:lnTo>
                    <a:pt x="500" y="411"/>
                  </a:lnTo>
                  <a:lnTo>
                    <a:pt x="487" y="460"/>
                  </a:lnTo>
                  <a:lnTo>
                    <a:pt x="470" y="485"/>
                  </a:lnTo>
                  <a:lnTo>
                    <a:pt x="466" y="512"/>
                  </a:lnTo>
                  <a:lnTo>
                    <a:pt x="437" y="494"/>
                  </a:lnTo>
                  <a:lnTo>
                    <a:pt x="407" y="481"/>
                  </a:lnTo>
                  <a:lnTo>
                    <a:pt x="428" y="455"/>
                  </a:lnTo>
                  <a:lnTo>
                    <a:pt x="447" y="418"/>
                  </a:lnTo>
                  <a:lnTo>
                    <a:pt x="451" y="392"/>
                  </a:lnTo>
                  <a:lnTo>
                    <a:pt x="434" y="371"/>
                  </a:lnTo>
                  <a:lnTo>
                    <a:pt x="411" y="358"/>
                  </a:lnTo>
                  <a:lnTo>
                    <a:pt x="384" y="335"/>
                  </a:lnTo>
                  <a:lnTo>
                    <a:pt x="384" y="358"/>
                  </a:lnTo>
                  <a:lnTo>
                    <a:pt x="377" y="407"/>
                  </a:lnTo>
                  <a:lnTo>
                    <a:pt x="363" y="455"/>
                  </a:lnTo>
                  <a:lnTo>
                    <a:pt x="354" y="481"/>
                  </a:lnTo>
                  <a:lnTo>
                    <a:pt x="287" y="477"/>
                  </a:lnTo>
                  <a:lnTo>
                    <a:pt x="238" y="481"/>
                  </a:lnTo>
                  <a:lnTo>
                    <a:pt x="173" y="485"/>
                  </a:lnTo>
                  <a:lnTo>
                    <a:pt x="175" y="447"/>
                  </a:lnTo>
                  <a:lnTo>
                    <a:pt x="160" y="401"/>
                  </a:lnTo>
                  <a:lnTo>
                    <a:pt x="143" y="365"/>
                  </a:lnTo>
                  <a:lnTo>
                    <a:pt x="126" y="299"/>
                  </a:lnTo>
                  <a:lnTo>
                    <a:pt x="86" y="259"/>
                  </a:lnTo>
                  <a:lnTo>
                    <a:pt x="23" y="236"/>
                  </a:lnTo>
                  <a:lnTo>
                    <a:pt x="0" y="173"/>
                  </a:lnTo>
                  <a:lnTo>
                    <a:pt x="8" y="116"/>
                  </a:lnTo>
                  <a:lnTo>
                    <a:pt x="8" y="67"/>
                  </a:lnTo>
                  <a:lnTo>
                    <a:pt x="19" y="35"/>
                  </a:lnTo>
                  <a:lnTo>
                    <a:pt x="57" y="4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4360" y="4947840"/>
              <a:ext cx="146520" cy="421560"/>
            </a:xfrm>
            <a:custGeom>
              <a:avLst/>
              <a:gdLst/>
              <a:ahLst/>
              <a:rect l="l" t="t" r="r" b="b"/>
              <a:pathLst>
                <a:path w="201" h="506">
                  <a:moveTo>
                    <a:pt x="82" y="0"/>
                  </a:moveTo>
                  <a:lnTo>
                    <a:pt x="59" y="23"/>
                  </a:lnTo>
                  <a:lnTo>
                    <a:pt x="44" y="36"/>
                  </a:lnTo>
                  <a:lnTo>
                    <a:pt x="26" y="59"/>
                  </a:lnTo>
                  <a:lnTo>
                    <a:pt x="17" y="82"/>
                  </a:lnTo>
                  <a:lnTo>
                    <a:pt x="6" y="103"/>
                  </a:lnTo>
                  <a:lnTo>
                    <a:pt x="4" y="122"/>
                  </a:lnTo>
                  <a:lnTo>
                    <a:pt x="4" y="152"/>
                  </a:lnTo>
                  <a:lnTo>
                    <a:pt x="0" y="179"/>
                  </a:lnTo>
                  <a:lnTo>
                    <a:pt x="6" y="213"/>
                  </a:lnTo>
                  <a:lnTo>
                    <a:pt x="26" y="242"/>
                  </a:lnTo>
                  <a:lnTo>
                    <a:pt x="30" y="259"/>
                  </a:lnTo>
                  <a:lnTo>
                    <a:pt x="66" y="270"/>
                  </a:lnTo>
                  <a:lnTo>
                    <a:pt x="89" y="285"/>
                  </a:lnTo>
                  <a:lnTo>
                    <a:pt x="106" y="297"/>
                  </a:lnTo>
                  <a:lnTo>
                    <a:pt x="116" y="312"/>
                  </a:lnTo>
                  <a:lnTo>
                    <a:pt x="133" y="323"/>
                  </a:lnTo>
                  <a:lnTo>
                    <a:pt x="135" y="339"/>
                  </a:lnTo>
                  <a:lnTo>
                    <a:pt x="142" y="361"/>
                  </a:lnTo>
                  <a:lnTo>
                    <a:pt x="146" y="380"/>
                  </a:lnTo>
                  <a:lnTo>
                    <a:pt x="152" y="399"/>
                  </a:lnTo>
                  <a:lnTo>
                    <a:pt x="161" y="424"/>
                  </a:lnTo>
                  <a:lnTo>
                    <a:pt x="173" y="441"/>
                  </a:lnTo>
                  <a:lnTo>
                    <a:pt x="179" y="456"/>
                  </a:lnTo>
                  <a:lnTo>
                    <a:pt x="179" y="474"/>
                  </a:lnTo>
                  <a:lnTo>
                    <a:pt x="173" y="500"/>
                  </a:lnTo>
                  <a:lnTo>
                    <a:pt x="198" y="506"/>
                  </a:lnTo>
                  <a:lnTo>
                    <a:pt x="201" y="487"/>
                  </a:lnTo>
                  <a:lnTo>
                    <a:pt x="198" y="464"/>
                  </a:lnTo>
                  <a:lnTo>
                    <a:pt x="192" y="447"/>
                  </a:lnTo>
                  <a:lnTo>
                    <a:pt x="186" y="426"/>
                  </a:lnTo>
                  <a:lnTo>
                    <a:pt x="175" y="415"/>
                  </a:lnTo>
                  <a:lnTo>
                    <a:pt x="169" y="398"/>
                  </a:lnTo>
                  <a:lnTo>
                    <a:pt x="161" y="388"/>
                  </a:lnTo>
                  <a:lnTo>
                    <a:pt x="160" y="373"/>
                  </a:lnTo>
                  <a:lnTo>
                    <a:pt x="160" y="365"/>
                  </a:lnTo>
                  <a:lnTo>
                    <a:pt x="152" y="346"/>
                  </a:lnTo>
                  <a:lnTo>
                    <a:pt x="148" y="331"/>
                  </a:lnTo>
                  <a:lnTo>
                    <a:pt x="152" y="318"/>
                  </a:lnTo>
                  <a:lnTo>
                    <a:pt x="146" y="304"/>
                  </a:lnTo>
                  <a:lnTo>
                    <a:pt x="129" y="295"/>
                  </a:lnTo>
                  <a:lnTo>
                    <a:pt x="123" y="291"/>
                  </a:lnTo>
                  <a:lnTo>
                    <a:pt x="116" y="285"/>
                  </a:lnTo>
                  <a:lnTo>
                    <a:pt x="99" y="268"/>
                  </a:lnTo>
                  <a:lnTo>
                    <a:pt x="80" y="259"/>
                  </a:lnTo>
                  <a:lnTo>
                    <a:pt x="49" y="251"/>
                  </a:lnTo>
                  <a:lnTo>
                    <a:pt x="40" y="240"/>
                  </a:lnTo>
                  <a:lnTo>
                    <a:pt x="30" y="221"/>
                  </a:lnTo>
                  <a:lnTo>
                    <a:pt x="23" y="206"/>
                  </a:lnTo>
                  <a:lnTo>
                    <a:pt x="23" y="175"/>
                  </a:lnTo>
                  <a:lnTo>
                    <a:pt x="23" y="143"/>
                  </a:lnTo>
                  <a:lnTo>
                    <a:pt x="23" y="120"/>
                  </a:lnTo>
                  <a:lnTo>
                    <a:pt x="32" y="95"/>
                  </a:lnTo>
                  <a:lnTo>
                    <a:pt x="36" y="76"/>
                  </a:lnTo>
                  <a:lnTo>
                    <a:pt x="49" y="55"/>
                  </a:lnTo>
                  <a:lnTo>
                    <a:pt x="63" y="46"/>
                  </a:lnTo>
                  <a:lnTo>
                    <a:pt x="72" y="33"/>
                  </a:lnTo>
                  <a:lnTo>
                    <a:pt x="89" y="2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15040" y="4947840"/>
              <a:ext cx="66600" cy="164160"/>
            </a:xfrm>
            <a:custGeom>
              <a:avLst/>
              <a:gdLst/>
              <a:ahLst/>
              <a:rect l="l" t="t" r="r" b="b"/>
              <a:pathLst>
                <a:path w="93" h="198">
                  <a:moveTo>
                    <a:pt x="27" y="0"/>
                  </a:moveTo>
                  <a:lnTo>
                    <a:pt x="44" y="14"/>
                  </a:lnTo>
                  <a:lnTo>
                    <a:pt x="57" y="29"/>
                  </a:lnTo>
                  <a:lnTo>
                    <a:pt x="61" y="40"/>
                  </a:lnTo>
                  <a:lnTo>
                    <a:pt x="70" y="44"/>
                  </a:lnTo>
                  <a:lnTo>
                    <a:pt x="78" y="54"/>
                  </a:lnTo>
                  <a:lnTo>
                    <a:pt x="91" y="54"/>
                  </a:lnTo>
                  <a:lnTo>
                    <a:pt x="93" y="55"/>
                  </a:lnTo>
                  <a:lnTo>
                    <a:pt x="91" y="71"/>
                  </a:lnTo>
                  <a:lnTo>
                    <a:pt x="84" y="80"/>
                  </a:lnTo>
                  <a:lnTo>
                    <a:pt x="80" y="90"/>
                  </a:lnTo>
                  <a:lnTo>
                    <a:pt x="74" y="99"/>
                  </a:lnTo>
                  <a:lnTo>
                    <a:pt x="70" y="109"/>
                  </a:lnTo>
                  <a:lnTo>
                    <a:pt x="61" y="116"/>
                  </a:lnTo>
                  <a:lnTo>
                    <a:pt x="44" y="126"/>
                  </a:lnTo>
                  <a:lnTo>
                    <a:pt x="44" y="145"/>
                  </a:lnTo>
                  <a:lnTo>
                    <a:pt x="42" y="166"/>
                  </a:lnTo>
                  <a:lnTo>
                    <a:pt x="17" y="175"/>
                  </a:lnTo>
                  <a:lnTo>
                    <a:pt x="0" y="198"/>
                  </a:lnTo>
                  <a:lnTo>
                    <a:pt x="8" y="160"/>
                  </a:lnTo>
                  <a:lnTo>
                    <a:pt x="27" y="149"/>
                  </a:lnTo>
                  <a:lnTo>
                    <a:pt x="27" y="130"/>
                  </a:lnTo>
                  <a:lnTo>
                    <a:pt x="25" y="112"/>
                  </a:lnTo>
                  <a:lnTo>
                    <a:pt x="42" y="109"/>
                  </a:lnTo>
                  <a:lnTo>
                    <a:pt x="53" y="95"/>
                  </a:lnTo>
                  <a:lnTo>
                    <a:pt x="68" y="80"/>
                  </a:lnTo>
                  <a:lnTo>
                    <a:pt x="78" y="63"/>
                  </a:lnTo>
                  <a:lnTo>
                    <a:pt x="65" y="59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27" y="29"/>
                  </a:lnTo>
                  <a:lnTo>
                    <a:pt x="25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3480" y="5059440"/>
              <a:ext cx="122760" cy="32040"/>
            </a:xfrm>
            <a:custGeom>
              <a:avLst/>
              <a:gdLst/>
              <a:ahLst/>
              <a:rect l="l" t="t" r="r" b="b"/>
              <a:pathLst>
                <a:path w="169" h="38">
                  <a:moveTo>
                    <a:pt x="2" y="0"/>
                  </a:moveTo>
                  <a:lnTo>
                    <a:pt x="19" y="12"/>
                  </a:lnTo>
                  <a:lnTo>
                    <a:pt x="42" y="12"/>
                  </a:lnTo>
                  <a:lnTo>
                    <a:pt x="63" y="12"/>
                  </a:lnTo>
                  <a:lnTo>
                    <a:pt x="76" y="16"/>
                  </a:lnTo>
                  <a:lnTo>
                    <a:pt x="91" y="23"/>
                  </a:lnTo>
                  <a:lnTo>
                    <a:pt x="121" y="23"/>
                  </a:lnTo>
                  <a:lnTo>
                    <a:pt x="142" y="19"/>
                  </a:lnTo>
                  <a:lnTo>
                    <a:pt x="148" y="6"/>
                  </a:lnTo>
                  <a:lnTo>
                    <a:pt x="169" y="6"/>
                  </a:lnTo>
                  <a:lnTo>
                    <a:pt x="161" y="27"/>
                  </a:lnTo>
                  <a:lnTo>
                    <a:pt x="148" y="36"/>
                  </a:lnTo>
                  <a:lnTo>
                    <a:pt x="135" y="38"/>
                  </a:lnTo>
                  <a:lnTo>
                    <a:pt x="112" y="36"/>
                  </a:lnTo>
                  <a:lnTo>
                    <a:pt x="85" y="36"/>
                  </a:lnTo>
                  <a:lnTo>
                    <a:pt x="72" y="33"/>
                  </a:lnTo>
                  <a:lnTo>
                    <a:pt x="55" y="27"/>
                  </a:lnTo>
                  <a:lnTo>
                    <a:pt x="42" y="27"/>
                  </a:lnTo>
                  <a:lnTo>
                    <a:pt x="28" y="23"/>
                  </a:lnTo>
                  <a:lnTo>
                    <a:pt x="11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53280" y="5045400"/>
              <a:ext cx="211320" cy="352080"/>
            </a:xfrm>
            <a:custGeom>
              <a:avLst/>
              <a:gdLst/>
              <a:ahLst/>
              <a:rect l="l" t="t" r="r" b="b"/>
              <a:pathLst>
                <a:path w="293" h="424">
                  <a:moveTo>
                    <a:pt x="0" y="23"/>
                  </a:moveTo>
                  <a:lnTo>
                    <a:pt x="0" y="14"/>
                  </a:lnTo>
                  <a:lnTo>
                    <a:pt x="10" y="10"/>
                  </a:lnTo>
                  <a:lnTo>
                    <a:pt x="21" y="10"/>
                  </a:lnTo>
                  <a:lnTo>
                    <a:pt x="36" y="6"/>
                  </a:lnTo>
                  <a:lnTo>
                    <a:pt x="50" y="6"/>
                  </a:lnTo>
                  <a:lnTo>
                    <a:pt x="67" y="0"/>
                  </a:lnTo>
                  <a:lnTo>
                    <a:pt x="72" y="4"/>
                  </a:lnTo>
                  <a:lnTo>
                    <a:pt x="72" y="19"/>
                  </a:lnTo>
                  <a:lnTo>
                    <a:pt x="76" y="33"/>
                  </a:lnTo>
                  <a:lnTo>
                    <a:pt x="78" y="46"/>
                  </a:lnTo>
                  <a:lnTo>
                    <a:pt x="86" y="53"/>
                  </a:lnTo>
                  <a:lnTo>
                    <a:pt x="95" y="55"/>
                  </a:lnTo>
                  <a:lnTo>
                    <a:pt x="105" y="63"/>
                  </a:lnTo>
                  <a:lnTo>
                    <a:pt x="120" y="72"/>
                  </a:lnTo>
                  <a:lnTo>
                    <a:pt x="135" y="86"/>
                  </a:lnTo>
                  <a:lnTo>
                    <a:pt x="145" y="90"/>
                  </a:lnTo>
                  <a:lnTo>
                    <a:pt x="165" y="99"/>
                  </a:lnTo>
                  <a:lnTo>
                    <a:pt x="179" y="116"/>
                  </a:lnTo>
                  <a:lnTo>
                    <a:pt x="196" y="126"/>
                  </a:lnTo>
                  <a:lnTo>
                    <a:pt x="205" y="135"/>
                  </a:lnTo>
                  <a:lnTo>
                    <a:pt x="224" y="147"/>
                  </a:lnTo>
                  <a:lnTo>
                    <a:pt x="238" y="179"/>
                  </a:lnTo>
                  <a:lnTo>
                    <a:pt x="245" y="192"/>
                  </a:lnTo>
                  <a:lnTo>
                    <a:pt x="259" y="207"/>
                  </a:lnTo>
                  <a:lnTo>
                    <a:pt x="278" y="230"/>
                  </a:lnTo>
                  <a:lnTo>
                    <a:pt x="287" y="251"/>
                  </a:lnTo>
                  <a:lnTo>
                    <a:pt x="293" y="282"/>
                  </a:lnTo>
                  <a:lnTo>
                    <a:pt x="281" y="308"/>
                  </a:lnTo>
                  <a:lnTo>
                    <a:pt x="268" y="340"/>
                  </a:lnTo>
                  <a:lnTo>
                    <a:pt x="261" y="371"/>
                  </a:lnTo>
                  <a:lnTo>
                    <a:pt x="245" y="390"/>
                  </a:lnTo>
                  <a:lnTo>
                    <a:pt x="242" y="424"/>
                  </a:lnTo>
                  <a:lnTo>
                    <a:pt x="224" y="415"/>
                  </a:lnTo>
                  <a:lnTo>
                    <a:pt x="196" y="399"/>
                  </a:lnTo>
                  <a:lnTo>
                    <a:pt x="184" y="394"/>
                  </a:lnTo>
                  <a:lnTo>
                    <a:pt x="165" y="388"/>
                  </a:lnTo>
                  <a:lnTo>
                    <a:pt x="181" y="367"/>
                  </a:lnTo>
                  <a:lnTo>
                    <a:pt x="188" y="348"/>
                  </a:lnTo>
                  <a:lnTo>
                    <a:pt x="207" y="325"/>
                  </a:lnTo>
                  <a:lnTo>
                    <a:pt x="211" y="295"/>
                  </a:lnTo>
                  <a:lnTo>
                    <a:pt x="196" y="282"/>
                  </a:lnTo>
                  <a:lnTo>
                    <a:pt x="165" y="261"/>
                  </a:lnTo>
                  <a:lnTo>
                    <a:pt x="145" y="245"/>
                  </a:lnTo>
                  <a:lnTo>
                    <a:pt x="139" y="230"/>
                  </a:lnTo>
                  <a:lnTo>
                    <a:pt x="122" y="196"/>
                  </a:lnTo>
                  <a:lnTo>
                    <a:pt x="152" y="223"/>
                  </a:lnTo>
                  <a:lnTo>
                    <a:pt x="169" y="238"/>
                  </a:lnTo>
                  <a:lnTo>
                    <a:pt x="181" y="255"/>
                  </a:lnTo>
                  <a:lnTo>
                    <a:pt x="198" y="268"/>
                  </a:lnTo>
                  <a:lnTo>
                    <a:pt x="219" y="278"/>
                  </a:lnTo>
                  <a:lnTo>
                    <a:pt x="228" y="299"/>
                  </a:lnTo>
                  <a:lnTo>
                    <a:pt x="219" y="325"/>
                  </a:lnTo>
                  <a:lnTo>
                    <a:pt x="207" y="344"/>
                  </a:lnTo>
                  <a:lnTo>
                    <a:pt x="202" y="367"/>
                  </a:lnTo>
                  <a:lnTo>
                    <a:pt x="188" y="384"/>
                  </a:lnTo>
                  <a:lnTo>
                    <a:pt x="202" y="390"/>
                  </a:lnTo>
                  <a:lnTo>
                    <a:pt x="221" y="394"/>
                  </a:lnTo>
                  <a:lnTo>
                    <a:pt x="232" y="403"/>
                  </a:lnTo>
                  <a:lnTo>
                    <a:pt x="238" y="380"/>
                  </a:lnTo>
                  <a:lnTo>
                    <a:pt x="247" y="367"/>
                  </a:lnTo>
                  <a:lnTo>
                    <a:pt x="259" y="344"/>
                  </a:lnTo>
                  <a:lnTo>
                    <a:pt x="264" y="318"/>
                  </a:lnTo>
                  <a:lnTo>
                    <a:pt x="274" y="295"/>
                  </a:lnTo>
                  <a:lnTo>
                    <a:pt x="274" y="268"/>
                  </a:lnTo>
                  <a:lnTo>
                    <a:pt x="264" y="245"/>
                  </a:lnTo>
                  <a:lnTo>
                    <a:pt x="259" y="234"/>
                  </a:lnTo>
                  <a:lnTo>
                    <a:pt x="234" y="215"/>
                  </a:lnTo>
                  <a:lnTo>
                    <a:pt x="224" y="188"/>
                  </a:lnTo>
                  <a:lnTo>
                    <a:pt x="211" y="166"/>
                  </a:lnTo>
                  <a:lnTo>
                    <a:pt x="188" y="143"/>
                  </a:lnTo>
                  <a:lnTo>
                    <a:pt x="169" y="126"/>
                  </a:lnTo>
                  <a:lnTo>
                    <a:pt x="158" y="112"/>
                  </a:lnTo>
                  <a:lnTo>
                    <a:pt x="139" y="99"/>
                  </a:lnTo>
                  <a:lnTo>
                    <a:pt x="120" y="86"/>
                  </a:lnTo>
                  <a:lnTo>
                    <a:pt x="95" y="80"/>
                  </a:lnTo>
                  <a:lnTo>
                    <a:pt x="78" y="67"/>
                  </a:lnTo>
                  <a:lnTo>
                    <a:pt x="70" y="53"/>
                  </a:lnTo>
                  <a:lnTo>
                    <a:pt x="63" y="36"/>
                  </a:lnTo>
                  <a:lnTo>
                    <a:pt x="63" y="14"/>
                  </a:lnTo>
                  <a:lnTo>
                    <a:pt x="50" y="19"/>
                  </a:lnTo>
                  <a:lnTo>
                    <a:pt x="27" y="27"/>
                  </a:lnTo>
                  <a:lnTo>
                    <a:pt x="17" y="27"/>
                  </a:lnTo>
                  <a:lnTo>
                    <a:pt x="6" y="29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40040" y="5234400"/>
              <a:ext cx="25560" cy="132840"/>
            </a:xfrm>
            <a:custGeom>
              <a:avLst/>
              <a:gdLst/>
              <a:ahLst/>
              <a:rect l="l" t="t" r="r" b="b"/>
              <a:pathLst>
                <a:path w="36" h="160">
                  <a:moveTo>
                    <a:pt x="17" y="0"/>
                  </a:moveTo>
                  <a:lnTo>
                    <a:pt x="21" y="29"/>
                  </a:lnTo>
                  <a:lnTo>
                    <a:pt x="23" y="46"/>
                  </a:lnTo>
                  <a:lnTo>
                    <a:pt x="17" y="55"/>
                  </a:lnTo>
                  <a:lnTo>
                    <a:pt x="17" y="73"/>
                  </a:lnTo>
                  <a:lnTo>
                    <a:pt x="13" y="86"/>
                  </a:lnTo>
                  <a:lnTo>
                    <a:pt x="13" y="107"/>
                  </a:lnTo>
                  <a:lnTo>
                    <a:pt x="5" y="126"/>
                  </a:lnTo>
                  <a:lnTo>
                    <a:pt x="0" y="135"/>
                  </a:lnTo>
                  <a:lnTo>
                    <a:pt x="0" y="160"/>
                  </a:lnTo>
                  <a:lnTo>
                    <a:pt x="9" y="160"/>
                  </a:lnTo>
                  <a:lnTo>
                    <a:pt x="13" y="147"/>
                  </a:lnTo>
                  <a:lnTo>
                    <a:pt x="21" y="135"/>
                  </a:lnTo>
                  <a:lnTo>
                    <a:pt x="26" y="122"/>
                  </a:lnTo>
                  <a:lnTo>
                    <a:pt x="26" y="107"/>
                  </a:lnTo>
                  <a:lnTo>
                    <a:pt x="32" y="90"/>
                  </a:lnTo>
                  <a:lnTo>
                    <a:pt x="32" y="67"/>
                  </a:lnTo>
                  <a:lnTo>
                    <a:pt x="36" y="50"/>
                  </a:lnTo>
                  <a:lnTo>
                    <a:pt x="36" y="36"/>
                  </a:lnTo>
                  <a:lnTo>
                    <a:pt x="32" y="27"/>
                  </a:lnTo>
                  <a:lnTo>
                    <a:pt x="32" y="1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10440" y="5351400"/>
              <a:ext cx="134280" cy="2664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0" y="32"/>
                  </a:moveTo>
                  <a:lnTo>
                    <a:pt x="25" y="30"/>
                  </a:lnTo>
                  <a:lnTo>
                    <a:pt x="44" y="30"/>
                  </a:lnTo>
                  <a:lnTo>
                    <a:pt x="63" y="27"/>
                  </a:lnTo>
                  <a:lnTo>
                    <a:pt x="78" y="23"/>
                  </a:lnTo>
                  <a:lnTo>
                    <a:pt x="101" y="27"/>
                  </a:lnTo>
                  <a:lnTo>
                    <a:pt x="127" y="23"/>
                  </a:lnTo>
                  <a:lnTo>
                    <a:pt x="146" y="23"/>
                  </a:lnTo>
                  <a:lnTo>
                    <a:pt x="162" y="23"/>
                  </a:lnTo>
                  <a:lnTo>
                    <a:pt x="183" y="32"/>
                  </a:lnTo>
                  <a:lnTo>
                    <a:pt x="184" y="10"/>
                  </a:lnTo>
                  <a:lnTo>
                    <a:pt x="177" y="8"/>
                  </a:lnTo>
                  <a:lnTo>
                    <a:pt x="162" y="4"/>
                  </a:lnTo>
                  <a:lnTo>
                    <a:pt x="143" y="4"/>
                  </a:lnTo>
                  <a:lnTo>
                    <a:pt x="129" y="4"/>
                  </a:lnTo>
                  <a:lnTo>
                    <a:pt x="107" y="4"/>
                  </a:lnTo>
                  <a:lnTo>
                    <a:pt x="84" y="4"/>
                  </a:lnTo>
                  <a:lnTo>
                    <a:pt x="63" y="0"/>
                  </a:lnTo>
                  <a:lnTo>
                    <a:pt x="40" y="8"/>
                  </a:lnTo>
                  <a:lnTo>
                    <a:pt x="30" y="4"/>
                  </a:lnTo>
                  <a:lnTo>
                    <a:pt x="8" y="1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95320" y="5364360"/>
              <a:ext cx="108360" cy="479880"/>
            </a:xfrm>
            <a:custGeom>
              <a:avLst/>
              <a:gdLst/>
              <a:ahLst/>
              <a:rect l="l" t="t" r="r" b="b"/>
              <a:pathLst>
                <a:path w="150" h="576">
                  <a:moveTo>
                    <a:pt x="8" y="0"/>
                  </a:moveTo>
                  <a:lnTo>
                    <a:pt x="10" y="15"/>
                  </a:lnTo>
                  <a:lnTo>
                    <a:pt x="4" y="40"/>
                  </a:lnTo>
                  <a:lnTo>
                    <a:pt x="0" y="59"/>
                  </a:lnTo>
                  <a:lnTo>
                    <a:pt x="8" y="76"/>
                  </a:lnTo>
                  <a:lnTo>
                    <a:pt x="8" y="103"/>
                  </a:lnTo>
                  <a:lnTo>
                    <a:pt x="10" y="129"/>
                  </a:lnTo>
                  <a:lnTo>
                    <a:pt x="17" y="145"/>
                  </a:lnTo>
                  <a:lnTo>
                    <a:pt x="21" y="166"/>
                  </a:lnTo>
                  <a:lnTo>
                    <a:pt x="31" y="188"/>
                  </a:lnTo>
                  <a:lnTo>
                    <a:pt x="27" y="211"/>
                  </a:lnTo>
                  <a:lnTo>
                    <a:pt x="31" y="238"/>
                  </a:lnTo>
                  <a:lnTo>
                    <a:pt x="27" y="261"/>
                  </a:lnTo>
                  <a:lnTo>
                    <a:pt x="31" y="297"/>
                  </a:lnTo>
                  <a:lnTo>
                    <a:pt x="27" y="323"/>
                  </a:lnTo>
                  <a:lnTo>
                    <a:pt x="31" y="350"/>
                  </a:lnTo>
                  <a:lnTo>
                    <a:pt x="31" y="377"/>
                  </a:lnTo>
                  <a:lnTo>
                    <a:pt x="27" y="403"/>
                  </a:lnTo>
                  <a:lnTo>
                    <a:pt x="23" y="437"/>
                  </a:lnTo>
                  <a:lnTo>
                    <a:pt x="17" y="473"/>
                  </a:lnTo>
                  <a:lnTo>
                    <a:pt x="17" y="500"/>
                  </a:lnTo>
                  <a:lnTo>
                    <a:pt x="14" y="519"/>
                  </a:lnTo>
                  <a:lnTo>
                    <a:pt x="10" y="538"/>
                  </a:lnTo>
                  <a:lnTo>
                    <a:pt x="10" y="559"/>
                  </a:lnTo>
                  <a:lnTo>
                    <a:pt x="8" y="576"/>
                  </a:lnTo>
                  <a:lnTo>
                    <a:pt x="50" y="576"/>
                  </a:lnTo>
                  <a:lnTo>
                    <a:pt x="67" y="572"/>
                  </a:lnTo>
                  <a:lnTo>
                    <a:pt x="97" y="565"/>
                  </a:lnTo>
                  <a:lnTo>
                    <a:pt x="120" y="563"/>
                  </a:lnTo>
                  <a:lnTo>
                    <a:pt x="120" y="538"/>
                  </a:lnTo>
                  <a:lnTo>
                    <a:pt x="120" y="513"/>
                  </a:lnTo>
                  <a:lnTo>
                    <a:pt x="109" y="481"/>
                  </a:lnTo>
                  <a:lnTo>
                    <a:pt x="112" y="473"/>
                  </a:lnTo>
                  <a:lnTo>
                    <a:pt x="120" y="443"/>
                  </a:lnTo>
                  <a:lnTo>
                    <a:pt x="120" y="424"/>
                  </a:lnTo>
                  <a:lnTo>
                    <a:pt x="124" y="401"/>
                  </a:lnTo>
                  <a:lnTo>
                    <a:pt x="126" y="377"/>
                  </a:lnTo>
                  <a:lnTo>
                    <a:pt x="130" y="354"/>
                  </a:lnTo>
                  <a:lnTo>
                    <a:pt x="130" y="335"/>
                  </a:lnTo>
                  <a:lnTo>
                    <a:pt x="135" y="318"/>
                  </a:lnTo>
                  <a:lnTo>
                    <a:pt x="135" y="291"/>
                  </a:lnTo>
                  <a:lnTo>
                    <a:pt x="147" y="268"/>
                  </a:lnTo>
                  <a:lnTo>
                    <a:pt x="147" y="247"/>
                  </a:lnTo>
                  <a:lnTo>
                    <a:pt x="150" y="224"/>
                  </a:lnTo>
                  <a:lnTo>
                    <a:pt x="150" y="211"/>
                  </a:lnTo>
                  <a:lnTo>
                    <a:pt x="150" y="192"/>
                  </a:lnTo>
                  <a:lnTo>
                    <a:pt x="139" y="171"/>
                  </a:lnTo>
                  <a:lnTo>
                    <a:pt x="139" y="198"/>
                  </a:lnTo>
                  <a:lnTo>
                    <a:pt x="131" y="224"/>
                  </a:lnTo>
                  <a:lnTo>
                    <a:pt x="139" y="255"/>
                  </a:lnTo>
                  <a:lnTo>
                    <a:pt x="130" y="281"/>
                  </a:lnTo>
                  <a:lnTo>
                    <a:pt x="124" y="308"/>
                  </a:lnTo>
                  <a:lnTo>
                    <a:pt x="116" y="337"/>
                  </a:lnTo>
                  <a:lnTo>
                    <a:pt x="116" y="361"/>
                  </a:lnTo>
                  <a:lnTo>
                    <a:pt x="116" y="394"/>
                  </a:lnTo>
                  <a:lnTo>
                    <a:pt x="107" y="424"/>
                  </a:lnTo>
                  <a:lnTo>
                    <a:pt x="107" y="451"/>
                  </a:lnTo>
                  <a:lnTo>
                    <a:pt x="93" y="473"/>
                  </a:lnTo>
                  <a:lnTo>
                    <a:pt x="101" y="504"/>
                  </a:lnTo>
                  <a:lnTo>
                    <a:pt x="101" y="527"/>
                  </a:lnTo>
                  <a:lnTo>
                    <a:pt x="101" y="549"/>
                  </a:lnTo>
                  <a:lnTo>
                    <a:pt x="86" y="553"/>
                  </a:lnTo>
                  <a:lnTo>
                    <a:pt x="76" y="557"/>
                  </a:lnTo>
                  <a:lnTo>
                    <a:pt x="59" y="559"/>
                  </a:lnTo>
                  <a:lnTo>
                    <a:pt x="40" y="563"/>
                  </a:lnTo>
                  <a:lnTo>
                    <a:pt x="27" y="565"/>
                  </a:lnTo>
                  <a:lnTo>
                    <a:pt x="27" y="553"/>
                  </a:lnTo>
                  <a:lnTo>
                    <a:pt x="31" y="538"/>
                  </a:lnTo>
                  <a:lnTo>
                    <a:pt x="33" y="519"/>
                  </a:lnTo>
                  <a:lnTo>
                    <a:pt x="36" y="496"/>
                  </a:lnTo>
                  <a:lnTo>
                    <a:pt x="40" y="466"/>
                  </a:lnTo>
                  <a:lnTo>
                    <a:pt x="44" y="434"/>
                  </a:lnTo>
                  <a:lnTo>
                    <a:pt x="48" y="401"/>
                  </a:lnTo>
                  <a:lnTo>
                    <a:pt x="50" y="344"/>
                  </a:lnTo>
                  <a:lnTo>
                    <a:pt x="50" y="318"/>
                  </a:lnTo>
                  <a:lnTo>
                    <a:pt x="50" y="285"/>
                  </a:lnTo>
                  <a:lnTo>
                    <a:pt x="50" y="255"/>
                  </a:lnTo>
                  <a:lnTo>
                    <a:pt x="50" y="236"/>
                  </a:lnTo>
                  <a:lnTo>
                    <a:pt x="50" y="188"/>
                  </a:lnTo>
                  <a:lnTo>
                    <a:pt x="48" y="167"/>
                  </a:lnTo>
                  <a:lnTo>
                    <a:pt x="36" y="156"/>
                  </a:lnTo>
                  <a:lnTo>
                    <a:pt x="33" y="135"/>
                  </a:lnTo>
                  <a:lnTo>
                    <a:pt x="27" y="110"/>
                  </a:lnTo>
                  <a:lnTo>
                    <a:pt x="27" y="89"/>
                  </a:lnTo>
                  <a:lnTo>
                    <a:pt x="27" y="69"/>
                  </a:lnTo>
                  <a:lnTo>
                    <a:pt x="27" y="36"/>
                  </a:lnTo>
                  <a:lnTo>
                    <a:pt x="27" y="19"/>
                  </a:lnTo>
                  <a:lnTo>
                    <a:pt x="31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5400" y="5362200"/>
              <a:ext cx="128520" cy="437760"/>
            </a:xfrm>
            <a:custGeom>
              <a:avLst/>
              <a:gdLst/>
              <a:ahLst/>
              <a:rect l="l" t="t" r="r" b="b"/>
              <a:pathLst>
                <a:path w="179" h="527">
                  <a:moveTo>
                    <a:pt x="72" y="8"/>
                  </a:moveTo>
                  <a:lnTo>
                    <a:pt x="72" y="27"/>
                  </a:lnTo>
                  <a:lnTo>
                    <a:pt x="72" y="50"/>
                  </a:lnTo>
                  <a:lnTo>
                    <a:pt x="72" y="71"/>
                  </a:lnTo>
                  <a:lnTo>
                    <a:pt x="80" y="84"/>
                  </a:lnTo>
                  <a:lnTo>
                    <a:pt x="93" y="103"/>
                  </a:lnTo>
                  <a:lnTo>
                    <a:pt x="106" y="116"/>
                  </a:lnTo>
                  <a:lnTo>
                    <a:pt x="116" y="133"/>
                  </a:lnTo>
                  <a:lnTo>
                    <a:pt x="122" y="147"/>
                  </a:lnTo>
                  <a:lnTo>
                    <a:pt x="133" y="156"/>
                  </a:lnTo>
                  <a:lnTo>
                    <a:pt x="143" y="175"/>
                  </a:lnTo>
                  <a:lnTo>
                    <a:pt x="146" y="196"/>
                  </a:lnTo>
                  <a:lnTo>
                    <a:pt x="156" y="206"/>
                  </a:lnTo>
                  <a:lnTo>
                    <a:pt x="160" y="213"/>
                  </a:lnTo>
                  <a:lnTo>
                    <a:pt x="162" y="228"/>
                  </a:lnTo>
                  <a:lnTo>
                    <a:pt x="169" y="240"/>
                  </a:lnTo>
                  <a:lnTo>
                    <a:pt x="179" y="259"/>
                  </a:lnTo>
                  <a:lnTo>
                    <a:pt x="179" y="274"/>
                  </a:lnTo>
                  <a:lnTo>
                    <a:pt x="179" y="291"/>
                  </a:lnTo>
                  <a:lnTo>
                    <a:pt x="173" y="312"/>
                  </a:lnTo>
                  <a:lnTo>
                    <a:pt x="173" y="341"/>
                  </a:lnTo>
                  <a:lnTo>
                    <a:pt x="165" y="367"/>
                  </a:lnTo>
                  <a:lnTo>
                    <a:pt x="165" y="392"/>
                  </a:lnTo>
                  <a:lnTo>
                    <a:pt x="160" y="415"/>
                  </a:lnTo>
                  <a:lnTo>
                    <a:pt x="156" y="434"/>
                  </a:lnTo>
                  <a:lnTo>
                    <a:pt x="152" y="447"/>
                  </a:lnTo>
                  <a:lnTo>
                    <a:pt x="152" y="464"/>
                  </a:lnTo>
                  <a:lnTo>
                    <a:pt x="148" y="481"/>
                  </a:lnTo>
                  <a:lnTo>
                    <a:pt x="148" y="493"/>
                  </a:lnTo>
                  <a:lnTo>
                    <a:pt x="146" y="508"/>
                  </a:lnTo>
                  <a:lnTo>
                    <a:pt x="146" y="514"/>
                  </a:lnTo>
                  <a:lnTo>
                    <a:pt x="129" y="514"/>
                  </a:lnTo>
                  <a:lnTo>
                    <a:pt x="106" y="517"/>
                  </a:lnTo>
                  <a:lnTo>
                    <a:pt x="80" y="519"/>
                  </a:lnTo>
                  <a:lnTo>
                    <a:pt x="63" y="527"/>
                  </a:lnTo>
                  <a:lnTo>
                    <a:pt x="63" y="508"/>
                  </a:lnTo>
                  <a:lnTo>
                    <a:pt x="67" y="485"/>
                  </a:lnTo>
                  <a:lnTo>
                    <a:pt x="76" y="460"/>
                  </a:lnTo>
                  <a:lnTo>
                    <a:pt x="76" y="428"/>
                  </a:lnTo>
                  <a:lnTo>
                    <a:pt x="86" y="392"/>
                  </a:lnTo>
                  <a:lnTo>
                    <a:pt x="86" y="371"/>
                  </a:lnTo>
                  <a:lnTo>
                    <a:pt x="89" y="352"/>
                  </a:lnTo>
                  <a:lnTo>
                    <a:pt x="93" y="327"/>
                  </a:lnTo>
                  <a:lnTo>
                    <a:pt x="95" y="304"/>
                  </a:lnTo>
                  <a:lnTo>
                    <a:pt x="80" y="285"/>
                  </a:lnTo>
                  <a:lnTo>
                    <a:pt x="57" y="263"/>
                  </a:lnTo>
                  <a:lnTo>
                    <a:pt x="40" y="246"/>
                  </a:lnTo>
                  <a:lnTo>
                    <a:pt x="34" y="221"/>
                  </a:lnTo>
                  <a:lnTo>
                    <a:pt x="19" y="213"/>
                  </a:lnTo>
                  <a:lnTo>
                    <a:pt x="11" y="196"/>
                  </a:lnTo>
                  <a:lnTo>
                    <a:pt x="4" y="190"/>
                  </a:lnTo>
                  <a:lnTo>
                    <a:pt x="0" y="175"/>
                  </a:lnTo>
                  <a:lnTo>
                    <a:pt x="11" y="187"/>
                  </a:lnTo>
                  <a:lnTo>
                    <a:pt x="19" y="196"/>
                  </a:lnTo>
                  <a:lnTo>
                    <a:pt x="27" y="209"/>
                  </a:lnTo>
                  <a:lnTo>
                    <a:pt x="40" y="215"/>
                  </a:lnTo>
                  <a:lnTo>
                    <a:pt x="53" y="242"/>
                  </a:lnTo>
                  <a:lnTo>
                    <a:pt x="68" y="255"/>
                  </a:lnTo>
                  <a:lnTo>
                    <a:pt x="86" y="278"/>
                  </a:lnTo>
                  <a:lnTo>
                    <a:pt x="103" y="299"/>
                  </a:lnTo>
                  <a:lnTo>
                    <a:pt x="110" y="322"/>
                  </a:lnTo>
                  <a:lnTo>
                    <a:pt x="103" y="341"/>
                  </a:lnTo>
                  <a:lnTo>
                    <a:pt x="103" y="371"/>
                  </a:lnTo>
                  <a:lnTo>
                    <a:pt x="93" y="394"/>
                  </a:lnTo>
                  <a:lnTo>
                    <a:pt x="95" y="420"/>
                  </a:lnTo>
                  <a:lnTo>
                    <a:pt x="86" y="443"/>
                  </a:lnTo>
                  <a:lnTo>
                    <a:pt x="86" y="474"/>
                  </a:lnTo>
                  <a:lnTo>
                    <a:pt x="76" y="496"/>
                  </a:lnTo>
                  <a:lnTo>
                    <a:pt x="76" y="508"/>
                  </a:lnTo>
                  <a:lnTo>
                    <a:pt x="93" y="504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3" y="481"/>
                  </a:lnTo>
                  <a:lnTo>
                    <a:pt x="139" y="451"/>
                  </a:lnTo>
                  <a:lnTo>
                    <a:pt x="146" y="411"/>
                  </a:lnTo>
                  <a:lnTo>
                    <a:pt x="148" y="388"/>
                  </a:lnTo>
                  <a:lnTo>
                    <a:pt x="156" y="361"/>
                  </a:lnTo>
                  <a:lnTo>
                    <a:pt x="162" y="327"/>
                  </a:lnTo>
                  <a:lnTo>
                    <a:pt x="162" y="301"/>
                  </a:lnTo>
                  <a:lnTo>
                    <a:pt x="165" y="278"/>
                  </a:lnTo>
                  <a:lnTo>
                    <a:pt x="162" y="259"/>
                  </a:lnTo>
                  <a:lnTo>
                    <a:pt x="152" y="240"/>
                  </a:lnTo>
                  <a:lnTo>
                    <a:pt x="148" y="221"/>
                  </a:lnTo>
                  <a:lnTo>
                    <a:pt x="143" y="206"/>
                  </a:lnTo>
                  <a:lnTo>
                    <a:pt x="129" y="190"/>
                  </a:lnTo>
                  <a:lnTo>
                    <a:pt x="122" y="171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3" y="126"/>
                  </a:lnTo>
                  <a:lnTo>
                    <a:pt x="84" y="111"/>
                  </a:lnTo>
                  <a:lnTo>
                    <a:pt x="67" y="88"/>
                  </a:lnTo>
                  <a:lnTo>
                    <a:pt x="61" y="67"/>
                  </a:lnTo>
                  <a:lnTo>
                    <a:pt x="61" y="46"/>
                  </a:lnTo>
                  <a:lnTo>
                    <a:pt x="61" y="31"/>
                  </a:lnTo>
                  <a:lnTo>
                    <a:pt x="61" y="10"/>
                  </a:lnTo>
                  <a:lnTo>
                    <a:pt x="63" y="0"/>
                  </a:lnTo>
                  <a:lnTo>
                    <a:pt x="72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53360" y="5369760"/>
              <a:ext cx="62640" cy="86040"/>
            </a:xfrm>
            <a:custGeom>
              <a:avLst/>
              <a:gdLst/>
              <a:ahLst/>
              <a:rect l="l" t="t" r="r" b="b"/>
              <a:pathLst>
                <a:path w="85" h="104">
                  <a:moveTo>
                    <a:pt x="49" y="0"/>
                  </a:moveTo>
                  <a:lnTo>
                    <a:pt x="32" y="9"/>
                  </a:lnTo>
                  <a:lnTo>
                    <a:pt x="26" y="17"/>
                  </a:lnTo>
                  <a:lnTo>
                    <a:pt x="13" y="25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6" y="57"/>
                  </a:lnTo>
                  <a:lnTo>
                    <a:pt x="15" y="57"/>
                  </a:lnTo>
                  <a:lnTo>
                    <a:pt x="26" y="51"/>
                  </a:lnTo>
                  <a:lnTo>
                    <a:pt x="32" y="47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13" y="63"/>
                  </a:lnTo>
                  <a:lnTo>
                    <a:pt x="9" y="74"/>
                  </a:lnTo>
                  <a:lnTo>
                    <a:pt x="13" y="80"/>
                  </a:lnTo>
                  <a:lnTo>
                    <a:pt x="15" y="85"/>
                  </a:lnTo>
                  <a:lnTo>
                    <a:pt x="23" y="97"/>
                  </a:lnTo>
                  <a:lnTo>
                    <a:pt x="40" y="104"/>
                  </a:lnTo>
                  <a:lnTo>
                    <a:pt x="49" y="104"/>
                  </a:lnTo>
                  <a:lnTo>
                    <a:pt x="59" y="89"/>
                  </a:lnTo>
                  <a:lnTo>
                    <a:pt x="68" y="78"/>
                  </a:lnTo>
                  <a:lnTo>
                    <a:pt x="76" y="63"/>
                  </a:lnTo>
                  <a:lnTo>
                    <a:pt x="80" y="51"/>
                  </a:lnTo>
                  <a:lnTo>
                    <a:pt x="82" y="40"/>
                  </a:lnTo>
                  <a:lnTo>
                    <a:pt x="82" y="30"/>
                  </a:lnTo>
                  <a:lnTo>
                    <a:pt x="85" y="25"/>
                  </a:lnTo>
                  <a:lnTo>
                    <a:pt x="72" y="17"/>
                  </a:lnTo>
                  <a:lnTo>
                    <a:pt x="68" y="34"/>
                  </a:lnTo>
                  <a:lnTo>
                    <a:pt x="68" y="51"/>
                  </a:lnTo>
                  <a:lnTo>
                    <a:pt x="66" y="61"/>
                  </a:lnTo>
                  <a:lnTo>
                    <a:pt x="57" y="74"/>
                  </a:lnTo>
                  <a:lnTo>
                    <a:pt x="49" y="85"/>
                  </a:lnTo>
                  <a:lnTo>
                    <a:pt x="42" y="89"/>
                  </a:lnTo>
                  <a:lnTo>
                    <a:pt x="30" y="83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36" y="61"/>
                  </a:lnTo>
                  <a:lnTo>
                    <a:pt x="40" y="51"/>
                  </a:lnTo>
                  <a:lnTo>
                    <a:pt x="45" y="34"/>
                  </a:lnTo>
                  <a:lnTo>
                    <a:pt x="30" y="40"/>
                  </a:lnTo>
                  <a:lnTo>
                    <a:pt x="19" y="47"/>
                  </a:lnTo>
                  <a:lnTo>
                    <a:pt x="13" y="47"/>
                  </a:lnTo>
                  <a:lnTo>
                    <a:pt x="15" y="40"/>
                  </a:lnTo>
                  <a:lnTo>
                    <a:pt x="23" y="34"/>
                  </a:lnTo>
                  <a:lnTo>
                    <a:pt x="30" y="26"/>
                  </a:lnTo>
                  <a:lnTo>
                    <a:pt x="42" y="25"/>
                  </a:lnTo>
                  <a:lnTo>
                    <a:pt x="49" y="17"/>
                  </a:lnTo>
                  <a:lnTo>
                    <a:pt x="57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42760" y="4906800"/>
              <a:ext cx="105840" cy="8532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0" y="66"/>
                  </a:moveTo>
                  <a:lnTo>
                    <a:pt x="23" y="51"/>
                  </a:lnTo>
                  <a:lnTo>
                    <a:pt x="36" y="40"/>
                  </a:lnTo>
                  <a:lnTo>
                    <a:pt x="49" y="23"/>
                  </a:lnTo>
                  <a:lnTo>
                    <a:pt x="67" y="13"/>
                  </a:lnTo>
                  <a:lnTo>
                    <a:pt x="82" y="2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35" y="13"/>
                  </a:lnTo>
                  <a:lnTo>
                    <a:pt x="146" y="25"/>
                  </a:lnTo>
                  <a:lnTo>
                    <a:pt x="122" y="40"/>
                  </a:lnTo>
                  <a:lnTo>
                    <a:pt x="103" y="51"/>
                  </a:lnTo>
                  <a:lnTo>
                    <a:pt x="105" y="63"/>
                  </a:lnTo>
                  <a:lnTo>
                    <a:pt x="122" y="55"/>
                  </a:lnTo>
                  <a:lnTo>
                    <a:pt x="135" y="51"/>
                  </a:lnTo>
                  <a:lnTo>
                    <a:pt x="143" y="63"/>
                  </a:lnTo>
                  <a:lnTo>
                    <a:pt x="143" y="68"/>
                  </a:lnTo>
                  <a:lnTo>
                    <a:pt x="131" y="76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89" y="89"/>
                  </a:lnTo>
                  <a:lnTo>
                    <a:pt x="63" y="93"/>
                  </a:lnTo>
                  <a:lnTo>
                    <a:pt x="40" y="103"/>
                  </a:lnTo>
                  <a:lnTo>
                    <a:pt x="30" y="95"/>
                  </a:lnTo>
                  <a:lnTo>
                    <a:pt x="46" y="89"/>
                  </a:lnTo>
                  <a:lnTo>
                    <a:pt x="67" y="82"/>
                  </a:lnTo>
                  <a:lnTo>
                    <a:pt x="82" y="76"/>
                  </a:lnTo>
                  <a:lnTo>
                    <a:pt x="95" y="76"/>
                  </a:lnTo>
                  <a:lnTo>
                    <a:pt x="108" y="68"/>
                  </a:lnTo>
                  <a:lnTo>
                    <a:pt x="93" y="68"/>
                  </a:lnTo>
                  <a:lnTo>
                    <a:pt x="89" y="51"/>
                  </a:lnTo>
                  <a:lnTo>
                    <a:pt x="105" y="36"/>
                  </a:lnTo>
                  <a:lnTo>
                    <a:pt x="116" y="28"/>
                  </a:lnTo>
                  <a:lnTo>
                    <a:pt x="125" y="19"/>
                  </a:lnTo>
                  <a:lnTo>
                    <a:pt x="120" y="13"/>
                  </a:lnTo>
                  <a:lnTo>
                    <a:pt x="108" y="9"/>
                  </a:lnTo>
                  <a:lnTo>
                    <a:pt x="80" y="19"/>
                  </a:lnTo>
                  <a:lnTo>
                    <a:pt x="55" y="32"/>
                  </a:lnTo>
                  <a:lnTo>
                    <a:pt x="42" y="49"/>
                  </a:lnTo>
                  <a:lnTo>
                    <a:pt x="32" y="66"/>
                  </a:lnTo>
                  <a:lnTo>
                    <a:pt x="13" y="7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27720" y="4923000"/>
              <a:ext cx="96840" cy="12996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02" y="156"/>
                  </a:moveTo>
                  <a:lnTo>
                    <a:pt x="104" y="146"/>
                  </a:lnTo>
                  <a:lnTo>
                    <a:pt x="108" y="137"/>
                  </a:lnTo>
                  <a:lnTo>
                    <a:pt x="108" y="123"/>
                  </a:lnTo>
                  <a:lnTo>
                    <a:pt x="114" y="106"/>
                  </a:lnTo>
                  <a:lnTo>
                    <a:pt x="125" y="89"/>
                  </a:lnTo>
                  <a:lnTo>
                    <a:pt x="131" y="66"/>
                  </a:lnTo>
                  <a:lnTo>
                    <a:pt x="131" y="44"/>
                  </a:lnTo>
                  <a:lnTo>
                    <a:pt x="121" y="30"/>
                  </a:lnTo>
                  <a:lnTo>
                    <a:pt x="102" y="13"/>
                  </a:lnTo>
                  <a:lnTo>
                    <a:pt x="83" y="6"/>
                  </a:lnTo>
                  <a:lnTo>
                    <a:pt x="64" y="0"/>
                  </a:lnTo>
                  <a:lnTo>
                    <a:pt x="38" y="0"/>
                  </a:lnTo>
                  <a:lnTo>
                    <a:pt x="26" y="6"/>
                  </a:lnTo>
                  <a:lnTo>
                    <a:pt x="11" y="17"/>
                  </a:lnTo>
                  <a:lnTo>
                    <a:pt x="2" y="32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19" y="26"/>
                  </a:lnTo>
                  <a:lnTo>
                    <a:pt x="32" y="17"/>
                  </a:lnTo>
                  <a:lnTo>
                    <a:pt x="49" y="13"/>
                  </a:lnTo>
                  <a:lnTo>
                    <a:pt x="64" y="13"/>
                  </a:lnTo>
                  <a:lnTo>
                    <a:pt x="87" y="21"/>
                  </a:lnTo>
                  <a:lnTo>
                    <a:pt x="102" y="26"/>
                  </a:lnTo>
                  <a:lnTo>
                    <a:pt x="110" y="36"/>
                  </a:lnTo>
                  <a:lnTo>
                    <a:pt x="118" y="49"/>
                  </a:lnTo>
                  <a:lnTo>
                    <a:pt x="121" y="66"/>
                  </a:lnTo>
                  <a:lnTo>
                    <a:pt x="114" y="76"/>
                  </a:lnTo>
                  <a:lnTo>
                    <a:pt x="108" y="89"/>
                  </a:lnTo>
                  <a:lnTo>
                    <a:pt x="102" y="106"/>
                  </a:lnTo>
                  <a:lnTo>
                    <a:pt x="95" y="125"/>
                  </a:lnTo>
                  <a:lnTo>
                    <a:pt x="95" y="139"/>
                  </a:lnTo>
                  <a:lnTo>
                    <a:pt x="95" y="156"/>
                  </a:lnTo>
                  <a:lnTo>
                    <a:pt x="102" y="156"/>
                  </a:lnTo>
                  <a:lnTo>
                    <a:pt x="10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27720" y="4964040"/>
              <a:ext cx="36720" cy="97200"/>
            </a:xfrm>
            <a:custGeom>
              <a:avLst/>
              <a:gdLst/>
              <a:ahLst/>
              <a:rect l="l" t="t" r="r" b="b"/>
              <a:pathLst>
                <a:path w="49" h="116">
                  <a:moveTo>
                    <a:pt x="32" y="111"/>
                  </a:moveTo>
                  <a:lnTo>
                    <a:pt x="32" y="103"/>
                  </a:lnTo>
                  <a:lnTo>
                    <a:pt x="32" y="93"/>
                  </a:lnTo>
                  <a:lnTo>
                    <a:pt x="28" y="88"/>
                  </a:lnTo>
                  <a:lnTo>
                    <a:pt x="28" y="80"/>
                  </a:lnTo>
                  <a:lnTo>
                    <a:pt x="23" y="71"/>
                  </a:lnTo>
                  <a:lnTo>
                    <a:pt x="15" y="57"/>
                  </a:lnTo>
                  <a:lnTo>
                    <a:pt x="11" y="52"/>
                  </a:lnTo>
                  <a:lnTo>
                    <a:pt x="2" y="3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9" y="10"/>
                  </a:lnTo>
                  <a:lnTo>
                    <a:pt x="9" y="25"/>
                  </a:lnTo>
                  <a:lnTo>
                    <a:pt x="11" y="40"/>
                  </a:lnTo>
                  <a:lnTo>
                    <a:pt x="19" y="48"/>
                  </a:lnTo>
                  <a:lnTo>
                    <a:pt x="26" y="54"/>
                  </a:lnTo>
                  <a:lnTo>
                    <a:pt x="32" y="63"/>
                  </a:lnTo>
                  <a:lnTo>
                    <a:pt x="34" y="76"/>
                  </a:lnTo>
                  <a:lnTo>
                    <a:pt x="38" y="84"/>
                  </a:lnTo>
                  <a:lnTo>
                    <a:pt x="42" y="101"/>
                  </a:lnTo>
                  <a:lnTo>
                    <a:pt x="49" y="116"/>
                  </a:lnTo>
                  <a:lnTo>
                    <a:pt x="32" y="111"/>
                  </a:lnTo>
                  <a:lnTo>
                    <a:pt x="3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23760" y="5830200"/>
              <a:ext cx="95040" cy="66600"/>
            </a:xfrm>
            <a:custGeom>
              <a:avLst/>
              <a:gdLst/>
              <a:ahLst/>
              <a:rect l="l" t="t" r="r" b="b"/>
              <a:pathLst>
                <a:path w="133" h="82">
                  <a:moveTo>
                    <a:pt x="4" y="13"/>
                  </a:moveTo>
                  <a:lnTo>
                    <a:pt x="4" y="32"/>
                  </a:lnTo>
                  <a:lnTo>
                    <a:pt x="4" y="49"/>
                  </a:lnTo>
                  <a:lnTo>
                    <a:pt x="4" y="59"/>
                  </a:lnTo>
                  <a:lnTo>
                    <a:pt x="0" y="80"/>
                  </a:lnTo>
                  <a:lnTo>
                    <a:pt x="4" y="82"/>
                  </a:lnTo>
                  <a:lnTo>
                    <a:pt x="17" y="82"/>
                  </a:lnTo>
                  <a:lnTo>
                    <a:pt x="34" y="80"/>
                  </a:lnTo>
                  <a:lnTo>
                    <a:pt x="40" y="76"/>
                  </a:lnTo>
                  <a:lnTo>
                    <a:pt x="61" y="74"/>
                  </a:lnTo>
                  <a:lnTo>
                    <a:pt x="86" y="66"/>
                  </a:lnTo>
                  <a:lnTo>
                    <a:pt x="95" y="55"/>
                  </a:lnTo>
                  <a:lnTo>
                    <a:pt x="110" y="49"/>
                  </a:lnTo>
                  <a:lnTo>
                    <a:pt x="129" y="40"/>
                  </a:lnTo>
                  <a:lnTo>
                    <a:pt x="133" y="27"/>
                  </a:lnTo>
                  <a:lnTo>
                    <a:pt x="133" y="13"/>
                  </a:lnTo>
                  <a:lnTo>
                    <a:pt x="126" y="6"/>
                  </a:lnTo>
                  <a:lnTo>
                    <a:pt x="107" y="4"/>
                  </a:lnTo>
                  <a:lnTo>
                    <a:pt x="99" y="4"/>
                  </a:lnTo>
                  <a:lnTo>
                    <a:pt x="86" y="6"/>
                  </a:lnTo>
                  <a:lnTo>
                    <a:pt x="67" y="9"/>
                  </a:lnTo>
                  <a:lnTo>
                    <a:pt x="57" y="0"/>
                  </a:lnTo>
                  <a:lnTo>
                    <a:pt x="46" y="6"/>
                  </a:lnTo>
                  <a:lnTo>
                    <a:pt x="57" y="17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80" y="21"/>
                  </a:lnTo>
                  <a:lnTo>
                    <a:pt x="95" y="17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2" y="21"/>
                  </a:lnTo>
                  <a:lnTo>
                    <a:pt x="122" y="27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95" y="44"/>
                  </a:lnTo>
                  <a:lnTo>
                    <a:pt x="84" y="53"/>
                  </a:lnTo>
                  <a:lnTo>
                    <a:pt x="67" y="59"/>
                  </a:lnTo>
                  <a:lnTo>
                    <a:pt x="46" y="66"/>
                  </a:lnTo>
                  <a:lnTo>
                    <a:pt x="27" y="66"/>
                  </a:lnTo>
                  <a:lnTo>
                    <a:pt x="13" y="74"/>
                  </a:lnTo>
                  <a:lnTo>
                    <a:pt x="13" y="55"/>
                  </a:lnTo>
                  <a:lnTo>
                    <a:pt x="13" y="47"/>
                  </a:lnTo>
                  <a:lnTo>
                    <a:pt x="13" y="30"/>
                  </a:lnTo>
                  <a:lnTo>
                    <a:pt x="17" y="9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42920" y="5785920"/>
              <a:ext cx="97920" cy="70200"/>
            </a:xfrm>
            <a:custGeom>
              <a:avLst/>
              <a:gdLst/>
              <a:ahLst/>
              <a:rect l="l" t="t" r="r" b="b"/>
              <a:pathLst>
                <a:path w="133" h="83">
                  <a:moveTo>
                    <a:pt x="5" y="13"/>
                  </a:moveTo>
                  <a:lnTo>
                    <a:pt x="1" y="30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36" y="83"/>
                  </a:lnTo>
                  <a:lnTo>
                    <a:pt x="55" y="83"/>
                  </a:lnTo>
                  <a:lnTo>
                    <a:pt x="79" y="83"/>
                  </a:lnTo>
                  <a:lnTo>
                    <a:pt x="93" y="80"/>
                  </a:lnTo>
                  <a:lnTo>
                    <a:pt x="108" y="76"/>
                  </a:lnTo>
                  <a:lnTo>
                    <a:pt x="119" y="66"/>
                  </a:lnTo>
                  <a:lnTo>
                    <a:pt x="133" y="53"/>
                  </a:lnTo>
                  <a:lnTo>
                    <a:pt x="133" y="43"/>
                  </a:lnTo>
                  <a:lnTo>
                    <a:pt x="125" y="30"/>
                  </a:lnTo>
                  <a:lnTo>
                    <a:pt x="112" y="26"/>
                  </a:lnTo>
                  <a:lnTo>
                    <a:pt x="93" y="24"/>
                  </a:lnTo>
                  <a:lnTo>
                    <a:pt x="70" y="26"/>
                  </a:lnTo>
                  <a:lnTo>
                    <a:pt x="58" y="13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9" y="9"/>
                  </a:lnTo>
                  <a:lnTo>
                    <a:pt x="49" y="13"/>
                  </a:lnTo>
                  <a:lnTo>
                    <a:pt x="58" y="30"/>
                  </a:lnTo>
                  <a:lnTo>
                    <a:pt x="76" y="36"/>
                  </a:lnTo>
                  <a:lnTo>
                    <a:pt x="95" y="36"/>
                  </a:lnTo>
                  <a:lnTo>
                    <a:pt x="112" y="36"/>
                  </a:lnTo>
                  <a:lnTo>
                    <a:pt x="119" y="40"/>
                  </a:lnTo>
                  <a:lnTo>
                    <a:pt x="119" y="47"/>
                  </a:lnTo>
                  <a:lnTo>
                    <a:pt x="119" y="53"/>
                  </a:lnTo>
                  <a:lnTo>
                    <a:pt x="106" y="62"/>
                  </a:lnTo>
                  <a:lnTo>
                    <a:pt x="98" y="66"/>
                  </a:lnTo>
                  <a:lnTo>
                    <a:pt x="81" y="70"/>
                  </a:lnTo>
                  <a:lnTo>
                    <a:pt x="58" y="70"/>
                  </a:lnTo>
                  <a:lnTo>
                    <a:pt x="36" y="74"/>
                  </a:lnTo>
                  <a:lnTo>
                    <a:pt x="13" y="74"/>
                  </a:lnTo>
                  <a:lnTo>
                    <a:pt x="17" y="66"/>
                  </a:lnTo>
                  <a:lnTo>
                    <a:pt x="17" y="51"/>
                  </a:lnTo>
                  <a:lnTo>
                    <a:pt x="17" y="36"/>
                  </a:lnTo>
                  <a:lnTo>
                    <a:pt x="17" y="26"/>
                  </a:lnTo>
                  <a:lnTo>
                    <a:pt x="17" y="7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0240" y="2743200"/>
              <a:ext cx="2504880" cy="3581280"/>
            </a:xfrm>
            <a:custGeom>
              <a:avLst/>
              <a:gdLst/>
              <a:ahLst/>
              <a:rect l="l" t="t" r="r" b="b"/>
              <a:pathLst>
                <a:path w="3443" h="4297">
                  <a:moveTo>
                    <a:pt x="48" y="4267"/>
                  </a:moveTo>
                  <a:lnTo>
                    <a:pt x="169" y="4276"/>
                  </a:lnTo>
                  <a:lnTo>
                    <a:pt x="215" y="4276"/>
                  </a:lnTo>
                  <a:lnTo>
                    <a:pt x="369" y="4280"/>
                  </a:lnTo>
                  <a:lnTo>
                    <a:pt x="464" y="4280"/>
                  </a:lnTo>
                  <a:lnTo>
                    <a:pt x="673" y="4280"/>
                  </a:lnTo>
                  <a:lnTo>
                    <a:pt x="816" y="4276"/>
                  </a:lnTo>
                  <a:lnTo>
                    <a:pt x="1050" y="4276"/>
                  </a:lnTo>
                  <a:lnTo>
                    <a:pt x="1190" y="4270"/>
                  </a:lnTo>
                  <a:lnTo>
                    <a:pt x="1371" y="4270"/>
                  </a:lnTo>
                  <a:lnTo>
                    <a:pt x="1426" y="4267"/>
                  </a:lnTo>
                  <a:lnTo>
                    <a:pt x="1626" y="4267"/>
                  </a:lnTo>
                  <a:lnTo>
                    <a:pt x="1673" y="4267"/>
                  </a:lnTo>
                  <a:lnTo>
                    <a:pt x="1797" y="4267"/>
                  </a:lnTo>
                  <a:lnTo>
                    <a:pt x="1985" y="4280"/>
                  </a:lnTo>
                  <a:lnTo>
                    <a:pt x="2150" y="4267"/>
                  </a:lnTo>
                  <a:lnTo>
                    <a:pt x="2361" y="4276"/>
                  </a:lnTo>
                  <a:lnTo>
                    <a:pt x="2513" y="4287"/>
                  </a:lnTo>
                  <a:lnTo>
                    <a:pt x="2650" y="4297"/>
                  </a:lnTo>
                  <a:lnTo>
                    <a:pt x="2745" y="4297"/>
                  </a:lnTo>
                  <a:lnTo>
                    <a:pt x="2829" y="4297"/>
                  </a:lnTo>
                  <a:lnTo>
                    <a:pt x="2916" y="4297"/>
                  </a:lnTo>
                  <a:lnTo>
                    <a:pt x="2977" y="4297"/>
                  </a:lnTo>
                  <a:lnTo>
                    <a:pt x="3034" y="4297"/>
                  </a:lnTo>
                  <a:lnTo>
                    <a:pt x="3067" y="4297"/>
                  </a:lnTo>
                  <a:lnTo>
                    <a:pt x="3152" y="4297"/>
                  </a:lnTo>
                  <a:lnTo>
                    <a:pt x="3264" y="4297"/>
                  </a:lnTo>
                  <a:lnTo>
                    <a:pt x="3340" y="4289"/>
                  </a:lnTo>
                  <a:lnTo>
                    <a:pt x="3384" y="4280"/>
                  </a:lnTo>
                  <a:lnTo>
                    <a:pt x="3403" y="4065"/>
                  </a:lnTo>
                  <a:lnTo>
                    <a:pt x="3403" y="3972"/>
                  </a:lnTo>
                  <a:lnTo>
                    <a:pt x="3397" y="3932"/>
                  </a:lnTo>
                  <a:lnTo>
                    <a:pt x="3394" y="3725"/>
                  </a:lnTo>
                  <a:lnTo>
                    <a:pt x="3390" y="3605"/>
                  </a:lnTo>
                  <a:lnTo>
                    <a:pt x="3411" y="3396"/>
                  </a:lnTo>
                  <a:lnTo>
                    <a:pt x="3413" y="3217"/>
                  </a:lnTo>
                  <a:lnTo>
                    <a:pt x="3413" y="3079"/>
                  </a:lnTo>
                  <a:lnTo>
                    <a:pt x="3413" y="2966"/>
                  </a:lnTo>
                  <a:lnTo>
                    <a:pt x="3413" y="2832"/>
                  </a:lnTo>
                  <a:lnTo>
                    <a:pt x="3411" y="2651"/>
                  </a:lnTo>
                  <a:lnTo>
                    <a:pt x="3397" y="2484"/>
                  </a:lnTo>
                  <a:lnTo>
                    <a:pt x="3397" y="2347"/>
                  </a:lnTo>
                  <a:lnTo>
                    <a:pt x="3413" y="2026"/>
                  </a:lnTo>
                  <a:lnTo>
                    <a:pt x="3413" y="1856"/>
                  </a:lnTo>
                  <a:lnTo>
                    <a:pt x="3413" y="1752"/>
                  </a:lnTo>
                  <a:lnTo>
                    <a:pt x="3411" y="1600"/>
                  </a:lnTo>
                  <a:lnTo>
                    <a:pt x="3403" y="1440"/>
                  </a:lnTo>
                  <a:lnTo>
                    <a:pt x="3403" y="1322"/>
                  </a:lnTo>
                  <a:lnTo>
                    <a:pt x="3403" y="1168"/>
                  </a:lnTo>
                  <a:lnTo>
                    <a:pt x="3411" y="1033"/>
                  </a:lnTo>
                  <a:lnTo>
                    <a:pt x="3433" y="861"/>
                  </a:lnTo>
                  <a:lnTo>
                    <a:pt x="3439" y="707"/>
                  </a:lnTo>
                  <a:lnTo>
                    <a:pt x="3433" y="613"/>
                  </a:lnTo>
                  <a:lnTo>
                    <a:pt x="3433" y="555"/>
                  </a:lnTo>
                  <a:lnTo>
                    <a:pt x="3443" y="448"/>
                  </a:lnTo>
                  <a:lnTo>
                    <a:pt x="3443" y="336"/>
                  </a:lnTo>
                  <a:lnTo>
                    <a:pt x="3443" y="159"/>
                  </a:lnTo>
                  <a:lnTo>
                    <a:pt x="3411" y="57"/>
                  </a:lnTo>
                  <a:lnTo>
                    <a:pt x="3234" y="60"/>
                  </a:lnTo>
                  <a:lnTo>
                    <a:pt x="3040" y="51"/>
                  </a:lnTo>
                  <a:lnTo>
                    <a:pt x="2905" y="51"/>
                  </a:lnTo>
                  <a:lnTo>
                    <a:pt x="2702" y="38"/>
                  </a:lnTo>
                  <a:lnTo>
                    <a:pt x="2570" y="38"/>
                  </a:lnTo>
                  <a:lnTo>
                    <a:pt x="2418" y="26"/>
                  </a:lnTo>
                  <a:lnTo>
                    <a:pt x="2221" y="17"/>
                  </a:lnTo>
                  <a:lnTo>
                    <a:pt x="2074" y="17"/>
                  </a:lnTo>
                  <a:lnTo>
                    <a:pt x="1896" y="30"/>
                  </a:lnTo>
                  <a:lnTo>
                    <a:pt x="1719" y="17"/>
                  </a:lnTo>
                  <a:lnTo>
                    <a:pt x="1479" y="11"/>
                  </a:lnTo>
                  <a:lnTo>
                    <a:pt x="1318" y="11"/>
                  </a:lnTo>
                  <a:lnTo>
                    <a:pt x="1112" y="11"/>
                  </a:lnTo>
                  <a:lnTo>
                    <a:pt x="835" y="11"/>
                  </a:lnTo>
                  <a:lnTo>
                    <a:pt x="688" y="11"/>
                  </a:lnTo>
                  <a:lnTo>
                    <a:pt x="576" y="11"/>
                  </a:lnTo>
                  <a:lnTo>
                    <a:pt x="487" y="11"/>
                  </a:lnTo>
                  <a:lnTo>
                    <a:pt x="259" y="11"/>
                  </a:lnTo>
                  <a:lnTo>
                    <a:pt x="0" y="0"/>
                  </a:lnTo>
                  <a:lnTo>
                    <a:pt x="12" y="53"/>
                  </a:lnTo>
                  <a:lnTo>
                    <a:pt x="230" y="51"/>
                  </a:lnTo>
                  <a:lnTo>
                    <a:pt x="398" y="41"/>
                  </a:lnTo>
                  <a:lnTo>
                    <a:pt x="576" y="47"/>
                  </a:lnTo>
                  <a:lnTo>
                    <a:pt x="675" y="47"/>
                  </a:lnTo>
                  <a:lnTo>
                    <a:pt x="831" y="47"/>
                  </a:lnTo>
                  <a:lnTo>
                    <a:pt x="968" y="51"/>
                  </a:lnTo>
                  <a:lnTo>
                    <a:pt x="1118" y="57"/>
                  </a:lnTo>
                  <a:lnTo>
                    <a:pt x="1206" y="57"/>
                  </a:lnTo>
                  <a:lnTo>
                    <a:pt x="1407" y="47"/>
                  </a:lnTo>
                  <a:lnTo>
                    <a:pt x="1561" y="60"/>
                  </a:lnTo>
                  <a:lnTo>
                    <a:pt x="1704" y="66"/>
                  </a:lnTo>
                  <a:lnTo>
                    <a:pt x="1846" y="66"/>
                  </a:lnTo>
                  <a:lnTo>
                    <a:pt x="1975" y="70"/>
                  </a:lnTo>
                  <a:lnTo>
                    <a:pt x="2101" y="60"/>
                  </a:lnTo>
                  <a:lnTo>
                    <a:pt x="2185" y="51"/>
                  </a:lnTo>
                  <a:lnTo>
                    <a:pt x="2339" y="70"/>
                  </a:lnTo>
                  <a:lnTo>
                    <a:pt x="2472" y="70"/>
                  </a:lnTo>
                  <a:lnTo>
                    <a:pt x="2584" y="70"/>
                  </a:lnTo>
                  <a:lnTo>
                    <a:pt x="2719" y="77"/>
                  </a:lnTo>
                  <a:lnTo>
                    <a:pt x="2867" y="79"/>
                  </a:lnTo>
                  <a:lnTo>
                    <a:pt x="2985" y="106"/>
                  </a:lnTo>
                  <a:lnTo>
                    <a:pt x="3116" y="100"/>
                  </a:lnTo>
                  <a:lnTo>
                    <a:pt x="3245" y="110"/>
                  </a:lnTo>
                  <a:lnTo>
                    <a:pt x="3348" y="110"/>
                  </a:lnTo>
                  <a:lnTo>
                    <a:pt x="3380" y="218"/>
                  </a:lnTo>
                  <a:lnTo>
                    <a:pt x="3380" y="359"/>
                  </a:lnTo>
                  <a:lnTo>
                    <a:pt x="3380" y="463"/>
                  </a:lnTo>
                  <a:lnTo>
                    <a:pt x="3375" y="613"/>
                  </a:lnTo>
                  <a:lnTo>
                    <a:pt x="3390" y="741"/>
                  </a:lnTo>
                  <a:lnTo>
                    <a:pt x="3384" y="914"/>
                  </a:lnTo>
                  <a:lnTo>
                    <a:pt x="3354" y="1132"/>
                  </a:lnTo>
                  <a:lnTo>
                    <a:pt x="3344" y="1281"/>
                  </a:lnTo>
                  <a:lnTo>
                    <a:pt x="3344" y="1490"/>
                  </a:lnTo>
                  <a:lnTo>
                    <a:pt x="3344" y="1668"/>
                  </a:lnTo>
                  <a:lnTo>
                    <a:pt x="3344" y="1822"/>
                  </a:lnTo>
                  <a:lnTo>
                    <a:pt x="3348" y="1940"/>
                  </a:lnTo>
                  <a:lnTo>
                    <a:pt x="3348" y="2124"/>
                  </a:lnTo>
                  <a:lnTo>
                    <a:pt x="3340" y="2261"/>
                  </a:lnTo>
                  <a:lnTo>
                    <a:pt x="3344" y="2417"/>
                  </a:lnTo>
                  <a:lnTo>
                    <a:pt x="3359" y="2583"/>
                  </a:lnTo>
                  <a:lnTo>
                    <a:pt x="3354" y="2780"/>
                  </a:lnTo>
                  <a:lnTo>
                    <a:pt x="3348" y="2999"/>
                  </a:lnTo>
                  <a:lnTo>
                    <a:pt x="3344" y="3111"/>
                  </a:lnTo>
                  <a:lnTo>
                    <a:pt x="3348" y="3307"/>
                  </a:lnTo>
                  <a:lnTo>
                    <a:pt x="3354" y="3489"/>
                  </a:lnTo>
                  <a:lnTo>
                    <a:pt x="3333" y="3634"/>
                  </a:lnTo>
                  <a:lnTo>
                    <a:pt x="3333" y="3793"/>
                  </a:lnTo>
                  <a:lnTo>
                    <a:pt x="3333" y="3959"/>
                  </a:lnTo>
                  <a:lnTo>
                    <a:pt x="3340" y="4092"/>
                  </a:lnTo>
                  <a:lnTo>
                    <a:pt x="3340" y="4204"/>
                  </a:lnTo>
                  <a:lnTo>
                    <a:pt x="3255" y="4251"/>
                  </a:lnTo>
                  <a:lnTo>
                    <a:pt x="3116" y="4240"/>
                  </a:lnTo>
                  <a:lnTo>
                    <a:pt x="2985" y="4240"/>
                  </a:lnTo>
                  <a:lnTo>
                    <a:pt x="2829" y="4236"/>
                  </a:lnTo>
                  <a:lnTo>
                    <a:pt x="2626" y="4227"/>
                  </a:lnTo>
                  <a:lnTo>
                    <a:pt x="2460" y="4236"/>
                  </a:lnTo>
                  <a:lnTo>
                    <a:pt x="2274" y="4236"/>
                  </a:lnTo>
                  <a:lnTo>
                    <a:pt x="2082" y="4230"/>
                  </a:lnTo>
                  <a:lnTo>
                    <a:pt x="1867" y="4227"/>
                  </a:lnTo>
                  <a:lnTo>
                    <a:pt x="1688" y="4221"/>
                  </a:lnTo>
                  <a:lnTo>
                    <a:pt x="1439" y="4210"/>
                  </a:lnTo>
                  <a:lnTo>
                    <a:pt x="1268" y="4217"/>
                  </a:lnTo>
                  <a:lnTo>
                    <a:pt x="1080" y="4221"/>
                  </a:lnTo>
                  <a:lnTo>
                    <a:pt x="871" y="4236"/>
                  </a:lnTo>
                  <a:lnTo>
                    <a:pt x="696" y="4227"/>
                  </a:lnTo>
                  <a:lnTo>
                    <a:pt x="527" y="4227"/>
                  </a:lnTo>
                  <a:lnTo>
                    <a:pt x="339" y="4227"/>
                  </a:lnTo>
                  <a:lnTo>
                    <a:pt x="181" y="4227"/>
                  </a:lnTo>
                  <a:lnTo>
                    <a:pt x="27" y="4204"/>
                  </a:lnTo>
                  <a:lnTo>
                    <a:pt x="48" y="4267"/>
                  </a:lnTo>
                  <a:lnTo>
                    <a:pt x="48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9280" y="5524200"/>
              <a:ext cx="294120" cy="748080"/>
            </a:xfrm>
            <a:custGeom>
              <a:avLst/>
              <a:gdLst/>
              <a:ahLst/>
              <a:rect l="l" t="t" r="r" b="b"/>
              <a:pathLst>
                <a:path w="403" h="897">
                  <a:moveTo>
                    <a:pt x="67" y="893"/>
                  </a:moveTo>
                  <a:lnTo>
                    <a:pt x="42" y="850"/>
                  </a:lnTo>
                  <a:lnTo>
                    <a:pt x="29" y="814"/>
                  </a:lnTo>
                  <a:lnTo>
                    <a:pt x="23" y="768"/>
                  </a:lnTo>
                  <a:lnTo>
                    <a:pt x="15" y="724"/>
                  </a:lnTo>
                  <a:lnTo>
                    <a:pt x="0" y="643"/>
                  </a:lnTo>
                  <a:lnTo>
                    <a:pt x="4" y="576"/>
                  </a:lnTo>
                  <a:lnTo>
                    <a:pt x="13" y="523"/>
                  </a:lnTo>
                  <a:lnTo>
                    <a:pt x="15" y="464"/>
                  </a:lnTo>
                  <a:lnTo>
                    <a:pt x="36" y="420"/>
                  </a:lnTo>
                  <a:lnTo>
                    <a:pt x="42" y="380"/>
                  </a:lnTo>
                  <a:lnTo>
                    <a:pt x="78" y="344"/>
                  </a:lnTo>
                  <a:lnTo>
                    <a:pt x="78" y="304"/>
                  </a:lnTo>
                  <a:lnTo>
                    <a:pt x="105" y="247"/>
                  </a:lnTo>
                  <a:lnTo>
                    <a:pt x="147" y="211"/>
                  </a:lnTo>
                  <a:lnTo>
                    <a:pt x="162" y="175"/>
                  </a:lnTo>
                  <a:lnTo>
                    <a:pt x="202" y="145"/>
                  </a:lnTo>
                  <a:lnTo>
                    <a:pt x="230" y="116"/>
                  </a:lnTo>
                  <a:lnTo>
                    <a:pt x="257" y="93"/>
                  </a:lnTo>
                  <a:lnTo>
                    <a:pt x="283" y="69"/>
                  </a:lnTo>
                  <a:lnTo>
                    <a:pt x="314" y="44"/>
                  </a:lnTo>
                  <a:lnTo>
                    <a:pt x="333" y="29"/>
                  </a:lnTo>
                  <a:lnTo>
                    <a:pt x="371" y="6"/>
                  </a:lnTo>
                  <a:lnTo>
                    <a:pt x="403" y="0"/>
                  </a:lnTo>
                  <a:lnTo>
                    <a:pt x="396" y="25"/>
                  </a:lnTo>
                  <a:lnTo>
                    <a:pt x="384" y="32"/>
                  </a:lnTo>
                  <a:lnTo>
                    <a:pt x="350" y="44"/>
                  </a:lnTo>
                  <a:lnTo>
                    <a:pt x="310" y="69"/>
                  </a:lnTo>
                  <a:lnTo>
                    <a:pt x="278" y="105"/>
                  </a:lnTo>
                  <a:lnTo>
                    <a:pt x="251" y="131"/>
                  </a:lnTo>
                  <a:lnTo>
                    <a:pt x="230" y="158"/>
                  </a:lnTo>
                  <a:lnTo>
                    <a:pt x="198" y="183"/>
                  </a:lnTo>
                  <a:lnTo>
                    <a:pt x="173" y="209"/>
                  </a:lnTo>
                  <a:lnTo>
                    <a:pt x="152" y="238"/>
                  </a:lnTo>
                  <a:lnTo>
                    <a:pt x="128" y="270"/>
                  </a:lnTo>
                  <a:lnTo>
                    <a:pt x="120" y="295"/>
                  </a:lnTo>
                  <a:lnTo>
                    <a:pt x="105" y="338"/>
                  </a:lnTo>
                  <a:lnTo>
                    <a:pt x="99" y="365"/>
                  </a:lnTo>
                  <a:lnTo>
                    <a:pt x="95" y="367"/>
                  </a:lnTo>
                  <a:lnTo>
                    <a:pt x="88" y="373"/>
                  </a:lnTo>
                  <a:lnTo>
                    <a:pt x="80" y="382"/>
                  </a:lnTo>
                  <a:lnTo>
                    <a:pt x="76" y="390"/>
                  </a:lnTo>
                  <a:lnTo>
                    <a:pt x="72" y="394"/>
                  </a:lnTo>
                  <a:lnTo>
                    <a:pt x="71" y="399"/>
                  </a:lnTo>
                  <a:lnTo>
                    <a:pt x="65" y="405"/>
                  </a:lnTo>
                  <a:lnTo>
                    <a:pt x="61" y="413"/>
                  </a:lnTo>
                  <a:lnTo>
                    <a:pt x="59" y="418"/>
                  </a:lnTo>
                  <a:lnTo>
                    <a:pt x="55" y="426"/>
                  </a:lnTo>
                  <a:lnTo>
                    <a:pt x="53" y="430"/>
                  </a:lnTo>
                  <a:lnTo>
                    <a:pt x="53" y="433"/>
                  </a:lnTo>
                  <a:lnTo>
                    <a:pt x="50" y="435"/>
                  </a:lnTo>
                  <a:lnTo>
                    <a:pt x="50" y="441"/>
                  </a:lnTo>
                  <a:lnTo>
                    <a:pt x="50" y="447"/>
                  </a:lnTo>
                  <a:lnTo>
                    <a:pt x="50" y="454"/>
                  </a:lnTo>
                  <a:lnTo>
                    <a:pt x="48" y="460"/>
                  </a:lnTo>
                  <a:lnTo>
                    <a:pt x="48" y="468"/>
                  </a:lnTo>
                  <a:lnTo>
                    <a:pt x="46" y="472"/>
                  </a:lnTo>
                  <a:lnTo>
                    <a:pt x="46" y="475"/>
                  </a:lnTo>
                  <a:lnTo>
                    <a:pt x="44" y="479"/>
                  </a:lnTo>
                  <a:lnTo>
                    <a:pt x="44" y="487"/>
                  </a:lnTo>
                  <a:lnTo>
                    <a:pt x="42" y="496"/>
                  </a:lnTo>
                  <a:lnTo>
                    <a:pt x="42" y="504"/>
                  </a:lnTo>
                  <a:lnTo>
                    <a:pt x="38" y="511"/>
                  </a:lnTo>
                  <a:lnTo>
                    <a:pt x="38" y="519"/>
                  </a:lnTo>
                  <a:lnTo>
                    <a:pt x="36" y="525"/>
                  </a:lnTo>
                  <a:lnTo>
                    <a:pt x="36" y="527"/>
                  </a:lnTo>
                  <a:lnTo>
                    <a:pt x="27" y="555"/>
                  </a:lnTo>
                  <a:lnTo>
                    <a:pt x="27" y="606"/>
                  </a:lnTo>
                  <a:lnTo>
                    <a:pt x="27" y="660"/>
                  </a:lnTo>
                  <a:lnTo>
                    <a:pt x="32" y="715"/>
                  </a:lnTo>
                  <a:lnTo>
                    <a:pt x="40" y="762"/>
                  </a:lnTo>
                  <a:lnTo>
                    <a:pt x="46" y="800"/>
                  </a:lnTo>
                  <a:lnTo>
                    <a:pt x="67" y="835"/>
                  </a:lnTo>
                  <a:lnTo>
                    <a:pt x="82" y="861"/>
                  </a:lnTo>
                  <a:lnTo>
                    <a:pt x="90" y="897"/>
                  </a:lnTo>
                  <a:lnTo>
                    <a:pt x="67" y="893"/>
                  </a:lnTo>
                  <a:lnTo>
                    <a:pt x="67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79080" y="4543560"/>
              <a:ext cx="1392480" cy="1725480"/>
            </a:xfrm>
            <a:custGeom>
              <a:avLst/>
              <a:gdLst/>
              <a:ahLst/>
              <a:rect l="l" t="t" r="r" b="b"/>
              <a:pathLst>
                <a:path w="1914" h="2071">
                  <a:moveTo>
                    <a:pt x="112" y="2071"/>
                  </a:moveTo>
                  <a:lnTo>
                    <a:pt x="62" y="2024"/>
                  </a:lnTo>
                  <a:lnTo>
                    <a:pt x="47" y="1969"/>
                  </a:lnTo>
                  <a:lnTo>
                    <a:pt x="34" y="1933"/>
                  </a:lnTo>
                  <a:lnTo>
                    <a:pt x="26" y="1887"/>
                  </a:lnTo>
                  <a:lnTo>
                    <a:pt x="26" y="1849"/>
                  </a:lnTo>
                  <a:lnTo>
                    <a:pt x="0" y="1784"/>
                  </a:lnTo>
                  <a:lnTo>
                    <a:pt x="0" y="1727"/>
                  </a:lnTo>
                  <a:lnTo>
                    <a:pt x="7" y="1670"/>
                  </a:lnTo>
                  <a:lnTo>
                    <a:pt x="13" y="1604"/>
                  </a:lnTo>
                  <a:lnTo>
                    <a:pt x="26" y="1551"/>
                  </a:lnTo>
                  <a:lnTo>
                    <a:pt x="66" y="1473"/>
                  </a:lnTo>
                  <a:lnTo>
                    <a:pt x="110" y="1416"/>
                  </a:lnTo>
                  <a:lnTo>
                    <a:pt x="150" y="1361"/>
                  </a:lnTo>
                  <a:lnTo>
                    <a:pt x="173" y="1323"/>
                  </a:lnTo>
                  <a:lnTo>
                    <a:pt x="215" y="1304"/>
                  </a:lnTo>
                  <a:lnTo>
                    <a:pt x="268" y="1286"/>
                  </a:lnTo>
                  <a:lnTo>
                    <a:pt x="302" y="1271"/>
                  </a:lnTo>
                  <a:lnTo>
                    <a:pt x="348" y="1254"/>
                  </a:lnTo>
                  <a:lnTo>
                    <a:pt x="405" y="1245"/>
                  </a:lnTo>
                  <a:lnTo>
                    <a:pt x="473" y="1241"/>
                  </a:lnTo>
                  <a:lnTo>
                    <a:pt x="553" y="1241"/>
                  </a:lnTo>
                  <a:lnTo>
                    <a:pt x="621" y="1260"/>
                  </a:lnTo>
                  <a:lnTo>
                    <a:pt x="682" y="1283"/>
                  </a:lnTo>
                  <a:lnTo>
                    <a:pt x="764" y="1286"/>
                  </a:lnTo>
                  <a:lnTo>
                    <a:pt x="844" y="1286"/>
                  </a:lnTo>
                  <a:lnTo>
                    <a:pt x="943" y="1286"/>
                  </a:lnTo>
                  <a:lnTo>
                    <a:pt x="1015" y="1273"/>
                  </a:lnTo>
                  <a:lnTo>
                    <a:pt x="1079" y="1260"/>
                  </a:lnTo>
                  <a:lnTo>
                    <a:pt x="1152" y="1229"/>
                  </a:lnTo>
                  <a:lnTo>
                    <a:pt x="1213" y="1201"/>
                  </a:lnTo>
                  <a:lnTo>
                    <a:pt x="1254" y="1153"/>
                  </a:lnTo>
                  <a:lnTo>
                    <a:pt x="1296" y="1108"/>
                  </a:lnTo>
                  <a:lnTo>
                    <a:pt x="1319" y="1066"/>
                  </a:lnTo>
                  <a:lnTo>
                    <a:pt x="1323" y="992"/>
                  </a:lnTo>
                  <a:lnTo>
                    <a:pt x="1323" y="916"/>
                  </a:lnTo>
                  <a:lnTo>
                    <a:pt x="1323" y="863"/>
                  </a:lnTo>
                  <a:lnTo>
                    <a:pt x="1306" y="813"/>
                  </a:lnTo>
                  <a:lnTo>
                    <a:pt x="1300" y="777"/>
                  </a:lnTo>
                  <a:lnTo>
                    <a:pt x="1279" y="731"/>
                  </a:lnTo>
                  <a:lnTo>
                    <a:pt x="1273" y="688"/>
                  </a:lnTo>
                  <a:lnTo>
                    <a:pt x="1270" y="631"/>
                  </a:lnTo>
                  <a:lnTo>
                    <a:pt x="1283" y="602"/>
                  </a:lnTo>
                  <a:lnTo>
                    <a:pt x="1300" y="585"/>
                  </a:lnTo>
                  <a:lnTo>
                    <a:pt x="1327" y="572"/>
                  </a:lnTo>
                  <a:lnTo>
                    <a:pt x="1359" y="557"/>
                  </a:lnTo>
                  <a:lnTo>
                    <a:pt x="1389" y="540"/>
                  </a:lnTo>
                  <a:lnTo>
                    <a:pt x="1429" y="532"/>
                  </a:lnTo>
                  <a:lnTo>
                    <a:pt x="1475" y="530"/>
                  </a:lnTo>
                  <a:lnTo>
                    <a:pt x="1530" y="530"/>
                  </a:lnTo>
                  <a:lnTo>
                    <a:pt x="1568" y="526"/>
                  </a:lnTo>
                  <a:lnTo>
                    <a:pt x="1614" y="515"/>
                  </a:lnTo>
                  <a:lnTo>
                    <a:pt x="1673" y="486"/>
                  </a:lnTo>
                  <a:lnTo>
                    <a:pt x="1722" y="439"/>
                  </a:lnTo>
                  <a:lnTo>
                    <a:pt x="1770" y="380"/>
                  </a:lnTo>
                  <a:lnTo>
                    <a:pt x="1815" y="308"/>
                  </a:lnTo>
                  <a:lnTo>
                    <a:pt x="1840" y="249"/>
                  </a:lnTo>
                  <a:lnTo>
                    <a:pt x="1868" y="195"/>
                  </a:lnTo>
                  <a:lnTo>
                    <a:pt x="1872" y="156"/>
                  </a:lnTo>
                  <a:lnTo>
                    <a:pt x="1874" y="125"/>
                  </a:lnTo>
                  <a:lnTo>
                    <a:pt x="1882" y="89"/>
                  </a:lnTo>
                  <a:lnTo>
                    <a:pt x="1887" y="49"/>
                  </a:lnTo>
                  <a:lnTo>
                    <a:pt x="1901" y="0"/>
                  </a:lnTo>
                  <a:lnTo>
                    <a:pt x="1914" y="0"/>
                  </a:lnTo>
                  <a:lnTo>
                    <a:pt x="1905" y="45"/>
                  </a:lnTo>
                  <a:lnTo>
                    <a:pt x="1901" y="95"/>
                  </a:lnTo>
                  <a:lnTo>
                    <a:pt x="1895" y="156"/>
                  </a:lnTo>
                  <a:lnTo>
                    <a:pt x="1882" y="209"/>
                  </a:lnTo>
                  <a:lnTo>
                    <a:pt x="1859" y="264"/>
                  </a:lnTo>
                  <a:lnTo>
                    <a:pt x="1842" y="298"/>
                  </a:lnTo>
                  <a:lnTo>
                    <a:pt x="1832" y="321"/>
                  </a:lnTo>
                  <a:lnTo>
                    <a:pt x="1809" y="355"/>
                  </a:lnTo>
                  <a:lnTo>
                    <a:pt x="1756" y="429"/>
                  </a:lnTo>
                  <a:lnTo>
                    <a:pt x="1699" y="486"/>
                  </a:lnTo>
                  <a:lnTo>
                    <a:pt x="1650" y="519"/>
                  </a:lnTo>
                  <a:lnTo>
                    <a:pt x="1610" y="536"/>
                  </a:lnTo>
                  <a:lnTo>
                    <a:pt x="1578" y="540"/>
                  </a:lnTo>
                  <a:lnTo>
                    <a:pt x="1515" y="545"/>
                  </a:lnTo>
                  <a:lnTo>
                    <a:pt x="1479" y="545"/>
                  </a:lnTo>
                  <a:lnTo>
                    <a:pt x="1431" y="549"/>
                  </a:lnTo>
                  <a:lnTo>
                    <a:pt x="1389" y="562"/>
                  </a:lnTo>
                  <a:lnTo>
                    <a:pt x="1344" y="579"/>
                  </a:lnTo>
                  <a:lnTo>
                    <a:pt x="1310" y="598"/>
                  </a:lnTo>
                  <a:lnTo>
                    <a:pt x="1292" y="629"/>
                  </a:lnTo>
                  <a:lnTo>
                    <a:pt x="1292" y="669"/>
                  </a:lnTo>
                  <a:lnTo>
                    <a:pt x="1296" y="722"/>
                  </a:lnTo>
                  <a:lnTo>
                    <a:pt x="1310" y="754"/>
                  </a:lnTo>
                  <a:lnTo>
                    <a:pt x="1317" y="787"/>
                  </a:lnTo>
                  <a:lnTo>
                    <a:pt x="1323" y="827"/>
                  </a:lnTo>
                  <a:lnTo>
                    <a:pt x="1340" y="884"/>
                  </a:lnTo>
                  <a:lnTo>
                    <a:pt x="1344" y="946"/>
                  </a:lnTo>
                  <a:lnTo>
                    <a:pt x="1340" y="1018"/>
                  </a:lnTo>
                  <a:lnTo>
                    <a:pt x="1336" y="1070"/>
                  </a:lnTo>
                  <a:lnTo>
                    <a:pt x="1319" y="1108"/>
                  </a:lnTo>
                  <a:lnTo>
                    <a:pt x="1296" y="1142"/>
                  </a:lnTo>
                  <a:lnTo>
                    <a:pt x="1264" y="1180"/>
                  </a:lnTo>
                  <a:lnTo>
                    <a:pt x="1232" y="1222"/>
                  </a:lnTo>
                  <a:lnTo>
                    <a:pt x="1197" y="1233"/>
                  </a:lnTo>
                  <a:lnTo>
                    <a:pt x="1154" y="1254"/>
                  </a:lnTo>
                  <a:lnTo>
                    <a:pt x="1108" y="1267"/>
                  </a:lnTo>
                  <a:lnTo>
                    <a:pt x="1060" y="1281"/>
                  </a:lnTo>
                  <a:lnTo>
                    <a:pt x="988" y="1298"/>
                  </a:lnTo>
                  <a:lnTo>
                    <a:pt x="920" y="1304"/>
                  </a:lnTo>
                  <a:lnTo>
                    <a:pt x="844" y="1304"/>
                  </a:lnTo>
                  <a:lnTo>
                    <a:pt x="804" y="1309"/>
                  </a:lnTo>
                  <a:lnTo>
                    <a:pt x="762" y="1307"/>
                  </a:lnTo>
                  <a:lnTo>
                    <a:pt x="720" y="1307"/>
                  </a:lnTo>
                  <a:lnTo>
                    <a:pt x="671" y="1300"/>
                  </a:lnTo>
                  <a:lnTo>
                    <a:pt x="625" y="1283"/>
                  </a:lnTo>
                  <a:lnTo>
                    <a:pt x="572" y="1267"/>
                  </a:lnTo>
                  <a:lnTo>
                    <a:pt x="509" y="1256"/>
                  </a:lnTo>
                  <a:lnTo>
                    <a:pt x="446" y="1256"/>
                  </a:lnTo>
                  <a:lnTo>
                    <a:pt x="380" y="1267"/>
                  </a:lnTo>
                  <a:lnTo>
                    <a:pt x="340" y="1283"/>
                  </a:lnTo>
                  <a:lnTo>
                    <a:pt x="302" y="1298"/>
                  </a:lnTo>
                  <a:lnTo>
                    <a:pt x="262" y="1309"/>
                  </a:lnTo>
                  <a:lnTo>
                    <a:pt x="203" y="1330"/>
                  </a:lnTo>
                  <a:lnTo>
                    <a:pt x="169" y="1370"/>
                  </a:lnTo>
                  <a:lnTo>
                    <a:pt x="146" y="1393"/>
                  </a:lnTo>
                  <a:lnTo>
                    <a:pt x="100" y="1448"/>
                  </a:lnTo>
                  <a:lnTo>
                    <a:pt x="66" y="1509"/>
                  </a:lnTo>
                  <a:lnTo>
                    <a:pt x="34" y="1589"/>
                  </a:lnTo>
                  <a:lnTo>
                    <a:pt x="26" y="1634"/>
                  </a:lnTo>
                  <a:lnTo>
                    <a:pt x="23" y="1693"/>
                  </a:lnTo>
                  <a:lnTo>
                    <a:pt x="17" y="1750"/>
                  </a:lnTo>
                  <a:lnTo>
                    <a:pt x="26" y="1794"/>
                  </a:lnTo>
                  <a:lnTo>
                    <a:pt x="43" y="1847"/>
                  </a:lnTo>
                  <a:lnTo>
                    <a:pt x="53" y="1902"/>
                  </a:lnTo>
                  <a:lnTo>
                    <a:pt x="61" y="1946"/>
                  </a:lnTo>
                  <a:lnTo>
                    <a:pt x="70" y="1992"/>
                  </a:lnTo>
                  <a:lnTo>
                    <a:pt x="97" y="2022"/>
                  </a:lnTo>
                  <a:lnTo>
                    <a:pt x="129" y="2062"/>
                  </a:lnTo>
                  <a:lnTo>
                    <a:pt x="112" y="2071"/>
                  </a:lnTo>
                  <a:lnTo>
                    <a:pt x="112" y="20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82920" y="4536000"/>
              <a:ext cx="1042920" cy="795600"/>
            </a:xfrm>
            <a:custGeom>
              <a:avLst/>
              <a:gdLst/>
              <a:ahLst/>
              <a:rect l="l" t="t" r="r" b="b"/>
              <a:pathLst>
                <a:path w="1433" h="954">
                  <a:moveTo>
                    <a:pt x="1418" y="4"/>
                  </a:moveTo>
                  <a:lnTo>
                    <a:pt x="1414" y="34"/>
                  </a:lnTo>
                  <a:lnTo>
                    <a:pt x="1410" y="57"/>
                  </a:lnTo>
                  <a:lnTo>
                    <a:pt x="1388" y="99"/>
                  </a:lnTo>
                  <a:lnTo>
                    <a:pt x="1365" y="152"/>
                  </a:lnTo>
                  <a:lnTo>
                    <a:pt x="1342" y="177"/>
                  </a:lnTo>
                  <a:lnTo>
                    <a:pt x="1321" y="226"/>
                  </a:lnTo>
                  <a:lnTo>
                    <a:pt x="1296" y="259"/>
                  </a:lnTo>
                  <a:lnTo>
                    <a:pt x="1276" y="293"/>
                  </a:lnTo>
                  <a:lnTo>
                    <a:pt x="1239" y="321"/>
                  </a:lnTo>
                  <a:lnTo>
                    <a:pt x="1205" y="348"/>
                  </a:lnTo>
                  <a:lnTo>
                    <a:pt x="1154" y="378"/>
                  </a:lnTo>
                  <a:lnTo>
                    <a:pt x="1112" y="394"/>
                  </a:lnTo>
                  <a:lnTo>
                    <a:pt x="1080" y="397"/>
                  </a:lnTo>
                  <a:lnTo>
                    <a:pt x="1028" y="394"/>
                  </a:lnTo>
                  <a:lnTo>
                    <a:pt x="981" y="397"/>
                  </a:lnTo>
                  <a:lnTo>
                    <a:pt x="949" y="394"/>
                  </a:lnTo>
                  <a:lnTo>
                    <a:pt x="892" y="397"/>
                  </a:lnTo>
                  <a:lnTo>
                    <a:pt x="848" y="401"/>
                  </a:lnTo>
                  <a:lnTo>
                    <a:pt x="825" y="414"/>
                  </a:lnTo>
                  <a:lnTo>
                    <a:pt x="798" y="428"/>
                  </a:lnTo>
                  <a:lnTo>
                    <a:pt x="760" y="441"/>
                  </a:lnTo>
                  <a:lnTo>
                    <a:pt x="722" y="470"/>
                  </a:lnTo>
                  <a:lnTo>
                    <a:pt x="696" y="494"/>
                  </a:lnTo>
                  <a:lnTo>
                    <a:pt x="688" y="513"/>
                  </a:lnTo>
                  <a:lnTo>
                    <a:pt x="681" y="553"/>
                  </a:lnTo>
                  <a:lnTo>
                    <a:pt x="677" y="584"/>
                  </a:lnTo>
                  <a:lnTo>
                    <a:pt x="673" y="616"/>
                  </a:lnTo>
                  <a:lnTo>
                    <a:pt x="669" y="654"/>
                  </a:lnTo>
                  <a:lnTo>
                    <a:pt x="661" y="681"/>
                  </a:lnTo>
                  <a:lnTo>
                    <a:pt x="646" y="709"/>
                  </a:lnTo>
                  <a:lnTo>
                    <a:pt x="635" y="745"/>
                  </a:lnTo>
                  <a:lnTo>
                    <a:pt x="618" y="772"/>
                  </a:lnTo>
                  <a:lnTo>
                    <a:pt x="578" y="802"/>
                  </a:lnTo>
                  <a:lnTo>
                    <a:pt x="515" y="825"/>
                  </a:lnTo>
                  <a:lnTo>
                    <a:pt x="485" y="848"/>
                  </a:lnTo>
                  <a:lnTo>
                    <a:pt x="426" y="861"/>
                  </a:lnTo>
                  <a:lnTo>
                    <a:pt x="373" y="871"/>
                  </a:lnTo>
                  <a:lnTo>
                    <a:pt x="314" y="888"/>
                  </a:lnTo>
                  <a:lnTo>
                    <a:pt x="270" y="893"/>
                  </a:lnTo>
                  <a:lnTo>
                    <a:pt x="220" y="905"/>
                  </a:lnTo>
                  <a:lnTo>
                    <a:pt x="175" y="911"/>
                  </a:lnTo>
                  <a:lnTo>
                    <a:pt x="127" y="920"/>
                  </a:lnTo>
                  <a:lnTo>
                    <a:pt x="91" y="920"/>
                  </a:lnTo>
                  <a:lnTo>
                    <a:pt x="65" y="924"/>
                  </a:lnTo>
                  <a:lnTo>
                    <a:pt x="19" y="935"/>
                  </a:lnTo>
                  <a:lnTo>
                    <a:pt x="0" y="937"/>
                  </a:lnTo>
                  <a:lnTo>
                    <a:pt x="2" y="954"/>
                  </a:lnTo>
                  <a:lnTo>
                    <a:pt x="46" y="945"/>
                  </a:lnTo>
                  <a:lnTo>
                    <a:pt x="80" y="941"/>
                  </a:lnTo>
                  <a:lnTo>
                    <a:pt x="108" y="941"/>
                  </a:lnTo>
                  <a:lnTo>
                    <a:pt x="154" y="937"/>
                  </a:lnTo>
                  <a:lnTo>
                    <a:pt x="190" y="924"/>
                  </a:lnTo>
                  <a:lnTo>
                    <a:pt x="251" y="914"/>
                  </a:lnTo>
                  <a:lnTo>
                    <a:pt x="310" y="911"/>
                  </a:lnTo>
                  <a:lnTo>
                    <a:pt x="359" y="897"/>
                  </a:lnTo>
                  <a:lnTo>
                    <a:pt x="399" y="884"/>
                  </a:lnTo>
                  <a:lnTo>
                    <a:pt x="445" y="878"/>
                  </a:lnTo>
                  <a:lnTo>
                    <a:pt x="504" y="855"/>
                  </a:lnTo>
                  <a:lnTo>
                    <a:pt x="546" y="825"/>
                  </a:lnTo>
                  <a:lnTo>
                    <a:pt x="595" y="815"/>
                  </a:lnTo>
                  <a:lnTo>
                    <a:pt x="614" y="791"/>
                  </a:lnTo>
                  <a:lnTo>
                    <a:pt x="637" y="776"/>
                  </a:lnTo>
                  <a:lnTo>
                    <a:pt x="661" y="745"/>
                  </a:lnTo>
                  <a:lnTo>
                    <a:pt x="667" y="713"/>
                  </a:lnTo>
                  <a:lnTo>
                    <a:pt x="684" y="673"/>
                  </a:lnTo>
                  <a:lnTo>
                    <a:pt x="694" y="629"/>
                  </a:lnTo>
                  <a:lnTo>
                    <a:pt x="694" y="593"/>
                  </a:lnTo>
                  <a:lnTo>
                    <a:pt x="696" y="549"/>
                  </a:lnTo>
                  <a:lnTo>
                    <a:pt x="700" y="521"/>
                  </a:lnTo>
                  <a:lnTo>
                    <a:pt x="722" y="490"/>
                  </a:lnTo>
                  <a:lnTo>
                    <a:pt x="762" y="462"/>
                  </a:lnTo>
                  <a:lnTo>
                    <a:pt x="793" y="445"/>
                  </a:lnTo>
                  <a:lnTo>
                    <a:pt x="821" y="435"/>
                  </a:lnTo>
                  <a:lnTo>
                    <a:pt x="842" y="420"/>
                  </a:lnTo>
                  <a:lnTo>
                    <a:pt x="874" y="414"/>
                  </a:lnTo>
                  <a:lnTo>
                    <a:pt x="928" y="413"/>
                  </a:lnTo>
                  <a:lnTo>
                    <a:pt x="990" y="413"/>
                  </a:lnTo>
                  <a:lnTo>
                    <a:pt x="1040" y="413"/>
                  </a:lnTo>
                  <a:lnTo>
                    <a:pt x="1078" y="413"/>
                  </a:lnTo>
                  <a:lnTo>
                    <a:pt x="1127" y="409"/>
                  </a:lnTo>
                  <a:lnTo>
                    <a:pt x="1154" y="394"/>
                  </a:lnTo>
                  <a:lnTo>
                    <a:pt x="1186" y="378"/>
                  </a:lnTo>
                  <a:lnTo>
                    <a:pt x="1243" y="337"/>
                  </a:lnTo>
                  <a:lnTo>
                    <a:pt x="1276" y="312"/>
                  </a:lnTo>
                  <a:lnTo>
                    <a:pt x="1308" y="280"/>
                  </a:lnTo>
                  <a:lnTo>
                    <a:pt x="1329" y="253"/>
                  </a:lnTo>
                  <a:lnTo>
                    <a:pt x="1338" y="219"/>
                  </a:lnTo>
                  <a:lnTo>
                    <a:pt x="1361" y="183"/>
                  </a:lnTo>
                  <a:lnTo>
                    <a:pt x="1380" y="150"/>
                  </a:lnTo>
                  <a:lnTo>
                    <a:pt x="1391" y="120"/>
                  </a:lnTo>
                  <a:lnTo>
                    <a:pt x="1414" y="88"/>
                  </a:lnTo>
                  <a:lnTo>
                    <a:pt x="1429" y="53"/>
                  </a:lnTo>
                  <a:lnTo>
                    <a:pt x="1428" y="27"/>
                  </a:lnTo>
                  <a:lnTo>
                    <a:pt x="1433" y="0"/>
                  </a:lnTo>
                  <a:lnTo>
                    <a:pt x="1418" y="4"/>
                  </a:lnTo>
                  <a:lnTo>
                    <a:pt x="14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2920" y="4817160"/>
              <a:ext cx="261720" cy="500400"/>
            </a:xfrm>
            <a:custGeom>
              <a:avLst/>
              <a:gdLst/>
              <a:ahLst/>
              <a:rect l="l" t="t" r="r" b="b"/>
              <a:pathLst>
                <a:path w="359" h="599">
                  <a:moveTo>
                    <a:pt x="19" y="597"/>
                  </a:moveTo>
                  <a:lnTo>
                    <a:pt x="46" y="582"/>
                  </a:lnTo>
                  <a:lnTo>
                    <a:pt x="76" y="567"/>
                  </a:lnTo>
                  <a:lnTo>
                    <a:pt x="108" y="540"/>
                  </a:lnTo>
                  <a:lnTo>
                    <a:pt x="131" y="517"/>
                  </a:lnTo>
                  <a:lnTo>
                    <a:pt x="158" y="502"/>
                  </a:lnTo>
                  <a:lnTo>
                    <a:pt x="184" y="491"/>
                  </a:lnTo>
                  <a:lnTo>
                    <a:pt x="213" y="468"/>
                  </a:lnTo>
                  <a:lnTo>
                    <a:pt x="238" y="447"/>
                  </a:lnTo>
                  <a:lnTo>
                    <a:pt x="257" y="420"/>
                  </a:lnTo>
                  <a:lnTo>
                    <a:pt x="266" y="398"/>
                  </a:lnTo>
                  <a:lnTo>
                    <a:pt x="297" y="384"/>
                  </a:lnTo>
                  <a:lnTo>
                    <a:pt x="310" y="371"/>
                  </a:lnTo>
                  <a:lnTo>
                    <a:pt x="327" y="348"/>
                  </a:lnTo>
                  <a:lnTo>
                    <a:pt x="340" y="327"/>
                  </a:lnTo>
                  <a:lnTo>
                    <a:pt x="346" y="295"/>
                  </a:lnTo>
                  <a:lnTo>
                    <a:pt x="359" y="263"/>
                  </a:lnTo>
                  <a:lnTo>
                    <a:pt x="359" y="238"/>
                  </a:lnTo>
                  <a:lnTo>
                    <a:pt x="355" y="202"/>
                  </a:lnTo>
                  <a:lnTo>
                    <a:pt x="350" y="175"/>
                  </a:lnTo>
                  <a:lnTo>
                    <a:pt x="344" y="143"/>
                  </a:lnTo>
                  <a:lnTo>
                    <a:pt x="317" y="116"/>
                  </a:lnTo>
                  <a:lnTo>
                    <a:pt x="297" y="94"/>
                  </a:lnTo>
                  <a:lnTo>
                    <a:pt x="277" y="76"/>
                  </a:lnTo>
                  <a:lnTo>
                    <a:pt x="220" y="40"/>
                  </a:lnTo>
                  <a:lnTo>
                    <a:pt x="184" y="27"/>
                  </a:lnTo>
                  <a:lnTo>
                    <a:pt x="167" y="21"/>
                  </a:lnTo>
                  <a:lnTo>
                    <a:pt x="144" y="14"/>
                  </a:lnTo>
                  <a:lnTo>
                    <a:pt x="122" y="0"/>
                  </a:lnTo>
                  <a:lnTo>
                    <a:pt x="118" y="25"/>
                  </a:lnTo>
                  <a:lnTo>
                    <a:pt x="144" y="33"/>
                  </a:lnTo>
                  <a:lnTo>
                    <a:pt x="167" y="37"/>
                  </a:lnTo>
                  <a:lnTo>
                    <a:pt x="184" y="48"/>
                  </a:lnTo>
                  <a:lnTo>
                    <a:pt x="203" y="54"/>
                  </a:lnTo>
                  <a:lnTo>
                    <a:pt x="224" y="67"/>
                  </a:lnTo>
                  <a:lnTo>
                    <a:pt x="251" y="80"/>
                  </a:lnTo>
                  <a:lnTo>
                    <a:pt x="274" y="103"/>
                  </a:lnTo>
                  <a:lnTo>
                    <a:pt x="293" y="120"/>
                  </a:lnTo>
                  <a:lnTo>
                    <a:pt x="310" y="143"/>
                  </a:lnTo>
                  <a:lnTo>
                    <a:pt x="327" y="156"/>
                  </a:lnTo>
                  <a:lnTo>
                    <a:pt x="336" y="179"/>
                  </a:lnTo>
                  <a:lnTo>
                    <a:pt x="336" y="206"/>
                  </a:lnTo>
                  <a:lnTo>
                    <a:pt x="340" y="232"/>
                  </a:lnTo>
                  <a:lnTo>
                    <a:pt x="340" y="255"/>
                  </a:lnTo>
                  <a:lnTo>
                    <a:pt x="336" y="286"/>
                  </a:lnTo>
                  <a:lnTo>
                    <a:pt x="327" y="312"/>
                  </a:lnTo>
                  <a:lnTo>
                    <a:pt x="314" y="335"/>
                  </a:lnTo>
                  <a:lnTo>
                    <a:pt x="297" y="362"/>
                  </a:lnTo>
                  <a:lnTo>
                    <a:pt x="283" y="371"/>
                  </a:lnTo>
                  <a:lnTo>
                    <a:pt x="260" y="381"/>
                  </a:lnTo>
                  <a:lnTo>
                    <a:pt x="247" y="398"/>
                  </a:lnTo>
                  <a:lnTo>
                    <a:pt x="230" y="415"/>
                  </a:lnTo>
                  <a:lnTo>
                    <a:pt x="220" y="430"/>
                  </a:lnTo>
                  <a:lnTo>
                    <a:pt x="201" y="447"/>
                  </a:lnTo>
                  <a:lnTo>
                    <a:pt x="184" y="460"/>
                  </a:lnTo>
                  <a:lnTo>
                    <a:pt x="160" y="477"/>
                  </a:lnTo>
                  <a:lnTo>
                    <a:pt x="135" y="495"/>
                  </a:lnTo>
                  <a:lnTo>
                    <a:pt x="114" y="502"/>
                  </a:lnTo>
                  <a:lnTo>
                    <a:pt x="95" y="521"/>
                  </a:lnTo>
                  <a:lnTo>
                    <a:pt x="68" y="540"/>
                  </a:lnTo>
                  <a:lnTo>
                    <a:pt x="46" y="563"/>
                  </a:lnTo>
                  <a:lnTo>
                    <a:pt x="27" y="573"/>
                  </a:lnTo>
                  <a:lnTo>
                    <a:pt x="0" y="599"/>
                  </a:lnTo>
                  <a:lnTo>
                    <a:pt x="19" y="597"/>
                  </a:lnTo>
                  <a:lnTo>
                    <a:pt x="19" y="5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31360" y="4528440"/>
              <a:ext cx="190440" cy="288360"/>
            </a:xfrm>
            <a:custGeom>
              <a:avLst/>
              <a:gdLst/>
              <a:ahLst/>
              <a:rect l="l" t="t" r="r" b="b"/>
              <a:pathLst>
                <a:path w="260" h="347">
                  <a:moveTo>
                    <a:pt x="260" y="325"/>
                  </a:moveTo>
                  <a:lnTo>
                    <a:pt x="226" y="319"/>
                  </a:lnTo>
                  <a:lnTo>
                    <a:pt x="196" y="319"/>
                  </a:lnTo>
                  <a:lnTo>
                    <a:pt x="159" y="304"/>
                  </a:lnTo>
                  <a:lnTo>
                    <a:pt x="137" y="298"/>
                  </a:lnTo>
                  <a:lnTo>
                    <a:pt x="110" y="281"/>
                  </a:lnTo>
                  <a:lnTo>
                    <a:pt x="80" y="268"/>
                  </a:lnTo>
                  <a:lnTo>
                    <a:pt x="64" y="245"/>
                  </a:lnTo>
                  <a:lnTo>
                    <a:pt x="38" y="226"/>
                  </a:lnTo>
                  <a:lnTo>
                    <a:pt x="24" y="199"/>
                  </a:lnTo>
                  <a:lnTo>
                    <a:pt x="21" y="182"/>
                  </a:lnTo>
                  <a:lnTo>
                    <a:pt x="19" y="150"/>
                  </a:lnTo>
                  <a:lnTo>
                    <a:pt x="19" y="116"/>
                  </a:lnTo>
                  <a:lnTo>
                    <a:pt x="26" y="89"/>
                  </a:lnTo>
                  <a:lnTo>
                    <a:pt x="30" y="62"/>
                  </a:lnTo>
                  <a:lnTo>
                    <a:pt x="43" y="36"/>
                  </a:lnTo>
                  <a:lnTo>
                    <a:pt x="76" y="7"/>
                  </a:lnTo>
                  <a:lnTo>
                    <a:pt x="57" y="0"/>
                  </a:lnTo>
                  <a:lnTo>
                    <a:pt x="30" y="21"/>
                  </a:lnTo>
                  <a:lnTo>
                    <a:pt x="15" y="43"/>
                  </a:lnTo>
                  <a:lnTo>
                    <a:pt x="4" y="76"/>
                  </a:lnTo>
                  <a:lnTo>
                    <a:pt x="4" y="102"/>
                  </a:lnTo>
                  <a:lnTo>
                    <a:pt x="0" y="138"/>
                  </a:lnTo>
                  <a:lnTo>
                    <a:pt x="4" y="173"/>
                  </a:lnTo>
                  <a:lnTo>
                    <a:pt x="7" y="209"/>
                  </a:lnTo>
                  <a:lnTo>
                    <a:pt x="21" y="241"/>
                  </a:lnTo>
                  <a:lnTo>
                    <a:pt x="47" y="262"/>
                  </a:lnTo>
                  <a:lnTo>
                    <a:pt x="68" y="289"/>
                  </a:lnTo>
                  <a:lnTo>
                    <a:pt x="97" y="304"/>
                  </a:lnTo>
                  <a:lnTo>
                    <a:pt x="127" y="311"/>
                  </a:lnTo>
                  <a:lnTo>
                    <a:pt x="154" y="321"/>
                  </a:lnTo>
                  <a:lnTo>
                    <a:pt x="180" y="334"/>
                  </a:lnTo>
                  <a:lnTo>
                    <a:pt x="213" y="334"/>
                  </a:lnTo>
                  <a:lnTo>
                    <a:pt x="249" y="347"/>
                  </a:lnTo>
                  <a:lnTo>
                    <a:pt x="260" y="325"/>
                  </a:lnTo>
                  <a:lnTo>
                    <a:pt x="26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72280" y="4675680"/>
              <a:ext cx="224640" cy="19764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6" y="52"/>
                  </a:moveTo>
                  <a:lnTo>
                    <a:pt x="166" y="82"/>
                  </a:lnTo>
                  <a:lnTo>
                    <a:pt x="175" y="0"/>
                  </a:lnTo>
                  <a:lnTo>
                    <a:pt x="221" y="29"/>
                  </a:lnTo>
                  <a:lnTo>
                    <a:pt x="301" y="118"/>
                  </a:lnTo>
                  <a:lnTo>
                    <a:pt x="310" y="154"/>
                  </a:lnTo>
                  <a:lnTo>
                    <a:pt x="221" y="208"/>
                  </a:lnTo>
                  <a:lnTo>
                    <a:pt x="175" y="238"/>
                  </a:lnTo>
                  <a:lnTo>
                    <a:pt x="162" y="154"/>
                  </a:lnTo>
                  <a:lnTo>
                    <a:pt x="99" y="177"/>
                  </a:lnTo>
                  <a:lnTo>
                    <a:pt x="6" y="198"/>
                  </a:lnTo>
                  <a:lnTo>
                    <a:pt x="0" y="139"/>
                  </a:lnTo>
                  <a:lnTo>
                    <a:pt x="0" y="73"/>
                  </a:lnTo>
                  <a:lnTo>
                    <a:pt x="6" y="52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81920" y="4449600"/>
              <a:ext cx="239760" cy="192240"/>
            </a:xfrm>
            <a:custGeom>
              <a:avLst/>
              <a:gdLst/>
              <a:ahLst/>
              <a:rect l="l" t="t" r="r" b="b"/>
              <a:pathLst>
                <a:path w="329" h="230">
                  <a:moveTo>
                    <a:pt x="317" y="58"/>
                  </a:moveTo>
                  <a:lnTo>
                    <a:pt x="213" y="70"/>
                  </a:lnTo>
                  <a:lnTo>
                    <a:pt x="146" y="70"/>
                  </a:lnTo>
                  <a:lnTo>
                    <a:pt x="137" y="0"/>
                  </a:lnTo>
                  <a:lnTo>
                    <a:pt x="0" y="104"/>
                  </a:lnTo>
                  <a:lnTo>
                    <a:pt x="150" y="230"/>
                  </a:lnTo>
                  <a:lnTo>
                    <a:pt x="146" y="161"/>
                  </a:lnTo>
                  <a:lnTo>
                    <a:pt x="329" y="174"/>
                  </a:lnTo>
                  <a:lnTo>
                    <a:pt x="329" y="104"/>
                  </a:lnTo>
                  <a:lnTo>
                    <a:pt x="317" y="58"/>
                  </a:lnTo>
                  <a:lnTo>
                    <a:pt x="317" y="58"/>
                  </a:lnTo>
                  <a:close/>
                </a:path>
              </a:pathLst>
            </a:custGeom>
            <a:solidFill>
              <a:srgbClr val="335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52480" y="4205160"/>
              <a:ext cx="314280" cy="207360"/>
            </a:xfrm>
            <a:custGeom>
              <a:avLst/>
              <a:gdLst/>
              <a:ahLst/>
              <a:rect l="l" t="t" r="r" b="b"/>
              <a:pathLst>
                <a:path w="429" h="249">
                  <a:moveTo>
                    <a:pt x="66" y="0"/>
                  </a:moveTo>
                  <a:lnTo>
                    <a:pt x="26" y="47"/>
                  </a:lnTo>
                  <a:lnTo>
                    <a:pt x="0" y="125"/>
                  </a:lnTo>
                  <a:lnTo>
                    <a:pt x="49" y="125"/>
                  </a:lnTo>
                  <a:lnTo>
                    <a:pt x="205" y="137"/>
                  </a:lnTo>
                  <a:lnTo>
                    <a:pt x="215" y="150"/>
                  </a:lnTo>
                  <a:lnTo>
                    <a:pt x="215" y="199"/>
                  </a:lnTo>
                  <a:lnTo>
                    <a:pt x="211" y="249"/>
                  </a:lnTo>
                  <a:lnTo>
                    <a:pt x="291" y="217"/>
                  </a:lnTo>
                  <a:lnTo>
                    <a:pt x="357" y="186"/>
                  </a:lnTo>
                  <a:lnTo>
                    <a:pt x="429" y="156"/>
                  </a:lnTo>
                  <a:lnTo>
                    <a:pt x="344" y="114"/>
                  </a:lnTo>
                  <a:lnTo>
                    <a:pt x="287" y="61"/>
                  </a:lnTo>
                  <a:lnTo>
                    <a:pt x="255" y="21"/>
                  </a:lnTo>
                  <a:lnTo>
                    <a:pt x="201" y="47"/>
                  </a:lnTo>
                  <a:lnTo>
                    <a:pt x="148" y="3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8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31440" y="3892680"/>
              <a:ext cx="417960" cy="288360"/>
            </a:xfrm>
            <a:custGeom>
              <a:avLst/>
              <a:gdLst/>
              <a:ahLst/>
              <a:rect l="l" t="t" r="r" b="b"/>
              <a:pathLst>
                <a:path w="574" h="346">
                  <a:moveTo>
                    <a:pt x="0" y="145"/>
                  </a:moveTo>
                  <a:lnTo>
                    <a:pt x="49" y="107"/>
                  </a:lnTo>
                  <a:lnTo>
                    <a:pt x="104" y="71"/>
                  </a:lnTo>
                  <a:lnTo>
                    <a:pt x="150" y="42"/>
                  </a:lnTo>
                  <a:lnTo>
                    <a:pt x="224" y="0"/>
                  </a:lnTo>
                  <a:lnTo>
                    <a:pt x="228" y="111"/>
                  </a:lnTo>
                  <a:lnTo>
                    <a:pt x="441" y="124"/>
                  </a:lnTo>
                  <a:lnTo>
                    <a:pt x="572" y="133"/>
                  </a:lnTo>
                  <a:lnTo>
                    <a:pt x="574" y="208"/>
                  </a:lnTo>
                  <a:lnTo>
                    <a:pt x="568" y="257"/>
                  </a:lnTo>
                  <a:lnTo>
                    <a:pt x="298" y="261"/>
                  </a:lnTo>
                  <a:lnTo>
                    <a:pt x="224" y="263"/>
                  </a:lnTo>
                  <a:lnTo>
                    <a:pt x="207" y="346"/>
                  </a:lnTo>
                  <a:lnTo>
                    <a:pt x="150" y="299"/>
                  </a:lnTo>
                  <a:lnTo>
                    <a:pt x="119" y="257"/>
                  </a:lnTo>
                  <a:lnTo>
                    <a:pt x="62" y="198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08640" y="3929400"/>
              <a:ext cx="48240" cy="5832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0" y="70"/>
                  </a:moveTo>
                  <a:lnTo>
                    <a:pt x="4" y="4"/>
                  </a:lnTo>
                  <a:lnTo>
                    <a:pt x="66" y="0"/>
                  </a:lnTo>
                  <a:lnTo>
                    <a:pt x="57" y="67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04680" y="4109040"/>
              <a:ext cx="52200" cy="1188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112"/>
                  </a:moveTo>
                  <a:lnTo>
                    <a:pt x="8" y="84"/>
                  </a:lnTo>
                  <a:lnTo>
                    <a:pt x="4" y="0"/>
                  </a:lnTo>
                  <a:lnTo>
                    <a:pt x="72" y="6"/>
                  </a:lnTo>
                  <a:lnTo>
                    <a:pt x="70" y="68"/>
                  </a:lnTo>
                  <a:lnTo>
                    <a:pt x="67" y="144"/>
                  </a:lnTo>
                  <a:lnTo>
                    <a:pt x="30" y="135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11520" y="4315320"/>
              <a:ext cx="45360" cy="185760"/>
            </a:xfrm>
            <a:custGeom>
              <a:avLst/>
              <a:gdLst/>
              <a:ahLst/>
              <a:rect l="l" t="t" r="r" b="b"/>
              <a:pathLst>
                <a:path w="64" h="222">
                  <a:moveTo>
                    <a:pt x="0" y="218"/>
                  </a:moveTo>
                  <a:lnTo>
                    <a:pt x="0" y="165"/>
                  </a:lnTo>
                  <a:lnTo>
                    <a:pt x="0" y="12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2" y="76"/>
                  </a:lnTo>
                  <a:lnTo>
                    <a:pt x="62" y="129"/>
                  </a:lnTo>
                  <a:lnTo>
                    <a:pt x="59" y="222"/>
                  </a:lnTo>
                  <a:lnTo>
                    <a:pt x="0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04680" y="4590000"/>
              <a:ext cx="58680" cy="14688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0" y="154"/>
                  </a:moveTo>
                  <a:lnTo>
                    <a:pt x="21" y="85"/>
                  </a:lnTo>
                  <a:lnTo>
                    <a:pt x="8" y="0"/>
                  </a:lnTo>
                  <a:lnTo>
                    <a:pt x="80" y="0"/>
                  </a:lnTo>
                  <a:lnTo>
                    <a:pt x="67" y="64"/>
                  </a:lnTo>
                  <a:lnTo>
                    <a:pt x="65" y="125"/>
                  </a:lnTo>
                  <a:lnTo>
                    <a:pt x="67" y="175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04680" y="4821480"/>
              <a:ext cx="61920" cy="399600"/>
            </a:xfrm>
            <a:custGeom>
              <a:avLst/>
              <a:gdLst/>
              <a:ahLst/>
              <a:rect l="l" t="t" r="r" b="b"/>
              <a:pathLst>
                <a:path w="84" h="479">
                  <a:moveTo>
                    <a:pt x="0" y="473"/>
                  </a:moveTo>
                  <a:lnTo>
                    <a:pt x="0" y="388"/>
                  </a:lnTo>
                  <a:lnTo>
                    <a:pt x="11" y="179"/>
                  </a:lnTo>
                  <a:lnTo>
                    <a:pt x="4" y="17"/>
                  </a:lnTo>
                  <a:lnTo>
                    <a:pt x="80" y="0"/>
                  </a:lnTo>
                  <a:lnTo>
                    <a:pt x="84" y="99"/>
                  </a:lnTo>
                  <a:lnTo>
                    <a:pt x="67" y="169"/>
                  </a:lnTo>
                  <a:lnTo>
                    <a:pt x="70" y="301"/>
                  </a:lnTo>
                  <a:lnTo>
                    <a:pt x="70" y="392"/>
                  </a:lnTo>
                  <a:lnTo>
                    <a:pt x="72" y="479"/>
                  </a:lnTo>
                  <a:lnTo>
                    <a:pt x="0" y="47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21720" y="3880440"/>
              <a:ext cx="433440" cy="326520"/>
            </a:xfrm>
            <a:custGeom>
              <a:avLst/>
              <a:gdLst/>
              <a:ahLst/>
              <a:rect l="l" t="t" r="r" b="b"/>
              <a:pathLst>
                <a:path w="595" h="394">
                  <a:moveTo>
                    <a:pt x="595" y="139"/>
                  </a:moveTo>
                  <a:lnTo>
                    <a:pt x="555" y="137"/>
                  </a:lnTo>
                  <a:lnTo>
                    <a:pt x="527" y="137"/>
                  </a:lnTo>
                  <a:lnTo>
                    <a:pt x="489" y="133"/>
                  </a:lnTo>
                  <a:lnTo>
                    <a:pt x="443" y="129"/>
                  </a:lnTo>
                  <a:lnTo>
                    <a:pt x="411" y="126"/>
                  </a:lnTo>
                  <a:lnTo>
                    <a:pt x="371" y="126"/>
                  </a:lnTo>
                  <a:lnTo>
                    <a:pt x="335" y="122"/>
                  </a:lnTo>
                  <a:lnTo>
                    <a:pt x="301" y="118"/>
                  </a:lnTo>
                  <a:lnTo>
                    <a:pt x="285" y="118"/>
                  </a:lnTo>
                  <a:lnTo>
                    <a:pt x="255" y="118"/>
                  </a:lnTo>
                  <a:lnTo>
                    <a:pt x="251" y="99"/>
                  </a:lnTo>
                  <a:lnTo>
                    <a:pt x="251" y="76"/>
                  </a:lnTo>
                  <a:lnTo>
                    <a:pt x="251" y="53"/>
                  </a:lnTo>
                  <a:lnTo>
                    <a:pt x="251" y="23"/>
                  </a:lnTo>
                  <a:lnTo>
                    <a:pt x="251" y="0"/>
                  </a:lnTo>
                  <a:lnTo>
                    <a:pt x="232" y="4"/>
                  </a:lnTo>
                  <a:lnTo>
                    <a:pt x="202" y="23"/>
                  </a:lnTo>
                  <a:lnTo>
                    <a:pt x="179" y="36"/>
                  </a:lnTo>
                  <a:lnTo>
                    <a:pt x="149" y="57"/>
                  </a:lnTo>
                  <a:lnTo>
                    <a:pt x="130" y="63"/>
                  </a:lnTo>
                  <a:lnTo>
                    <a:pt x="103" y="90"/>
                  </a:lnTo>
                  <a:lnTo>
                    <a:pt x="76" y="103"/>
                  </a:lnTo>
                  <a:lnTo>
                    <a:pt x="46" y="126"/>
                  </a:lnTo>
                  <a:lnTo>
                    <a:pt x="14" y="148"/>
                  </a:lnTo>
                  <a:lnTo>
                    <a:pt x="0" y="162"/>
                  </a:lnTo>
                  <a:lnTo>
                    <a:pt x="44" y="196"/>
                  </a:lnTo>
                  <a:lnTo>
                    <a:pt x="84" y="236"/>
                  </a:lnTo>
                  <a:lnTo>
                    <a:pt x="126" y="278"/>
                  </a:lnTo>
                  <a:lnTo>
                    <a:pt x="156" y="325"/>
                  </a:lnTo>
                  <a:lnTo>
                    <a:pt x="189" y="356"/>
                  </a:lnTo>
                  <a:lnTo>
                    <a:pt x="228" y="394"/>
                  </a:lnTo>
                  <a:lnTo>
                    <a:pt x="238" y="363"/>
                  </a:lnTo>
                  <a:lnTo>
                    <a:pt x="238" y="321"/>
                  </a:lnTo>
                  <a:lnTo>
                    <a:pt x="244" y="291"/>
                  </a:lnTo>
                  <a:lnTo>
                    <a:pt x="274" y="285"/>
                  </a:lnTo>
                  <a:lnTo>
                    <a:pt x="318" y="285"/>
                  </a:lnTo>
                  <a:lnTo>
                    <a:pt x="371" y="282"/>
                  </a:lnTo>
                  <a:lnTo>
                    <a:pt x="420" y="282"/>
                  </a:lnTo>
                  <a:lnTo>
                    <a:pt x="474" y="285"/>
                  </a:lnTo>
                  <a:lnTo>
                    <a:pt x="512" y="285"/>
                  </a:lnTo>
                  <a:lnTo>
                    <a:pt x="546" y="285"/>
                  </a:lnTo>
                  <a:lnTo>
                    <a:pt x="592" y="282"/>
                  </a:lnTo>
                  <a:lnTo>
                    <a:pt x="592" y="261"/>
                  </a:lnTo>
                  <a:lnTo>
                    <a:pt x="546" y="264"/>
                  </a:lnTo>
                  <a:lnTo>
                    <a:pt x="500" y="268"/>
                  </a:lnTo>
                  <a:lnTo>
                    <a:pt x="470" y="268"/>
                  </a:lnTo>
                  <a:lnTo>
                    <a:pt x="420" y="264"/>
                  </a:lnTo>
                  <a:lnTo>
                    <a:pt x="367" y="264"/>
                  </a:lnTo>
                  <a:lnTo>
                    <a:pt x="331" y="268"/>
                  </a:lnTo>
                  <a:lnTo>
                    <a:pt x="282" y="268"/>
                  </a:lnTo>
                  <a:lnTo>
                    <a:pt x="228" y="268"/>
                  </a:lnTo>
                  <a:lnTo>
                    <a:pt x="221" y="312"/>
                  </a:lnTo>
                  <a:lnTo>
                    <a:pt x="219" y="344"/>
                  </a:lnTo>
                  <a:lnTo>
                    <a:pt x="189" y="329"/>
                  </a:lnTo>
                  <a:lnTo>
                    <a:pt x="166" y="304"/>
                  </a:lnTo>
                  <a:lnTo>
                    <a:pt x="145" y="278"/>
                  </a:lnTo>
                  <a:lnTo>
                    <a:pt x="133" y="255"/>
                  </a:lnTo>
                  <a:lnTo>
                    <a:pt x="107" y="228"/>
                  </a:lnTo>
                  <a:lnTo>
                    <a:pt x="80" y="205"/>
                  </a:lnTo>
                  <a:lnTo>
                    <a:pt x="54" y="183"/>
                  </a:lnTo>
                  <a:lnTo>
                    <a:pt x="27" y="162"/>
                  </a:lnTo>
                  <a:lnTo>
                    <a:pt x="50" y="143"/>
                  </a:lnTo>
                  <a:lnTo>
                    <a:pt x="86" y="122"/>
                  </a:lnTo>
                  <a:lnTo>
                    <a:pt x="112" y="99"/>
                  </a:lnTo>
                  <a:lnTo>
                    <a:pt x="149" y="72"/>
                  </a:lnTo>
                  <a:lnTo>
                    <a:pt x="189" y="59"/>
                  </a:lnTo>
                  <a:lnTo>
                    <a:pt x="225" y="34"/>
                  </a:lnTo>
                  <a:lnTo>
                    <a:pt x="225" y="50"/>
                  </a:lnTo>
                  <a:lnTo>
                    <a:pt x="232" y="76"/>
                  </a:lnTo>
                  <a:lnTo>
                    <a:pt x="232" y="107"/>
                  </a:lnTo>
                  <a:lnTo>
                    <a:pt x="228" y="129"/>
                  </a:lnTo>
                  <a:lnTo>
                    <a:pt x="255" y="139"/>
                  </a:lnTo>
                  <a:lnTo>
                    <a:pt x="301" y="143"/>
                  </a:lnTo>
                  <a:lnTo>
                    <a:pt x="361" y="148"/>
                  </a:lnTo>
                  <a:lnTo>
                    <a:pt x="413" y="145"/>
                  </a:lnTo>
                  <a:lnTo>
                    <a:pt x="479" y="148"/>
                  </a:lnTo>
                  <a:lnTo>
                    <a:pt x="527" y="156"/>
                  </a:lnTo>
                  <a:lnTo>
                    <a:pt x="576" y="156"/>
                  </a:lnTo>
                  <a:lnTo>
                    <a:pt x="595" y="139"/>
                  </a:lnTo>
                  <a:lnTo>
                    <a:pt x="595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38240" y="3996360"/>
              <a:ext cx="19800" cy="112320"/>
            </a:xfrm>
            <a:custGeom>
              <a:avLst/>
              <a:gdLst/>
              <a:ahLst/>
              <a:rect l="l" t="t" r="r" b="b"/>
              <a:pathLst>
                <a:path w="26" h="133">
                  <a:moveTo>
                    <a:pt x="22" y="0"/>
                  </a:moveTo>
                  <a:lnTo>
                    <a:pt x="22" y="30"/>
                  </a:lnTo>
                  <a:lnTo>
                    <a:pt x="26" y="84"/>
                  </a:lnTo>
                  <a:lnTo>
                    <a:pt x="26" y="97"/>
                  </a:lnTo>
                  <a:lnTo>
                    <a:pt x="19" y="122"/>
                  </a:lnTo>
                  <a:lnTo>
                    <a:pt x="9" y="133"/>
                  </a:lnTo>
                  <a:lnTo>
                    <a:pt x="3" y="116"/>
                  </a:lnTo>
                  <a:lnTo>
                    <a:pt x="7" y="85"/>
                  </a:lnTo>
                  <a:lnTo>
                    <a:pt x="7" y="57"/>
                  </a:lnTo>
                  <a:lnTo>
                    <a:pt x="3" y="17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37360" y="4183560"/>
              <a:ext cx="347400" cy="241920"/>
            </a:xfrm>
            <a:custGeom>
              <a:avLst/>
              <a:gdLst/>
              <a:ahLst/>
              <a:rect l="l" t="t" r="r" b="b"/>
              <a:pathLst>
                <a:path w="477" h="293">
                  <a:moveTo>
                    <a:pt x="74" y="0"/>
                  </a:moveTo>
                  <a:lnTo>
                    <a:pt x="97" y="8"/>
                  </a:lnTo>
                  <a:lnTo>
                    <a:pt x="139" y="44"/>
                  </a:lnTo>
                  <a:lnTo>
                    <a:pt x="177" y="48"/>
                  </a:lnTo>
                  <a:lnTo>
                    <a:pt x="213" y="69"/>
                  </a:lnTo>
                  <a:lnTo>
                    <a:pt x="232" y="61"/>
                  </a:lnTo>
                  <a:lnTo>
                    <a:pt x="241" y="48"/>
                  </a:lnTo>
                  <a:lnTo>
                    <a:pt x="262" y="31"/>
                  </a:lnTo>
                  <a:lnTo>
                    <a:pt x="276" y="15"/>
                  </a:lnTo>
                  <a:lnTo>
                    <a:pt x="295" y="42"/>
                  </a:lnTo>
                  <a:lnTo>
                    <a:pt x="306" y="65"/>
                  </a:lnTo>
                  <a:lnTo>
                    <a:pt x="342" y="88"/>
                  </a:lnTo>
                  <a:lnTo>
                    <a:pt x="357" y="114"/>
                  </a:lnTo>
                  <a:lnTo>
                    <a:pt x="388" y="141"/>
                  </a:lnTo>
                  <a:lnTo>
                    <a:pt x="424" y="160"/>
                  </a:lnTo>
                  <a:lnTo>
                    <a:pt x="448" y="173"/>
                  </a:lnTo>
                  <a:lnTo>
                    <a:pt x="477" y="190"/>
                  </a:lnTo>
                  <a:lnTo>
                    <a:pt x="437" y="204"/>
                  </a:lnTo>
                  <a:lnTo>
                    <a:pt x="397" y="209"/>
                  </a:lnTo>
                  <a:lnTo>
                    <a:pt x="361" y="232"/>
                  </a:lnTo>
                  <a:lnTo>
                    <a:pt x="325" y="253"/>
                  </a:lnTo>
                  <a:lnTo>
                    <a:pt x="302" y="263"/>
                  </a:lnTo>
                  <a:lnTo>
                    <a:pt x="256" y="276"/>
                  </a:lnTo>
                  <a:lnTo>
                    <a:pt x="218" y="293"/>
                  </a:lnTo>
                  <a:lnTo>
                    <a:pt x="222" y="253"/>
                  </a:lnTo>
                  <a:lnTo>
                    <a:pt x="226" y="209"/>
                  </a:lnTo>
                  <a:lnTo>
                    <a:pt x="230" y="183"/>
                  </a:lnTo>
                  <a:lnTo>
                    <a:pt x="215" y="177"/>
                  </a:lnTo>
                  <a:lnTo>
                    <a:pt x="177" y="169"/>
                  </a:lnTo>
                  <a:lnTo>
                    <a:pt x="142" y="168"/>
                  </a:lnTo>
                  <a:lnTo>
                    <a:pt x="110" y="168"/>
                  </a:lnTo>
                  <a:lnTo>
                    <a:pt x="61" y="168"/>
                  </a:lnTo>
                  <a:lnTo>
                    <a:pt x="21" y="168"/>
                  </a:lnTo>
                  <a:lnTo>
                    <a:pt x="0" y="169"/>
                  </a:lnTo>
                  <a:lnTo>
                    <a:pt x="4" y="145"/>
                  </a:lnTo>
                  <a:lnTo>
                    <a:pt x="44" y="145"/>
                  </a:lnTo>
                  <a:lnTo>
                    <a:pt x="78" y="145"/>
                  </a:lnTo>
                  <a:lnTo>
                    <a:pt x="106" y="145"/>
                  </a:lnTo>
                  <a:lnTo>
                    <a:pt x="165" y="147"/>
                  </a:lnTo>
                  <a:lnTo>
                    <a:pt x="209" y="150"/>
                  </a:lnTo>
                  <a:lnTo>
                    <a:pt x="232" y="156"/>
                  </a:lnTo>
                  <a:lnTo>
                    <a:pt x="262" y="168"/>
                  </a:lnTo>
                  <a:lnTo>
                    <a:pt x="245" y="190"/>
                  </a:lnTo>
                  <a:lnTo>
                    <a:pt x="245" y="223"/>
                  </a:lnTo>
                  <a:lnTo>
                    <a:pt x="239" y="257"/>
                  </a:lnTo>
                  <a:lnTo>
                    <a:pt x="279" y="244"/>
                  </a:lnTo>
                  <a:lnTo>
                    <a:pt x="317" y="223"/>
                  </a:lnTo>
                  <a:lnTo>
                    <a:pt x="344" y="209"/>
                  </a:lnTo>
                  <a:lnTo>
                    <a:pt x="384" y="204"/>
                  </a:lnTo>
                  <a:lnTo>
                    <a:pt x="428" y="183"/>
                  </a:lnTo>
                  <a:lnTo>
                    <a:pt x="397" y="173"/>
                  </a:lnTo>
                  <a:lnTo>
                    <a:pt x="348" y="145"/>
                  </a:lnTo>
                  <a:lnTo>
                    <a:pt x="295" y="107"/>
                  </a:lnTo>
                  <a:lnTo>
                    <a:pt x="283" y="76"/>
                  </a:lnTo>
                  <a:lnTo>
                    <a:pt x="258" y="69"/>
                  </a:lnTo>
                  <a:lnTo>
                    <a:pt x="236" y="80"/>
                  </a:lnTo>
                  <a:lnTo>
                    <a:pt x="213" y="88"/>
                  </a:lnTo>
                  <a:lnTo>
                    <a:pt x="186" y="76"/>
                  </a:lnTo>
                  <a:lnTo>
                    <a:pt x="163" y="69"/>
                  </a:lnTo>
                  <a:lnTo>
                    <a:pt x="137" y="65"/>
                  </a:lnTo>
                  <a:lnTo>
                    <a:pt x="116" y="53"/>
                  </a:lnTo>
                  <a:lnTo>
                    <a:pt x="97" y="44"/>
                  </a:lnTo>
                  <a:lnTo>
                    <a:pt x="80" y="3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39880" y="4183560"/>
              <a:ext cx="74160" cy="131760"/>
            </a:xfrm>
            <a:custGeom>
              <a:avLst/>
              <a:gdLst/>
              <a:ahLst/>
              <a:rect l="l" t="t" r="r" b="b"/>
              <a:pathLst>
                <a:path w="100" h="160">
                  <a:moveTo>
                    <a:pt x="70" y="0"/>
                  </a:moveTo>
                  <a:lnTo>
                    <a:pt x="49" y="34"/>
                  </a:lnTo>
                  <a:lnTo>
                    <a:pt x="40" y="65"/>
                  </a:lnTo>
                  <a:lnTo>
                    <a:pt x="22" y="99"/>
                  </a:lnTo>
                  <a:lnTo>
                    <a:pt x="0" y="145"/>
                  </a:lnTo>
                  <a:lnTo>
                    <a:pt x="17" y="160"/>
                  </a:lnTo>
                  <a:lnTo>
                    <a:pt x="40" y="145"/>
                  </a:lnTo>
                  <a:lnTo>
                    <a:pt x="36" y="118"/>
                  </a:lnTo>
                  <a:lnTo>
                    <a:pt x="62" y="88"/>
                  </a:lnTo>
                  <a:lnTo>
                    <a:pt x="70" y="61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58880" y="4424400"/>
              <a:ext cx="271440" cy="233640"/>
            </a:xfrm>
            <a:custGeom>
              <a:avLst/>
              <a:gdLst/>
              <a:ahLst/>
              <a:rect l="l" t="t" r="r" b="b"/>
              <a:pathLst>
                <a:path w="372" h="281">
                  <a:moveTo>
                    <a:pt x="366" y="76"/>
                  </a:moveTo>
                  <a:lnTo>
                    <a:pt x="334" y="82"/>
                  </a:lnTo>
                  <a:lnTo>
                    <a:pt x="298" y="82"/>
                  </a:lnTo>
                  <a:lnTo>
                    <a:pt x="273" y="82"/>
                  </a:lnTo>
                  <a:lnTo>
                    <a:pt x="245" y="86"/>
                  </a:lnTo>
                  <a:lnTo>
                    <a:pt x="209" y="89"/>
                  </a:lnTo>
                  <a:lnTo>
                    <a:pt x="186" y="89"/>
                  </a:lnTo>
                  <a:lnTo>
                    <a:pt x="186" y="63"/>
                  </a:lnTo>
                  <a:lnTo>
                    <a:pt x="186" y="44"/>
                  </a:lnTo>
                  <a:lnTo>
                    <a:pt x="186" y="0"/>
                  </a:lnTo>
                  <a:lnTo>
                    <a:pt x="155" y="21"/>
                  </a:lnTo>
                  <a:lnTo>
                    <a:pt x="119" y="48"/>
                  </a:lnTo>
                  <a:lnTo>
                    <a:pt x="85" y="70"/>
                  </a:lnTo>
                  <a:lnTo>
                    <a:pt x="49" y="89"/>
                  </a:lnTo>
                  <a:lnTo>
                    <a:pt x="30" y="108"/>
                  </a:lnTo>
                  <a:lnTo>
                    <a:pt x="0" y="124"/>
                  </a:lnTo>
                  <a:lnTo>
                    <a:pt x="43" y="152"/>
                  </a:lnTo>
                  <a:lnTo>
                    <a:pt x="85" y="192"/>
                  </a:lnTo>
                  <a:lnTo>
                    <a:pt x="115" y="219"/>
                  </a:lnTo>
                  <a:lnTo>
                    <a:pt x="142" y="234"/>
                  </a:lnTo>
                  <a:lnTo>
                    <a:pt x="159" y="255"/>
                  </a:lnTo>
                  <a:lnTo>
                    <a:pt x="186" y="281"/>
                  </a:lnTo>
                  <a:lnTo>
                    <a:pt x="192" y="234"/>
                  </a:lnTo>
                  <a:lnTo>
                    <a:pt x="192" y="205"/>
                  </a:lnTo>
                  <a:lnTo>
                    <a:pt x="222" y="205"/>
                  </a:lnTo>
                  <a:lnTo>
                    <a:pt x="254" y="205"/>
                  </a:lnTo>
                  <a:lnTo>
                    <a:pt x="294" y="211"/>
                  </a:lnTo>
                  <a:lnTo>
                    <a:pt x="344" y="215"/>
                  </a:lnTo>
                  <a:lnTo>
                    <a:pt x="370" y="219"/>
                  </a:lnTo>
                  <a:lnTo>
                    <a:pt x="372" y="200"/>
                  </a:lnTo>
                  <a:lnTo>
                    <a:pt x="330" y="192"/>
                  </a:lnTo>
                  <a:lnTo>
                    <a:pt x="277" y="185"/>
                  </a:lnTo>
                  <a:lnTo>
                    <a:pt x="231" y="183"/>
                  </a:lnTo>
                  <a:lnTo>
                    <a:pt x="192" y="179"/>
                  </a:lnTo>
                  <a:lnTo>
                    <a:pt x="172" y="179"/>
                  </a:lnTo>
                  <a:lnTo>
                    <a:pt x="169" y="211"/>
                  </a:lnTo>
                  <a:lnTo>
                    <a:pt x="174" y="234"/>
                  </a:lnTo>
                  <a:lnTo>
                    <a:pt x="146" y="211"/>
                  </a:lnTo>
                  <a:lnTo>
                    <a:pt x="108" y="185"/>
                  </a:lnTo>
                  <a:lnTo>
                    <a:pt x="81" y="166"/>
                  </a:lnTo>
                  <a:lnTo>
                    <a:pt x="49" y="135"/>
                  </a:lnTo>
                  <a:lnTo>
                    <a:pt x="74" y="120"/>
                  </a:lnTo>
                  <a:lnTo>
                    <a:pt x="96" y="93"/>
                  </a:lnTo>
                  <a:lnTo>
                    <a:pt x="125" y="76"/>
                  </a:lnTo>
                  <a:lnTo>
                    <a:pt x="155" y="50"/>
                  </a:lnTo>
                  <a:lnTo>
                    <a:pt x="161" y="76"/>
                  </a:lnTo>
                  <a:lnTo>
                    <a:pt x="161" y="107"/>
                  </a:lnTo>
                  <a:lnTo>
                    <a:pt x="186" y="108"/>
                  </a:lnTo>
                  <a:lnTo>
                    <a:pt x="224" y="107"/>
                  </a:lnTo>
                  <a:lnTo>
                    <a:pt x="273" y="107"/>
                  </a:lnTo>
                  <a:lnTo>
                    <a:pt x="317" y="103"/>
                  </a:lnTo>
                  <a:lnTo>
                    <a:pt x="357" y="101"/>
                  </a:lnTo>
                  <a:lnTo>
                    <a:pt x="366" y="76"/>
                  </a:lnTo>
                  <a:lnTo>
                    <a:pt x="3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09440" y="4487400"/>
              <a:ext cx="20880" cy="10800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2" y="0"/>
                  </a:moveTo>
                  <a:lnTo>
                    <a:pt x="22" y="27"/>
                  </a:lnTo>
                  <a:lnTo>
                    <a:pt x="22" y="57"/>
                  </a:lnTo>
                  <a:lnTo>
                    <a:pt x="22" y="90"/>
                  </a:lnTo>
                  <a:lnTo>
                    <a:pt x="28" y="124"/>
                  </a:lnTo>
                  <a:lnTo>
                    <a:pt x="9" y="129"/>
                  </a:lnTo>
                  <a:lnTo>
                    <a:pt x="5" y="103"/>
                  </a:lnTo>
                  <a:lnTo>
                    <a:pt x="3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60040" y="4658040"/>
              <a:ext cx="259560" cy="231480"/>
            </a:xfrm>
            <a:custGeom>
              <a:avLst/>
              <a:gdLst/>
              <a:ahLst/>
              <a:rect l="l" t="t" r="r" b="b"/>
              <a:pathLst>
                <a:path w="358" h="278">
                  <a:moveTo>
                    <a:pt x="0" y="57"/>
                  </a:moveTo>
                  <a:lnTo>
                    <a:pt x="44" y="73"/>
                  </a:lnTo>
                  <a:lnTo>
                    <a:pt x="80" y="76"/>
                  </a:lnTo>
                  <a:lnTo>
                    <a:pt x="128" y="84"/>
                  </a:lnTo>
                  <a:lnTo>
                    <a:pt x="169" y="90"/>
                  </a:lnTo>
                  <a:lnTo>
                    <a:pt x="177" y="59"/>
                  </a:lnTo>
                  <a:lnTo>
                    <a:pt x="179" y="33"/>
                  </a:lnTo>
                  <a:lnTo>
                    <a:pt x="179" y="0"/>
                  </a:lnTo>
                  <a:lnTo>
                    <a:pt x="200" y="4"/>
                  </a:lnTo>
                  <a:lnTo>
                    <a:pt x="234" y="31"/>
                  </a:lnTo>
                  <a:lnTo>
                    <a:pt x="261" y="63"/>
                  </a:lnTo>
                  <a:lnTo>
                    <a:pt x="282" y="97"/>
                  </a:lnTo>
                  <a:lnTo>
                    <a:pt x="312" y="122"/>
                  </a:lnTo>
                  <a:lnTo>
                    <a:pt x="344" y="153"/>
                  </a:lnTo>
                  <a:lnTo>
                    <a:pt x="358" y="170"/>
                  </a:lnTo>
                  <a:lnTo>
                    <a:pt x="335" y="187"/>
                  </a:lnTo>
                  <a:lnTo>
                    <a:pt x="312" y="198"/>
                  </a:lnTo>
                  <a:lnTo>
                    <a:pt x="282" y="219"/>
                  </a:lnTo>
                  <a:lnTo>
                    <a:pt x="261" y="240"/>
                  </a:lnTo>
                  <a:lnTo>
                    <a:pt x="232" y="251"/>
                  </a:lnTo>
                  <a:lnTo>
                    <a:pt x="211" y="268"/>
                  </a:lnTo>
                  <a:lnTo>
                    <a:pt x="185" y="278"/>
                  </a:lnTo>
                  <a:lnTo>
                    <a:pt x="183" y="248"/>
                  </a:lnTo>
                  <a:lnTo>
                    <a:pt x="179" y="210"/>
                  </a:lnTo>
                  <a:lnTo>
                    <a:pt x="177" y="192"/>
                  </a:lnTo>
                  <a:lnTo>
                    <a:pt x="143" y="196"/>
                  </a:lnTo>
                  <a:lnTo>
                    <a:pt x="116" y="210"/>
                  </a:lnTo>
                  <a:lnTo>
                    <a:pt x="76" y="217"/>
                  </a:lnTo>
                  <a:lnTo>
                    <a:pt x="63" y="225"/>
                  </a:lnTo>
                  <a:lnTo>
                    <a:pt x="8" y="232"/>
                  </a:lnTo>
                  <a:lnTo>
                    <a:pt x="4" y="196"/>
                  </a:lnTo>
                  <a:lnTo>
                    <a:pt x="63" y="202"/>
                  </a:lnTo>
                  <a:lnTo>
                    <a:pt x="107" y="191"/>
                  </a:lnTo>
                  <a:lnTo>
                    <a:pt x="143" y="175"/>
                  </a:lnTo>
                  <a:lnTo>
                    <a:pt x="185" y="166"/>
                  </a:lnTo>
                  <a:lnTo>
                    <a:pt x="188" y="191"/>
                  </a:lnTo>
                  <a:lnTo>
                    <a:pt x="196" y="219"/>
                  </a:lnTo>
                  <a:lnTo>
                    <a:pt x="200" y="240"/>
                  </a:lnTo>
                  <a:lnTo>
                    <a:pt x="228" y="223"/>
                  </a:lnTo>
                  <a:lnTo>
                    <a:pt x="265" y="198"/>
                  </a:lnTo>
                  <a:lnTo>
                    <a:pt x="287" y="183"/>
                  </a:lnTo>
                  <a:lnTo>
                    <a:pt x="318" y="170"/>
                  </a:lnTo>
                  <a:lnTo>
                    <a:pt x="295" y="134"/>
                  </a:lnTo>
                  <a:lnTo>
                    <a:pt x="261" y="107"/>
                  </a:lnTo>
                  <a:lnTo>
                    <a:pt x="238" y="73"/>
                  </a:lnTo>
                  <a:lnTo>
                    <a:pt x="209" y="40"/>
                  </a:lnTo>
                  <a:lnTo>
                    <a:pt x="196" y="67"/>
                  </a:lnTo>
                  <a:lnTo>
                    <a:pt x="196" y="97"/>
                  </a:lnTo>
                  <a:lnTo>
                    <a:pt x="188" y="120"/>
                  </a:lnTo>
                  <a:lnTo>
                    <a:pt x="143" y="113"/>
                  </a:lnTo>
                  <a:lnTo>
                    <a:pt x="107" y="103"/>
                  </a:lnTo>
                  <a:lnTo>
                    <a:pt x="76" y="97"/>
                  </a:lnTo>
                  <a:lnTo>
                    <a:pt x="36" y="90"/>
                  </a:lnTo>
                  <a:lnTo>
                    <a:pt x="4" y="9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63640" y="4718880"/>
              <a:ext cx="21960" cy="113400"/>
            </a:xfrm>
            <a:custGeom>
              <a:avLst/>
              <a:gdLst/>
              <a:ahLst/>
              <a:rect l="l" t="t" r="r" b="b"/>
              <a:pathLst>
                <a:path w="30" h="137">
                  <a:moveTo>
                    <a:pt x="0" y="17"/>
                  </a:moveTo>
                  <a:lnTo>
                    <a:pt x="0" y="49"/>
                  </a:lnTo>
                  <a:lnTo>
                    <a:pt x="4" y="76"/>
                  </a:lnTo>
                  <a:lnTo>
                    <a:pt x="0" y="123"/>
                  </a:lnTo>
                  <a:lnTo>
                    <a:pt x="19" y="137"/>
                  </a:lnTo>
                  <a:lnTo>
                    <a:pt x="30" y="118"/>
                  </a:lnTo>
                  <a:lnTo>
                    <a:pt x="27" y="83"/>
                  </a:lnTo>
                  <a:lnTo>
                    <a:pt x="23" y="57"/>
                  </a:lnTo>
                  <a:lnTo>
                    <a:pt x="23" y="24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02880" y="3916440"/>
              <a:ext cx="60840" cy="799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0" y="91"/>
                  </a:moveTo>
                  <a:lnTo>
                    <a:pt x="0" y="61"/>
                  </a:lnTo>
                  <a:lnTo>
                    <a:pt x="4" y="30"/>
                  </a:lnTo>
                  <a:lnTo>
                    <a:pt x="4" y="11"/>
                  </a:lnTo>
                  <a:lnTo>
                    <a:pt x="48" y="11"/>
                  </a:lnTo>
                  <a:lnTo>
                    <a:pt x="84" y="0"/>
                  </a:lnTo>
                  <a:lnTo>
                    <a:pt x="80" y="25"/>
                  </a:lnTo>
                  <a:lnTo>
                    <a:pt x="76" y="65"/>
                  </a:lnTo>
                  <a:lnTo>
                    <a:pt x="76" y="97"/>
                  </a:lnTo>
                  <a:lnTo>
                    <a:pt x="50" y="97"/>
                  </a:lnTo>
                  <a:lnTo>
                    <a:pt x="57" y="74"/>
                  </a:lnTo>
                  <a:lnTo>
                    <a:pt x="65" y="49"/>
                  </a:lnTo>
                  <a:lnTo>
                    <a:pt x="65" y="27"/>
                  </a:lnTo>
                  <a:lnTo>
                    <a:pt x="50" y="30"/>
                  </a:lnTo>
                  <a:lnTo>
                    <a:pt x="21" y="27"/>
                  </a:lnTo>
                  <a:lnTo>
                    <a:pt x="21" y="53"/>
                  </a:lnTo>
                  <a:lnTo>
                    <a:pt x="21" y="95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01080" y="4109760"/>
              <a:ext cx="17280" cy="104760"/>
            </a:xfrm>
            <a:custGeom>
              <a:avLst/>
              <a:gdLst/>
              <a:ahLst/>
              <a:rect l="l" t="t" r="r" b="b"/>
              <a:pathLst>
                <a:path w="23" h="125">
                  <a:moveTo>
                    <a:pt x="2" y="0"/>
                  </a:moveTo>
                  <a:lnTo>
                    <a:pt x="2" y="23"/>
                  </a:lnTo>
                  <a:lnTo>
                    <a:pt x="10" y="61"/>
                  </a:lnTo>
                  <a:lnTo>
                    <a:pt x="2" y="76"/>
                  </a:lnTo>
                  <a:lnTo>
                    <a:pt x="0" y="114"/>
                  </a:lnTo>
                  <a:lnTo>
                    <a:pt x="17" y="125"/>
                  </a:lnTo>
                  <a:lnTo>
                    <a:pt x="23" y="95"/>
                  </a:lnTo>
                  <a:lnTo>
                    <a:pt x="23" y="61"/>
                  </a:lnTo>
                  <a:lnTo>
                    <a:pt x="23" y="38"/>
                  </a:lnTo>
                  <a:lnTo>
                    <a:pt x="2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44640" y="4109760"/>
              <a:ext cx="24840" cy="117720"/>
            </a:xfrm>
            <a:custGeom>
              <a:avLst/>
              <a:gdLst/>
              <a:ahLst/>
              <a:rect l="l" t="t" r="r" b="b"/>
              <a:pathLst>
                <a:path w="34" h="140">
                  <a:moveTo>
                    <a:pt x="0" y="2"/>
                  </a:moveTo>
                  <a:lnTo>
                    <a:pt x="0" y="28"/>
                  </a:lnTo>
                  <a:lnTo>
                    <a:pt x="8" y="45"/>
                  </a:lnTo>
                  <a:lnTo>
                    <a:pt x="8" y="64"/>
                  </a:lnTo>
                  <a:lnTo>
                    <a:pt x="4" y="140"/>
                  </a:lnTo>
                  <a:lnTo>
                    <a:pt x="23" y="140"/>
                  </a:lnTo>
                  <a:lnTo>
                    <a:pt x="23" y="106"/>
                  </a:lnTo>
                  <a:lnTo>
                    <a:pt x="27" y="82"/>
                  </a:lnTo>
                  <a:lnTo>
                    <a:pt x="31" y="49"/>
                  </a:lnTo>
                  <a:lnTo>
                    <a:pt x="34" y="28"/>
                  </a:lnTo>
                  <a:lnTo>
                    <a:pt x="3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01080" y="4315320"/>
              <a:ext cx="20880" cy="189000"/>
            </a:xfrm>
            <a:custGeom>
              <a:avLst/>
              <a:gdLst/>
              <a:ahLst/>
              <a:rect l="l" t="t" r="r" b="b"/>
              <a:pathLst>
                <a:path w="29" h="226">
                  <a:moveTo>
                    <a:pt x="0" y="4"/>
                  </a:moveTo>
                  <a:lnTo>
                    <a:pt x="6" y="44"/>
                  </a:lnTo>
                  <a:lnTo>
                    <a:pt x="6" y="84"/>
                  </a:lnTo>
                  <a:lnTo>
                    <a:pt x="2" y="129"/>
                  </a:lnTo>
                  <a:lnTo>
                    <a:pt x="6" y="165"/>
                  </a:lnTo>
                  <a:lnTo>
                    <a:pt x="0" y="226"/>
                  </a:lnTo>
                  <a:lnTo>
                    <a:pt x="29" y="226"/>
                  </a:lnTo>
                  <a:lnTo>
                    <a:pt x="23" y="188"/>
                  </a:lnTo>
                  <a:lnTo>
                    <a:pt x="19" y="139"/>
                  </a:lnTo>
                  <a:lnTo>
                    <a:pt x="19" y="103"/>
                  </a:lnTo>
                  <a:lnTo>
                    <a:pt x="19" y="70"/>
                  </a:lnTo>
                  <a:lnTo>
                    <a:pt x="23" y="30"/>
                  </a:lnTo>
                  <a:lnTo>
                    <a:pt x="2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44640" y="4313160"/>
              <a:ext cx="16200" cy="191160"/>
            </a:xfrm>
            <a:custGeom>
              <a:avLst/>
              <a:gdLst/>
              <a:ahLst/>
              <a:rect l="l" t="t" r="r" b="b"/>
              <a:pathLst>
                <a:path w="23" h="230">
                  <a:moveTo>
                    <a:pt x="0" y="0"/>
                  </a:moveTo>
                  <a:lnTo>
                    <a:pt x="4" y="27"/>
                  </a:lnTo>
                  <a:lnTo>
                    <a:pt x="8" y="65"/>
                  </a:lnTo>
                  <a:lnTo>
                    <a:pt x="4" y="93"/>
                  </a:lnTo>
                  <a:lnTo>
                    <a:pt x="4" y="116"/>
                  </a:lnTo>
                  <a:lnTo>
                    <a:pt x="4" y="150"/>
                  </a:lnTo>
                  <a:lnTo>
                    <a:pt x="4" y="183"/>
                  </a:lnTo>
                  <a:lnTo>
                    <a:pt x="4" y="230"/>
                  </a:lnTo>
                  <a:lnTo>
                    <a:pt x="23" y="226"/>
                  </a:lnTo>
                  <a:lnTo>
                    <a:pt x="23" y="192"/>
                  </a:lnTo>
                  <a:lnTo>
                    <a:pt x="23" y="156"/>
                  </a:lnTo>
                  <a:lnTo>
                    <a:pt x="23" y="110"/>
                  </a:lnTo>
                  <a:lnTo>
                    <a:pt x="23" y="76"/>
                  </a:lnTo>
                  <a:lnTo>
                    <a:pt x="23" y="48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98200" y="4585680"/>
              <a:ext cx="26280" cy="146880"/>
            </a:xfrm>
            <a:custGeom>
              <a:avLst/>
              <a:gdLst/>
              <a:ahLst/>
              <a:rect l="l" t="t" r="r" b="b"/>
              <a:pathLst>
                <a:path w="36" h="175">
                  <a:moveTo>
                    <a:pt x="5" y="4"/>
                  </a:moveTo>
                  <a:lnTo>
                    <a:pt x="5" y="27"/>
                  </a:lnTo>
                  <a:lnTo>
                    <a:pt x="13" y="72"/>
                  </a:lnTo>
                  <a:lnTo>
                    <a:pt x="9" y="103"/>
                  </a:lnTo>
                  <a:lnTo>
                    <a:pt x="5" y="135"/>
                  </a:lnTo>
                  <a:lnTo>
                    <a:pt x="0" y="169"/>
                  </a:lnTo>
                  <a:lnTo>
                    <a:pt x="26" y="175"/>
                  </a:lnTo>
                  <a:lnTo>
                    <a:pt x="30" y="144"/>
                  </a:lnTo>
                  <a:lnTo>
                    <a:pt x="30" y="118"/>
                  </a:lnTo>
                  <a:lnTo>
                    <a:pt x="36" y="91"/>
                  </a:lnTo>
                  <a:lnTo>
                    <a:pt x="30" y="59"/>
                  </a:lnTo>
                  <a:lnTo>
                    <a:pt x="30" y="32"/>
                  </a:lnTo>
                  <a:lnTo>
                    <a:pt x="30" y="0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39240" y="4585680"/>
              <a:ext cx="24480" cy="151200"/>
            </a:xfrm>
            <a:custGeom>
              <a:avLst/>
              <a:gdLst/>
              <a:ahLst/>
              <a:rect l="l" t="t" r="r" b="b"/>
              <a:pathLst>
                <a:path w="34" h="179">
                  <a:moveTo>
                    <a:pt x="15" y="0"/>
                  </a:moveTo>
                  <a:lnTo>
                    <a:pt x="15" y="27"/>
                  </a:lnTo>
                  <a:lnTo>
                    <a:pt x="11" y="53"/>
                  </a:lnTo>
                  <a:lnTo>
                    <a:pt x="11" y="91"/>
                  </a:lnTo>
                  <a:lnTo>
                    <a:pt x="0" y="122"/>
                  </a:lnTo>
                  <a:lnTo>
                    <a:pt x="3" y="148"/>
                  </a:lnTo>
                  <a:lnTo>
                    <a:pt x="7" y="175"/>
                  </a:lnTo>
                  <a:lnTo>
                    <a:pt x="26" y="179"/>
                  </a:lnTo>
                  <a:lnTo>
                    <a:pt x="30" y="148"/>
                  </a:lnTo>
                  <a:lnTo>
                    <a:pt x="26" y="125"/>
                  </a:lnTo>
                  <a:lnTo>
                    <a:pt x="26" y="95"/>
                  </a:lnTo>
                  <a:lnTo>
                    <a:pt x="34" y="76"/>
                  </a:lnTo>
                  <a:lnTo>
                    <a:pt x="34" y="57"/>
                  </a:lnTo>
                  <a:lnTo>
                    <a:pt x="34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3520" y="4812840"/>
              <a:ext cx="81720" cy="418320"/>
            </a:xfrm>
            <a:custGeom>
              <a:avLst/>
              <a:gdLst/>
              <a:ahLst/>
              <a:rect l="l" t="t" r="r" b="b"/>
              <a:pathLst>
                <a:path w="112" h="502">
                  <a:moveTo>
                    <a:pt x="11" y="26"/>
                  </a:moveTo>
                  <a:lnTo>
                    <a:pt x="11" y="64"/>
                  </a:lnTo>
                  <a:lnTo>
                    <a:pt x="11" y="95"/>
                  </a:lnTo>
                  <a:lnTo>
                    <a:pt x="9" y="140"/>
                  </a:lnTo>
                  <a:lnTo>
                    <a:pt x="11" y="171"/>
                  </a:lnTo>
                  <a:lnTo>
                    <a:pt x="11" y="207"/>
                  </a:lnTo>
                  <a:lnTo>
                    <a:pt x="11" y="237"/>
                  </a:lnTo>
                  <a:lnTo>
                    <a:pt x="11" y="277"/>
                  </a:lnTo>
                  <a:lnTo>
                    <a:pt x="9" y="313"/>
                  </a:lnTo>
                  <a:lnTo>
                    <a:pt x="9" y="348"/>
                  </a:lnTo>
                  <a:lnTo>
                    <a:pt x="6" y="376"/>
                  </a:lnTo>
                  <a:lnTo>
                    <a:pt x="2" y="408"/>
                  </a:lnTo>
                  <a:lnTo>
                    <a:pt x="0" y="452"/>
                  </a:lnTo>
                  <a:lnTo>
                    <a:pt x="6" y="482"/>
                  </a:lnTo>
                  <a:lnTo>
                    <a:pt x="0" y="496"/>
                  </a:lnTo>
                  <a:lnTo>
                    <a:pt x="28" y="500"/>
                  </a:lnTo>
                  <a:lnTo>
                    <a:pt x="72" y="502"/>
                  </a:lnTo>
                  <a:lnTo>
                    <a:pt x="102" y="502"/>
                  </a:lnTo>
                  <a:lnTo>
                    <a:pt x="99" y="465"/>
                  </a:lnTo>
                  <a:lnTo>
                    <a:pt x="99" y="408"/>
                  </a:lnTo>
                  <a:lnTo>
                    <a:pt x="99" y="359"/>
                  </a:lnTo>
                  <a:lnTo>
                    <a:pt x="91" y="281"/>
                  </a:lnTo>
                  <a:lnTo>
                    <a:pt x="95" y="243"/>
                  </a:lnTo>
                  <a:lnTo>
                    <a:pt x="91" y="190"/>
                  </a:lnTo>
                  <a:lnTo>
                    <a:pt x="95" y="157"/>
                  </a:lnTo>
                  <a:lnTo>
                    <a:pt x="104" y="129"/>
                  </a:lnTo>
                  <a:lnTo>
                    <a:pt x="112" y="108"/>
                  </a:lnTo>
                  <a:lnTo>
                    <a:pt x="104" y="64"/>
                  </a:lnTo>
                  <a:lnTo>
                    <a:pt x="102" y="36"/>
                  </a:lnTo>
                  <a:lnTo>
                    <a:pt x="99" y="0"/>
                  </a:lnTo>
                  <a:lnTo>
                    <a:pt x="76" y="5"/>
                  </a:lnTo>
                  <a:lnTo>
                    <a:pt x="82" y="38"/>
                  </a:lnTo>
                  <a:lnTo>
                    <a:pt x="82" y="68"/>
                  </a:lnTo>
                  <a:lnTo>
                    <a:pt x="82" y="125"/>
                  </a:lnTo>
                  <a:lnTo>
                    <a:pt x="80" y="144"/>
                  </a:lnTo>
                  <a:lnTo>
                    <a:pt x="76" y="188"/>
                  </a:lnTo>
                  <a:lnTo>
                    <a:pt x="68" y="241"/>
                  </a:lnTo>
                  <a:lnTo>
                    <a:pt x="64" y="270"/>
                  </a:lnTo>
                  <a:lnTo>
                    <a:pt x="64" y="300"/>
                  </a:lnTo>
                  <a:lnTo>
                    <a:pt x="64" y="348"/>
                  </a:lnTo>
                  <a:lnTo>
                    <a:pt x="68" y="389"/>
                  </a:lnTo>
                  <a:lnTo>
                    <a:pt x="82" y="416"/>
                  </a:lnTo>
                  <a:lnTo>
                    <a:pt x="80" y="452"/>
                  </a:lnTo>
                  <a:lnTo>
                    <a:pt x="82" y="482"/>
                  </a:lnTo>
                  <a:lnTo>
                    <a:pt x="28" y="482"/>
                  </a:lnTo>
                  <a:lnTo>
                    <a:pt x="26" y="425"/>
                  </a:lnTo>
                  <a:lnTo>
                    <a:pt x="28" y="367"/>
                  </a:lnTo>
                  <a:lnTo>
                    <a:pt x="32" y="313"/>
                  </a:lnTo>
                  <a:lnTo>
                    <a:pt x="32" y="270"/>
                  </a:lnTo>
                  <a:lnTo>
                    <a:pt x="32" y="220"/>
                  </a:lnTo>
                  <a:lnTo>
                    <a:pt x="32" y="171"/>
                  </a:lnTo>
                  <a:lnTo>
                    <a:pt x="32" y="125"/>
                  </a:lnTo>
                  <a:lnTo>
                    <a:pt x="32" y="80"/>
                  </a:lnTo>
                  <a:lnTo>
                    <a:pt x="32" y="42"/>
                  </a:lnTo>
                  <a:lnTo>
                    <a:pt x="32" y="23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23720" y="4520880"/>
              <a:ext cx="241920" cy="728640"/>
            </a:xfrm>
            <a:custGeom>
              <a:avLst/>
              <a:gdLst/>
              <a:ahLst/>
              <a:rect l="l" t="t" r="r" b="b"/>
              <a:pathLst>
                <a:path w="331" h="874">
                  <a:moveTo>
                    <a:pt x="115" y="0"/>
                  </a:moveTo>
                  <a:lnTo>
                    <a:pt x="92" y="46"/>
                  </a:lnTo>
                  <a:lnTo>
                    <a:pt x="77" y="76"/>
                  </a:lnTo>
                  <a:lnTo>
                    <a:pt x="57" y="95"/>
                  </a:lnTo>
                  <a:lnTo>
                    <a:pt x="40" y="133"/>
                  </a:lnTo>
                  <a:lnTo>
                    <a:pt x="38" y="137"/>
                  </a:lnTo>
                  <a:lnTo>
                    <a:pt x="37" y="146"/>
                  </a:lnTo>
                  <a:lnTo>
                    <a:pt x="33" y="152"/>
                  </a:lnTo>
                  <a:lnTo>
                    <a:pt x="33" y="158"/>
                  </a:lnTo>
                  <a:lnTo>
                    <a:pt x="31" y="164"/>
                  </a:lnTo>
                  <a:lnTo>
                    <a:pt x="31" y="169"/>
                  </a:lnTo>
                  <a:lnTo>
                    <a:pt x="29" y="173"/>
                  </a:lnTo>
                  <a:lnTo>
                    <a:pt x="27" y="181"/>
                  </a:lnTo>
                  <a:lnTo>
                    <a:pt x="27" y="188"/>
                  </a:lnTo>
                  <a:lnTo>
                    <a:pt x="27" y="198"/>
                  </a:lnTo>
                  <a:lnTo>
                    <a:pt x="27" y="207"/>
                  </a:lnTo>
                  <a:lnTo>
                    <a:pt x="27" y="217"/>
                  </a:lnTo>
                  <a:lnTo>
                    <a:pt x="27" y="222"/>
                  </a:lnTo>
                  <a:lnTo>
                    <a:pt x="27" y="224"/>
                  </a:lnTo>
                  <a:lnTo>
                    <a:pt x="25" y="249"/>
                  </a:lnTo>
                  <a:lnTo>
                    <a:pt x="21" y="285"/>
                  </a:lnTo>
                  <a:lnTo>
                    <a:pt x="18" y="314"/>
                  </a:lnTo>
                  <a:lnTo>
                    <a:pt x="21" y="348"/>
                  </a:lnTo>
                  <a:lnTo>
                    <a:pt x="40" y="371"/>
                  </a:lnTo>
                  <a:lnTo>
                    <a:pt x="65" y="390"/>
                  </a:lnTo>
                  <a:lnTo>
                    <a:pt x="94" y="413"/>
                  </a:lnTo>
                  <a:lnTo>
                    <a:pt x="118" y="420"/>
                  </a:lnTo>
                  <a:lnTo>
                    <a:pt x="141" y="437"/>
                  </a:lnTo>
                  <a:lnTo>
                    <a:pt x="164" y="447"/>
                  </a:lnTo>
                  <a:lnTo>
                    <a:pt x="191" y="451"/>
                  </a:lnTo>
                  <a:lnTo>
                    <a:pt x="213" y="456"/>
                  </a:lnTo>
                  <a:lnTo>
                    <a:pt x="232" y="460"/>
                  </a:lnTo>
                  <a:lnTo>
                    <a:pt x="255" y="466"/>
                  </a:lnTo>
                  <a:lnTo>
                    <a:pt x="286" y="477"/>
                  </a:lnTo>
                  <a:lnTo>
                    <a:pt x="305" y="492"/>
                  </a:lnTo>
                  <a:lnTo>
                    <a:pt x="326" y="513"/>
                  </a:lnTo>
                  <a:lnTo>
                    <a:pt x="331" y="557"/>
                  </a:lnTo>
                  <a:lnTo>
                    <a:pt x="331" y="593"/>
                  </a:lnTo>
                  <a:lnTo>
                    <a:pt x="326" y="625"/>
                  </a:lnTo>
                  <a:lnTo>
                    <a:pt x="312" y="652"/>
                  </a:lnTo>
                  <a:lnTo>
                    <a:pt x="293" y="679"/>
                  </a:lnTo>
                  <a:lnTo>
                    <a:pt x="276" y="700"/>
                  </a:lnTo>
                  <a:lnTo>
                    <a:pt x="259" y="715"/>
                  </a:lnTo>
                  <a:lnTo>
                    <a:pt x="246" y="728"/>
                  </a:lnTo>
                  <a:lnTo>
                    <a:pt x="223" y="749"/>
                  </a:lnTo>
                  <a:lnTo>
                    <a:pt x="206" y="764"/>
                  </a:lnTo>
                  <a:lnTo>
                    <a:pt x="191" y="787"/>
                  </a:lnTo>
                  <a:lnTo>
                    <a:pt x="170" y="804"/>
                  </a:lnTo>
                  <a:lnTo>
                    <a:pt x="147" y="827"/>
                  </a:lnTo>
                  <a:lnTo>
                    <a:pt x="134" y="848"/>
                  </a:lnTo>
                  <a:lnTo>
                    <a:pt x="111" y="874"/>
                  </a:lnTo>
                  <a:lnTo>
                    <a:pt x="126" y="831"/>
                  </a:lnTo>
                  <a:lnTo>
                    <a:pt x="149" y="798"/>
                  </a:lnTo>
                  <a:lnTo>
                    <a:pt x="179" y="772"/>
                  </a:lnTo>
                  <a:lnTo>
                    <a:pt x="206" y="749"/>
                  </a:lnTo>
                  <a:lnTo>
                    <a:pt x="232" y="715"/>
                  </a:lnTo>
                  <a:lnTo>
                    <a:pt x="263" y="684"/>
                  </a:lnTo>
                  <a:lnTo>
                    <a:pt x="299" y="652"/>
                  </a:lnTo>
                  <a:lnTo>
                    <a:pt x="316" y="608"/>
                  </a:lnTo>
                  <a:lnTo>
                    <a:pt x="318" y="559"/>
                  </a:lnTo>
                  <a:lnTo>
                    <a:pt x="308" y="515"/>
                  </a:lnTo>
                  <a:lnTo>
                    <a:pt x="278" y="492"/>
                  </a:lnTo>
                  <a:lnTo>
                    <a:pt x="255" y="483"/>
                  </a:lnTo>
                  <a:lnTo>
                    <a:pt x="210" y="473"/>
                  </a:lnTo>
                  <a:lnTo>
                    <a:pt x="156" y="460"/>
                  </a:lnTo>
                  <a:lnTo>
                    <a:pt x="111" y="443"/>
                  </a:lnTo>
                  <a:lnTo>
                    <a:pt x="65" y="416"/>
                  </a:lnTo>
                  <a:lnTo>
                    <a:pt x="27" y="394"/>
                  </a:lnTo>
                  <a:lnTo>
                    <a:pt x="4" y="361"/>
                  </a:lnTo>
                  <a:lnTo>
                    <a:pt x="0" y="318"/>
                  </a:lnTo>
                  <a:lnTo>
                    <a:pt x="0" y="262"/>
                  </a:lnTo>
                  <a:lnTo>
                    <a:pt x="8" y="222"/>
                  </a:lnTo>
                  <a:lnTo>
                    <a:pt x="8" y="183"/>
                  </a:lnTo>
                  <a:lnTo>
                    <a:pt x="18" y="145"/>
                  </a:lnTo>
                  <a:lnTo>
                    <a:pt x="35" y="103"/>
                  </a:lnTo>
                  <a:lnTo>
                    <a:pt x="40" y="80"/>
                  </a:lnTo>
                  <a:lnTo>
                    <a:pt x="61" y="61"/>
                  </a:lnTo>
                  <a:lnTo>
                    <a:pt x="75" y="34"/>
                  </a:lnTo>
                  <a:lnTo>
                    <a:pt x="77" y="4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00800" y="4515480"/>
              <a:ext cx="414000" cy="734040"/>
            </a:xfrm>
            <a:custGeom>
              <a:avLst/>
              <a:gdLst/>
              <a:ahLst/>
              <a:rect l="l" t="t" r="r" b="b"/>
              <a:pathLst>
                <a:path w="570" h="882">
                  <a:moveTo>
                    <a:pt x="197" y="12"/>
                  </a:moveTo>
                  <a:lnTo>
                    <a:pt x="184" y="50"/>
                  </a:lnTo>
                  <a:lnTo>
                    <a:pt x="161" y="101"/>
                  </a:lnTo>
                  <a:lnTo>
                    <a:pt x="144" y="145"/>
                  </a:lnTo>
                  <a:lnTo>
                    <a:pt x="131" y="177"/>
                  </a:lnTo>
                  <a:lnTo>
                    <a:pt x="108" y="210"/>
                  </a:lnTo>
                  <a:lnTo>
                    <a:pt x="78" y="257"/>
                  </a:lnTo>
                  <a:lnTo>
                    <a:pt x="64" y="272"/>
                  </a:lnTo>
                  <a:lnTo>
                    <a:pt x="49" y="289"/>
                  </a:lnTo>
                  <a:lnTo>
                    <a:pt x="38" y="310"/>
                  </a:lnTo>
                  <a:lnTo>
                    <a:pt x="22" y="337"/>
                  </a:lnTo>
                  <a:lnTo>
                    <a:pt x="15" y="365"/>
                  </a:lnTo>
                  <a:lnTo>
                    <a:pt x="11" y="409"/>
                  </a:lnTo>
                  <a:lnTo>
                    <a:pt x="22" y="441"/>
                  </a:lnTo>
                  <a:lnTo>
                    <a:pt x="49" y="464"/>
                  </a:lnTo>
                  <a:lnTo>
                    <a:pt x="81" y="474"/>
                  </a:lnTo>
                  <a:lnTo>
                    <a:pt x="121" y="491"/>
                  </a:lnTo>
                  <a:lnTo>
                    <a:pt x="167" y="516"/>
                  </a:lnTo>
                  <a:lnTo>
                    <a:pt x="224" y="531"/>
                  </a:lnTo>
                  <a:lnTo>
                    <a:pt x="309" y="548"/>
                  </a:lnTo>
                  <a:lnTo>
                    <a:pt x="329" y="557"/>
                  </a:lnTo>
                  <a:lnTo>
                    <a:pt x="349" y="567"/>
                  </a:lnTo>
                  <a:lnTo>
                    <a:pt x="372" y="580"/>
                  </a:lnTo>
                  <a:lnTo>
                    <a:pt x="399" y="597"/>
                  </a:lnTo>
                  <a:lnTo>
                    <a:pt x="429" y="620"/>
                  </a:lnTo>
                  <a:lnTo>
                    <a:pt x="452" y="633"/>
                  </a:lnTo>
                  <a:lnTo>
                    <a:pt x="475" y="654"/>
                  </a:lnTo>
                  <a:lnTo>
                    <a:pt x="492" y="673"/>
                  </a:lnTo>
                  <a:lnTo>
                    <a:pt x="515" y="690"/>
                  </a:lnTo>
                  <a:lnTo>
                    <a:pt x="524" y="709"/>
                  </a:lnTo>
                  <a:lnTo>
                    <a:pt x="538" y="734"/>
                  </a:lnTo>
                  <a:lnTo>
                    <a:pt x="547" y="746"/>
                  </a:lnTo>
                  <a:lnTo>
                    <a:pt x="559" y="772"/>
                  </a:lnTo>
                  <a:lnTo>
                    <a:pt x="568" y="806"/>
                  </a:lnTo>
                  <a:lnTo>
                    <a:pt x="568" y="822"/>
                  </a:lnTo>
                  <a:lnTo>
                    <a:pt x="570" y="839"/>
                  </a:lnTo>
                  <a:lnTo>
                    <a:pt x="555" y="882"/>
                  </a:lnTo>
                  <a:lnTo>
                    <a:pt x="559" y="839"/>
                  </a:lnTo>
                  <a:lnTo>
                    <a:pt x="551" y="795"/>
                  </a:lnTo>
                  <a:lnTo>
                    <a:pt x="536" y="766"/>
                  </a:lnTo>
                  <a:lnTo>
                    <a:pt x="515" y="736"/>
                  </a:lnTo>
                  <a:lnTo>
                    <a:pt x="498" y="713"/>
                  </a:lnTo>
                  <a:lnTo>
                    <a:pt x="479" y="687"/>
                  </a:lnTo>
                  <a:lnTo>
                    <a:pt x="456" y="660"/>
                  </a:lnTo>
                  <a:lnTo>
                    <a:pt x="431" y="647"/>
                  </a:lnTo>
                  <a:lnTo>
                    <a:pt x="405" y="630"/>
                  </a:lnTo>
                  <a:lnTo>
                    <a:pt x="386" y="614"/>
                  </a:lnTo>
                  <a:lnTo>
                    <a:pt x="363" y="594"/>
                  </a:lnTo>
                  <a:lnTo>
                    <a:pt x="327" y="575"/>
                  </a:lnTo>
                  <a:lnTo>
                    <a:pt x="300" y="561"/>
                  </a:lnTo>
                  <a:lnTo>
                    <a:pt x="268" y="554"/>
                  </a:lnTo>
                  <a:lnTo>
                    <a:pt x="233" y="548"/>
                  </a:lnTo>
                  <a:lnTo>
                    <a:pt x="207" y="544"/>
                  </a:lnTo>
                  <a:lnTo>
                    <a:pt x="171" y="531"/>
                  </a:lnTo>
                  <a:lnTo>
                    <a:pt x="129" y="512"/>
                  </a:lnTo>
                  <a:lnTo>
                    <a:pt x="98" y="497"/>
                  </a:lnTo>
                  <a:lnTo>
                    <a:pt x="60" y="485"/>
                  </a:lnTo>
                  <a:lnTo>
                    <a:pt x="32" y="468"/>
                  </a:lnTo>
                  <a:lnTo>
                    <a:pt x="5" y="445"/>
                  </a:lnTo>
                  <a:lnTo>
                    <a:pt x="0" y="402"/>
                  </a:lnTo>
                  <a:lnTo>
                    <a:pt x="0" y="365"/>
                  </a:lnTo>
                  <a:lnTo>
                    <a:pt x="9" y="322"/>
                  </a:lnTo>
                  <a:lnTo>
                    <a:pt x="26" y="286"/>
                  </a:lnTo>
                  <a:lnTo>
                    <a:pt x="45" y="267"/>
                  </a:lnTo>
                  <a:lnTo>
                    <a:pt x="60" y="240"/>
                  </a:lnTo>
                  <a:lnTo>
                    <a:pt x="87" y="213"/>
                  </a:lnTo>
                  <a:lnTo>
                    <a:pt x="102" y="191"/>
                  </a:lnTo>
                  <a:lnTo>
                    <a:pt x="121" y="153"/>
                  </a:lnTo>
                  <a:lnTo>
                    <a:pt x="129" y="118"/>
                  </a:lnTo>
                  <a:lnTo>
                    <a:pt x="144" y="84"/>
                  </a:lnTo>
                  <a:lnTo>
                    <a:pt x="157" y="58"/>
                  </a:lnTo>
                  <a:lnTo>
                    <a:pt x="171" y="27"/>
                  </a:lnTo>
                  <a:lnTo>
                    <a:pt x="175" y="0"/>
                  </a:lnTo>
                  <a:lnTo>
                    <a:pt x="197" y="12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9880" y="4520880"/>
              <a:ext cx="393480" cy="486360"/>
            </a:xfrm>
            <a:custGeom>
              <a:avLst/>
              <a:gdLst/>
              <a:ahLst/>
              <a:rect l="l" t="t" r="r" b="b"/>
              <a:pathLst>
                <a:path w="540" h="586">
                  <a:moveTo>
                    <a:pt x="540" y="0"/>
                  </a:moveTo>
                  <a:lnTo>
                    <a:pt x="521" y="34"/>
                  </a:lnTo>
                  <a:lnTo>
                    <a:pt x="506" y="50"/>
                  </a:lnTo>
                  <a:lnTo>
                    <a:pt x="494" y="69"/>
                  </a:lnTo>
                  <a:lnTo>
                    <a:pt x="477" y="89"/>
                  </a:lnTo>
                  <a:lnTo>
                    <a:pt x="464" y="126"/>
                  </a:lnTo>
                  <a:lnTo>
                    <a:pt x="445" y="148"/>
                  </a:lnTo>
                  <a:lnTo>
                    <a:pt x="428" y="165"/>
                  </a:lnTo>
                  <a:lnTo>
                    <a:pt x="403" y="192"/>
                  </a:lnTo>
                  <a:lnTo>
                    <a:pt x="365" y="215"/>
                  </a:lnTo>
                  <a:lnTo>
                    <a:pt x="325" y="232"/>
                  </a:lnTo>
                  <a:lnTo>
                    <a:pt x="279" y="245"/>
                  </a:lnTo>
                  <a:lnTo>
                    <a:pt x="236" y="262"/>
                  </a:lnTo>
                  <a:lnTo>
                    <a:pt x="209" y="272"/>
                  </a:lnTo>
                  <a:lnTo>
                    <a:pt x="160" y="281"/>
                  </a:lnTo>
                  <a:lnTo>
                    <a:pt x="131" y="302"/>
                  </a:lnTo>
                  <a:lnTo>
                    <a:pt x="105" y="318"/>
                  </a:lnTo>
                  <a:lnTo>
                    <a:pt x="80" y="329"/>
                  </a:lnTo>
                  <a:lnTo>
                    <a:pt x="53" y="348"/>
                  </a:lnTo>
                  <a:lnTo>
                    <a:pt x="36" y="367"/>
                  </a:lnTo>
                  <a:lnTo>
                    <a:pt x="27" y="394"/>
                  </a:lnTo>
                  <a:lnTo>
                    <a:pt x="25" y="416"/>
                  </a:lnTo>
                  <a:lnTo>
                    <a:pt x="25" y="454"/>
                  </a:lnTo>
                  <a:lnTo>
                    <a:pt x="30" y="470"/>
                  </a:lnTo>
                  <a:lnTo>
                    <a:pt x="51" y="496"/>
                  </a:lnTo>
                  <a:lnTo>
                    <a:pt x="80" y="513"/>
                  </a:lnTo>
                  <a:lnTo>
                    <a:pt x="106" y="523"/>
                  </a:lnTo>
                  <a:lnTo>
                    <a:pt x="124" y="530"/>
                  </a:lnTo>
                  <a:lnTo>
                    <a:pt x="139" y="540"/>
                  </a:lnTo>
                  <a:lnTo>
                    <a:pt x="160" y="549"/>
                  </a:lnTo>
                  <a:lnTo>
                    <a:pt x="196" y="567"/>
                  </a:lnTo>
                  <a:lnTo>
                    <a:pt x="179" y="586"/>
                  </a:lnTo>
                  <a:lnTo>
                    <a:pt x="154" y="567"/>
                  </a:lnTo>
                  <a:lnTo>
                    <a:pt x="106" y="542"/>
                  </a:lnTo>
                  <a:lnTo>
                    <a:pt x="48" y="515"/>
                  </a:lnTo>
                  <a:lnTo>
                    <a:pt x="13" y="487"/>
                  </a:lnTo>
                  <a:lnTo>
                    <a:pt x="0" y="432"/>
                  </a:lnTo>
                  <a:lnTo>
                    <a:pt x="4" y="397"/>
                  </a:lnTo>
                  <a:lnTo>
                    <a:pt x="17" y="357"/>
                  </a:lnTo>
                  <a:lnTo>
                    <a:pt x="53" y="329"/>
                  </a:lnTo>
                  <a:lnTo>
                    <a:pt x="84" y="308"/>
                  </a:lnTo>
                  <a:lnTo>
                    <a:pt x="105" y="299"/>
                  </a:lnTo>
                  <a:lnTo>
                    <a:pt x="120" y="285"/>
                  </a:lnTo>
                  <a:lnTo>
                    <a:pt x="150" y="272"/>
                  </a:lnTo>
                  <a:lnTo>
                    <a:pt x="177" y="255"/>
                  </a:lnTo>
                  <a:lnTo>
                    <a:pt x="200" y="255"/>
                  </a:lnTo>
                  <a:lnTo>
                    <a:pt x="226" y="249"/>
                  </a:lnTo>
                  <a:lnTo>
                    <a:pt x="249" y="238"/>
                  </a:lnTo>
                  <a:lnTo>
                    <a:pt x="272" y="228"/>
                  </a:lnTo>
                  <a:lnTo>
                    <a:pt x="298" y="222"/>
                  </a:lnTo>
                  <a:lnTo>
                    <a:pt x="335" y="209"/>
                  </a:lnTo>
                  <a:lnTo>
                    <a:pt x="357" y="202"/>
                  </a:lnTo>
                  <a:lnTo>
                    <a:pt x="384" y="183"/>
                  </a:lnTo>
                  <a:lnTo>
                    <a:pt x="422" y="156"/>
                  </a:lnTo>
                  <a:lnTo>
                    <a:pt x="445" y="126"/>
                  </a:lnTo>
                  <a:lnTo>
                    <a:pt x="452" y="110"/>
                  </a:lnTo>
                  <a:lnTo>
                    <a:pt x="471" y="84"/>
                  </a:lnTo>
                  <a:lnTo>
                    <a:pt x="483" y="63"/>
                  </a:lnTo>
                  <a:lnTo>
                    <a:pt x="496" y="42"/>
                  </a:lnTo>
                  <a:lnTo>
                    <a:pt x="509" y="19"/>
                  </a:lnTo>
                  <a:lnTo>
                    <a:pt x="517" y="0"/>
                  </a:lnTo>
                  <a:lnTo>
                    <a:pt x="540" y="0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55000" y="5031000"/>
              <a:ext cx="99720" cy="4320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10"/>
                  </a:moveTo>
                  <a:lnTo>
                    <a:pt x="17" y="17"/>
                  </a:lnTo>
                  <a:lnTo>
                    <a:pt x="30" y="23"/>
                  </a:lnTo>
                  <a:lnTo>
                    <a:pt x="48" y="27"/>
                  </a:lnTo>
                  <a:lnTo>
                    <a:pt x="70" y="34"/>
                  </a:lnTo>
                  <a:lnTo>
                    <a:pt x="84" y="40"/>
                  </a:lnTo>
                  <a:lnTo>
                    <a:pt x="106" y="44"/>
                  </a:lnTo>
                  <a:lnTo>
                    <a:pt x="116" y="44"/>
                  </a:lnTo>
                  <a:lnTo>
                    <a:pt x="133" y="53"/>
                  </a:lnTo>
                  <a:lnTo>
                    <a:pt x="139" y="40"/>
                  </a:lnTo>
                  <a:lnTo>
                    <a:pt x="124" y="31"/>
                  </a:lnTo>
                  <a:lnTo>
                    <a:pt x="106" y="23"/>
                  </a:lnTo>
                  <a:lnTo>
                    <a:pt x="89" y="21"/>
                  </a:lnTo>
                  <a:lnTo>
                    <a:pt x="74" y="17"/>
                  </a:lnTo>
                  <a:lnTo>
                    <a:pt x="57" y="10"/>
                  </a:lnTo>
                  <a:lnTo>
                    <a:pt x="36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03680" y="5068080"/>
              <a:ext cx="280800" cy="409680"/>
            </a:xfrm>
            <a:custGeom>
              <a:avLst/>
              <a:gdLst/>
              <a:ahLst/>
              <a:rect l="l" t="t" r="r" b="b"/>
              <a:pathLst>
                <a:path w="386" h="490">
                  <a:moveTo>
                    <a:pt x="2" y="0"/>
                  </a:moveTo>
                  <a:lnTo>
                    <a:pt x="23" y="0"/>
                  </a:lnTo>
                  <a:lnTo>
                    <a:pt x="50" y="7"/>
                  </a:lnTo>
                  <a:lnTo>
                    <a:pt x="78" y="17"/>
                  </a:lnTo>
                  <a:lnTo>
                    <a:pt x="105" y="26"/>
                  </a:lnTo>
                  <a:lnTo>
                    <a:pt x="132" y="30"/>
                  </a:lnTo>
                  <a:lnTo>
                    <a:pt x="164" y="42"/>
                  </a:lnTo>
                  <a:lnTo>
                    <a:pt x="181" y="53"/>
                  </a:lnTo>
                  <a:lnTo>
                    <a:pt x="215" y="57"/>
                  </a:lnTo>
                  <a:lnTo>
                    <a:pt x="248" y="74"/>
                  </a:lnTo>
                  <a:lnTo>
                    <a:pt x="284" y="91"/>
                  </a:lnTo>
                  <a:lnTo>
                    <a:pt x="316" y="97"/>
                  </a:lnTo>
                  <a:lnTo>
                    <a:pt x="343" y="118"/>
                  </a:lnTo>
                  <a:lnTo>
                    <a:pt x="356" y="125"/>
                  </a:lnTo>
                  <a:lnTo>
                    <a:pt x="373" y="140"/>
                  </a:lnTo>
                  <a:lnTo>
                    <a:pt x="379" y="159"/>
                  </a:lnTo>
                  <a:lnTo>
                    <a:pt x="386" y="182"/>
                  </a:lnTo>
                  <a:lnTo>
                    <a:pt x="386" y="209"/>
                  </a:lnTo>
                  <a:lnTo>
                    <a:pt x="375" y="245"/>
                  </a:lnTo>
                  <a:lnTo>
                    <a:pt x="356" y="279"/>
                  </a:lnTo>
                  <a:lnTo>
                    <a:pt x="333" y="302"/>
                  </a:lnTo>
                  <a:lnTo>
                    <a:pt x="306" y="321"/>
                  </a:lnTo>
                  <a:lnTo>
                    <a:pt x="287" y="342"/>
                  </a:lnTo>
                  <a:lnTo>
                    <a:pt x="270" y="365"/>
                  </a:lnTo>
                  <a:lnTo>
                    <a:pt x="248" y="382"/>
                  </a:lnTo>
                  <a:lnTo>
                    <a:pt x="198" y="418"/>
                  </a:lnTo>
                  <a:lnTo>
                    <a:pt x="185" y="424"/>
                  </a:lnTo>
                  <a:lnTo>
                    <a:pt x="168" y="441"/>
                  </a:lnTo>
                  <a:lnTo>
                    <a:pt x="151" y="446"/>
                  </a:lnTo>
                  <a:lnTo>
                    <a:pt x="137" y="462"/>
                  </a:lnTo>
                  <a:lnTo>
                    <a:pt x="118" y="477"/>
                  </a:lnTo>
                  <a:lnTo>
                    <a:pt x="99" y="490"/>
                  </a:lnTo>
                  <a:lnTo>
                    <a:pt x="82" y="462"/>
                  </a:lnTo>
                  <a:lnTo>
                    <a:pt x="105" y="458"/>
                  </a:lnTo>
                  <a:lnTo>
                    <a:pt x="118" y="458"/>
                  </a:lnTo>
                  <a:lnTo>
                    <a:pt x="128" y="444"/>
                  </a:lnTo>
                  <a:lnTo>
                    <a:pt x="137" y="435"/>
                  </a:lnTo>
                  <a:lnTo>
                    <a:pt x="154" y="424"/>
                  </a:lnTo>
                  <a:lnTo>
                    <a:pt x="177" y="418"/>
                  </a:lnTo>
                  <a:lnTo>
                    <a:pt x="189" y="401"/>
                  </a:lnTo>
                  <a:lnTo>
                    <a:pt x="204" y="391"/>
                  </a:lnTo>
                  <a:lnTo>
                    <a:pt x="223" y="374"/>
                  </a:lnTo>
                  <a:lnTo>
                    <a:pt x="238" y="361"/>
                  </a:lnTo>
                  <a:lnTo>
                    <a:pt x="257" y="351"/>
                  </a:lnTo>
                  <a:lnTo>
                    <a:pt x="261" y="334"/>
                  </a:lnTo>
                  <a:lnTo>
                    <a:pt x="284" y="315"/>
                  </a:lnTo>
                  <a:lnTo>
                    <a:pt x="306" y="298"/>
                  </a:lnTo>
                  <a:lnTo>
                    <a:pt x="337" y="270"/>
                  </a:lnTo>
                  <a:lnTo>
                    <a:pt x="348" y="253"/>
                  </a:lnTo>
                  <a:lnTo>
                    <a:pt x="356" y="232"/>
                  </a:lnTo>
                  <a:lnTo>
                    <a:pt x="365" y="209"/>
                  </a:lnTo>
                  <a:lnTo>
                    <a:pt x="365" y="167"/>
                  </a:lnTo>
                  <a:lnTo>
                    <a:pt x="352" y="144"/>
                  </a:lnTo>
                  <a:lnTo>
                    <a:pt x="329" y="125"/>
                  </a:lnTo>
                  <a:lnTo>
                    <a:pt x="306" y="118"/>
                  </a:lnTo>
                  <a:lnTo>
                    <a:pt x="287" y="114"/>
                  </a:lnTo>
                  <a:lnTo>
                    <a:pt x="265" y="102"/>
                  </a:lnTo>
                  <a:lnTo>
                    <a:pt x="242" y="87"/>
                  </a:lnTo>
                  <a:lnTo>
                    <a:pt x="211" y="74"/>
                  </a:lnTo>
                  <a:lnTo>
                    <a:pt x="185" y="68"/>
                  </a:lnTo>
                  <a:lnTo>
                    <a:pt x="164" y="64"/>
                  </a:lnTo>
                  <a:lnTo>
                    <a:pt x="149" y="53"/>
                  </a:lnTo>
                  <a:lnTo>
                    <a:pt x="122" y="47"/>
                  </a:lnTo>
                  <a:lnTo>
                    <a:pt x="99" y="43"/>
                  </a:lnTo>
                  <a:lnTo>
                    <a:pt x="75" y="34"/>
                  </a:lnTo>
                  <a:lnTo>
                    <a:pt x="50" y="26"/>
                  </a:lnTo>
                  <a:lnTo>
                    <a:pt x="29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1760" y="4515480"/>
              <a:ext cx="1292400" cy="62640"/>
            </a:xfrm>
            <a:custGeom>
              <a:avLst/>
              <a:gdLst/>
              <a:ahLst/>
              <a:rect l="l" t="t" r="r" b="b"/>
              <a:pathLst>
                <a:path w="1777" h="77">
                  <a:moveTo>
                    <a:pt x="0" y="61"/>
                  </a:moveTo>
                  <a:lnTo>
                    <a:pt x="49" y="65"/>
                  </a:lnTo>
                  <a:lnTo>
                    <a:pt x="77" y="65"/>
                  </a:lnTo>
                  <a:lnTo>
                    <a:pt x="142" y="65"/>
                  </a:lnTo>
                  <a:lnTo>
                    <a:pt x="174" y="65"/>
                  </a:lnTo>
                  <a:lnTo>
                    <a:pt x="249" y="61"/>
                  </a:lnTo>
                  <a:lnTo>
                    <a:pt x="290" y="58"/>
                  </a:lnTo>
                  <a:lnTo>
                    <a:pt x="342" y="50"/>
                  </a:lnTo>
                  <a:lnTo>
                    <a:pt x="422" y="42"/>
                  </a:lnTo>
                  <a:lnTo>
                    <a:pt x="467" y="31"/>
                  </a:lnTo>
                  <a:lnTo>
                    <a:pt x="532" y="21"/>
                  </a:lnTo>
                  <a:lnTo>
                    <a:pt x="608" y="12"/>
                  </a:lnTo>
                  <a:lnTo>
                    <a:pt x="690" y="12"/>
                  </a:lnTo>
                  <a:lnTo>
                    <a:pt x="735" y="8"/>
                  </a:lnTo>
                  <a:lnTo>
                    <a:pt x="806" y="0"/>
                  </a:lnTo>
                  <a:lnTo>
                    <a:pt x="872" y="8"/>
                  </a:lnTo>
                  <a:lnTo>
                    <a:pt x="954" y="0"/>
                  </a:lnTo>
                  <a:lnTo>
                    <a:pt x="1037" y="0"/>
                  </a:lnTo>
                  <a:lnTo>
                    <a:pt x="1123" y="0"/>
                  </a:lnTo>
                  <a:lnTo>
                    <a:pt x="1186" y="0"/>
                  </a:lnTo>
                  <a:lnTo>
                    <a:pt x="1243" y="0"/>
                  </a:lnTo>
                  <a:lnTo>
                    <a:pt x="1311" y="0"/>
                  </a:lnTo>
                  <a:lnTo>
                    <a:pt x="1344" y="12"/>
                  </a:lnTo>
                  <a:lnTo>
                    <a:pt x="1410" y="4"/>
                  </a:lnTo>
                  <a:lnTo>
                    <a:pt x="1450" y="8"/>
                  </a:lnTo>
                  <a:lnTo>
                    <a:pt x="1492" y="25"/>
                  </a:lnTo>
                  <a:lnTo>
                    <a:pt x="1534" y="25"/>
                  </a:lnTo>
                  <a:lnTo>
                    <a:pt x="1549" y="31"/>
                  </a:lnTo>
                  <a:lnTo>
                    <a:pt x="1596" y="31"/>
                  </a:lnTo>
                  <a:lnTo>
                    <a:pt x="1710" y="39"/>
                  </a:lnTo>
                  <a:lnTo>
                    <a:pt x="1758" y="27"/>
                  </a:lnTo>
                  <a:lnTo>
                    <a:pt x="1777" y="50"/>
                  </a:lnTo>
                  <a:lnTo>
                    <a:pt x="1718" y="58"/>
                  </a:lnTo>
                  <a:lnTo>
                    <a:pt x="1610" y="50"/>
                  </a:lnTo>
                  <a:lnTo>
                    <a:pt x="1583" y="48"/>
                  </a:lnTo>
                  <a:lnTo>
                    <a:pt x="1556" y="44"/>
                  </a:lnTo>
                  <a:lnTo>
                    <a:pt x="1536" y="42"/>
                  </a:lnTo>
                  <a:lnTo>
                    <a:pt x="1516" y="42"/>
                  </a:lnTo>
                  <a:lnTo>
                    <a:pt x="1480" y="39"/>
                  </a:lnTo>
                  <a:lnTo>
                    <a:pt x="1467" y="31"/>
                  </a:lnTo>
                  <a:lnTo>
                    <a:pt x="1437" y="25"/>
                  </a:lnTo>
                  <a:lnTo>
                    <a:pt x="1404" y="21"/>
                  </a:lnTo>
                  <a:lnTo>
                    <a:pt x="1359" y="21"/>
                  </a:lnTo>
                  <a:lnTo>
                    <a:pt x="1321" y="21"/>
                  </a:lnTo>
                  <a:lnTo>
                    <a:pt x="1279" y="16"/>
                  </a:lnTo>
                  <a:lnTo>
                    <a:pt x="1218" y="16"/>
                  </a:lnTo>
                  <a:lnTo>
                    <a:pt x="1159" y="16"/>
                  </a:lnTo>
                  <a:lnTo>
                    <a:pt x="1079" y="21"/>
                  </a:lnTo>
                  <a:lnTo>
                    <a:pt x="1030" y="21"/>
                  </a:lnTo>
                  <a:lnTo>
                    <a:pt x="1001" y="21"/>
                  </a:lnTo>
                  <a:lnTo>
                    <a:pt x="975" y="21"/>
                  </a:lnTo>
                  <a:lnTo>
                    <a:pt x="940" y="21"/>
                  </a:lnTo>
                  <a:lnTo>
                    <a:pt x="908" y="21"/>
                  </a:lnTo>
                  <a:lnTo>
                    <a:pt x="872" y="25"/>
                  </a:lnTo>
                  <a:lnTo>
                    <a:pt x="826" y="21"/>
                  </a:lnTo>
                  <a:lnTo>
                    <a:pt x="769" y="18"/>
                  </a:lnTo>
                  <a:lnTo>
                    <a:pt x="729" y="25"/>
                  </a:lnTo>
                  <a:lnTo>
                    <a:pt x="693" y="27"/>
                  </a:lnTo>
                  <a:lnTo>
                    <a:pt x="663" y="27"/>
                  </a:lnTo>
                  <a:lnTo>
                    <a:pt x="627" y="25"/>
                  </a:lnTo>
                  <a:lnTo>
                    <a:pt x="587" y="27"/>
                  </a:lnTo>
                  <a:lnTo>
                    <a:pt x="534" y="35"/>
                  </a:lnTo>
                  <a:lnTo>
                    <a:pt x="488" y="48"/>
                  </a:lnTo>
                  <a:lnTo>
                    <a:pt x="441" y="54"/>
                  </a:lnTo>
                  <a:lnTo>
                    <a:pt x="403" y="65"/>
                  </a:lnTo>
                  <a:lnTo>
                    <a:pt x="368" y="69"/>
                  </a:lnTo>
                  <a:lnTo>
                    <a:pt x="319" y="69"/>
                  </a:lnTo>
                  <a:lnTo>
                    <a:pt x="269" y="77"/>
                  </a:lnTo>
                  <a:lnTo>
                    <a:pt x="220" y="77"/>
                  </a:lnTo>
                  <a:lnTo>
                    <a:pt x="184" y="77"/>
                  </a:lnTo>
                  <a:lnTo>
                    <a:pt x="134" y="77"/>
                  </a:lnTo>
                  <a:lnTo>
                    <a:pt x="98" y="77"/>
                  </a:lnTo>
                  <a:lnTo>
                    <a:pt x="62" y="77"/>
                  </a:lnTo>
                  <a:lnTo>
                    <a:pt x="36" y="77"/>
                  </a:lnTo>
                  <a:lnTo>
                    <a:pt x="0" y="77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22040" y="4490280"/>
              <a:ext cx="915120" cy="87480"/>
            </a:xfrm>
            <a:custGeom>
              <a:avLst/>
              <a:gdLst/>
              <a:ahLst/>
              <a:rect l="l" t="t" r="r" b="b"/>
              <a:pathLst>
                <a:path w="1258" h="103">
                  <a:moveTo>
                    <a:pt x="0" y="68"/>
                  </a:moveTo>
                  <a:lnTo>
                    <a:pt x="45" y="65"/>
                  </a:lnTo>
                  <a:lnTo>
                    <a:pt x="81" y="68"/>
                  </a:lnTo>
                  <a:lnTo>
                    <a:pt x="129" y="68"/>
                  </a:lnTo>
                  <a:lnTo>
                    <a:pt x="175" y="53"/>
                  </a:lnTo>
                  <a:lnTo>
                    <a:pt x="203" y="34"/>
                  </a:lnTo>
                  <a:lnTo>
                    <a:pt x="268" y="19"/>
                  </a:lnTo>
                  <a:lnTo>
                    <a:pt x="310" y="4"/>
                  </a:lnTo>
                  <a:lnTo>
                    <a:pt x="348" y="0"/>
                  </a:lnTo>
                  <a:lnTo>
                    <a:pt x="382" y="0"/>
                  </a:lnTo>
                  <a:lnTo>
                    <a:pt x="433" y="0"/>
                  </a:lnTo>
                  <a:lnTo>
                    <a:pt x="483" y="11"/>
                  </a:lnTo>
                  <a:lnTo>
                    <a:pt x="532" y="25"/>
                  </a:lnTo>
                  <a:lnTo>
                    <a:pt x="591" y="34"/>
                  </a:lnTo>
                  <a:lnTo>
                    <a:pt x="661" y="42"/>
                  </a:lnTo>
                  <a:lnTo>
                    <a:pt x="733" y="42"/>
                  </a:lnTo>
                  <a:lnTo>
                    <a:pt x="800" y="42"/>
                  </a:lnTo>
                  <a:lnTo>
                    <a:pt x="865" y="44"/>
                  </a:lnTo>
                  <a:lnTo>
                    <a:pt x="908" y="47"/>
                  </a:lnTo>
                  <a:lnTo>
                    <a:pt x="956" y="47"/>
                  </a:lnTo>
                  <a:lnTo>
                    <a:pt x="967" y="51"/>
                  </a:lnTo>
                  <a:lnTo>
                    <a:pt x="1017" y="61"/>
                  </a:lnTo>
                  <a:lnTo>
                    <a:pt x="1047" y="61"/>
                  </a:lnTo>
                  <a:lnTo>
                    <a:pt x="1087" y="74"/>
                  </a:lnTo>
                  <a:lnTo>
                    <a:pt x="1136" y="74"/>
                  </a:lnTo>
                  <a:lnTo>
                    <a:pt x="1182" y="80"/>
                  </a:lnTo>
                  <a:lnTo>
                    <a:pt x="1209" y="84"/>
                  </a:lnTo>
                  <a:lnTo>
                    <a:pt x="1258" y="80"/>
                  </a:lnTo>
                  <a:lnTo>
                    <a:pt x="1254" y="103"/>
                  </a:lnTo>
                  <a:lnTo>
                    <a:pt x="1222" y="101"/>
                  </a:lnTo>
                  <a:lnTo>
                    <a:pt x="1176" y="95"/>
                  </a:lnTo>
                  <a:lnTo>
                    <a:pt x="1144" y="91"/>
                  </a:lnTo>
                  <a:lnTo>
                    <a:pt x="1079" y="87"/>
                  </a:lnTo>
                  <a:lnTo>
                    <a:pt x="1047" y="80"/>
                  </a:lnTo>
                  <a:lnTo>
                    <a:pt x="1024" y="80"/>
                  </a:lnTo>
                  <a:lnTo>
                    <a:pt x="994" y="74"/>
                  </a:lnTo>
                  <a:lnTo>
                    <a:pt x="963" y="65"/>
                  </a:lnTo>
                  <a:lnTo>
                    <a:pt x="941" y="65"/>
                  </a:lnTo>
                  <a:lnTo>
                    <a:pt x="925" y="61"/>
                  </a:lnTo>
                  <a:lnTo>
                    <a:pt x="868" y="57"/>
                  </a:lnTo>
                  <a:lnTo>
                    <a:pt x="810" y="57"/>
                  </a:lnTo>
                  <a:lnTo>
                    <a:pt x="737" y="57"/>
                  </a:lnTo>
                  <a:lnTo>
                    <a:pt x="684" y="57"/>
                  </a:lnTo>
                  <a:lnTo>
                    <a:pt x="627" y="53"/>
                  </a:lnTo>
                  <a:lnTo>
                    <a:pt x="551" y="47"/>
                  </a:lnTo>
                  <a:lnTo>
                    <a:pt x="502" y="34"/>
                  </a:lnTo>
                  <a:lnTo>
                    <a:pt x="456" y="25"/>
                  </a:lnTo>
                  <a:lnTo>
                    <a:pt x="412" y="19"/>
                  </a:lnTo>
                  <a:lnTo>
                    <a:pt x="367" y="19"/>
                  </a:lnTo>
                  <a:lnTo>
                    <a:pt x="332" y="21"/>
                  </a:lnTo>
                  <a:lnTo>
                    <a:pt x="302" y="25"/>
                  </a:lnTo>
                  <a:lnTo>
                    <a:pt x="256" y="38"/>
                  </a:lnTo>
                  <a:lnTo>
                    <a:pt x="228" y="44"/>
                  </a:lnTo>
                  <a:lnTo>
                    <a:pt x="201" y="61"/>
                  </a:lnTo>
                  <a:lnTo>
                    <a:pt x="157" y="74"/>
                  </a:lnTo>
                  <a:lnTo>
                    <a:pt x="116" y="80"/>
                  </a:lnTo>
                  <a:lnTo>
                    <a:pt x="81" y="80"/>
                  </a:lnTo>
                  <a:lnTo>
                    <a:pt x="32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880" y="2743200"/>
              <a:ext cx="56160" cy="3556440"/>
            </a:xfrm>
            <a:custGeom>
              <a:avLst/>
              <a:gdLst/>
              <a:ahLst/>
              <a:rect l="l" t="t" r="r" b="b"/>
              <a:pathLst>
                <a:path w="78" h="4267">
                  <a:moveTo>
                    <a:pt x="61" y="4267"/>
                  </a:moveTo>
                  <a:lnTo>
                    <a:pt x="25" y="4137"/>
                  </a:lnTo>
                  <a:lnTo>
                    <a:pt x="21" y="4019"/>
                  </a:lnTo>
                  <a:lnTo>
                    <a:pt x="4" y="3905"/>
                  </a:lnTo>
                  <a:lnTo>
                    <a:pt x="2" y="3877"/>
                  </a:lnTo>
                  <a:lnTo>
                    <a:pt x="2" y="3727"/>
                  </a:lnTo>
                  <a:lnTo>
                    <a:pt x="0" y="3552"/>
                  </a:lnTo>
                  <a:lnTo>
                    <a:pt x="0" y="3343"/>
                  </a:lnTo>
                  <a:lnTo>
                    <a:pt x="0" y="3181"/>
                  </a:lnTo>
                  <a:lnTo>
                    <a:pt x="0" y="2995"/>
                  </a:lnTo>
                  <a:lnTo>
                    <a:pt x="0" y="2814"/>
                  </a:lnTo>
                  <a:lnTo>
                    <a:pt x="0" y="2678"/>
                  </a:lnTo>
                  <a:lnTo>
                    <a:pt x="0" y="2588"/>
                  </a:lnTo>
                  <a:lnTo>
                    <a:pt x="0" y="2545"/>
                  </a:lnTo>
                  <a:lnTo>
                    <a:pt x="0" y="2347"/>
                  </a:lnTo>
                  <a:lnTo>
                    <a:pt x="0" y="2227"/>
                  </a:lnTo>
                  <a:lnTo>
                    <a:pt x="0" y="2128"/>
                  </a:lnTo>
                  <a:lnTo>
                    <a:pt x="4" y="1900"/>
                  </a:lnTo>
                  <a:lnTo>
                    <a:pt x="21" y="1693"/>
                  </a:lnTo>
                  <a:lnTo>
                    <a:pt x="21" y="1526"/>
                  </a:lnTo>
                  <a:lnTo>
                    <a:pt x="21" y="1324"/>
                  </a:lnTo>
                  <a:lnTo>
                    <a:pt x="25" y="1085"/>
                  </a:lnTo>
                  <a:lnTo>
                    <a:pt x="25" y="967"/>
                  </a:lnTo>
                  <a:lnTo>
                    <a:pt x="25" y="845"/>
                  </a:lnTo>
                  <a:lnTo>
                    <a:pt x="21" y="636"/>
                  </a:lnTo>
                  <a:lnTo>
                    <a:pt x="2" y="450"/>
                  </a:lnTo>
                  <a:lnTo>
                    <a:pt x="4" y="359"/>
                  </a:lnTo>
                  <a:lnTo>
                    <a:pt x="4" y="203"/>
                  </a:lnTo>
                  <a:lnTo>
                    <a:pt x="25" y="53"/>
                  </a:lnTo>
                  <a:lnTo>
                    <a:pt x="13" y="0"/>
                  </a:lnTo>
                  <a:lnTo>
                    <a:pt x="61" y="3"/>
                  </a:lnTo>
                  <a:lnTo>
                    <a:pt x="51" y="142"/>
                  </a:lnTo>
                  <a:lnTo>
                    <a:pt x="40" y="266"/>
                  </a:lnTo>
                  <a:lnTo>
                    <a:pt x="38" y="448"/>
                  </a:lnTo>
                  <a:lnTo>
                    <a:pt x="38" y="543"/>
                  </a:lnTo>
                  <a:lnTo>
                    <a:pt x="40" y="665"/>
                  </a:lnTo>
                  <a:lnTo>
                    <a:pt x="57" y="834"/>
                  </a:lnTo>
                  <a:lnTo>
                    <a:pt x="65" y="1030"/>
                  </a:lnTo>
                  <a:lnTo>
                    <a:pt x="61" y="1149"/>
                  </a:lnTo>
                  <a:lnTo>
                    <a:pt x="53" y="1284"/>
                  </a:lnTo>
                  <a:lnTo>
                    <a:pt x="51" y="1383"/>
                  </a:lnTo>
                  <a:lnTo>
                    <a:pt x="51" y="1583"/>
                  </a:lnTo>
                  <a:lnTo>
                    <a:pt x="48" y="1727"/>
                  </a:lnTo>
                  <a:lnTo>
                    <a:pt x="30" y="1883"/>
                  </a:lnTo>
                  <a:lnTo>
                    <a:pt x="30" y="2012"/>
                  </a:lnTo>
                  <a:lnTo>
                    <a:pt x="34" y="2132"/>
                  </a:lnTo>
                  <a:lnTo>
                    <a:pt x="29" y="2231"/>
                  </a:lnTo>
                  <a:lnTo>
                    <a:pt x="29" y="2400"/>
                  </a:lnTo>
                  <a:lnTo>
                    <a:pt x="21" y="2560"/>
                  </a:lnTo>
                  <a:lnTo>
                    <a:pt x="17" y="2668"/>
                  </a:lnTo>
                  <a:lnTo>
                    <a:pt x="21" y="2873"/>
                  </a:lnTo>
                  <a:lnTo>
                    <a:pt x="13" y="2986"/>
                  </a:lnTo>
                  <a:lnTo>
                    <a:pt x="13" y="3111"/>
                  </a:lnTo>
                  <a:lnTo>
                    <a:pt x="21" y="3482"/>
                  </a:lnTo>
                  <a:lnTo>
                    <a:pt x="21" y="3588"/>
                  </a:lnTo>
                  <a:lnTo>
                    <a:pt x="21" y="3660"/>
                  </a:lnTo>
                  <a:lnTo>
                    <a:pt x="21" y="3793"/>
                  </a:lnTo>
                  <a:lnTo>
                    <a:pt x="29" y="3904"/>
                  </a:lnTo>
                  <a:lnTo>
                    <a:pt x="40" y="4016"/>
                  </a:lnTo>
                  <a:lnTo>
                    <a:pt x="61" y="4124"/>
                  </a:lnTo>
                  <a:lnTo>
                    <a:pt x="78" y="4227"/>
                  </a:lnTo>
                  <a:lnTo>
                    <a:pt x="61" y="4267"/>
                  </a:lnTo>
                  <a:lnTo>
                    <a:pt x="61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07760" y="4799880"/>
              <a:ext cx="68400" cy="4212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8" y="22"/>
                  </a:moveTo>
                  <a:lnTo>
                    <a:pt x="38" y="28"/>
                  </a:lnTo>
                  <a:lnTo>
                    <a:pt x="53" y="32"/>
                  </a:lnTo>
                  <a:lnTo>
                    <a:pt x="88" y="49"/>
                  </a:lnTo>
                  <a:lnTo>
                    <a:pt x="93" y="43"/>
                  </a:lnTo>
                  <a:lnTo>
                    <a:pt x="88" y="22"/>
                  </a:lnTo>
                  <a:lnTo>
                    <a:pt x="71" y="21"/>
                  </a:lnTo>
                  <a:lnTo>
                    <a:pt x="51" y="5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38960" y="6029280"/>
              <a:ext cx="264600" cy="209880"/>
            </a:xfrm>
            <a:custGeom>
              <a:avLst/>
              <a:gdLst/>
              <a:ahLst/>
              <a:rect l="l" t="t" r="r" b="b"/>
              <a:pathLst>
                <a:path w="363" h="251">
                  <a:moveTo>
                    <a:pt x="0" y="251"/>
                  </a:moveTo>
                  <a:lnTo>
                    <a:pt x="104" y="251"/>
                  </a:lnTo>
                  <a:lnTo>
                    <a:pt x="230" y="248"/>
                  </a:lnTo>
                  <a:lnTo>
                    <a:pt x="355" y="251"/>
                  </a:lnTo>
                  <a:lnTo>
                    <a:pt x="363" y="232"/>
                  </a:lnTo>
                  <a:lnTo>
                    <a:pt x="329" y="179"/>
                  </a:lnTo>
                  <a:lnTo>
                    <a:pt x="314" y="69"/>
                  </a:lnTo>
                  <a:lnTo>
                    <a:pt x="287" y="0"/>
                  </a:lnTo>
                  <a:lnTo>
                    <a:pt x="279" y="63"/>
                  </a:lnTo>
                  <a:lnTo>
                    <a:pt x="283" y="135"/>
                  </a:lnTo>
                  <a:lnTo>
                    <a:pt x="266" y="187"/>
                  </a:lnTo>
                  <a:lnTo>
                    <a:pt x="256" y="206"/>
                  </a:lnTo>
                  <a:lnTo>
                    <a:pt x="230" y="213"/>
                  </a:lnTo>
                  <a:lnTo>
                    <a:pt x="144" y="213"/>
                  </a:lnTo>
                  <a:lnTo>
                    <a:pt x="91" y="234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23720" y="5014800"/>
              <a:ext cx="87480" cy="119880"/>
            </a:xfrm>
            <a:custGeom>
              <a:avLst/>
              <a:gdLst/>
              <a:ahLst/>
              <a:rect l="l" t="t" r="r" b="b"/>
              <a:pathLst>
                <a:path w="120" h="145">
                  <a:moveTo>
                    <a:pt x="0" y="107"/>
                  </a:moveTo>
                  <a:lnTo>
                    <a:pt x="4" y="76"/>
                  </a:lnTo>
                  <a:lnTo>
                    <a:pt x="6" y="55"/>
                  </a:lnTo>
                  <a:lnTo>
                    <a:pt x="23" y="42"/>
                  </a:lnTo>
                  <a:lnTo>
                    <a:pt x="46" y="29"/>
                  </a:lnTo>
                  <a:lnTo>
                    <a:pt x="72" y="13"/>
                  </a:lnTo>
                  <a:lnTo>
                    <a:pt x="120" y="0"/>
                  </a:lnTo>
                  <a:lnTo>
                    <a:pt x="82" y="23"/>
                  </a:lnTo>
                  <a:lnTo>
                    <a:pt x="55" y="42"/>
                  </a:lnTo>
                  <a:lnTo>
                    <a:pt x="40" y="59"/>
                  </a:lnTo>
                  <a:lnTo>
                    <a:pt x="23" y="76"/>
                  </a:lnTo>
                  <a:lnTo>
                    <a:pt x="23" y="108"/>
                  </a:lnTo>
                  <a:lnTo>
                    <a:pt x="10" y="145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15040" y="2874960"/>
              <a:ext cx="124560" cy="12744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1" y="55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5"/>
                  </a:lnTo>
                  <a:lnTo>
                    <a:pt x="124" y="99"/>
                  </a:lnTo>
                  <a:lnTo>
                    <a:pt x="133" y="154"/>
                  </a:lnTo>
                  <a:lnTo>
                    <a:pt x="84" y="114"/>
                  </a:lnTo>
                  <a:lnTo>
                    <a:pt x="30" y="145"/>
                  </a:lnTo>
                  <a:lnTo>
                    <a:pt x="44" y="95"/>
                  </a:lnTo>
                  <a:lnTo>
                    <a:pt x="0" y="55"/>
                  </a:lnTo>
                  <a:lnTo>
                    <a:pt x="61" y="55"/>
                  </a:lnTo>
                  <a:lnTo>
                    <a:pt x="61" y="55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3200" y="2891160"/>
              <a:ext cx="121680" cy="129960"/>
            </a:xfrm>
            <a:custGeom>
              <a:avLst/>
              <a:gdLst/>
              <a:ahLst/>
              <a:rect l="l" t="t" r="r" b="b"/>
              <a:pathLst>
                <a:path w="167" h="156">
                  <a:moveTo>
                    <a:pt x="55" y="59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8" y="135"/>
                  </a:lnTo>
                  <a:lnTo>
                    <a:pt x="99" y="112"/>
                  </a:lnTo>
                  <a:lnTo>
                    <a:pt x="55" y="156"/>
                  </a:lnTo>
                  <a:lnTo>
                    <a:pt x="51" y="103"/>
                  </a:lnTo>
                  <a:lnTo>
                    <a:pt x="0" y="80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48480" y="3276000"/>
              <a:ext cx="125640" cy="1285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59" y="53"/>
                  </a:moveTo>
                  <a:lnTo>
                    <a:pt x="91" y="0"/>
                  </a:lnTo>
                  <a:lnTo>
                    <a:pt x="112" y="57"/>
                  </a:lnTo>
                  <a:lnTo>
                    <a:pt x="175" y="69"/>
                  </a:lnTo>
                  <a:lnTo>
                    <a:pt x="125" y="101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2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59" y="53"/>
                  </a:lnTo>
                  <a:lnTo>
                    <a:pt x="59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56280" y="2913120"/>
              <a:ext cx="126720" cy="1306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59" y="57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5"/>
                  </a:lnTo>
                  <a:lnTo>
                    <a:pt x="126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3" y="148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32440" y="3088080"/>
              <a:ext cx="36000" cy="410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17" y="21"/>
                  </a:moveTo>
                  <a:lnTo>
                    <a:pt x="21" y="0"/>
                  </a:lnTo>
                  <a:lnTo>
                    <a:pt x="31" y="17"/>
                  </a:lnTo>
                  <a:lnTo>
                    <a:pt x="50" y="13"/>
                  </a:lnTo>
                  <a:lnTo>
                    <a:pt x="40" y="26"/>
                  </a:lnTo>
                  <a:lnTo>
                    <a:pt x="48" y="44"/>
                  </a:lnTo>
                  <a:lnTo>
                    <a:pt x="27" y="36"/>
                  </a:lnTo>
                  <a:lnTo>
                    <a:pt x="17" y="49"/>
                  </a:lnTo>
                  <a:lnTo>
                    <a:pt x="14" y="34"/>
                  </a:lnTo>
                  <a:lnTo>
                    <a:pt x="0" y="26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81800" y="3085920"/>
              <a:ext cx="73440" cy="7560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37" y="28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36"/>
                  </a:lnTo>
                  <a:lnTo>
                    <a:pt x="73" y="59"/>
                  </a:lnTo>
                  <a:lnTo>
                    <a:pt x="80" y="89"/>
                  </a:lnTo>
                  <a:lnTo>
                    <a:pt x="50" y="68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7" y="28"/>
                  </a:lnTo>
                  <a:lnTo>
                    <a:pt x="37" y="28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57240" y="3864240"/>
              <a:ext cx="75240" cy="766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8" y="33"/>
                  </a:moveTo>
                  <a:lnTo>
                    <a:pt x="57" y="0"/>
                  </a:lnTo>
                  <a:lnTo>
                    <a:pt x="67" y="33"/>
                  </a:lnTo>
                  <a:lnTo>
                    <a:pt x="103" y="38"/>
                  </a:lnTo>
                  <a:lnTo>
                    <a:pt x="74" y="59"/>
                  </a:lnTo>
                  <a:lnTo>
                    <a:pt x="80" y="91"/>
                  </a:lnTo>
                  <a:lnTo>
                    <a:pt x="50" y="69"/>
                  </a:lnTo>
                  <a:lnTo>
                    <a:pt x="17" y="88"/>
                  </a:lnTo>
                  <a:lnTo>
                    <a:pt x="25" y="55"/>
                  </a:lnTo>
                  <a:lnTo>
                    <a:pt x="0" y="33"/>
                  </a:lnTo>
                  <a:lnTo>
                    <a:pt x="38" y="3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48480" y="2948400"/>
              <a:ext cx="124560" cy="12960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1" y="0"/>
                  </a:lnTo>
                  <a:lnTo>
                    <a:pt x="108" y="57"/>
                  </a:lnTo>
                  <a:lnTo>
                    <a:pt x="171" y="70"/>
                  </a:lnTo>
                  <a:lnTo>
                    <a:pt x="122" y="102"/>
                  </a:lnTo>
                  <a:lnTo>
                    <a:pt x="131" y="156"/>
                  </a:lnTo>
                  <a:lnTo>
                    <a:pt x="82" y="119"/>
                  </a:lnTo>
                  <a:lnTo>
                    <a:pt x="28" y="146"/>
                  </a:lnTo>
                  <a:lnTo>
                    <a:pt x="42" y="97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71720" y="3411360"/>
              <a:ext cx="123480" cy="129600"/>
            </a:xfrm>
            <a:custGeom>
              <a:avLst/>
              <a:gdLst/>
              <a:ahLst/>
              <a:rect l="l" t="t" r="r" b="b"/>
              <a:pathLst>
                <a:path w="169" h="155">
                  <a:moveTo>
                    <a:pt x="57" y="59"/>
                  </a:moveTo>
                  <a:lnTo>
                    <a:pt x="74" y="0"/>
                  </a:lnTo>
                  <a:lnTo>
                    <a:pt x="107" y="45"/>
                  </a:lnTo>
                  <a:lnTo>
                    <a:pt x="169" y="40"/>
                  </a:lnTo>
                  <a:lnTo>
                    <a:pt x="133" y="85"/>
                  </a:lnTo>
                  <a:lnTo>
                    <a:pt x="156" y="135"/>
                  </a:lnTo>
                  <a:lnTo>
                    <a:pt x="101" y="112"/>
                  </a:lnTo>
                  <a:lnTo>
                    <a:pt x="57" y="155"/>
                  </a:lnTo>
                  <a:lnTo>
                    <a:pt x="53" y="102"/>
                  </a:lnTo>
                  <a:lnTo>
                    <a:pt x="0" y="79"/>
                  </a:lnTo>
                  <a:lnTo>
                    <a:pt x="57" y="59"/>
                  </a:lnTo>
                  <a:lnTo>
                    <a:pt x="57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89560" y="3692520"/>
              <a:ext cx="123840" cy="126360"/>
            </a:xfrm>
            <a:custGeom>
              <a:avLst/>
              <a:gdLst/>
              <a:ahLst/>
              <a:rect l="l" t="t" r="r" b="b"/>
              <a:pathLst>
                <a:path w="171" h="154">
                  <a:moveTo>
                    <a:pt x="61" y="53"/>
                  </a:moveTo>
                  <a:lnTo>
                    <a:pt x="93" y="0"/>
                  </a:lnTo>
                  <a:lnTo>
                    <a:pt x="110" y="53"/>
                  </a:lnTo>
                  <a:lnTo>
                    <a:pt x="171" y="67"/>
                  </a:lnTo>
                  <a:lnTo>
                    <a:pt x="122" y="101"/>
                  </a:lnTo>
                  <a:lnTo>
                    <a:pt x="133" y="154"/>
                  </a:lnTo>
                  <a:lnTo>
                    <a:pt x="84" y="116"/>
                  </a:lnTo>
                  <a:lnTo>
                    <a:pt x="31" y="146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42160" y="3288240"/>
              <a:ext cx="125640" cy="12852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60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9"/>
                  </a:lnTo>
                  <a:lnTo>
                    <a:pt x="121" y="103"/>
                  </a:lnTo>
                  <a:lnTo>
                    <a:pt x="135" y="154"/>
                  </a:lnTo>
                  <a:lnTo>
                    <a:pt x="85" y="118"/>
                  </a:lnTo>
                  <a:lnTo>
                    <a:pt x="34" y="149"/>
                  </a:lnTo>
                  <a:lnTo>
                    <a:pt x="41" y="95"/>
                  </a:lnTo>
                  <a:lnTo>
                    <a:pt x="0" y="55"/>
                  </a:lnTo>
                  <a:lnTo>
                    <a:pt x="60" y="55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64000" y="3754080"/>
              <a:ext cx="37080" cy="4104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17" y="19"/>
                  </a:moveTo>
                  <a:lnTo>
                    <a:pt x="20" y="0"/>
                  </a:lnTo>
                  <a:lnTo>
                    <a:pt x="30" y="13"/>
                  </a:lnTo>
                  <a:lnTo>
                    <a:pt x="49" y="13"/>
                  </a:lnTo>
                  <a:lnTo>
                    <a:pt x="39" y="27"/>
                  </a:lnTo>
                  <a:lnTo>
                    <a:pt x="47" y="42"/>
                  </a:lnTo>
                  <a:lnTo>
                    <a:pt x="26" y="36"/>
                  </a:lnTo>
                  <a:lnTo>
                    <a:pt x="17" y="50"/>
                  </a:lnTo>
                  <a:lnTo>
                    <a:pt x="13" y="32"/>
                  </a:lnTo>
                  <a:lnTo>
                    <a:pt x="0" y="23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20360" y="3501360"/>
              <a:ext cx="77760" cy="7740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6" y="32"/>
                  </a:moveTo>
                  <a:lnTo>
                    <a:pt x="57" y="0"/>
                  </a:lnTo>
                  <a:lnTo>
                    <a:pt x="64" y="32"/>
                  </a:lnTo>
                  <a:lnTo>
                    <a:pt x="106" y="40"/>
                  </a:lnTo>
                  <a:lnTo>
                    <a:pt x="76" y="59"/>
                  </a:lnTo>
                  <a:lnTo>
                    <a:pt x="80" y="93"/>
                  </a:lnTo>
                  <a:lnTo>
                    <a:pt x="49" y="68"/>
                  </a:lnTo>
                  <a:lnTo>
                    <a:pt x="19" y="89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98320" y="4281840"/>
              <a:ext cx="74160" cy="76680"/>
            </a:xfrm>
            <a:custGeom>
              <a:avLst/>
              <a:gdLst/>
              <a:ahLst/>
              <a:rect l="l" t="t" r="r" b="b"/>
              <a:pathLst>
                <a:path w="102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2" y="38"/>
                  </a:lnTo>
                  <a:lnTo>
                    <a:pt x="72" y="59"/>
                  </a:lnTo>
                  <a:lnTo>
                    <a:pt x="79" y="91"/>
                  </a:lnTo>
                  <a:lnTo>
                    <a:pt x="49" y="69"/>
                  </a:lnTo>
                  <a:lnTo>
                    <a:pt x="19" y="88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60840" y="2906280"/>
              <a:ext cx="12672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4"/>
                  </a:moveTo>
                  <a:lnTo>
                    <a:pt x="93" y="0"/>
                  </a:lnTo>
                  <a:lnTo>
                    <a:pt x="110" y="54"/>
                  </a:lnTo>
                  <a:lnTo>
                    <a:pt x="173" y="65"/>
                  </a:lnTo>
                  <a:lnTo>
                    <a:pt x="122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4"/>
                  </a:lnTo>
                  <a:lnTo>
                    <a:pt x="61" y="5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90560" y="3022920"/>
              <a:ext cx="123480" cy="12852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55" y="61"/>
                  </a:moveTo>
                  <a:lnTo>
                    <a:pt x="72" y="0"/>
                  </a:lnTo>
                  <a:lnTo>
                    <a:pt x="105" y="46"/>
                  </a:lnTo>
                  <a:lnTo>
                    <a:pt x="169" y="38"/>
                  </a:lnTo>
                  <a:lnTo>
                    <a:pt x="129" y="85"/>
                  </a:lnTo>
                  <a:lnTo>
                    <a:pt x="154" y="135"/>
                  </a:lnTo>
                  <a:lnTo>
                    <a:pt x="95" y="112"/>
                  </a:lnTo>
                  <a:lnTo>
                    <a:pt x="53" y="154"/>
                  </a:lnTo>
                  <a:lnTo>
                    <a:pt x="50" y="101"/>
                  </a:lnTo>
                  <a:lnTo>
                    <a:pt x="0" y="78"/>
                  </a:lnTo>
                  <a:lnTo>
                    <a:pt x="55" y="61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45600" y="3999600"/>
              <a:ext cx="126720" cy="12996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59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3" y="66"/>
                  </a:lnTo>
                  <a:lnTo>
                    <a:pt x="122" y="99"/>
                  </a:lnTo>
                  <a:lnTo>
                    <a:pt x="135" y="156"/>
                  </a:lnTo>
                  <a:lnTo>
                    <a:pt x="86" y="118"/>
                  </a:lnTo>
                  <a:lnTo>
                    <a:pt x="31" y="148"/>
                  </a:lnTo>
                  <a:lnTo>
                    <a:pt x="42" y="95"/>
                  </a:lnTo>
                  <a:lnTo>
                    <a:pt x="0" y="55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53400" y="3638520"/>
              <a:ext cx="12456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59" y="54"/>
                  </a:moveTo>
                  <a:lnTo>
                    <a:pt x="93" y="0"/>
                  </a:lnTo>
                  <a:lnTo>
                    <a:pt x="108" y="56"/>
                  </a:lnTo>
                  <a:lnTo>
                    <a:pt x="173" y="65"/>
                  </a:lnTo>
                  <a:lnTo>
                    <a:pt x="123" y="99"/>
                  </a:lnTo>
                  <a:lnTo>
                    <a:pt x="135" y="152"/>
                  </a:lnTo>
                  <a:lnTo>
                    <a:pt x="85" y="116"/>
                  </a:lnTo>
                  <a:lnTo>
                    <a:pt x="30" y="145"/>
                  </a:lnTo>
                  <a:lnTo>
                    <a:pt x="43" y="92"/>
                  </a:lnTo>
                  <a:lnTo>
                    <a:pt x="0" y="56"/>
                  </a:lnTo>
                  <a:lnTo>
                    <a:pt x="59" y="54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28480" y="3814560"/>
              <a:ext cx="38880" cy="3672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9" y="17"/>
                  </a:moveTo>
                  <a:lnTo>
                    <a:pt x="22" y="0"/>
                  </a:lnTo>
                  <a:lnTo>
                    <a:pt x="32" y="14"/>
                  </a:lnTo>
                  <a:lnTo>
                    <a:pt x="53" y="14"/>
                  </a:lnTo>
                  <a:lnTo>
                    <a:pt x="38" y="27"/>
                  </a:lnTo>
                  <a:lnTo>
                    <a:pt x="49" y="40"/>
                  </a:lnTo>
                  <a:lnTo>
                    <a:pt x="28" y="35"/>
                  </a:lnTo>
                  <a:lnTo>
                    <a:pt x="15" y="46"/>
                  </a:lnTo>
                  <a:lnTo>
                    <a:pt x="15" y="31"/>
                  </a:lnTo>
                  <a:lnTo>
                    <a:pt x="0" y="23"/>
                  </a:lnTo>
                  <a:lnTo>
                    <a:pt x="19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77120" y="3810600"/>
              <a:ext cx="75960" cy="7524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36" y="32"/>
                  </a:moveTo>
                  <a:lnTo>
                    <a:pt x="55" y="0"/>
                  </a:lnTo>
                  <a:lnTo>
                    <a:pt x="68" y="32"/>
                  </a:lnTo>
                  <a:lnTo>
                    <a:pt x="104" y="40"/>
                  </a:lnTo>
                  <a:lnTo>
                    <a:pt x="76" y="59"/>
                  </a:lnTo>
                  <a:lnTo>
                    <a:pt x="81" y="93"/>
                  </a:lnTo>
                  <a:lnTo>
                    <a:pt x="53" y="70"/>
                  </a:lnTo>
                  <a:lnTo>
                    <a:pt x="19" y="85"/>
                  </a:lnTo>
                  <a:lnTo>
                    <a:pt x="26" y="55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99960" y="3035880"/>
              <a:ext cx="75960" cy="77760"/>
            </a:xfrm>
            <a:custGeom>
              <a:avLst/>
              <a:gdLst/>
              <a:ahLst/>
              <a:rect l="l" t="t" r="r" b="b"/>
              <a:pathLst>
                <a:path w="106" h="93">
                  <a:moveTo>
                    <a:pt x="38" y="34"/>
                  </a:moveTo>
                  <a:lnTo>
                    <a:pt x="57" y="0"/>
                  </a:lnTo>
                  <a:lnTo>
                    <a:pt x="70" y="34"/>
                  </a:lnTo>
                  <a:lnTo>
                    <a:pt x="106" y="40"/>
                  </a:lnTo>
                  <a:lnTo>
                    <a:pt x="78" y="61"/>
                  </a:lnTo>
                  <a:lnTo>
                    <a:pt x="83" y="93"/>
                  </a:lnTo>
                  <a:lnTo>
                    <a:pt x="53" y="70"/>
                  </a:lnTo>
                  <a:lnTo>
                    <a:pt x="21" y="86"/>
                  </a:lnTo>
                  <a:lnTo>
                    <a:pt x="26" y="57"/>
                  </a:lnTo>
                  <a:lnTo>
                    <a:pt x="0" y="34"/>
                  </a:lnTo>
                  <a:lnTo>
                    <a:pt x="38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1800" y="3485880"/>
              <a:ext cx="122760" cy="12960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9" y="57"/>
                  </a:moveTo>
                  <a:lnTo>
                    <a:pt x="93" y="0"/>
                  </a:lnTo>
                  <a:lnTo>
                    <a:pt x="108" y="57"/>
                  </a:lnTo>
                  <a:lnTo>
                    <a:pt x="171" y="68"/>
                  </a:lnTo>
                  <a:lnTo>
                    <a:pt x="121" y="103"/>
                  </a:lnTo>
                  <a:lnTo>
                    <a:pt x="131" y="156"/>
                  </a:lnTo>
                  <a:lnTo>
                    <a:pt x="81" y="118"/>
                  </a:lnTo>
                  <a:lnTo>
                    <a:pt x="28" y="148"/>
                  </a:lnTo>
                  <a:lnTo>
                    <a:pt x="40" y="95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9120" y="4029840"/>
              <a:ext cx="121680" cy="130680"/>
            </a:xfrm>
            <a:custGeom>
              <a:avLst/>
              <a:gdLst/>
              <a:ahLst/>
              <a:rect l="l" t="t" r="r" b="b"/>
              <a:pathLst>
                <a:path w="167" h="158">
                  <a:moveTo>
                    <a:pt x="57" y="63"/>
                  </a:moveTo>
                  <a:lnTo>
                    <a:pt x="72" y="0"/>
                  </a:lnTo>
                  <a:lnTo>
                    <a:pt x="107" y="49"/>
                  </a:lnTo>
                  <a:lnTo>
                    <a:pt x="167" y="44"/>
                  </a:lnTo>
                  <a:lnTo>
                    <a:pt x="129" y="89"/>
                  </a:lnTo>
                  <a:lnTo>
                    <a:pt x="156" y="135"/>
                  </a:lnTo>
                  <a:lnTo>
                    <a:pt x="95" y="116"/>
                  </a:lnTo>
                  <a:lnTo>
                    <a:pt x="53" y="158"/>
                  </a:lnTo>
                  <a:lnTo>
                    <a:pt x="50" y="106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55360" y="3248280"/>
              <a:ext cx="123480" cy="12636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61" y="53"/>
                  </a:moveTo>
                  <a:lnTo>
                    <a:pt x="93" y="0"/>
                  </a:lnTo>
                  <a:lnTo>
                    <a:pt x="114" y="53"/>
                  </a:lnTo>
                  <a:lnTo>
                    <a:pt x="171" y="66"/>
                  </a:lnTo>
                  <a:lnTo>
                    <a:pt x="122" y="101"/>
                  </a:lnTo>
                  <a:lnTo>
                    <a:pt x="137" y="152"/>
                  </a:lnTo>
                  <a:lnTo>
                    <a:pt x="88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81200" y="3304440"/>
              <a:ext cx="123480" cy="130680"/>
            </a:xfrm>
            <a:custGeom>
              <a:avLst/>
              <a:gdLst/>
              <a:ahLst/>
              <a:rect l="l" t="t" r="r" b="b"/>
              <a:pathLst>
                <a:path w="171" h="156">
                  <a:moveTo>
                    <a:pt x="55" y="57"/>
                  </a:moveTo>
                  <a:lnTo>
                    <a:pt x="89" y="0"/>
                  </a:lnTo>
                  <a:lnTo>
                    <a:pt x="108" y="57"/>
                  </a:lnTo>
                  <a:lnTo>
                    <a:pt x="171" y="67"/>
                  </a:lnTo>
                  <a:lnTo>
                    <a:pt x="122" y="99"/>
                  </a:lnTo>
                  <a:lnTo>
                    <a:pt x="131" y="156"/>
                  </a:lnTo>
                  <a:lnTo>
                    <a:pt x="82" y="116"/>
                  </a:lnTo>
                  <a:lnTo>
                    <a:pt x="28" y="147"/>
                  </a:lnTo>
                  <a:lnTo>
                    <a:pt x="40" y="93"/>
                  </a:lnTo>
                  <a:lnTo>
                    <a:pt x="0" y="57"/>
                  </a:lnTo>
                  <a:lnTo>
                    <a:pt x="55" y="57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55200" y="3479400"/>
              <a:ext cx="36000" cy="39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5" y="0"/>
                  </a:lnTo>
                  <a:lnTo>
                    <a:pt x="30" y="16"/>
                  </a:lnTo>
                  <a:lnTo>
                    <a:pt x="49" y="16"/>
                  </a:lnTo>
                  <a:lnTo>
                    <a:pt x="40" y="27"/>
                  </a:lnTo>
                  <a:lnTo>
                    <a:pt x="47" y="42"/>
                  </a:lnTo>
                  <a:lnTo>
                    <a:pt x="30" y="35"/>
                  </a:lnTo>
                  <a:lnTo>
                    <a:pt x="17" y="48"/>
                  </a:lnTo>
                  <a:lnTo>
                    <a:pt x="13" y="31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04920" y="3474000"/>
              <a:ext cx="74160" cy="7884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8" y="32"/>
                  </a:moveTo>
                  <a:lnTo>
                    <a:pt x="57" y="0"/>
                  </a:lnTo>
                  <a:lnTo>
                    <a:pt x="67" y="32"/>
                  </a:lnTo>
                  <a:lnTo>
                    <a:pt x="103" y="40"/>
                  </a:lnTo>
                  <a:lnTo>
                    <a:pt x="72" y="59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21" y="85"/>
                  </a:lnTo>
                  <a:lnTo>
                    <a:pt x="27" y="55"/>
                  </a:lnTo>
                  <a:lnTo>
                    <a:pt x="0" y="32"/>
                  </a:lnTo>
                  <a:lnTo>
                    <a:pt x="38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40040" y="3615840"/>
              <a:ext cx="77760" cy="7668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6" y="32"/>
                  </a:moveTo>
                  <a:lnTo>
                    <a:pt x="57" y="0"/>
                  </a:lnTo>
                  <a:lnTo>
                    <a:pt x="66" y="32"/>
                  </a:lnTo>
                  <a:lnTo>
                    <a:pt x="106" y="38"/>
                  </a:lnTo>
                  <a:lnTo>
                    <a:pt x="76" y="59"/>
                  </a:lnTo>
                  <a:lnTo>
                    <a:pt x="83" y="91"/>
                  </a:lnTo>
                  <a:lnTo>
                    <a:pt x="53" y="68"/>
                  </a:lnTo>
                  <a:lnTo>
                    <a:pt x="21" y="89"/>
                  </a:lnTo>
                  <a:lnTo>
                    <a:pt x="26" y="57"/>
                  </a:lnTo>
                  <a:lnTo>
                    <a:pt x="0" y="32"/>
                  </a:lnTo>
                  <a:lnTo>
                    <a:pt x="36" y="32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06680" y="2843640"/>
              <a:ext cx="127440" cy="1263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59" y="57"/>
                  </a:moveTo>
                  <a:lnTo>
                    <a:pt x="93" y="0"/>
                  </a:lnTo>
                  <a:lnTo>
                    <a:pt x="112" y="57"/>
                  </a:lnTo>
                  <a:lnTo>
                    <a:pt x="175" y="67"/>
                  </a:lnTo>
                  <a:lnTo>
                    <a:pt x="126" y="99"/>
                  </a:lnTo>
                  <a:lnTo>
                    <a:pt x="135" y="152"/>
                  </a:lnTo>
                  <a:lnTo>
                    <a:pt x="86" y="116"/>
                  </a:lnTo>
                  <a:lnTo>
                    <a:pt x="33" y="147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4480" y="3084840"/>
              <a:ext cx="122040" cy="12852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55" y="59"/>
                  </a:moveTo>
                  <a:lnTo>
                    <a:pt x="72" y="0"/>
                  </a:lnTo>
                  <a:lnTo>
                    <a:pt x="104" y="46"/>
                  </a:lnTo>
                  <a:lnTo>
                    <a:pt x="167" y="40"/>
                  </a:lnTo>
                  <a:lnTo>
                    <a:pt x="131" y="86"/>
                  </a:lnTo>
                  <a:lnTo>
                    <a:pt x="156" y="135"/>
                  </a:lnTo>
                  <a:lnTo>
                    <a:pt x="99" y="112"/>
                  </a:lnTo>
                  <a:lnTo>
                    <a:pt x="55" y="154"/>
                  </a:lnTo>
                  <a:lnTo>
                    <a:pt x="49" y="103"/>
                  </a:lnTo>
                  <a:lnTo>
                    <a:pt x="0" y="78"/>
                  </a:lnTo>
                  <a:lnTo>
                    <a:pt x="55" y="59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19160" y="4102200"/>
              <a:ext cx="126360" cy="13068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61" y="57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3" y="98"/>
                  </a:lnTo>
                  <a:lnTo>
                    <a:pt x="137" y="155"/>
                  </a:lnTo>
                  <a:lnTo>
                    <a:pt x="83" y="119"/>
                  </a:lnTo>
                  <a:lnTo>
                    <a:pt x="30" y="146"/>
                  </a:lnTo>
                  <a:lnTo>
                    <a:pt x="44" y="95"/>
                  </a:lnTo>
                  <a:lnTo>
                    <a:pt x="0" y="57"/>
                  </a:lnTo>
                  <a:lnTo>
                    <a:pt x="61" y="57"/>
                  </a:lnTo>
                  <a:lnTo>
                    <a:pt x="61" y="5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05720" y="4026600"/>
              <a:ext cx="126720" cy="12816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63" y="53"/>
                  </a:moveTo>
                  <a:lnTo>
                    <a:pt x="94" y="0"/>
                  </a:lnTo>
                  <a:lnTo>
                    <a:pt x="113" y="57"/>
                  </a:lnTo>
                  <a:lnTo>
                    <a:pt x="175" y="67"/>
                  </a:lnTo>
                  <a:lnTo>
                    <a:pt x="126" y="101"/>
                  </a:lnTo>
                  <a:lnTo>
                    <a:pt x="135" y="154"/>
                  </a:lnTo>
                  <a:lnTo>
                    <a:pt x="86" y="116"/>
                  </a:lnTo>
                  <a:lnTo>
                    <a:pt x="33" y="146"/>
                  </a:lnTo>
                  <a:lnTo>
                    <a:pt x="44" y="93"/>
                  </a:lnTo>
                  <a:lnTo>
                    <a:pt x="0" y="57"/>
                  </a:lnTo>
                  <a:lnTo>
                    <a:pt x="63" y="53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95200" y="3895920"/>
              <a:ext cx="34920" cy="4104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16" y="17"/>
                  </a:moveTo>
                  <a:lnTo>
                    <a:pt x="23" y="0"/>
                  </a:lnTo>
                  <a:lnTo>
                    <a:pt x="33" y="15"/>
                  </a:lnTo>
                  <a:lnTo>
                    <a:pt x="50" y="12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4"/>
                  </a:lnTo>
                  <a:lnTo>
                    <a:pt x="16" y="48"/>
                  </a:lnTo>
                  <a:lnTo>
                    <a:pt x="16" y="31"/>
                  </a:lnTo>
                  <a:lnTo>
                    <a:pt x="0" y="23"/>
                  </a:lnTo>
                  <a:lnTo>
                    <a:pt x="16" y="17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84640" y="3724920"/>
              <a:ext cx="75960" cy="7776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6" y="34"/>
                  </a:moveTo>
                  <a:lnTo>
                    <a:pt x="53" y="0"/>
                  </a:lnTo>
                  <a:lnTo>
                    <a:pt x="66" y="34"/>
                  </a:lnTo>
                  <a:lnTo>
                    <a:pt x="103" y="40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49" y="70"/>
                  </a:lnTo>
                  <a:lnTo>
                    <a:pt x="17" y="91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3011400"/>
              <a:ext cx="74880" cy="7668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6" y="34"/>
                  </a:moveTo>
                  <a:lnTo>
                    <a:pt x="55" y="0"/>
                  </a:lnTo>
                  <a:lnTo>
                    <a:pt x="67" y="34"/>
                  </a:lnTo>
                  <a:lnTo>
                    <a:pt x="105" y="40"/>
                  </a:lnTo>
                  <a:lnTo>
                    <a:pt x="76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9" y="87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64880" y="3151800"/>
              <a:ext cx="124560" cy="126360"/>
            </a:xfrm>
            <a:custGeom>
              <a:avLst/>
              <a:gdLst/>
              <a:ahLst/>
              <a:rect l="l" t="t" r="r" b="b"/>
              <a:pathLst>
                <a:path w="173" h="152">
                  <a:moveTo>
                    <a:pt x="61" y="53"/>
                  </a:moveTo>
                  <a:lnTo>
                    <a:pt x="93" y="0"/>
                  </a:lnTo>
                  <a:lnTo>
                    <a:pt x="110" y="57"/>
                  </a:lnTo>
                  <a:lnTo>
                    <a:pt x="173" y="66"/>
                  </a:lnTo>
                  <a:lnTo>
                    <a:pt x="124" y="99"/>
                  </a:lnTo>
                  <a:lnTo>
                    <a:pt x="133" y="152"/>
                  </a:lnTo>
                  <a:lnTo>
                    <a:pt x="84" y="116"/>
                  </a:lnTo>
                  <a:lnTo>
                    <a:pt x="30" y="146"/>
                  </a:lnTo>
                  <a:lnTo>
                    <a:pt x="42" y="93"/>
                  </a:lnTo>
                  <a:lnTo>
                    <a:pt x="0" y="57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240" y="3734640"/>
              <a:ext cx="121680" cy="13284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57" y="63"/>
                  </a:moveTo>
                  <a:lnTo>
                    <a:pt x="72" y="0"/>
                  </a:lnTo>
                  <a:lnTo>
                    <a:pt x="105" y="50"/>
                  </a:lnTo>
                  <a:lnTo>
                    <a:pt x="167" y="42"/>
                  </a:lnTo>
                  <a:lnTo>
                    <a:pt x="129" y="86"/>
                  </a:lnTo>
                  <a:lnTo>
                    <a:pt x="154" y="135"/>
                  </a:lnTo>
                  <a:lnTo>
                    <a:pt x="95" y="116"/>
                  </a:lnTo>
                  <a:lnTo>
                    <a:pt x="53" y="160"/>
                  </a:lnTo>
                  <a:lnTo>
                    <a:pt x="50" y="107"/>
                  </a:lnTo>
                  <a:lnTo>
                    <a:pt x="0" y="80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31520" y="4140360"/>
              <a:ext cx="126720" cy="126360"/>
            </a:xfrm>
            <a:custGeom>
              <a:avLst/>
              <a:gdLst/>
              <a:ahLst/>
              <a:rect l="l" t="t" r="r" b="b"/>
              <a:pathLst>
                <a:path w="173" h="150">
                  <a:moveTo>
                    <a:pt x="61" y="51"/>
                  </a:moveTo>
                  <a:lnTo>
                    <a:pt x="93" y="0"/>
                  </a:lnTo>
                  <a:lnTo>
                    <a:pt x="114" y="55"/>
                  </a:lnTo>
                  <a:lnTo>
                    <a:pt x="173" y="66"/>
                  </a:lnTo>
                  <a:lnTo>
                    <a:pt x="125" y="99"/>
                  </a:lnTo>
                  <a:lnTo>
                    <a:pt x="137" y="150"/>
                  </a:lnTo>
                  <a:lnTo>
                    <a:pt x="87" y="116"/>
                  </a:lnTo>
                  <a:lnTo>
                    <a:pt x="34" y="146"/>
                  </a:lnTo>
                  <a:lnTo>
                    <a:pt x="44" y="93"/>
                  </a:lnTo>
                  <a:lnTo>
                    <a:pt x="0" y="55"/>
                  </a:lnTo>
                  <a:lnTo>
                    <a:pt x="61" y="51"/>
                  </a:lnTo>
                  <a:lnTo>
                    <a:pt x="61" y="5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6200" y="4322880"/>
              <a:ext cx="127440" cy="1263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63" y="55"/>
                  </a:moveTo>
                  <a:lnTo>
                    <a:pt x="93" y="0"/>
                  </a:lnTo>
                  <a:lnTo>
                    <a:pt x="112" y="55"/>
                  </a:lnTo>
                  <a:lnTo>
                    <a:pt x="175" y="64"/>
                  </a:lnTo>
                  <a:lnTo>
                    <a:pt x="125" y="98"/>
                  </a:lnTo>
                  <a:lnTo>
                    <a:pt x="135" y="152"/>
                  </a:lnTo>
                  <a:lnTo>
                    <a:pt x="86" y="115"/>
                  </a:lnTo>
                  <a:lnTo>
                    <a:pt x="34" y="144"/>
                  </a:lnTo>
                  <a:lnTo>
                    <a:pt x="42" y="91"/>
                  </a:lnTo>
                  <a:lnTo>
                    <a:pt x="0" y="55"/>
                  </a:lnTo>
                  <a:lnTo>
                    <a:pt x="63" y="55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54120" y="4202640"/>
              <a:ext cx="34920" cy="421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5" y="19"/>
                  </a:moveTo>
                  <a:lnTo>
                    <a:pt x="19" y="0"/>
                  </a:lnTo>
                  <a:lnTo>
                    <a:pt x="29" y="17"/>
                  </a:lnTo>
                  <a:lnTo>
                    <a:pt x="49" y="13"/>
                  </a:lnTo>
                  <a:lnTo>
                    <a:pt x="36" y="27"/>
                  </a:lnTo>
                  <a:lnTo>
                    <a:pt x="46" y="44"/>
                  </a:lnTo>
                  <a:lnTo>
                    <a:pt x="27" y="36"/>
                  </a:lnTo>
                  <a:lnTo>
                    <a:pt x="13" y="49"/>
                  </a:lnTo>
                  <a:lnTo>
                    <a:pt x="13" y="32"/>
                  </a:lnTo>
                  <a:lnTo>
                    <a:pt x="0" y="27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02040" y="4199760"/>
              <a:ext cx="73080" cy="7452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34" y="34"/>
                  </a:moveTo>
                  <a:lnTo>
                    <a:pt x="57" y="0"/>
                  </a:lnTo>
                  <a:lnTo>
                    <a:pt x="69" y="34"/>
                  </a:lnTo>
                  <a:lnTo>
                    <a:pt x="103" y="42"/>
                  </a:lnTo>
                  <a:lnTo>
                    <a:pt x="74" y="61"/>
                  </a:lnTo>
                  <a:lnTo>
                    <a:pt x="80" y="91"/>
                  </a:lnTo>
                  <a:lnTo>
                    <a:pt x="52" y="72"/>
                  </a:lnTo>
                  <a:lnTo>
                    <a:pt x="19" y="88"/>
                  </a:lnTo>
                  <a:lnTo>
                    <a:pt x="25" y="55"/>
                  </a:lnTo>
                  <a:lnTo>
                    <a:pt x="0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93360" y="3136680"/>
              <a:ext cx="74160" cy="74520"/>
            </a:xfrm>
            <a:custGeom>
              <a:avLst/>
              <a:gdLst/>
              <a:ahLst/>
              <a:rect l="l" t="t" r="r" b="b"/>
              <a:pathLst>
                <a:path w="100" h="89">
                  <a:moveTo>
                    <a:pt x="32" y="32"/>
                  </a:moveTo>
                  <a:lnTo>
                    <a:pt x="51" y="0"/>
                  </a:lnTo>
                  <a:lnTo>
                    <a:pt x="66" y="32"/>
                  </a:lnTo>
                  <a:lnTo>
                    <a:pt x="100" y="40"/>
                  </a:lnTo>
                  <a:lnTo>
                    <a:pt x="72" y="59"/>
                  </a:lnTo>
                  <a:lnTo>
                    <a:pt x="78" y="89"/>
                  </a:lnTo>
                  <a:lnTo>
                    <a:pt x="49" y="68"/>
                  </a:lnTo>
                  <a:lnTo>
                    <a:pt x="17" y="85"/>
                  </a:lnTo>
                  <a:lnTo>
                    <a:pt x="23" y="57"/>
                  </a:lnTo>
                  <a:lnTo>
                    <a:pt x="0" y="32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69240" y="4328280"/>
              <a:ext cx="72360" cy="7668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37" y="33"/>
                  </a:moveTo>
                  <a:lnTo>
                    <a:pt x="56" y="0"/>
                  </a:lnTo>
                  <a:lnTo>
                    <a:pt x="67" y="33"/>
                  </a:lnTo>
                  <a:lnTo>
                    <a:pt x="101" y="40"/>
                  </a:lnTo>
                  <a:lnTo>
                    <a:pt x="75" y="59"/>
                  </a:lnTo>
                  <a:lnTo>
                    <a:pt x="78" y="93"/>
                  </a:lnTo>
                  <a:lnTo>
                    <a:pt x="50" y="71"/>
                  </a:lnTo>
                  <a:lnTo>
                    <a:pt x="19" y="90"/>
                  </a:lnTo>
                  <a:lnTo>
                    <a:pt x="25" y="57"/>
                  </a:lnTo>
                  <a:lnTo>
                    <a:pt x="0" y="33"/>
                  </a:lnTo>
                  <a:lnTo>
                    <a:pt x="37" y="33"/>
                  </a:lnTo>
                  <a:lnTo>
                    <a:pt x="37" y="33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240" y="4442760"/>
              <a:ext cx="36720" cy="3996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7" y="21"/>
                  </a:moveTo>
                  <a:lnTo>
                    <a:pt x="23" y="0"/>
                  </a:lnTo>
                  <a:lnTo>
                    <a:pt x="31" y="13"/>
                  </a:lnTo>
                  <a:lnTo>
                    <a:pt x="50" y="13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31" y="36"/>
                  </a:lnTo>
                  <a:lnTo>
                    <a:pt x="17" y="47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13240" y="3297960"/>
              <a:ext cx="74160" cy="7668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32" y="34"/>
                  </a:moveTo>
                  <a:lnTo>
                    <a:pt x="53" y="0"/>
                  </a:lnTo>
                  <a:lnTo>
                    <a:pt x="67" y="34"/>
                  </a:lnTo>
                  <a:lnTo>
                    <a:pt x="103" y="42"/>
                  </a:lnTo>
                  <a:lnTo>
                    <a:pt x="72" y="61"/>
                  </a:lnTo>
                  <a:lnTo>
                    <a:pt x="80" y="93"/>
                  </a:lnTo>
                  <a:lnTo>
                    <a:pt x="50" y="70"/>
                  </a:lnTo>
                  <a:lnTo>
                    <a:pt x="17" y="87"/>
                  </a:lnTo>
                  <a:lnTo>
                    <a:pt x="23" y="57"/>
                  </a:lnTo>
                  <a:lnTo>
                    <a:pt x="0" y="34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8040" y="3713040"/>
              <a:ext cx="36000" cy="406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7" y="19"/>
                  </a:moveTo>
                  <a:lnTo>
                    <a:pt x="19" y="0"/>
                  </a:lnTo>
                  <a:lnTo>
                    <a:pt x="32" y="15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2"/>
                  </a:lnTo>
                  <a:lnTo>
                    <a:pt x="28" y="36"/>
                  </a:lnTo>
                  <a:lnTo>
                    <a:pt x="17" y="49"/>
                  </a:lnTo>
                  <a:lnTo>
                    <a:pt x="13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97920" y="3952080"/>
              <a:ext cx="36000" cy="388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5" y="21"/>
                  </a:moveTo>
                  <a:lnTo>
                    <a:pt x="23" y="0"/>
                  </a:lnTo>
                  <a:lnTo>
                    <a:pt x="32" y="13"/>
                  </a:lnTo>
                  <a:lnTo>
                    <a:pt x="49" y="13"/>
                  </a:lnTo>
                  <a:lnTo>
                    <a:pt x="40" y="26"/>
                  </a:lnTo>
                  <a:lnTo>
                    <a:pt x="45" y="43"/>
                  </a:lnTo>
                  <a:lnTo>
                    <a:pt x="30" y="36"/>
                  </a:lnTo>
                  <a:lnTo>
                    <a:pt x="15" y="47"/>
                  </a:lnTo>
                  <a:lnTo>
                    <a:pt x="15" y="32"/>
                  </a:lnTo>
                  <a:lnTo>
                    <a:pt x="0" y="24"/>
                  </a:lnTo>
                  <a:lnTo>
                    <a:pt x="15" y="21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14400" y="3648240"/>
              <a:ext cx="34920" cy="399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7" y="19"/>
                  </a:moveTo>
                  <a:lnTo>
                    <a:pt x="23" y="0"/>
                  </a:lnTo>
                  <a:lnTo>
                    <a:pt x="32" y="15"/>
                  </a:lnTo>
                  <a:lnTo>
                    <a:pt x="49" y="11"/>
                  </a:lnTo>
                  <a:lnTo>
                    <a:pt x="40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7"/>
                  </a:lnTo>
                  <a:lnTo>
                    <a:pt x="13" y="30"/>
                  </a:lnTo>
                  <a:lnTo>
                    <a:pt x="0" y="25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27720" y="4341240"/>
              <a:ext cx="36720" cy="3744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15" y="16"/>
                  </a:moveTo>
                  <a:lnTo>
                    <a:pt x="19" y="0"/>
                  </a:lnTo>
                  <a:lnTo>
                    <a:pt x="32" y="14"/>
                  </a:lnTo>
                  <a:lnTo>
                    <a:pt x="49" y="10"/>
                  </a:lnTo>
                  <a:lnTo>
                    <a:pt x="38" y="23"/>
                  </a:lnTo>
                  <a:lnTo>
                    <a:pt x="45" y="40"/>
                  </a:lnTo>
                  <a:lnTo>
                    <a:pt x="28" y="33"/>
                  </a:lnTo>
                  <a:lnTo>
                    <a:pt x="15" y="46"/>
                  </a:lnTo>
                  <a:lnTo>
                    <a:pt x="11" y="31"/>
                  </a:lnTo>
                  <a:lnTo>
                    <a:pt x="0" y="23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45680" y="4255920"/>
              <a:ext cx="39960" cy="4212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17" y="19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53" y="11"/>
                  </a:lnTo>
                  <a:lnTo>
                    <a:pt x="40" y="26"/>
                  </a:lnTo>
                  <a:lnTo>
                    <a:pt x="46" y="41"/>
                  </a:lnTo>
                  <a:lnTo>
                    <a:pt x="30" y="36"/>
                  </a:lnTo>
                  <a:lnTo>
                    <a:pt x="17" y="49"/>
                  </a:lnTo>
                  <a:lnTo>
                    <a:pt x="17" y="32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4880" y="3916440"/>
              <a:ext cx="37080" cy="3888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7" y="17"/>
                  </a:moveTo>
                  <a:lnTo>
                    <a:pt x="23" y="0"/>
                  </a:lnTo>
                  <a:lnTo>
                    <a:pt x="34" y="15"/>
                  </a:lnTo>
                  <a:lnTo>
                    <a:pt x="49" y="11"/>
                  </a:lnTo>
                  <a:lnTo>
                    <a:pt x="42" y="25"/>
                  </a:lnTo>
                  <a:lnTo>
                    <a:pt x="47" y="42"/>
                  </a:lnTo>
                  <a:lnTo>
                    <a:pt x="30" y="34"/>
                  </a:lnTo>
                  <a:lnTo>
                    <a:pt x="17" y="48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d9b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59160" y="5681160"/>
              <a:ext cx="331560" cy="547920"/>
            </a:xfrm>
            <a:custGeom>
              <a:avLst/>
              <a:gdLst/>
              <a:ahLst/>
              <a:rect l="l" t="t" r="r" b="b"/>
              <a:pathLst>
                <a:path w="457" h="658">
                  <a:moveTo>
                    <a:pt x="457" y="0"/>
                  </a:moveTo>
                  <a:lnTo>
                    <a:pt x="449" y="173"/>
                  </a:lnTo>
                  <a:lnTo>
                    <a:pt x="434" y="303"/>
                  </a:lnTo>
                  <a:lnTo>
                    <a:pt x="439" y="456"/>
                  </a:lnTo>
                  <a:lnTo>
                    <a:pt x="439" y="582"/>
                  </a:lnTo>
                  <a:lnTo>
                    <a:pt x="434" y="658"/>
                  </a:lnTo>
                  <a:lnTo>
                    <a:pt x="373" y="658"/>
                  </a:lnTo>
                  <a:lnTo>
                    <a:pt x="234" y="658"/>
                  </a:lnTo>
                  <a:lnTo>
                    <a:pt x="0" y="624"/>
                  </a:lnTo>
                  <a:lnTo>
                    <a:pt x="261" y="599"/>
                  </a:lnTo>
                  <a:lnTo>
                    <a:pt x="363" y="460"/>
                  </a:lnTo>
                  <a:lnTo>
                    <a:pt x="377" y="285"/>
                  </a:lnTo>
                  <a:lnTo>
                    <a:pt x="457" y="0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11600" y="4772520"/>
              <a:ext cx="65520" cy="6696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78" y="0"/>
                  </a:moveTo>
                  <a:lnTo>
                    <a:pt x="90" y="23"/>
                  </a:lnTo>
                  <a:lnTo>
                    <a:pt x="76" y="38"/>
                  </a:lnTo>
                  <a:lnTo>
                    <a:pt x="37" y="46"/>
                  </a:lnTo>
                  <a:lnTo>
                    <a:pt x="25" y="65"/>
                  </a:lnTo>
                  <a:lnTo>
                    <a:pt x="0" y="80"/>
                  </a:lnTo>
                  <a:lnTo>
                    <a:pt x="6" y="54"/>
                  </a:lnTo>
                  <a:lnTo>
                    <a:pt x="25" y="23"/>
                  </a:lnTo>
                  <a:lnTo>
                    <a:pt x="52" y="27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24840" y="5099400"/>
              <a:ext cx="24840" cy="11016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17" y="0"/>
                  </a:moveTo>
                  <a:lnTo>
                    <a:pt x="17" y="36"/>
                  </a:lnTo>
                  <a:lnTo>
                    <a:pt x="30" y="72"/>
                  </a:lnTo>
                  <a:lnTo>
                    <a:pt x="26" y="102"/>
                  </a:lnTo>
                  <a:lnTo>
                    <a:pt x="34" y="131"/>
                  </a:lnTo>
                  <a:lnTo>
                    <a:pt x="17" y="131"/>
                  </a:lnTo>
                  <a:lnTo>
                    <a:pt x="13" y="95"/>
                  </a:lnTo>
                  <a:lnTo>
                    <a:pt x="13" y="68"/>
                  </a:lnTo>
                  <a:lnTo>
                    <a:pt x="0" y="3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056240" y="5699520"/>
              <a:ext cx="37800" cy="7848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3" y="0"/>
                  </a:moveTo>
                  <a:lnTo>
                    <a:pt x="41" y="27"/>
                  </a:lnTo>
                  <a:lnTo>
                    <a:pt x="41" y="55"/>
                  </a:lnTo>
                  <a:lnTo>
                    <a:pt x="41" y="72"/>
                  </a:lnTo>
                  <a:lnTo>
                    <a:pt x="38" y="88"/>
                  </a:lnTo>
                  <a:lnTo>
                    <a:pt x="11" y="95"/>
                  </a:lnTo>
                  <a:lnTo>
                    <a:pt x="0" y="91"/>
                  </a:lnTo>
                  <a:lnTo>
                    <a:pt x="26" y="82"/>
                  </a:lnTo>
                  <a:lnTo>
                    <a:pt x="32" y="55"/>
                  </a:lnTo>
                  <a:lnTo>
                    <a:pt x="38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21760" y="5547960"/>
              <a:ext cx="38880" cy="10692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0" y="0"/>
                  </a:moveTo>
                  <a:lnTo>
                    <a:pt x="8" y="22"/>
                  </a:lnTo>
                  <a:lnTo>
                    <a:pt x="11" y="49"/>
                  </a:lnTo>
                  <a:lnTo>
                    <a:pt x="8" y="76"/>
                  </a:lnTo>
                  <a:lnTo>
                    <a:pt x="0" y="127"/>
                  </a:lnTo>
                  <a:lnTo>
                    <a:pt x="27" y="83"/>
                  </a:lnTo>
                  <a:lnTo>
                    <a:pt x="53" y="49"/>
                  </a:lnTo>
                  <a:lnTo>
                    <a:pt x="27" y="26"/>
                  </a:lnTo>
                  <a:lnTo>
                    <a:pt x="8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21760" y="5373000"/>
              <a:ext cx="15120" cy="3996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9" y="0"/>
                  </a:moveTo>
                  <a:lnTo>
                    <a:pt x="15" y="21"/>
                  </a:lnTo>
                  <a:lnTo>
                    <a:pt x="13" y="36"/>
                  </a:lnTo>
                  <a:lnTo>
                    <a:pt x="0" y="32"/>
                  </a:lnTo>
                  <a:lnTo>
                    <a:pt x="6" y="43"/>
                  </a:lnTo>
                  <a:lnTo>
                    <a:pt x="13" y="47"/>
                  </a:lnTo>
                  <a:lnTo>
                    <a:pt x="23" y="32"/>
                  </a:lnTo>
                  <a:lnTo>
                    <a:pt x="23" y="1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5040" y="4930560"/>
              <a:ext cx="29520" cy="3348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2" y="27"/>
                  </a:moveTo>
                  <a:lnTo>
                    <a:pt x="30" y="21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11" y="31"/>
                  </a:lnTo>
                  <a:lnTo>
                    <a:pt x="0" y="40"/>
                  </a:lnTo>
                  <a:lnTo>
                    <a:pt x="4" y="23"/>
                  </a:lnTo>
                  <a:lnTo>
                    <a:pt x="17" y="16"/>
                  </a:lnTo>
                  <a:lnTo>
                    <a:pt x="27" y="0"/>
                  </a:lnTo>
                  <a:lnTo>
                    <a:pt x="34" y="12"/>
                  </a:lnTo>
                  <a:lnTo>
                    <a:pt x="44" y="21"/>
                  </a:lnTo>
                  <a:lnTo>
                    <a:pt x="42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8000" y="4978080"/>
              <a:ext cx="39960" cy="10800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18" y="14"/>
                  </a:lnTo>
                  <a:lnTo>
                    <a:pt x="37" y="23"/>
                  </a:lnTo>
                  <a:lnTo>
                    <a:pt x="56" y="37"/>
                  </a:lnTo>
                  <a:lnTo>
                    <a:pt x="48" y="67"/>
                  </a:lnTo>
                  <a:lnTo>
                    <a:pt x="48" y="80"/>
                  </a:lnTo>
                  <a:lnTo>
                    <a:pt x="44" y="103"/>
                  </a:lnTo>
                  <a:lnTo>
                    <a:pt x="44" y="130"/>
                  </a:lnTo>
                  <a:lnTo>
                    <a:pt x="37" y="99"/>
                  </a:lnTo>
                  <a:lnTo>
                    <a:pt x="21" y="7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1800" y="6085440"/>
              <a:ext cx="102600" cy="16092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97" y="0"/>
                  </a:moveTo>
                  <a:lnTo>
                    <a:pt x="107" y="45"/>
                  </a:lnTo>
                  <a:lnTo>
                    <a:pt x="113" y="80"/>
                  </a:lnTo>
                  <a:lnTo>
                    <a:pt x="116" y="118"/>
                  </a:lnTo>
                  <a:lnTo>
                    <a:pt x="126" y="156"/>
                  </a:lnTo>
                  <a:lnTo>
                    <a:pt x="139" y="182"/>
                  </a:lnTo>
                  <a:lnTo>
                    <a:pt x="109" y="192"/>
                  </a:lnTo>
                  <a:lnTo>
                    <a:pt x="54" y="192"/>
                  </a:lnTo>
                  <a:lnTo>
                    <a:pt x="0" y="188"/>
                  </a:lnTo>
                  <a:lnTo>
                    <a:pt x="44" y="175"/>
                  </a:lnTo>
                  <a:lnTo>
                    <a:pt x="103" y="175"/>
                  </a:lnTo>
                  <a:lnTo>
                    <a:pt x="86" y="84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32480" y="4483080"/>
              <a:ext cx="83520" cy="50400"/>
            </a:xfrm>
            <a:custGeom>
              <a:avLst/>
              <a:gdLst/>
              <a:ahLst/>
              <a:rect l="l" t="t" r="r" b="b"/>
              <a:pathLst>
                <a:path w="116" h="63">
                  <a:moveTo>
                    <a:pt x="0" y="0"/>
                  </a:moveTo>
                  <a:lnTo>
                    <a:pt x="0" y="31"/>
                  </a:lnTo>
                  <a:lnTo>
                    <a:pt x="0" y="56"/>
                  </a:lnTo>
                  <a:lnTo>
                    <a:pt x="21" y="63"/>
                  </a:lnTo>
                  <a:lnTo>
                    <a:pt x="57" y="63"/>
                  </a:lnTo>
                  <a:lnTo>
                    <a:pt x="74" y="59"/>
                  </a:lnTo>
                  <a:lnTo>
                    <a:pt x="116" y="59"/>
                  </a:lnTo>
                  <a:lnTo>
                    <a:pt x="84" y="46"/>
                  </a:lnTo>
                  <a:lnTo>
                    <a:pt x="57" y="42"/>
                  </a:lnTo>
                  <a:lnTo>
                    <a:pt x="17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61200" y="4449600"/>
              <a:ext cx="50400" cy="99360"/>
            </a:xfrm>
            <a:custGeom>
              <a:avLst/>
              <a:gdLst/>
              <a:ahLst/>
              <a:rect l="l" t="t" r="r" b="b"/>
              <a:pathLst>
                <a:path w="68" h="119">
                  <a:moveTo>
                    <a:pt x="68" y="0"/>
                  </a:moveTo>
                  <a:lnTo>
                    <a:pt x="68" y="51"/>
                  </a:lnTo>
                  <a:lnTo>
                    <a:pt x="68" y="89"/>
                  </a:lnTo>
                  <a:lnTo>
                    <a:pt x="68" y="116"/>
                  </a:lnTo>
                  <a:lnTo>
                    <a:pt x="45" y="119"/>
                  </a:lnTo>
                  <a:lnTo>
                    <a:pt x="0" y="112"/>
                  </a:lnTo>
                  <a:lnTo>
                    <a:pt x="36" y="98"/>
                  </a:lnTo>
                  <a:lnTo>
                    <a:pt x="55" y="6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97920" y="5271120"/>
              <a:ext cx="44640" cy="7560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63" y="0"/>
                  </a:moveTo>
                  <a:lnTo>
                    <a:pt x="63" y="19"/>
                  </a:lnTo>
                  <a:lnTo>
                    <a:pt x="63" y="29"/>
                  </a:lnTo>
                  <a:lnTo>
                    <a:pt x="63" y="42"/>
                  </a:lnTo>
                  <a:lnTo>
                    <a:pt x="59" y="59"/>
                  </a:lnTo>
                  <a:lnTo>
                    <a:pt x="57" y="65"/>
                  </a:lnTo>
                  <a:lnTo>
                    <a:pt x="53" y="78"/>
                  </a:lnTo>
                  <a:lnTo>
                    <a:pt x="53" y="86"/>
                  </a:lnTo>
                  <a:lnTo>
                    <a:pt x="36" y="91"/>
                  </a:lnTo>
                  <a:lnTo>
                    <a:pt x="0" y="91"/>
                  </a:lnTo>
                  <a:lnTo>
                    <a:pt x="45" y="76"/>
                  </a:lnTo>
                  <a:lnTo>
                    <a:pt x="42" y="4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05480" y="5104800"/>
              <a:ext cx="73440" cy="7128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4" y="0"/>
                  </a:moveTo>
                  <a:lnTo>
                    <a:pt x="27" y="14"/>
                  </a:lnTo>
                  <a:lnTo>
                    <a:pt x="48" y="25"/>
                  </a:lnTo>
                  <a:lnTo>
                    <a:pt x="59" y="37"/>
                  </a:lnTo>
                  <a:lnTo>
                    <a:pt x="80" y="54"/>
                  </a:lnTo>
                  <a:lnTo>
                    <a:pt x="99" y="71"/>
                  </a:lnTo>
                  <a:lnTo>
                    <a:pt x="103" y="86"/>
                  </a:lnTo>
                  <a:lnTo>
                    <a:pt x="90" y="75"/>
                  </a:lnTo>
                  <a:lnTo>
                    <a:pt x="55" y="71"/>
                  </a:lnTo>
                  <a:lnTo>
                    <a:pt x="55" y="57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3276720" y="304920"/>
            <a:ext cx="5486400" cy="6165360"/>
            <a:chOff x="3276720" y="304920"/>
            <a:chExt cx="5486400" cy="6165360"/>
          </a:xfrm>
        </p:grpSpPr>
        <p:sp>
          <p:nvSpPr>
            <p:cNvPr id="660" name=""/>
            <p:cNvSpPr/>
            <p:nvPr/>
          </p:nvSpPr>
          <p:spPr>
            <a:xfrm>
              <a:off x="3276720" y="304920"/>
              <a:ext cx="5486400" cy="61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« L’estime de soi est le plus précieux héritage que les parents peuvent laisser à leur enfant.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t héritage n’est possible que grâce à la relation d’attachement et à des attitudes aimantes. L’enfant qui est sécurisé physiquement et psychologiquement, qui ressent un sentiment de confiance face à la vie, qui se connaît et se confère à lui-même une identité propre, qui ressent vivement un sentiment d’appartenance à sa famille et à un groupe, qui développe ses compétences et prend conscience finalement de sa valeur personnelle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hérite d’un tré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ns lequel il pourra pui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ute sa vie pour affro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 difficultés. Cet héritage constitue le meilleur passeport qu’il puisse détenir pour s’épanouir pleinement et grandir constamment. 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ermain Duclos dans : L’estime de soi, un passeport pour la vi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6"/>
            <a:stretch/>
          </p:blipFill>
          <p:spPr>
            <a:xfrm>
              <a:off x="6934320" y="4011480"/>
              <a:ext cx="114300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"/>
          <p:cNvSpPr txBox="1"/>
          <p:nvPr/>
        </p:nvSpPr>
        <p:spPr>
          <a:xfrm rot="20860800">
            <a:off x="304920" y="609480"/>
            <a:ext cx="266688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n passeport 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our la vie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304920" y="2971800"/>
            <a:ext cx="8305560" cy="2814120"/>
            <a:chOff x="304920" y="2971800"/>
            <a:chExt cx="8305560" cy="2814120"/>
          </a:xfrm>
        </p:grpSpPr>
        <p:sp>
          <p:nvSpPr>
            <p:cNvPr id="664" name=""/>
            <p:cNvSpPr/>
            <p:nvPr/>
          </p:nvSpPr>
          <p:spPr>
            <a:xfrm>
              <a:off x="457200" y="2971800"/>
              <a:ext cx="8153280" cy="459720"/>
            </a:xfrm>
            <a:prstGeom prst="rect">
              <a:avLst/>
            </a:prstGeom>
            <a:solidFill>
              <a:srgbClr val="b39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 qui est à APPRENDR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4920" y="3657600"/>
              <a:ext cx="274320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57200" y="609480"/>
            <a:ext cx="815328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i est à COMPREND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19320" y="137160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200400" y="914400"/>
            <a:ext cx="5943600" cy="2666880"/>
            <a:chOff x="3200400" y="914400"/>
            <a:chExt cx="5943600" cy="2666880"/>
          </a:xfrm>
        </p:grpSpPr>
        <p:pic>
          <p:nvPicPr>
            <p:cNvPr id="669" name="" descr=""/>
            <p:cNvPicPr/>
            <p:nvPr/>
          </p:nvPicPr>
          <p:blipFill>
            <a:blip r:embed="rId2"/>
            <a:stretch/>
          </p:blipFill>
          <p:spPr>
            <a:xfrm>
              <a:off x="7086600" y="1909800"/>
              <a:ext cx="2057400" cy="16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200400" y="914400"/>
              <a:ext cx="5638680" cy="1066680"/>
            </a:xfrm>
            <a:prstGeom prst="cloudCallout">
              <a:avLst>
                <a:gd name="adj1" fmla="val 32768"/>
                <a:gd name="adj2" fmla="val 675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urquoi est-ce important de développer l’estime de soi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>
            <a:off x="4114800" y="533412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4204080" y="3721680"/>
            <a:ext cx="354960" cy="405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1970640" y="5344560"/>
            <a:ext cx="401400" cy="36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1981080" y="365760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5" name=""/>
          <p:cNvCxnSpPr/>
          <p:nvPr/>
        </p:nvCxnSpPr>
        <p:spPr>
          <a:xfrm flipV="1">
            <a:off x="3276360" y="419076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6" name=""/>
          <p:cNvCxnSpPr/>
          <p:nvPr/>
        </p:nvCxnSpPr>
        <p:spPr>
          <a:xfrm>
            <a:off x="2819520" y="4572000"/>
            <a:ext cx="9151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 rot="17809800">
            <a:off x="-96840" y="2382840"/>
            <a:ext cx="2992320" cy="969840"/>
          </a:xfrm>
          <a:custGeom>
            <a:avLst/>
            <a:gdLst>
              <a:gd name="textAreaLeft" fmla="*/ 643320 w 2992320"/>
              <a:gd name="textAreaRight" fmla="*/ 2049480 w 2992320"/>
              <a:gd name="textAreaTop" fmla="*/ 129960 h 969840"/>
              <a:gd name="textAreaBottom" fmla="*/ 839880 h 96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92" hR="21600" stAng="10800000" swAng="5400000"/>
                <a:lnTo>
                  <a:pt x="10149" y="0"/>
                </a:lnTo>
                <a:arcTo wR="9292" hR="21600" stAng="-5400000" swAng="3416936"/>
                <a:lnTo>
                  <a:pt x="21256" y="15778"/>
                </a:lnTo>
                <a:lnTo>
                  <a:pt x="19012" y="21600"/>
                </a:lnTo>
                <a:lnTo>
                  <a:pt x="16079" y="15778"/>
                </a:lnTo>
                <a:lnTo>
                  <a:pt x="18239" y="15778"/>
                </a:lnTo>
                <a:arcTo wR="9292" hR="21600" stAng="-1983064" swAng="-3348674"/>
                <a:lnTo>
                  <a:pt x="9720" y="23"/>
                </a:lnTo>
                <a:arcTo wR="9292" hR="21600" stAng="-5468262" swAng="-5331738"/>
                <a:close/>
              </a:path>
              <a:path fill="darkenLess" w="21600" h="21600">
                <a:moveTo>
                  <a:pt x="0" y="21600"/>
                </a:moveTo>
                <a:arcTo wR="9292" hR="21600" stAng="10800000" swAng="5400000"/>
                <a:lnTo>
                  <a:pt x="9292" y="0"/>
                </a:lnTo>
                <a:arcTo wR="9292" hR="21600" stAng="-5400000" swAng="68262"/>
                <a:lnTo>
                  <a:pt x="9720" y="23"/>
                </a:lnTo>
                <a:arcTo wR="9292" hR="21600" stAng="-5468262" swAng="-5331738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3790200">
            <a:off x="3601440" y="2337840"/>
            <a:ext cx="3215160" cy="1066680"/>
          </a:xfrm>
          <a:custGeom>
            <a:avLst/>
            <a:gdLst>
              <a:gd name="textAreaLeft" fmla="*/ 691200 w 3215160"/>
              <a:gd name="textAreaRight" fmla="*/ 2201760 w 321516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92" hR="21600" stAng="10800000" swAng="5400000"/>
                <a:lnTo>
                  <a:pt x="10149" y="0"/>
                </a:lnTo>
                <a:arcTo wR="9292" hR="21600" stAng="-5400000" swAng="2932151"/>
                <a:lnTo>
                  <a:pt x="21007" y="14004"/>
                </a:lnTo>
                <a:lnTo>
                  <a:pt x="19012" y="21600"/>
                </a:lnTo>
                <a:lnTo>
                  <a:pt x="15830" y="14004"/>
                </a:lnTo>
                <a:lnTo>
                  <a:pt x="17990" y="14004"/>
                </a:lnTo>
                <a:arcTo wR="9292" hR="21600" stAng="-2467849" swAng="-2863889"/>
                <a:lnTo>
                  <a:pt x="9720" y="23"/>
                </a:lnTo>
                <a:arcTo wR="9292" hR="21600" stAng="-5468262" swAng="-5331738"/>
                <a:close/>
              </a:path>
              <a:path fill="darkenLess" w="21600" h="21600">
                <a:moveTo>
                  <a:pt x="0" y="21600"/>
                </a:moveTo>
                <a:arcTo wR="9292" hR="21600" stAng="10800000" swAng="5400000"/>
                <a:lnTo>
                  <a:pt x="9292" y="0"/>
                </a:lnTo>
                <a:arcTo wR="9292" hR="21600" stAng="-5400000" swAng="68262"/>
                <a:lnTo>
                  <a:pt x="9720" y="23"/>
                </a:lnTo>
                <a:arcTo wR="9292" hR="21600" stAng="-5468262" swAng="-5331738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rot="4408800">
            <a:off x="3250800" y="2387520"/>
            <a:ext cx="1905120" cy="635040"/>
          </a:xfrm>
          <a:custGeom>
            <a:avLst/>
            <a:gdLst>
              <a:gd name="textAreaLeft" fmla="*/ 410040 w 1905120"/>
              <a:gd name="textAreaRight" fmla="*/ 1305360 w 1905120"/>
              <a:gd name="textAreaTop" fmla="*/ 84960 h 635040"/>
              <a:gd name="textAreaBottom" fmla="*/ 550080 h 635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92" hR="21600" stAng="10800000" swAng="5400000"/>
                <a:lnTo>
                  <a:pt x="10149" y="0"/>
                </a:lnTo>
                <a:arcTo wR="9292" hR="21600" stAng="-5400000" swAng="2843751"/>
                <a:lnTo>
                  <a:pt x="20948" y="13654"/>
                </a:lnTo>
                <a:lnTo>
                  <a:pt x="19012" y="21600"/>
                </a:lnTo>
                <a:lnTo>
                  <a:pt x="15771" y="13654"/>
                </a:lnTo>
                <a:lnTo>
                  <a:pt x="17931" y="13654"/>
                </a:lnTo>
                <a:arcTo wR="9292" hR="21600" stAng="-2556249" swAng="-2775489"/>
                <a:lnTo>
                  <a:pt x="9720" y="23"/>
                </a:lnTo>
                <a:arcTo wR="9292" hR="21600" stAng="-5468262" swAng="-5331738"/>
                <a:close/>
              </a:path>
              <a:path fill="darkenLess" w="21600" h="21600">
                <a:moveTo>
                  <a:pt x="0" y="21600"/>
                </a:moveTo>
                <a:arcTo wR="9292" hR="21600" stAng="10800000" swAng="5400000"/>
                <a:lnTo>
                  <a:pt x="9292" y="0"/>
                </a:lnTo>
                <a:arcTo wR="9292" hR="21600" stAng="-5400000" swAng="68262"/>
                <a:lnTo>
                  <a:pt x="9720" y="23"/>
                </a:lnTo>
                <a:arcTo wR="9292" hR="21600" stAng="-5468262" swAng="-5331738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15735000">
            <a:off x="-1485720" y="2705040"/>
            <a:ext cx="5486400" cy="2057400"/>
          </a:xfrm>
          <a:custGeom>
            <a:avLst/>
            <a:gdLst>
              <a:gd name="textAreaLeft" fmla="*/ 1186560 w 5486400"/>
              <a:gd name="textAreaRight" fmla="*/ 3707640 w 5486400"/>
              <a:gd name="textAreaTop" fmla="*/ 275400 h 2057400"/>
              <a:gd name="textAreaBottom" fmla="*/ 17820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45" hR="21600" stAng="10800000" swAng="5400000"/>
                <a:lnTo>
                  <a:pt x="9925" y="0"/>
                </a:lnTo>
                <a:arcTo wR="9345" hR="21600" stAng="-5400000" swAng="2835598"/>
                <a:lnTo>
                  <a:pt x="20932" y="13582"/>
                </a:lnTo>
                <a:lnTo>
                  <a:pt x="18979" y="21600"/>
                </a:lnTo>
                <a:lnTo>
                  <a:pt x="15690" y="13582"/>
                </a:lnTo>
                <a:lnTo>
                  <a:pt x="18021" y="13582"/>
                </a:lnTo>
                <a:arcTo wR="9345" hR="21600" stAng="-2564402" swAng="-2789423"/>
                <a:lnTo>
                  <a:pt x="9635" y="10"/>
                </a:lnTo>
                <a:arcTo wR="9345" hR="21600" stAng="-5446174" swAng="-5353826"/>
                <a:close/>
              </a:path>
              <a:path fill="darkenLess" w="21600" h="21600">
                <a:moveTo>
                  <a:pt x="0" y="21600"/>
                </a:moveTo>
                <a:arcTo wR="9345" hR="21600" stAng="10800000" swAng="5400000"/>
                <a:lnTo>
                  <a:pt x="9345" y="0"/>
                </a:lnTo>
                <a:arcTo wR="9345" hR="21600" stAng="-5400000" swAng="46174"/>
                <a:lnTo>
                  <a:pt x="9635" y="10"/>
                </a:lnTo>
                <a:arcTo wR="9345" hR="21600" stAng="-5446174" swAng="-5353826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521000">
            <a:off x="73080" y="5000760"/>
            <a:ext cx="19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 reconnaître une valeur pers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809600">
            <a:off x="4646160" y="4954680"/>
            <a:ext cx="197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 reconnaître une valeur soc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259092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 sentir capable de réussir, se reconnaître une valeur dans ses différents rô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4803480" y="245520"/>
            <a:ext cx="2203560" cy="1178280"/>
            <a:chOff x="4803480" y="245520"/>
            <a:chExt cx="2203560" cy="1178280"/>
          </a:xfrm>
        </p:grpSpPr>
        <p:sp>
          <p:nvSpPr>
            <p:cNvPr id="685" name=""/>
            <p:cNvSpPr/>
            <p:nvPr/>
          </p:nvSpPr>
          <p:spPr>
            <a:xfrm rot="1218000">
              <a:off x="5028840" y="990360"/>
              <a:ext cx="1219320" cy="228600"/>
            </a:xfrm>
            <a:custGeom>
              <a:avLst/>
              <a:gdLst>
                <a:gd name="textAreaLeft" fmla="*/ 190440 w 1219320"/>
                <a:gd name="textAreaRight" fmla="*/ 1067040 w 121932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189800">
              <a:off x="4800240" y="6091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 manifeste pa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362320" y="3048120"/>
            <a:ext cx="1828800" cy="1066680"/>
            <a:chOff x="2362320" y="3048120"/>
            <a:chExt cx="1828800" cy="1066680"/>
          </a:xfrm>
        </p:grpSpPr>
        <p:sp>
          <p:nvSpPr>
            <p:cNvPr id="688" name=""/>
            <p:cNvSpPr/>
            <p:nvPr/>
          </p:nvSpPr>
          <p:spPr>
            <a:xfrm>
              <a:off x="2362320" y="3048120"/>
              <a:ext cx="1828800" cy="1066680"/>
            </a:xfrm>
            <a:prstGeom prst="ellipse">
              <a:avLst/>
            </a:prstGeom>
            <a:gradFill rotWithShape="0">
              <a:gsLst>
                <a:gs pos="0">
                  <a:srgbClr val="ced5cc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é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3048120" y="3352680"/>
              <a:ext cx="685800" cy="685440"/>
              <a:chOff x="3048120" y="3352680"/>
              <a:chExt cx="685800" cy="685440"/>
            </a:xfrm>
          </p:grpSpPr>
          <p:sp>
            <p:nvSpPr>
              <p:cNvPr id="690" name=""/>
              <p:cNvSpPr/>
              <p:nvPr/>
            </p:nvSpPr>
            <p:spPr>
              <a:xfrm>
                <a:off x="3048120" y="3433680"/>
                <a:ext cx="685800" cy="604440"/>
              </a:xfrm>
              <a:custGeom>
                <a:avLst/>
                <a:gdLst/>
                <a:ahLst/>
                <a:rect l="l" t="t" r="r" b="b"/>
                <a:pathLst>
                  <a:path w="2862" h="2233">
                    <a:moveTo>
                      <a:pt x="1" y="1057"/>
                    </a:moveTo>
                    <a:lnTo>
                      <a:pt x="7" y="1133"/>
                    </a:lnTo>
                    <a:lnTo>
                      <a:pt x="15" y="1209"/>
                    </a:lnTo>
                    <a:lnTo>
                      <a:pt x="25" y="1285"/>
                    </a:lnTo>
                    <a:lnTo>
                      <a:pt x="37" y="1363"/>
                    </a:lnTo>
                    <a:lnTo>
                      <a:pt x="54" y="1439"/>
                    </a:lnTo>
                    <a:lnTo>
                      <a:pt x="73" y="1514"/>
                    </a:lnTo>
                    <a:lnTo>
                      <a:pt x="97" y="1588"/>
                    </a:lnTo>
                    <a:lnTo>
                      <a:pt x="124" y="1660"/>
                    </a:lnTo>
                    <a:lnTo>
                      <a:pt x="154" y="1730"/>
                    </a:lnTo>
                    <a:lnTo>
                      <a:pt x="188" y="1799"/>
                    </a:lnTo>
                    <a:lnTo>
                      <a:pt x="228" y="1863"/>
                    </a:lnTo>
                    <a:lnTo>
                      <a:pt x="271" y="1924"/>
                    </a:lnTo>
                    <a:lnTo>
                      <a:pt x="321" y="1982"/>
                    </a:lnTo>
                    <a:lnTo>
                      <a:pt x="373" y="2036"/>
                    </a:lnTo>
                    <a:lnTo>
                      <a:pt x="433" y="2085"/>
                    </a:lnTo>
                    <a:lnTo>
                      <a:pt x="497" y="2129"/>
                    </a:lnTo>
                    <a:lnTo>
                      <a:pt x="528" y="2150"/>
                    </a:lnTo>
                    <a:lnTo>
                      <a:pt x="561" y="2167"/>
                    </a:lnTo>
                    <a:lnTo>
                      <a:pt x="595" y="2182"/>
                    </a:lnTo>
                    <a:lnTo>
                      <a:pt x="631" y="2196"/>
                    </a:lnTo>
                    <a:lnTo>
                      <a:pt x="667" y="2208"/>
                    </a:lnTo>
                    <a:lnTo>
                      <a:pt x="703" y="2217"/>
                    </a:lnTo>
                    <a:lnTo>
                      <a:pt x="742" y="2224"/>
                    </a:lnTo>
                    <a:lnTo>
                      <a:pt x="779" y="2229"/>
                    </a:lnTo>
                    <a:lnTo>
                      <a:pt x="818" y="2232"/>
                    </a:lnTo>
                    <a:lnTo>
                      <a:pt x="856" y="2233"/>
                    </a:lnTo>
                    <a:lnTo>
                      <a:pt x="895" y="2233"/>
                    </a:lnTo>
                    <a:lnTo>
                      <a:pt x="934" y="2232"/>
                    </a:lnTo>
                    <a:lnTo>
                      <a:pt x="973" y="2227"/>
                    </a:lnTo>
                    <a:lnTo>
                      <a:pt x="1012" y="2223"/>
                    </a:lnTo>
                    <a:lnTo>
                      <a:pt x="1050" y="2215"/>
                    </a:lnTo>
                    <a:lnTo>
                      <a:pt x="1088" y="2208"/>
                    </a:lnTo>
                    <a:lnTo>
                      <a:pt x="1150" y="2178"/>
                    </a:lnTo>
                    <a:lnTo>
                      <a:pt x="1209" y="2145"/>
                    </a:lnTo>
                    <a:lnTo>
                      <a:pt x="1265" y="2109"/>
                    </a:lnTo>
                    <a:lnTo>
                      <a:pt x="1319" y="2069"/>
                    </a:lnTo>
                    <a:lnTo>
                      <a:pt x="1371" y="2027"/>
                    </a:lnTo>
                    <a:lnTo>
                      <a:pt x="1419" y="1982"/>
                    </a:lnTo>
                    <a:lnTo>
                      <a:pt x="1464" y="1933"/>
                    </a:lnTo>
                    <a:lnTo>
                      <a:pt x="1506" y="1882"/>
                    </a:lnTo>
                    <a:lnTo>
                      <a:pt x="1544" y="1829"/>
                    </a:lnTo>
                    <a:lnTo>
                      <a:pt x="1579" y="1772"/>
                    </a:lnTo>
                    <a:lnTo>
                      <a:pt x="1610" y="1712"/>
                    </a:lnTo>
                    <a:lnTo>
                      <a:pt x="1638" y="1651"/>
                    </a:lnTo>
                    <a:lnTo>
                      <a:pt x="1662" y="1587"/>
                    </a:lnTo>
                    <a:lnTo>
                      <a:pt x="1683" y="1520"/>
                    </a:lnTo>
                    <a:lnTo>
                      <a:pt x="1700" y="1449"/>
                    </a:lnTo>
                    <a:lnTo>
                      <a:pt x="1711" y="1378"/>
                    </a:lnTo>
                    <a:lnTo>
                      <a:pt x="1716" y="1285"/>
                    </a:lnTo>
                    <a:lnTo>
                      <a:pt x="1716" y="1190"/>
                    </a:lnTo>
                    <a:lnTo>
                      <a:pt x="1716" y="1099"/>
                    </a:lnTo>
                    <a:lnTo>
                      <a:pt x="1719" y="1015"/>
                    </a:lnTo>
                    <a:lnTo>
                      <a:pt x="1753" y="1006"/>
                    </a:lnTo>
                    <a:lnTo>
                      <a:pt x="1789" y="996"/>
                    </a:lnTo>
                    <a:lnTo>
                      <a:pt x="1825" y="985"/>
                    </a:lnTo>
                    <a:lnTo>
                      <a:pt x="1862" y="975"/>
                    </a:lnTo>
                    <a:lnTo>
                      <a:pt x="1900" y="964"/>
                    </a:lnTo>
                    <a:lnTo>
                      <a:pt x="1937" y="954"/>
                    </a:lnTo>
                    <a:lnTo>
                      <a:pt x="1974" y="942"/>
                    </a:lnTo>
                    <a:lnTo>
                      <a:pt x="2013" y="931"/>
                    </a:lnTo>
                    <a:lnTo>
                      <a:pt x="2050" y="923"/>
                    </a:lnTo>
                    <a:lnTo>
                      <a:pt x="2089" y="914"/>
                    </a:lnTo>
                    <a:lnTo>
                      <a:pt x="2128" y="905"/>
                    </a:lnTo>
                    <a:lnTo>
                      <a:pt x="2167" y="899"/>
                    </a:lnTo>
                    <a:lnTo>
                      <a:pt x="2204" y="893"/>
                    </a:lnTo>
                    <a:lnTo>
                      <a:pt x="2243" y="888"/>
                    </a:lnTo>
                    <a:lnTo>
                      <a:pt x="2280" y="885"/>
                    </a:lnTo>
                    <a:lnTo>
                      <a:pt x="2317" y="885"/>
                    </a:lnTo>
                    <a:lnTo>
                      <a:pt x="2331" y="905"/>
                    </a:lnTo>
                    <a:lnTo>
                      <a:pt x="2346" y="923"/>
                    </a:lnTo>
                    <a:lnTo>
                      <a:pt x="2364" y="939"/>
                    </a:lnTo>
                    <a:lnTo>
                      <a:pt x="2382" y="955"/>
                    </a:lnTo>
                    <a:lnTo>
                      <a:pt x="2399" y="972"/>
                    </a:lnTo>
                    <a:lnTo>
                      <a:pt x="2420" y="987"/>
                    </a:lnTo>
                    <a:lnTo>
                      <a:pt x="2441" y="1002"/>
                    </a:lnTo>
                    <a:lnTo>
                      <a:pt x="2464" y="1014"/>
                    </a:lnTo>
                    <a:lnTo>
                      <a:pt x="2486" y="1027"/>
                    </a:lnTo>
                    <a:lnTo>
                      <a:pt x="2510" y="1039"/>
                    </a:lnTo>
                    <a:lnTo>
                      <a:pt x="2534" y="1049"/>
                    </a:lnTo>
                    <a:lnTo>
                      <a:pt x="2559" y="1060"/>
                    </a:lnTo>
                    <a:lnTo>
                      <a:pt x="2583" y="1070"/>
                    </a:lnTo>
                    <a:lnTo>
                      <a:pt x="2608" y="1079"/>
                    </a:lnTo>
                    <a:lnTo>
                      <a:pt x="2634" y="1087"/>
                    </a:lnTo>
                    <a:lnTo>
                      <a:pt x="2659" y="1094"/>
                    </a:lnTo>
                    <a:lnTo>
                      <a:pt x="2684" y="1082"/>
                    </a:lnTo>
                    <a:lnTo>
                      <a:pt x="2708" y="1067"/>
                    </a:lnTo>
                    <a:lnTo>
                      <a:pt x="2728" y="1048"/>
                    </a:lnTo>
                    <a:lnTo>
                      <a:pt x="2746" y="1026"/>
                    </a:lnTo>
                    <a:lnTo>
                      <a:pt x="2761" y="1002"/>
                    </a:lnTo>
                    <a:lnTo>
                      <a:pt x="2774" y="976"/>
                    </a:lnTo>
                    <a:lnTo>
                      <a:pt x="2784" y="948"/>
                    </a:lnTo>
                    <a:lnTo>
                      <a:pt x="2793" y="921"/>
                    </a:lnTo>
                    <a:lnTo>
                      <a:pt x="2790" y="885"/>
                    </a:lnTo>
                    <a:lnTo>
                      <a:pt x="2783" y="855"/>
                    </a:lnTo>
                    <a:lnTo>
                      <a:pt x="2775" y="828"/>
                    </a:lnTo>
                    <a:lnTo>
                      <a:pt x="2768" y="800"/>
                    </a:lnTo>
                    <a:lnTo>
                      <a:pt x="2774" y="784"/>
                    </a:lnTo>
                    <a:lnTo>
                      <a:pt x="2786" y="770"/>
                    </a:lnTo>
                    <a:lnTo>
                      <a:pt x="2801" y="760"/>
                    </a:lnTo>
                    <a:lnTo>
                      <a:pt x="2817" y="749"/>
                    </a:lnTo>
                    <a:lnTo>
                      <a:pt x="2834" y="737"/>
                    </a:lnTo>
                    <a:lnTo>
                      <a:pt x="2849" y="724"/>
                    </a:lnTo>
                    <a:lnTo>
                      <a:pt x="2858" y="706"/>
                    </a:lnTo>
                    <a:lnTo>
                      <a:pt x="2862" y="682"/>
                    </a:lnTo>
                    <a:lnTo>
                      <a:pt x="2856" y="676"/>
                    </a:lnTo>
                    <a:lnTo>
                      <a:pt x="2853" y="673"/>
                    </a:lnTo>
                    <a:lnTo>
                      <a:pt x="2850" y="670"/>
                    </a:lnTo>
                    <a:lnTo>
                      <a:pt x="2838" y="660"/>
                    </a:lnTo>
                    <a:lnTo>
                      <a:pt x="2832" y="660"/>
                    </a:lnTo>
                    <a:lnTo>
                      <a:pt x="2828" y="661"/>
                    </a:lnTo>
                    <a:lnTo>
                      <a:pt x="2822" y="661"/>
                    </a:lnTo>
                    <a:lnTo>
                      <a:pt x="2816" y="663"/>
                    </a:lnTo>
                    <a:lnTo>
                      <a:pt x="2810" y="664"/>
                    </a:lnTo>
                    <a:lnTo>
                      <a:pt x="2804" y="664"/>
                    </a:lnTo>
                    <a:lnTo>
                      <a:pt x="2796" y="666"/>
                    </a:lnTo>
                    <a:lnTo>
                      <a:pt x="2789" y="666"/>
                    </a:lnTo>
                    <a:lnTo>
                      <a:pt x="2777" y="646"/>
                    </a:lnTo>
                    <a:lnTo>
                      <a:pt x="2772" y="624"/>
                    </a:lnTo>
                    <a:lnTo>
                      <a:pt x="2777" y="603"/>
                    </a:lnTo>
                    <a:lnTo>
                      <a:pt x="2784" y="579"/>
                    </a:lnTo>
                    <a:lnTo>
                      <a:pt x="2795" y="555"/>
                    </a:lnTo>
                    <a:lnTo>
                      <a:pt x="2805" y="530"/>
                    </a:lnTo>
                    <a:lnTo>
                      <a:pt x="2813" y="503"/>
                    </a:lnTo>
                    <a:lnTo>
                      <a:pt x="2814" y="476"/>
                    </a:lnTo>
                    <a:lnTo>
                      <a:pt x="2778" y="409"/>
                    </a:lnTo>
                    <a:lnTo>
                      <a:pt x="2759" y="403"/>
                    </a:lnTo>
                    <a:lnTo>
                      <a:pt x="2741" y="400"/>
                    </a:lnTo>
                    <a:lnTo>
                      <a:pt x="2722" y="399"/>
                    </a:lnTo>
                    <a:lnTo>
                      <a:pt x="2702" y="402"/>
                    </a:lnTo>
                    <a:lnTo>
                      <a:pt x="2683" y="406"/>
                    </a:lnTo>
                    <a:lnTo>
                      <a:pt x="2664" y="412"/>
                    </a:lnTo>
                    <a:lnTo>
                      <a:pt x="2644" y="421"/>
                    </a:lnTo>
                    <a:lnTo>
                      <a:pt x="2625" y="430"/>
                    </a:lnTo>
                    <a:lnTo>
                      <a:pt x="2605" y="440"/>
                    </a:lnTo>
                    <a:lnTo>
                      <a:pt x="2587" y="452"/>
                    </a:lnTo>
                    <a:lnTo>
                      <a:pt x="2570" y="464"/>
                    </a:lnTo>
                    <a:lnTo>
                      <a:pt x="2552" y="476"/>
                    </a:lnTo>
                    <a:lnTo>
                      <a:pt x="2535" y="488"/>
                    </a:lnTo>
                    <a:lnTo>
                      <a:pt x="2519" y="499"/>
                    </a:lnTo>
                    <a:lnTo>
                      <a:pt x="2504" y="509"/>
                    </a:lnTo>
                    <a:lnTo>
                      <a:pt x="2489" y="518"/>
                    </a:lnTo>
                    <a:lnTo>
                      <a:pt x="2473" y="533"/>
                    </a:lnTo>
                    <a:lnTo>
                      <a:pt x="2456" y="548"/>
                    </a:lnTo>
                    <a:lnTo>
                      <a:pt x="2440" y="563"/>
                    </a:lnTo>
                    <a:lnTo>
                      <a:pt x="2425" y="578"/>
                    </a:lnTo>
                    <a:lnTo>
                      <a:pt x="2410" y="593"/>
                    </a:lnTo>
                    <a:lnTo>
                      <a:pt x="2395" y="606"/>
                    </a:lnTo>
                    <a:lnTo>
                      <a:pt x="2380" y="621"/>
                    </a:lnTo>
                    <a:lnTo>
                      <a:pt x="2367" y="636"/>
                    </a:lnTo>
                    <a:lnTo>
                      <a:pt x="2352" y="651"/>
                    </a:lnTo>
                    <a:lnTo>
                      <a:pt x="2338" y="666"/>
                    </a:lnTo>
                    <a:lnTo>
                      <a:pt x="2323" y="679"/>
                    </a:lnTo>
                    <a:lnTo>
                      <a:pt x="2308" y="694"/>
                    </a:lnTo>
                    <a:lnTo>
                      <a:pt x="2295" y="709"/>
                    </a:lnTo>
                    <a:lnTo>
                      <a:pt x="2280" y="722"/>
                    </a:lnTo>
                    <a:lnTo>
                      <a:pt x="2265" y="737"/>
                    </a:lnTo>
                    <a:lnTo>
                      <a:pt x="2249" y="751"/>
                    </a:lnTo>
                    <a:lnTo>
                      <a:pt x="1695" y="843"/>
                    </a:lnTo>
                    <a:lnTo>
                      <a:pt x="1668" y="784"/>
                    </a:lnTo>
                    <a:lnTo>
                      <a:pt x="1641" y="725"/>
                    </a:lnTo>
                    <a:lnTo>
                      <a:pt x="1614" y="667"/>
                    </a:lnTo>
                    <a:lnTo>
                      <a:pt x="1586" y="611"/>
                    </a:lnTo>
                    <a:lnTo>
                      <a:pt x="1556" y="554"/>
                    </a:lnTo>
                    <a:lnTo>
                      <a:pt x="1525" y="499"/>
                    </a:lnTo>
                    <a:lnTo>
                      <a:pt x="1494" y="445"/>
                    </a:lnTo>
                    <a:lnTo>
                      <a:pt x="1459" y="391"/>
                    </a:lnTo>
                    <a:lnTo>
                      <a:pt x="1423" y="342"/>
                    </a:lnTo>
                    <a:lnTo>
                      <a:pt x="1385" y="293"/>
                    </a:lnTo>
                    <a:lnTo>
                      <a:pt x="1344" y="248"/>
                    </a:lnTo>
                    <a:lnTo>
                      <a:pt x="1301" y="205"/>
                    </a:lnTo>
                    <a:lnTo>
                      <a:pt x="1255" y="164"/>
                    </a:lnTo>
                    <a:lnTo>
                      <a:pt x="1204" y="125"/>
                    </a:lnTo>
                    <a:lnTo>
                      <a:pt x="1152" y="93"/>
                    </a:lnTo>
                    <a:lnTo>
                      <a:pt x="1095" y="61"/>
                    </a:lnTo>
                    <a:lnTo>
                      <a:pt x="1071" y="55"/>
                    </a:lnTo>
                    <a:lnTo>
                      <a:pt x="1049" y="51"/>
                    </a:lnTo>
                    <a:lnTo>
                      <a:pt x="1025" y="48"/>
                    </a:lnTo>
                    <a:lnTo>
                      <a:pt x="1003" y="45"/>
                    </a:lnTo>
                    <a:lnTo>
                      <a:pt x="980" y="42"/>
                    </a:lnTo>
                    <a:lnTo>
                      <a:pt x="958" y="39"/>
                    </a:lnTo>
                    <a:lnTo>
                      <a:pt x="937" y="37"/>
                    </a:lnTo>
                    <a:lnTo>
                      <a:pt x="915" y="34"/>
                    </a:lnTo>
                    <a:lnTo>
                      <a:pt x="894" y="33"/>
                    </a:lnTo>
                    <a:lnTo>
                      <a:pt x="873" y="30"/>
                    </a:lnTo>
                    <a:lnTo>
                      <a:pt x="852" y="27"/>
                    </a:lnTo>
                    <a:lnTo>
                      <a:pt x="831" y="22"/>
                    </a:lnTo>
                    <a:lnTo>
                      <a:pt x="810" y="18"/>
                    </a:lnTo>
                    <a:lnTo>
                      <a:pt x="791" y="13"/>
                    </a:lnTo>
                    <a:lnTo>
                      <a:pt x="770" y="7"/>
                    </a:lnTo>
                    <a:lnTo>
                      <a:pt x="750" y="0"/>
                    </a:lnTo>
                    <a:lnTo>
                      <a:pt x="440" y="81"/>
                    </a:lnTo>
                    <a:lnTo>
                      <a:pt x="389" y="125"/>
                    </a:lnTo>
                    <a:lnTo>
                      <a:pt x="340" y="173"/>
                    </a:lnTo>
                    <a:lnTo>
                      <a:pt x="294" y="224"/>
                    </a:lnTo>
                    <a:lnTo>
                      <a:pt x="251" y="276"/>
                    </a:lnTo>
                    <a:lnTo>
                      <a:pt x="210" y="331"/>
                    </a:lnTo>
                    <a:lnTo>
                      <a:pt x="173" y="388"/>
                    </a:lnTo>
                    <a:lnTo>
                      <a:pt x="139" y="448"/>
                    </a:lnTo>
                    <a:lnTo>
                      <a:pt x="109" y="508"/>
                    </a:lnTo>
                    <a:lnTo>
                      <a:pt x="80" y="572"/>
                    </a:lnTo>
                    <a:lnTo>
                      <a:pt x="58" y="636"/>
                    </a:lnTo>
                    <a:lnTo>
                      <a:pt x="39" y="703"/>
                    </a:lnTo>
                    <a:lnTo>
                      <a:pt x="22" y="770"/>
                    </a:lnTo>
                    <a:lnTo>
                      <a:pt x="10" y="840"/>
                    </a:lnTo>
                    <a:lnTo>
                      <a:pt x="3" y="911"/>
                    </a:lnTo>
                    <a:lnTo>
                      <a:pt x="0" y="984"/>
                    </a:lnTo>
                    <a:lnTo>
                      <a:pt x="1" y="10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61440" y="3504600"/>
                <a:ext cx="166320" cy="516960"/>
              </a:xfrm>
              <a:custGeom>
                <a:avLst/>
                <a:gdLst/>
                <a:ahLst/>
                <a:rect l="l" t="t" r="r" b="b"/>
                <a:pathLst>
                  <a:path w="695" h="1912">
                    <a:moveTo>
                      <a:pt x="0" y="945"/>
                    </a:moveTo>
                    <a:lnTo>
                      <a:pt x="15" y="994"/>
                    </a:lnTo>
                    <a:lnTo>
                      <a:pt x="25" y="1043"/>
                    </a:lnTo>
                    <a:lnTo>
                      <a:pt x="33" y="1092"/>
                    </a:lnTo>
                    <a:lnTo>
                      <a:pt x="40" y="1142"/>
                    </a:lnTo>
                    <a:lnTo>
                      <a:pt x="49" y="1192"/>
                    </a:lnTo>
                    <a:lnTo>
                      <a:pt x="60" y="1242"/>
                    </a:lnTo>
                    <a:lnTo>
                      <a:pt x="76" y="1292"/>
                    </a:lnTo>
                    <a:lnTo>
                      <a:pt x="97" y="1343"/>
                    </a:lnTo>
                    <a:lnTo>
                      <a:pt x="118" y="1394"/>
                    </a:lnTo>
                    <a:lnTo>
                      <a:pt x="140" y="1442"/>
                    </a:lnTo>
                    <a:lnTo>
                      <a:pt x="166" y="1489"/>
                    </a:lnTo>
                    <a:lnTo>
                      <a:pt x="194" y="1536"/>
                    </a:lnTo>
                    <a:lnTo>
                      <a:pt x="225" y="1581"/>
                    </a:lnTo>
                    <a:lnTo>
                      <a:pt x="258" y="1622"/>
                    </a:lnTo>
                    <a:lnTo>
                      <a:pt x="293" y="1663"/>
                    </a:lnTo>
                    <a:lnTo>
                      <a:pt x="330" y="1701"/>
                    </a:lnTo>
                    <a:lnTo>
                      <a:pt x="370" y="1737"/>
                    </a:lnTo>
                    <a:lnTo>
                      <a:pt x="410" y="1772"/>
                    </a:lnTo>
                    <a:lnTo>
                      <a:pt x="454" y="1801"/>
                    </a:lnTo>
                    <a:lnTo>
                      <a:pt x="499" y="1830"/>
                    </a:lnTo>
                    <a:lnTo>
                      <a:pt x="546" y="1855"/>
                    </a:lnTo>
                    <a:lnTo>
                      <a:pt x="594" y="1878"/>
                    </a:lnTo>
                    <a:lnTo>
                      <a:pt x="645" y="1897"/>
                    </a:lnTo>
                    <a:lnTo>
                      <a:pt x="695" y="1912"/>
                    </a:lnTo>
                    <a:lnTo>
                      <a:pt x="631" y="1881"/>
                    </a:lnTo>
                    <a:lnTo>
                      <a:pt x="569" y="1845"/>
                    </a:lnTo>
                    <a:lnTo>
                      <a:pt x="509" y="1804"/>
                    </a:lnTo>
                    <a:lnTo>
                      <a:pt x="451" y="1760"/>
                    </a:lnTo>
                    <a:lnTo>
                      <a:pt x="397" y="1712"/>
                    </a:lnTo>
                    <a:lnTo>
                      <a:pt x="346" y="1658"/>
                    </a:lnTo>
                    <a:lnTo>
                      <a:pt x="299" y="1603"/>
                    </a:lnTo>
                    <a:lnTo>
                      <a:pt x="254" y="1543"/>
                    </a:lnTo>
                    <a:lnTo>
                      <a:pt x="214" y="1479"/>
                    </a:lnTo>
                    <a:lnTo>
                      <a:pt x="176" y="1413"/>
                    </a:lnTo>
                    <a:lnTo>
                      <a:pt x="143" y="1343"/>
                    </a:lnTo>
                    <a:lnTo>
                      <a:pt x="117" y="1270"/>
                    </a:lnTo>
                    <a:lnTo>
                      <a:pt x="93" y="1195"/>
                    </a:lnTo>
                    <a:lnTo>
                      <a:pt x="75" y="1116"/>
                    </a:lnTo>
                    <a:lnTo>
                      <a:pt x="61" y="1036"/>
                    </a:lnTo>
                    <a:lnTo>
                      <a:pt x="52" y="952"/>
                    </a:lnTo>
                    <a:lnTo>
                      <a:pt x="49" y="885"/>
                    </a:lnTo>
                    <a:lnTo>
                      <a:pt x="49" y="818"/>
                    </a:lnTo>
                    <a:lnTo>
                      <a:pt x="49" y="752"/>
                    </a:lnTo>
                    <a:lnTo>
                      <a:pt x="51" y="688"/>
                    </a:lnTo>
                    <a:lnTo>
                      <a:pt x="54" y="624"/>
                    </a:lnTo>
                    <a:lnTo>
                      <a:pt x="60" y="562"/>
                    </a:lnTo>
                    <a:lnTo>
                      <a:pt x="69" y="500"/>
                    </a:lnTo>
                    <a:lnTo>
                      <a:pt x="79" y="440"/>
                    </a:lnTo>
                    <a:lnTo>
                      <a:pt x="93" y="380"/>
                    </a:lnTo>
                    <a:lnTo>
                      <a:pt x="109" y="322"/>
                    </a:lnTo>
                    <a:lnTo>
                      <a:pt x="130" y="265"/>
                    </a:lnTo>
                    <a:lnTo>
                      <a:pt x="154" y="210"/>
                    </a:lnTo>
                    <a:lnTo>
                      <a:pt x="181" y="156"/>
                    </a:lnTo>
                    <a:lnTo>
                      <a:pt x="214" y="103"/>
                    </a:lnTo>
                    <a:lnTo>
                      <a:pt x="249" y="50"/>
                    </a:lnTo>
                    <a:lnTo>
                      <a:pt x="290" y="0"/>
                    </a:lnTo>
                    <a:lnTo>
                      <a:pt x="240" y="46"/>
                    </a:lnTo>
                    <a:lnTo>
                      <a:pt x="197" y="94"/>
                    </a:lnTo>
                    <a:lnTo>
                      <a:pt x="158" y="145"/>
                    </a:lnTo>
                    <a:lnTo>
                      <a:pt x="125" y="198"/>
                    </a:lnTo>
                    <a:lnTo>
                      <a:pt x="97" y="254"/>
                    </a:lnTo>
                    <a:lnTo>
                      <a:pt x="73" y="310"/>
                    </a:lnTo>
                    <a:lnTo>
                      <a:pt x="54" y="368"/>
                    </a:lnTo>
                    <a:lnTo>
                      <a:pt x="39" y="430"/>
                    </a:lnTo>
                    <a:lnTo>
                      <a:pt x="25" y="491"/>
                    </a:lnTo>
                    <a:lnTo>
                      <a:pt x="17" y="554"/>
                    </a:lnTo>
                    <a:lnTo>
                      <a:pt x="9" y="618"/>
                    </a:lnTo>
                    <a:lnTo>
                      <a:pt x="5" y="682"/>
                    </a:lnTo>
                    <a:lnTo>
                      <a:pt x="2" y="748"/>
                    </a:lnTo>
                    <a:lnTo>
                      <a:pt x="0" y="813"/>
                    </a:lnTo>
                    <a:lnTo>
                      <a:pt x="0" y="879"/>
                    </a:lnTo>
                    <a:lnTo>
                      <a:pt x="0" y="94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088800" y="3455280"/>
                <a:ext cx="358920" cy="556560"/>
              </a:xfrm>
              <a:custGeom>
                <a:avLst/>
                <a:gdLst/>
                <a:ahLst/>
                <a:rect l="l" t="t" r="r" b="b"/>
                <a:pathLst>
                  <a:path w="1498" h="2057">
                    <a:moveTo>
                      <a:pt x="0" y="1061"/>
                    </a:moveTo>
                    <a:lnTo>
                      <a:pt x="4" y="1125"/>
                    </a:lnTo>
                    <a:lnTo>
                      <a:pt x="13" y="1188"/>
                    </a:lnTo>
                    <a:lnTo>
                      <a:pt x="24" y="1251"/>
                    </a:lnTo>
                    <a:lnTo>
                      <a:pt x="37" y="1313"/>
                    </a:lnTo>
                    <a:lnTo>
                      <a:pt x="52" y="1374"/>
                    </a:lnTo>
                    <a:lnTo>
                      <a:pt x="72" y="1436"/>
                    </a:lnTo>
                    <a:lnTo>
                      <a:pt x="94" y="1494"/>
                    </a:lnTo>
                    <a:lnTo>
                      <a:pt x="118" y="1552"/>
                    </a:lnTo>
                    <a:lnTo>
                      <a:pt x="146" y="1607"/>
                    </a:lnTo>
                    <a:lnTo>
                      <a:pt x="178" y="1661"/>
                    </a:lnTo>
                    <a:lnTo>
                      <a:pt x="212" y="1712"/>
                    </a:lnTo>
                    <a:lnTo>
                      <a:pt x="249" y="1761"/>
                    </a:lnTo>
                    <a:lnTo>
                      <a:pt x="291" y="1807"/>
                    </a:lnTo>
                    <a:lnTo>
                      <a:pt x="336" y="1851"/>
                    </a:lnTo>
                    <a:lnTo>
                      <a:pt x="384" y="1889"/>
                    </a:lnTo>
                    <a:lnTo>
                      <a:pt x="436" y="1927"/>
                    </a:lnTo>
                    <a:lnTo>
                      <a:pt x="467" y="1946"/>
                    </a:lnTo>
                    <a:lnTo>
                      <a:pt x="500" y="1964"/>
                    </a:lnTo>
                    <a:lnTo>
                      <a:pt x="534" y="1980"/>
                    </a:lnTo>
                    <a:lnTo>
                      <a:pt x="569" y="1997"/>
                    </a:lnTo>
                    <a:lnTo>
                      <a:pt x="604" y="2012"/>
                    </a:lnTo>
                    <a:lnTo>
                      <a:pt x="642" y="2025"/>
                    </a:lnTo>
                    <a:lnTo>
                      <a:pt x="679" y="2036"/>
                    </a:lnTo>
                    <a:lnTo>
                      <a:pt x="718" y="2045"/>
                    </a:lnTo>
                    <a:lnTo>
                      <a:pt x="755" y="2052"/>
                    </a:lnTo>
                    <a:lnTo>
                      <a:pt x="794" y="2055"/>
                    </a:lnTo>
                    <a:lnTo>
                      <a:pt x="833" y="2057"/>
                    </a:lnTo>
                    <a:lnTo>
                      <a:pt x="873" y="2054"/>
                    </a:lnTo>
                    <a:lnTo>
                      <a:pt x="912" y="2049"/>
                    </a:lnTo>
                    <a:lnTo>
                      <a:pt x="952" y="2039"/>
                    </a:lnTo>
                    <a:lnTo>
                      <a:pt x="991" y="2025"/>
                    </a:lnTo>
                    <a:lnTo>
                      <a:pt x="1030" y="2007"/>
                    </a:lnTo>
                    <a:lnTo>
                      <a:pt x="1076" y="1973"/>
                    </a:lnTo>
                    <a:lnTo>
                      <a:pt x="1119" y="1939"/>
                    </a:lnTo>
                    <a:lnTo>
                      <a:pt x="1161" y="1901"/>
                    </a:lnTo>
                    <a:lnTo>
                      <a:pt x="1201" y="1861"/>
                    </a:lnTo>
                    <a:lnTo>
                      <a:pt x="1239" y="1821"/>
                    </a:lnTo>
                    <a:lnTo>
                      <a:pt x="1274" y="1777"/>
                    </a:lnTo>
                    <a:lnTo>
                      <a:pt x="1309" y="1734"/>
                    </a:lnTo>
                    <a:lnTo>
                      <a:pt x="1340" y="1688"/>
                    </a:lnTo>
                    <a:lnTo>
                      <a:pt x="1368" y="1640"/>
                    </a:lnTo>
                    <a:lnTo>
                      <a:pt x="1395" y="1591"/>
                    </a:lnTo>
                    <a:lnTo>
                      <a:pt x="1418" y="1540"/>
                    </a:lnTo>
                    <a:lnTo>
                      <a:pt x="1439" y="1488"/>
                    </a:lnTo>
                    <a:lnTo>
                      <a:pt x="1456" y="1434"/>
                    </a:lnTo>
                    <a:lnTo>
                      <a:pt x="1473" y="1380"/>
                    </a:lnTo>
                    <a:lnTo>
                      <a:pt x="1485" y="1324"/>
                    </a:lnTo>
                    <a:lnTo>
                      <a:pt x="1494" y="1265"/>
                    </a:lnTo>
                    <a:lnTo>
                      <a:pt x="1498" y="1197"/>
                    </a:lnTo>
                    <a:lnTo>
                      <a:pt x="1494" y="1130"/>
                    </a:lnTo>
                    <a:lnTo>
                      <a:pt x="1486" y="1067"/>
                    </a:lnTo>
                    <a:lnTo>
                      <a:pt x="1479" y="1003"/>
                    </a:lnTo>
                    <a:lnTo>
                      <a:pt x="1476" y="989"/>
                    </a:lnTo>
                    <a:lnTo>
                      <a:pt x="1468" y="980"/>
                    </a:lnTo>
                    <a:lnTo>
                      <a:pt x="1459" y="977"/>
                    </a:lnTo>
                    <a:lnTo>
                      <a:pt x="1449" y="979"/>
                    </a:lnTo>
                    <a:lnTo>
                      <a:pt x="1436" y="982"/>
                    </a:lnTo>
                    <a:lnTo>
                      <a:pt x="1422" y="986"/>
                    </a:lnTo>
                    <a:lnTo>
                      <a:pt x="1409" y="994"/>
                    </a:lnTo>
                    <a:lnTo>
                      <a:pt x="1395" y="1000"/>
                    </a:lnTo>
                    <a:lnTo>
                      <a:pt x="1391" y="1095"/>
                    </a:lnTo>
                    <a:lnTo>
                      <a:pt x="1382" y="1192"/>
                    </a:lnTo>
                    <a:lnTo>
                      <a:pt x="1365" y="1289"/>
                    </a:lnTo>
                    <a:lnTo>
                      <a:pt x="1345" y="1385"/>
                    </a:lnTo>
                    <a:lnTo>
                      <a:pt x="1315" y="1477"/>
                    </a:lnTo>
                    <a:lnTo>
                      <a:pt x="1279" y="1565"/>
                    </a:lnTo>
                    <a:lnTo>
                      <a:pt x="1236" y="1649"/>
                    </a:lnTo>
                    <a:lnTo>
                      <a:pt x="1185" y="1725"/>
                    </a:lnTo>
                    <a:lnTo>
                      <a:pt x="1161" y="1748"/>
                    </a:lnTo>
                    <a:lnTo>
                      <a:pt x="1134" y="1770"/>
                    </a:lnTo>
                    <a:lnTo>
                      <a:pt x="1107" y="1791"/>
                    </a:lnTo>
                    <a:lnTo>
                      <a:pt x="1077" y="1810"/>
                    </a:lnTo>
                    <a:lnTo>
                      <a:pt x="1046" y="1830"/>
                    </a:lnTo>
                    <a:lnTo>
                      <a:pt x="1013" y="1848"/>
                    </a:lnTo>
                    <a:lnTo>
                      <a:pt x="980" y="1864"/>
                    </a:lnTo>
                    <a:lnTo>
                      <a:pt x="946" y="1877"/>
                    </a:lnTo>
                    <a:lnTo>
                      <a:pt x="910" y="1889"/>
                    </a:lnTo>
                    <a:lnTo>
                      <a:pt x="873" y="1900"/>
                    </a:lnTo>
                    <a:lnTo>
                      <a:pt x="836" y="1907"/>
                    </a:lnTo>
                    <a:lnTo>
                      <a:pt x="798" y="1912"/>
                    </a:lnTo>
                    <a:lnTo>
                      <a:pt x="761" y="1913"/>
                    </a:lnTo>
                    <a:lnTo>
                      <a:pt x="722" y="1912"/>
                    </a:lnTo>
                    <a:lnTo>
                      <a:pt x="683" y="1907"/>
                    </a:lnTo>
                    <a:lnTo>
                      <a:pt x="645" y="1900"/>
                    </a:lnTo>
                    <a:lnTo>
                      <a:pt x="603" y="1885"/>
                    </a:lnTo>
                    <a:lnTo>
                      <a:pt x="563" y="1868"/>
                    </a:lnTo>
                    <a:lnTo>
                      <a:pt x="524" y="1848"/>
                    </a:lnTo>
                    <a:lnTo>
                      <a:pt x="488" y="1825"/>
                    </a:lnTo>
                    <a:lnTo>
                      <a:pt x="452" y="1801"/>
                    </a:lnTo>
                    <a:lnTo>
                      <a:pt x="419" y="1774"/>
                    </a:lnTo>
                    <a:lnTo>
                      <a:pt x="388" y="1746"/>
                    </a:lnTo>
                    <a:lnTo>
                      <a:pt x="358" y="1715"/>
                    </a:lnTo>
                    <a:lnTo>
                      <a:pt x="330" y="1682"/>
                    </a:lnTo>
                    <a:lnTo>
                      <a:pt x="303" y="1648"/>
                    </a:lnTo>
                    <a:lnTo>
                      <a:pt x="279" y="1612"/>
                    </a:lnTo>
                    <a:lnTo>
                      <a:pt x="257" y="1574"/>
                    </a:lnTo>
                    <a:lnTo>
                      <a:pt x="236" y="1536"/>
                    </a:lnTo>
                    <a:lnTo>
                      <a:pt x="216" y="1495"/>
                    </a:lnTo>
                    <a:lnTo>
                      <a:pt x="200" y="1454"/>
                    </a:lnTo>
                    <a:lnTo>
                      <a:pt x="185" y="1412"/>
                    </a:lnTo>
                    <a:lnTo>
                      <a:pt x="166" y="1337"/>
                    </a:lnTo>
                    <a:lnTo>
                      <a:pt x="148" y="1262"/>
                    </a:lnTo>
                    <a:lnTo>
                      <a:pt x="133" y="1186"/>
                    </a:lnTo>
                    <a:lnTo>
                      <a:pt x="121" y="1110"/>
                    </a:lnTo>
                    <a:lnTo>
                      <a:pt x="112" y="1034"/>
                    </a:lnTo>
                    <a:lnTo>
                      <a:pt x="107" y="958"/>
                    </a:lnTo>
                    <a:lnTo>
                      <a:pt x="106" y="882"/>
                    </a:lnTo>
                    <a:lnTo>
                      <a:pt x="110" y="807"/>
                    </a:lnTo>
                    <a:lnTo>
                      <a:pt x="119" y="734"/>
                    </a:lnTo>
                    <a:lnTo>
                      <a:pt x="134" y="662"/>
                    </a:lnTo>
                    <a:lnTo>
                      <a:pt x="155" y="592"/>
                    </a:lnTo>
                    <a:lnTo>
                      <a:pt x="181" y="525"/>
                    </a:lnTo>
                    <a:lnTo>
                      <a:pt x="215" y="459"/>
                    </a:lnTo>
                    <a:lnTo>
                      <a:pt x="255" y="398"/>
                    </a:lnTo>
                    <a:lnTo>
                      <a:pt x="303" y="338"/>
                    </a:lnTo>
                    <a:lnTo>
                      <a:pt x="358" y="283"/>
                    </a:lnTo>
                    <a:lnTo>
                      <a:pt x="388" y="264"/>
                    </a:lnTo>
                    <a:lnTo>
                      <a:pt x="419" y="243"/>
                    </a:lnTo>
                    <a:lnTo>
                      <a:pt x="452" y="224"/>
                    </a:lnTo>
                    <a:lnTo>
                      <a:pt x="484" y="204"/>
                    </a:lnTo>
                    <a:lnTo>
                      <a:pt x="518" y="185"/>
                    </a:lnTo>
                    <a:lnTo>
                      <a:pt x="551" y="167"/>
                    </a:lnTo>
                    <a:lnTo>
                      <a:pt x="585" y="150"/>
                    </a:lnTo>
                    <a:lnTo>
                      <a:pt x="621" y="135"/>
                    </a:lnTo>
                    <a:lnTo>
                      <a:pt x="655" y="124"/>
                    </a:lnTo>
                    <a:lnTo>
                      <a:pt x="691" y="115"/>
                    </a:lnTo>
                    <a:lnTo>
                      <a:pt x="727" y="107"/>
                    </a:lnTo>
                    <a:lnTo>
                      <a:pt x="763" y="104"/>
                    </a:lnTo>
                    <a:lnTo>
                      <a:pt x="798" y="104"/>
                    </a:lnTo>
                    <a:lnTo>
                      <a:pt x="834" y="109"/>
                    </a:lnTo>
                    <a:lnTo>
                      <a:pt x="870" y="118"/>
                    </a:lnTo>
                    <a:lnTo>
                      <a:pt x="906" y="131"/>
                    </a:lnTo>
                    <a:lnTo>
                      <a:pt x="955" y="156"/>
                    </a:lnTo>
                    <a:lnTo>
                      <a:pt x="1001" y="186"/>
                    </a:lnTo>
                    <a:lnTo>
                      <a:pt x="1042" y="218"/>
                    </a:lnTo>
                    <a:lnTo>
                      <a:pt x="1079" y="250"/>
                    </a:lnTo>
                    <a:lnTo>
                      <a:pt x="1113" y="286"/>
                    </a:lnTo>
                    <a:lnTo>
                      <a:pt x="1143" y="324"/>
                    </a:lnTo>
                    <a:lnTo>
                      <a:pt x="1170" y="364"/>
                    </a:lnTo>
                    <a:lnTo>
                      <a:pt x="1195" y="406"/>
                    </a:lnTo>
                    <a:lnTo>
                      <a:pt x="1218" y="449"/>
                    </a:lnTo>
                    <a:lnTo>
                      <a:pt x="1239" y="494"/>
                    </a:lnTo>
                    <a:lnTo>
                      <a:pt x="1258" y="540"/>
                    </a:lnTo>
                    <a:lnTo>
                      <a:pt x="1276" y="586"/>
                    </a:lnTo>
                    <a:lnTo>
                      <a:pt x="1292" y="634"/>
                    </a:lnTo>
                    <a:lnTo>
                      <a:pt x="1307" y="683"/>
                    </a:lnTo>
                    <a:lnTo>
                      <a:pt x="1324" y="733"/>
                    </a:lnTo>
                    <a:lnTo>
                      <a:pt x="1339" y="783"/>
                    </a:lnTo>
                    <a:lnTo>
                      <a:pt x="1431" y="755"/>
                    </a:lnTo>
                    <a:lnTo>
                      <a:pt x="1416" y="698"/>
                    </a:lnTo>
                    <a:lnTo>
                      <a:pt x="1400" y="641"/>
                    </a:lnTo>
                    <a:lnTo>
                      <a:pt x="1380" y="588"/>
                    </a:lnTo>
                    <a:lnTo>
                      <a:pt x="1358" y="536"/>
                    </a:lnTo>
                    <a:lnTo>
                      <a:pt x="1334" y="483"/>
                    </a:lnTo>
                    <a:lnTo>
                      <a:pt x="1307" y="434"/>
                    </a:lnTo>
                    <a:lnTo>
                      <a:pt x="1277" y="388"/>
                    </a:lnTo>
                    <a:lnTo>
                      <a:pt x="1248" y="341"/>
                    </a:lnTo>
                    <a:lnTo>
                      <a:pt x="1213" y="298"/>
                    </a:lnTo>
                    <a:lnTo>
                      <a:pt x="1177" y="256"/>
                    </a:lnTo>
                    <a:lnTo>
                      <a:pt x="1139" y="216"/>
                    </a:lnTo>
                    <a:lnTo>
                      <a:pt x="1098" y="177"/>
                    </a:lnTo>
                    <a:lnTo>
                      <a:pt x="1057" y="141"/>
                    </a:lnTo>
                    <a:lnTo>
                      <a:pt x="1012" y="107"/>
                    </a:lnTo>
                    <a:lnTo>
                      <a:pt x="964" y="76"/>
                    </a:lnTo>
                    <a:lnTo>
                      <a:pt x="915" y="46"/>
                    </a:lnTo>
                    <a:lnTo>
                      <a:pt x="876" y="31"/>
                    </a:lnTo>
                    <a:lnTo>
                      <a:pt x="836" y="21"/>
                    </a:lnTo>
                    <a:lnTo>
                      <a:pt x="795" y="12"/>
                    </a:lnTo>
                    <a:lnTo>
                      <a:pt x="754" y="4"/>
                    </a:lnTo>
                    <a:lnTo>
                      <a:pt x="713" y="1"/>
                    </a:lnTo>
                    <a:lnTo>
                      <a:pt x="673" y="0"/>
                    </a:lnTo>
                    <a:lnTo>
                      <a:pt x="633" y="1"/>
                    </a:lnTo>
                    <a:lnTo>
                      <a:pt x="594" y="6"/>
                    </a:lnTo>
                    <a:lnTo>
                      <a:pt x="555" y="12"/>
                    </a:lnTo>
                    <a:lnTo>
                      <a:pt x="518" y="22"/>
                    </a:lnTo>
                    <a:lnTo>
                      <a:pt x="481" y="32"/>
                    </a:lnTo>
                    <a:lnTo>
                      <a:pt x="446" y="47"/>
                    </a:lnTo>
                    <a:lnTo>
                      <a:pt x="412" y="64"/>
                    </a:lnTo>
                    <a:lnTo>
                      <a:pt x="381" y="83"/>
                    </a:lnTo>
                    <a:lnTo>
                      <a:pt x="351" y="106"/>
                    </a:lnTo>
                    <a:lnTo>
                      <a:pt x="322" y="130"/>
                    </a:lnTo>
                    <a:lnTo>
                      <a:pt x="295" y="161"/>
                    </a:lnTo>
                    <a:lnTo>
                      <a:pt x="267" y="192"/>
                    </a:lnTo>
                    <a:lnTo>
                      <a:pt x="242" y="224"/>
                    </a:lnTo>
                    <a:lnTo>
                      <a:pt x="215" y="256"/>
                    </a:lnTo>
                    <a:lnTo>
                      <a:pt x="190" y="289"/>
                    </a:lnTo>
                    <a:lnTo>
                      <a:pt x="166" y="322"/>
                    </a:lnTo>
                    <a:lnTo>
                      <a:pt x="143" y="356"/>
                    </a:lnTo>
                    <a:lnTo>
                      <a:pt x="122" y="391"/>
                    </a:lnTo>
                    <a:lnTo>
                      <a:pt x="101" y="427"/>
                    </a:lnTo>
                    <a:lnTo>
                      <a:pt x="84" y="464"/>
                    </a:lnTo>
                    <a:lnTo>
                      <a:pt x="66" y="501"/>
                    </a:lnTo>
                    <a:lnTo>
                      <a:pt x="52" y="540"/>
                    </a:lnTo>
                    <a:lnTo>
                      <a:pt x="39" y="580"/>
                    </a:lnTo>
                    <a:lnTo>
                      <a:pt x="28" y="622"/>
                    </a:lnTo>
                    <a:lnTo>
                      <a:pt x="21" y="664"/>
                    </a:lnTo>
                    <a:lnTo>
                      <a:pt x="15" y="709"/>
                    </a:lnTo>
                    <a:lnTo>
                      <a:pt x="13" y="801"/>
                    </a:lnTo>
                    <a:lnTo>
                      <a:pt x="15" y="889"/>
                    </a:lnTo>
                    <a:lnTo>
                      <a:pt x="12" y="976"/>
                    </a:lnTo>
                    <a:lnTo>
                      <a:pt x="0" y="10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129120" y="3713400"/>
                <a:ext cx="99360" cy="74520"/>
              </a:xfrm>
              <a:custGeom>
                <a:avLst/>
                <a:gdLst/>
                <a:ahLst/>
                <a:rect l="l" t="t" r="r" b="b"/>
                <a:pathLst>
                  <a:path w="416" h="277">
                    <a:moveTo>
                      <a:pt x="0" y="20"/>
                    </a:moveTo>
                    <a:lnTo>
                      <a:pt x="55" y="277"/>
                    </a:lnTo>
                    <a:lnTo>
                      <a:pt x="412" y="97"/>
                    </a:lnTo>
                    <a:lnTo>
                      <a:pt x="416" y="83"/>
                    </a:lnTo>
                    <a:lnTo>
                      <a:pt x="413" y="66"/>
                    </a:lnTo>
                    <a:lnTo>
                      <a:pt x="406" y="51"/>
                    </a:lnTo>
                    <a:lnTo>
                      <a:pt x="393" y="41"/>
                    </a:lnTo>
                    <a:lnTo>
                      <a:pt x="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128400" y="3634560"/>
                <a:ext cx="103680" cy="69480"/>
              </a:xfrm>
              <a:custGeom>
                <a:avLst/>
                <a:gdLst/>
                <a:ahLst/>
                <a:rect l="l" t="t" r="r" b="b"/>
                <a:pathLst>
                  <a:path w="434" h="258">
                    <a:moveTo>
                      <a:pt x="0" y="136"/>
                    </a:moveTo>
                    <a:lnTo>
                      <a:pt x="1" y="148"/>
                    </a:lnTo>
                    <a:lnTo>
                      <a:pt x="3" y="160"/>
                    </a:lnTo>
                    <a:lnTo>
                      <a:pt x="4" y="172"/>
                    </a:lnTo>
                    <a:lnTo>
                      <a:pt x="6" y="186"/>
                    </a:lnTo>
                    <a:lnTo>
                      <a:pt x="434" y="258"/>
                    </a:lnTo>
                    <a:lnTo>
                      <a:pt x="38" y="0"/>
                    </a:lnTo>
                    <a:lnTo>
                      <a:pt x="22" y="25"/>
                    </a:lnTo>
                    <a:lnTo>
                      <a:pt x="15" y="60"/>
                    </a:lnTo>
                    <a:lnTo>
                      <a:pt x="10" y="97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47840" y="3762720"/>
                <a:ext cx="89280" cy="113400"/>
              </a:xfrm>
              <a:custGeom>
                <a:avLst/>
                <a:gdLst/>
                <a:ahLst/>
                <a:rect l="l" t="t" r="r" b="b"/>
                <a:pathLst>
                  <a:path w="373" h="419">
                    <a:moveTo>
                      <a:pt x="0" y="198"/>
                    </a:moveTo>
                    <a:lnTo>
                      <a:pt x="67" y="401"/>
                    </a:lnTo>
                    <a:lnTo>
                      <a:pt x="69" y="403"/>
                    </a:lnTo>
                    <a:lnTo>
                      <a:pt x="75" y="407"/>
                    </a:lnTo>
                    <a:lnTo>
                      <a:pt x="82" y="413"/>
                    </a:lnTo>
                    <a:lnTo>
                      <a:pt x="94" y="419"/>
                    </a:lnTo>
                    <a:lnTo>
                      <a:pt x="373" y="50"/>
                    </a:lnTo>
                    <a:lnTo>
                      <a:pt x="372" y="38"/>
                    </a:lnTo>
                    <a:lnTo>
                      <a:pt x="370" y="26"/>
                    </a:lnTo>
                    <a:lnTo>
                      <a:pt x="367" y="15"/>
                    </a:lnTo>
                    <a:lnTo>
                      <a:pt x="366" y="0"/>
                    </a:lnTo>
                    <a:lnTo>
                      <a:pt x="3" y="182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45320" y="3564720"/>
                <a:ext cx="99000" cy="119520"/>
              </a:xfrm>
              <a:custGeom>
                <a:avLst/>
                <a:gdLst/>
                <a:ahLst/>
                <a:rect l="l" t="t" r="r" b="b"/>
                <a:pathLst>
                  <a:path w="415" h="442">
                    <a:moveTo>
                      <a:pt x="9" y="192"/>
                    </a:moveTo>
                    <a:lnTo>
                      <a:pt x="415" y="442"/>
                    </a:lnTo>
                    <a:lnTo>
                      <a:pt x="118" y="0"/>
                    </a:lnTo>
                    <a:lnTo>
                      <a:pt x="95" y="13"/>
                    </a:lnTo>
                    <a:lnTo>
                      <a:pt x="76" y="31"/>
                    </a:lnTo>
                    <a:lnTo>
                      <a:pt x="58" y="50"/>
                    </a:lnTo>
                    <a:lnTo>
                      <a:pt x="43" y="73"/>
                    </a:lnTo>
                    <a:lnTo>
                      <a:pt x="30" y="97"/>
                    </a:lnTo>
                    <a:lnTo>
                      <a:pt x="19" y="121"/>
                    </a:lnTo>
                    <a:lnTo>
                      <a:pt x="9" y="144"/>
                    </a:lnTo>
                    <a:lnTo>
                      <a:pt x="0" y="167"/>
                    </a:lnTo>
                    <a:lnTo>
                      <a:pt x="9" y="192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180960" y="3803760"/>
                <a:ext cx="64080" cy="123120"/>
              </a:xfrm>
              <a:custGeom>
                <a:avLst/>
                <a:gdLst/>
                <a:ahLst/>
                <a:rect l="l" t="t" r="r" b="b"/>
                <a:pathLst>
                  <a:path w="268" h="455">
                    <a:moveTo>
                      <a:pt x="1" y="349"/>
                    </a:moveTo>
                    <a:lnTo>
                      <a:pt x="102" y="455"/>
                    </a:lnTo>
                    <a:lnTo>
                      <a:pt x="268" y="0"/>
                    </a:lnTo>
                    <a:lnTo>
                      <a:pt x="0" y="337"/>
                    </a:lnTo>
                    <a:lnTo>
                      <a:pt x="1" y="349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188520" y="3511440"/>
                <a:ext cx="74520" cy="158400"/>
              </a:xfrm>
              <a:custGeom>
                <a:avLst/>
                <a:gdLst/>
                <a:ahLst/>
                <a:rect l="l" t="t" r="r" b="b"/>
                <a:pathLst>
                  <a:path w="312" h="585">
                    <a:moveTo>
                      <a:pt x="0" y="137"/>
                    </a:moveTo>
                    <a:lnTo>
                      <a:pt x="312" y="585"/>
                    </a:lnTo>
                    <a:lnTo>
                      <a:pt x="267" y="0"/>
                    </a:lnTo>
                    <a:lnTo>
                      <a:pt x="2" y="111"/>
                    </a:lnTo>
                    <a:lnTo>
                      <a:pt x="3" y="117"/>
                    </a:lnTo>
                    <a:lnTo>
                      <a:pt x="3" y="121"/>
                    </a:lnTo>
                    <a:lnTo>
                      <a:pt x="3" y="128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227400" y="3802680"/>
                <a:ext cx="51840" cy="149040"/>
              </a:xfrm>
              <a:custGeom>
                <a:avLst/>
                <a:gdLst/>
                <a:ahLst/>
                <a:rect l="l" t="t" r="r" b="b"/>
                <a:pathLst>
                  <a:path w="219" h="551">
                    <a:moveTo>
                      <a:pt x="0" y="491"/>
                    </a:moveTo>
                    <a:lnTo>
                      <a:pt x="5" y="511"/>
                    </a:lnTo>
                    <a:lnTo>
                      <a:pt x="219" y="551"/>
                    </a:lnTo>
                    <a:lnTo>
                      <a:pt x="168" y="0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45400" y="3693960"/>
                <a:ext cx="59400" cy="82080"/>
              </a:xfrm>
              <a:custGeom>
                <a:avLst/>
                <a:gdLst/>
                <a:ahLst/>
                <a:rect l="l" t="t" r="r" b="b"/>
                <a:pathLst>
                  <a:path w="249" h="303">
                    <a:moveTo>
                      <a:pt x="0" y="143"/>
                    </a:moveTo>
                    <a:lnTo>
                      <a:pt x="26" y="227"/>
                    </a:lnTo>
                    <a:lnTo>
                      <a:pt x="86" y="289"/>
                    </a:lnTo>
                    <a:lnTo>
                      <a:pt x="97" y="298"/>
                    </a:lnTo>
                    <a:lnTo>
                      <a:pt x="110" y="301"/>
                    </a:lnTo>
                    <a:lnTo>
                      <a:pt x="123" y="303"/>
                    </a:lnTo>
                    <a:lnTo>
                      <a:pt x="138" y="300"/>
                    </a:lnTo>
                    <a:lnTo>
                      <a:pt x="153" y="295"/>
                    </a:lnTo>
                    <a:lnTo>
                      <a:pt x="167" y="289"/>
                    </a:lnTo>
                    <a:lnTo>
                      <a:pt x="180" y="282"/>
                    </a:lnTo>
                    <a:lnTo>
                      <a:pt x="191" y="274"/>
                    </a:lnTo>
                    <a:lnTo>
                      <a:pt x="203" y="258"/>
                    </a:lnTo>
                    <a:lnTo>
                      <a:pt x="213" y="242"/>
                    </a:lnTo>
                    <a:lnTo>
                      <a:pt x="222" y="228"/>
                    </a:lnTo>
                    <a:lnTo>
                      <a:pt x="229" y="215"/>
                    </a:lnTo>
                    <a:lnTo>
                      <a:pt x="235" y="203"/>
                    </a:lnTo>
                    <a:lnTo>
                      <a:pt x="241" y="191"/>
                    </a:lnTo>
                    <a:lnTo>
                      <a:pt x="246" y="179"/>
                    </a:lnTo>
                    <a:lnTo>
                      <a:pt x="249" y="168"/>
                    </a:lnTo>
                    <a:lnTo>
                      <a:pt x="237" y="160"/>
                    </a:lnTo>
                    <a:lnTo>
                      <a:pt x="225" y="158"/>
                    </a:lnTo>
                    <a:lnTo>
                      <a:pt x="209" y="161"/>
                    </a:lnTo>
                    <a:lnTo>
                      <a:pt x="194" y="167"/>
                    </a:lnTo>
                    <a:lnTo>
                      <a:pt x="176" y="173"/>
                    </a:lnTo>
                    <a:lnTo>
                      <a:pt x="159" y="179"/>
                    </a:lnTo>
                    <a:lnTo>
                      <a:pt x="141" y="183"/>
                    </a:lnTo>
                    <a:lnTo>
                      <a:pt x="125" y="182"/>
                    </a:lnTo>
                    <a:lnTo>
                      <a:pt x="116" y="177"/>
                    </a:lnTo>
                    <a:lnTo>
                      <a:pt x="107" y="171"/>
                    </a:lnTo>
                    <a:lnTo>
                      <a:pt x="97" y="163"/>
                    </a:lnTo>
                    <a:lnTo>
                      <a:pt x="89" y="149"/>
                    </a:lnTo>
                    <a:lnTo>
                      <a:pt x="95" y="133"/>
                    </a:lnTo>
                    <a:lnTo>
                      <a:pt x="106" y="121"/>
                    </a:lnTo>
                    <a:lnTo>
                      <a:pt x="120" y="112"/>
                    </a:lnTo>
                    <a:lnTo>
                      <a:pt x="138" y="104"/>
                    </a:lnTo>
                    <a:lnTo>
                      <a:pt x="158" y="100"/>
                    </a:lnTo>
                    <a:lnTo>
                      <a:pt x="179" y="94"/>
                    </a:lnTo>
                    <a:lnTo>
                      <a:pt x="198" y="86"/>
                    </a:lnTo>
                    <a:lnTo>
                      <a:pt x="216" y="77"/>
                    </a:lnTo>
                    <a:lnTo>
                      <a:pt x="198" y="15"/>
                    </a:lnTo>
                    <a:lnTo>
                      <a:pt x="182" y="7"/>
                    </a:lnTo>
                    <a:lnTo>
                      <a:pt x="165" y="1"/>
                    </a:lnTo>
                    <a:lnTo>
                      <a:pt x="147" y="0"/>
                    </a:lnTo>
                    <a:lnTo>
                      <a:pt x="129" y="1"/>
                    </a:lnTo>
                    <a:lnTo>
                      <a:pt x="110" y="4"/>
                    </a:lnTo>
                    <a:lnTo>
                      <a:pt x="92" y="10"/>
                    </a:lnTo>
                    <a:lnTo>
                      <a:pt x="74" y="18"/>
                    </a:lnTo>
                    <a:lnTo>
                      <a:pt x="58" y="25"/>
                    </a:lnTo>
                    <a:lnTo>
                      <a:pt x="46" y="34"/>
                    </a:lnTo>
                    <a:lnTo>
                      <a:pt x="35" y="46"/>
                    </a:lnTo>
                    <a:lnTo>
                      <a:pt x="26" y="60"/>
                    </a:lnTo>
                    <a:lnTo>
                      <a:pt x="19" y="74"/>
                    </a:lnTo>
                    <a:lnTo>
                      <a:pt x="13" y="91"/>
                    </a:lnTo>
                    <a:lnTo>
                      <a:pt x="9" y="109"/>
                    </a:lnTo>
                    <a:lnTo>
                      <a:pt x="4" y="125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82480" y="3800160"/>
                <a:ext cx="60120" cy="143640"/>
              </a:xfrm>
              <a:custGeom>
                <a:avLst/>
                <a:gdLst/>
                <a:ahLst/>
                <a:rect l="l" t="t" r="r" b="b"/>
                <a:pathLst>
                  <a:path w="253" h="533">
                    <a:moveTo>
                      <a:pt x="0" y="34"/>
                    </a:moveTo>
                    <a:lnTo>
                      <a:pt x="72" y="504"/>
                    </a:lnTo>
                    <a:lnTo>
                      <a:pt x="75" y="513"/>
                    </a:lnTo>
                    <a:lnTo>
                      <a:pt x="81" y="522"/>
                    </a:lnTo>
                    <a:lnTo>
                      <a:pt x="90" y="527"/>
                    </a:lnTo>
                    <a:lnTo>
                      <a:pt x="100" y="531"/>
                    </a:lnTo>
                    <a:lnTo>
                      <a:pt x="111" y="533"/>
                    </a:lnTo>
                    <a:lnTo>
                      <a:pt x="123" y="531"/>
                    </a:lnTo>
                    <a:lnTo>
                      <a:pt x="135" y="528"/>
                    </a:lnTo>
                    <a:lnTo>
                      <a:pt x="147" y="524"/>
                    </a:lnTo>
                    <a:lnTo>
                      <a:pt x="161" y="512"/>
                    </a:lnTo>
                    <a:lnTo>
                      <a:pt x="178" y="501"/>
                    </a:lnTo>
                    <a:lnTo>
                      <a:pt x="193" y="492"/>
                    </a:lnTo>
                    <a:lnTo>
                      <a:pt x="206" y="482"/>
                    </a:lnTo>
                    <a:lnTo>
                      <a:pt x="220" y="473"/>
                    </a:lnTo>
                    <a:lnTo>
                      <a:pt x="232" y="464"/>
                    </a:lnTo>
                    <a:lnTo>
                      <a:pt x="244" y="457"/>
                    </a:lnTo>
                    <a:lnTo>
                      <a:pt x="253" y="448"/>
                    </a:lnTo>
                    <a:lnTo>
                      <a:pt x="33" y="0"/>
                    </a:lnTo>
                    <a:lnTo>
                      <a:pt x="21" y="1"/>
                    </a:lnTo>
                    <a:lnTo>
                      <a:pt x="9" y="7"/>
                    </a:lnTo>
                    <a:lnTo>
                      <a:pt x="0" y="1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68440" y="3504600"/>
                <a:ext cx="43560" cy="162720"/>
              </a:xfrm>
              <a:custGeom>
                <a:avLst/>
                <a:gdLst/>
                <a:ahLst/>
                <a:rect l="l" t="t" r="r" b="b"/>
                <a:pathLst>
                  <a:path w="182" h="603">
                    <a:moveTo>
                      <a:pt x="0" y="126"/>
                    </a:moveTo>
                    <a:lnTo>
                      <a:pt x="64" y="603"/>
                    </a:lnTo>
                    <a:lnTo>
                      <a:pt x="182" y="51"/>
                    </a:lnTo>
                    <a:lnTo>
                      <a:pt x="169" y="38"/>
                    </a:lnTo>
                    <a:lnTo>
                      <a:pt x="152" y="26"/>
                    </a:lnTo>
                    <a:lnTo>
                      <a:pt x="133" y="15"/>
                    </a:lnTo>
                    <a:lnTo>
                      <a:pt x="112" y="8"/>
                    </a:lnTo>
                    <a:lnTo>
                      <a:pt x="90" y="3"/>
                    </a:lnTo>
                    <a:lnTo>
                      <a:pt x="67" y="0"/>
                    </a:lnTo>
                    <a:lnTo>
                      <a:pt x="45" y="2"/>
                    </a:lnTo>
                    <a:lnTo>
                      <a:pt x="23" y="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305520" y="3778200"/>
                <a:ext cx="83160" cy="124200"/>
              </a:xfrm>
              <a:custGeom>
                <a:avLst/>
                <a:gdLst/>
                <a:ahLst/>
                <a:rect l="l" t="t" r="r" b="b"/>
                <a:pathLst>
                  <a:path w="348" h="460">
                    <a:moveTo>
                      <a:pt x="0" y="36"/>
                    </a:moveTo>
                    <a:lnTo>
                      <a:pt x="230" y="460"/>
                    </a:lnTo>
                    <a:lnTo>
                      <a:pt x="348" y="241"/>
                    </a:lnTo>
                    <a:lnTo>
                      <a:pt x="342" y="217"/>
                    </a:lnTo>
                    <a:lnTo>
                      <a:pt x="333" y="194"/>
                    </a:lnTo>
                    <a:lnTo>
                      <a:pt x="320" y="173"/>
                    </a:lnTo>
                    <a:lnTo>
                      <a:pt x="306" y="156"/>
                    </a:lnTo>
                    <a:lnTo>
                      <a:pt x="290" y="139"/>
                    </a:lnTo>
                    <a:lnTo>
                      <a:pt x="272" y="124"/>
                    </a:lnTo>
                    <a:lnTo>
                      <a:pt x="251" y="111"/>
                    </a:lnTo>
                    <a:lnTo>
                      <a:pt x="230" y="97"/>
                    </a:lnTo>
                    <a:lnTo>
                      <a:pt x="209" y="85"/>
                    </a:lnTo>
                    <a:lnTo>
                      <a:pt x="185" y="73"/>
                    </a:lnTo>
                    <a:lnTo>
                      <a:pt x="163" y="63"/>
                    </a:lnTo>
                    <a:lnTo>
                      <a:pt x="141" y="53"/>
                    </a:lnTo>
                    <a:lnTo>
                      <a:pt x="117" y="41"/>
                    </a:lnTo>
                    <a:lnTo>
                      <a:pt x="94" y="30"/>
                    </a:lnTo>
                    <a:lnTo>
                      <a:pt x="73" y="18"/>
                    </a:lnTo>
                    <a:lnTo>
                      <a:pt x="53" y="5"/>
                    </a:lnTo>
                    <a:lnTo>
                      <a:pt x="38" y="2"/>
                    </a:lnTo>
                    <a:lnTo>
                      <a:pt x="26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6" y="5"/>
                    </a:lnTo>
                    <a:lnTo>
                      <a:pt x="3" y="14"/>
                    </a:lnTo>
                    <a:lnTo>
                      <a:pt x="0" y="2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303000" y="3537000"/>
                <a:ext cx="63000" cy="147600"/>
              </a:xfrm>
              <a:custGeom>
                <a:avLst/>
                <a:gdLst/>
                <a:ahLst/>
                <a:rect l="l" t="t" r="r" b="b"/>
                <a:pathLst>
                  <a:path w="264" h="546">
                    <a:moveTo>
                      <a:pt x="0" y="503"/>
                    </a:moveTo>
                    <a:lnTo>
                      <a:pt x="0" y="514"/>
                    </a:lnTo>
                    <a:lnTo>
                      <a:pt x="1" y="524"/>
                    </a:lnTo>
                    <a:lnTo>
                      <a:pt x="3" y="536"/>
                    </a:lnTo>
                    <a:lnTo>
                      <a:pt x="10" y="546"/>
                    </a:lnTo>
                    <a:lnTo>
                      <a:pt x="264" y="191"/>
                    </a:lnTo>
                    <a:lnTo>
                      <a:pt x="118" y="0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317760" y="3620880"/>
                <a:ext cx="70200" cy="87120"/>
              </a:xfrm>
              <a:custGeom>
                <a:avLst/>
                <a:gdLst/>
                <a:ahLst/>
                <a:rect l="l" t="t" r="r" b="b"/>
                <a:pathLst>
                  <a:path w="294" h="323">
                    <a:moveTo>
                      <a:pt x="1" y="311"/>
                    </a:moveTo>
                    <a:lnTo>
                      <a:pt x="10" y="323"/>
                    </a:lnTo>
                    <a:lnTo>
                      <a:pt x="188" y="236"/>
                    </a:lnTo>
                    <a:lnTo>
                      <a:pt x="277" y="214"/>
                    </a:lnTo>
                    <a:lnTo>
                      <a:pt x="280" y="209"/>
                    </a:lnTo>
                    <a:lnTo>
                      <a:pt x="285" y="203"/>
                    </a:lnTo>
                    <a:lnTo>
                      <a:pt x="289" y="197"/>
                    </a:lnTo>
                    <a:lnTo>
                      <a:pt x="294" y="191"/>
                    </a:lnTo>
                    <a:lnTo>
                      <a:pt x="246" y="0"/>
                    </a:lnTo>
                    <a:lnTo>
                      <a:pt x="0" y="299"/>
                    </a:lnTo>
                    <a:lnTo>
                      <a:pt x="1" y="311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327120" y="3729240"/>
                <a:ext cx="77400" cy="13680"/>
              </a:xfrm>
              <a:custGeom>
                <a:avLst/>
                <a:gdLst/>
                <a:ahLst/>
                <a:rect l="l" t="t" r="r" b="b"/>
                <a:pathLst>
                  <a:path w="324" h="52">
                    <a:moveTo>
                      <a:pt x="13" y="20"/>
                    </a:moveTo>
                    <a:lnTo>
                      <a:pt x="316" y="52"/>
                    </a:lnTo>
                    <a:lnTo>
                      <a:pt x="324" y="40"/>
                    </a:lnTo>
                    <a:lnTo>
                      <a:pt x="322" y="29"/>
                    </a:lnTo>
                    <a:lnTo>
                      <a:pt x="318" y="15"/>
                    </a:lnTo>
                    <a:lnTo>
                      <a:pt x="312" y="0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329640" y="3760560"/>
                <a:ext cx="71280" cy="45720"/>
              </a:xfrm>
              <a:custGeom>
                <a:avLst/>
                <a:gdLst/>
                <a:ahLst/>
                <a:rect l="l" t="t" r="r" b="b"/>
                <a:pathLst>
                  <a:path w="298" h="170">
                    <a:moveTo>
                      <a:pt x="13" y="13"/>
                    </a:moveTo>
                    <a:lnTo>
                      <a:pt x="271" y="170"/>
                    </a:lnTo>
                    <a:lnTo>
                      <a:pt x="285" y="138"/>
                    </a:lnTo>
                    <a:lnTo>
                      <a:pt x="295" y="101"/>
                    </a:lnTo>
                    <a:lnTo>
                      <a:pt x="298" y="62"/>
                    </a:lnTo>
                    <a:lnTo>
                      <a:pt x="291" y="24"/>
                    </a:lnTo>
                    <a:lnTo>
                      <a:pt x="0" y="0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347280" y="3666960"/>
                <a:ext cx="130680" cy="55080"/>
              </a:xfrm>
              <a:custGeom>
                <a:avLst/>
                <a:gdLst/>
                <a:ahLst/>
                <a:rect l="l" t="t" r="r" b="b"/>
                <a:pathLst>
                  <a:path w="547" h="203">
                    <a:moveTo>
                      <a:pt x="21" y="203"/>
                    </a:moveTo>
                    <a:lnTo>
                      <a:pt x="547" y="79"/>
                    </a:lnTo>
                    <a:lnTo>
                      <a:pt x="547" y="64"/>
                    </a:lnTo>
                    <a:lnTo>
                      <a:pt x="538" y="40"/>
                    </a:lnTo>
                    <a:lnTo>
                      <a:pt x="526" y="16"/>
                    </a:lnTo>
                    <a:lnTo>
                      <a:pt x="517" y="0"/>
                    </a:lnTo>
                    <a:lnTo>
                      <a:pt x="0" y="134"/>
                    </a:lnTo>
                    <a:lnTo>
                      <a:pt x="21" y="203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85160" y="3623040"/>
                <a:ext cx="210240" cy="57600"/>
              </a:xfrm>
              <a:custGeom>
                <a:avLst/>
                <a:gdLst/>
                <a:ahLst/>
                <a:rect l="l" t="t" r="r" b="b"/>
                <a:pathLst>
                  <a:path w="877" h="214">
                    <a:moveTo>
                      <a:pt x="25" y="214"/>
                    </a:moveTo>
                    <a:lnTo>
                      <a:pt x="877" y="49"/>
                    </a:lnTo>
                    <a:lnTo>
                      <a:pt x="831" y="0"/>
                    </a:lnTo>
                    <a:lnTo>
                      <a:pt x="1" y="154"/>
                    </a:lnTo>
                    <a:lnTo>
                      <a:pt x="0" y="166"/>
                    </a:lnTo>
                    <a:lnTo>
                      <a:pt x="7" y="184"/>
                    </a:lnTo>
                    <a:lnTo>
                      <a:pt x="18" y="202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616560" y="3652200"/>
                <a:ext cx="84600" cy="58320"/>
              </a:xfrm>
              <a:custGeom>
                <a:avLst/>
                <a:gdLst/>
                <a:ahLst/>
                <a:rect l="l" t="t" r="r" b="b"/>
                <a:pathLst>
                  <a:path w="353" h="216">
                    <a:moveTo>
                      <a:pt x="1" y="71"/>
                    </a:moveTo>
                    <a:lnTo>
                      <a:pt x="16" y="86"/>
                    </a:lnTo>
                    <a:lnTo>
                      <a:pt x="29" y="100"/>
                    </a:lnTo>
                    <a:lnTo>
                      <a:pt x="44" y="113"/>
                    </a:lnTo>
                    <a:lnTo>
                      <a:pt x="59" y="126"/>
                    </a:lnTo>
                    <a:lnTo>
                      <a:pt x="74" y="137"/>
                    </a:lnTo>
                    <a:lnTo>
                      <a:pt x="91" y="149"/>
                    </a:lnTo>
                    <a:lnTo>
                      <a:pt x="107" y="159"/>
                    </a:lnTo>
                    <a:lnTo>
                      <a:pt x="123" y="168"/>
                    </a:lnTo>
                    <a:lnTo>
                      <a:pt x="140" y="177"/>
                    </a:lnTo>
                    <a:lnTo>
                      <a:pt x="158" y="185"/>
                    </a:lnTo>
                    <a:lnTo>
                      <a:pt x="177" y="192"/>
                    </a:lnTo>
                    <a:lnTo>
                      <a:pt x="195" y="198"/>
                    </a:lnTo>
                    <a:lnTo>
                      <a:pt x="216" y="204"/>
                    </a:lnTo>
                    <a:lnTo>
                      <a:pt x="237" y="209"/>
                    </a:lnTo>
                    <a:lnTo>
                      <a:pt x="258" y="213"/>
                    </a:lnTo>
                    <a:lnTo>
                      <a:pt x="280" y="216"/>
                    </a:lnTo>
                    <a:lnTo>
                      <a:pt x="298" y="209"/>
                    </a:lnTo>
                    <a:lnTo>
                      <a:pt x="313" y="197"/>
                    </a:lnTo>
                    <a:lnTo>
                      <a:pt x="325" y="182"/>
                    </a:lnTo>
                    <a:lnTo>
                      <a:pt x="335" y="165"/>
                    </a:lnTo>
                    <a:lnTo>
                      <a:pt x="343" y="147"/>
                    </a:lnTo>
                    <a:lnTo>
                      <a:pt x="349" y="126"/>
                    </a:lnTo>
                    <a:lnTo>
                      <a:pt x="352" y="106"/>
                    </a:lnTo>
                    <a:lnTo>
                      <a:pt x="353" y="85"/>
                    </a:lnTo>
                    <a:lnTo>
                      <a:pt x="350" y="56"/>
                    </a:lnTo>
                    <a:lnTo>
                      <a:pt x="346" y="32"/>
                    </a:lnTo>
                    <a:lnTo>
                      <a:pt x="340" y="13"/>
                    </a:lnTo>
                    <a:lnTo>
                      <a:pt x="325" y="0"/>
                    </a:lnTo>
                    <a:lnTo>
                      <a:pt x="0" y="55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619440" y="3558600"/>
                <a:ext cx="90000" cy="66960"/>
              </a:xfrm>
              <a:custGeom>
                <a:avLst/>
                <a:gdLst/>
                <a:ahLst/>
                <a:rect l="l" t="t" r="r" b="b"/>
                <a:pathLst>
                  <a:path w="375" h="250">
                    <a:moveTo>
                      <a:pt x="9" y="250"/>
                    </a:moveTo>
                    <a:lnTo>
                      <a:pt x="297" y="205"/>
                    </a:lnTo>
                    <a:lnTo>
                      <a:pt x="375" y="2"/>
                    </a:lnTo>
                    <a:lnTo>
                      <a:pt x="351" y="0"/>
                    </a:lnTo>
                    <a:lnTo>
                      <a:pt x="329" y="2"/>
                    </a:lnTo>
                    <a:lnTo>
                      <a:pt x="305" y="6"/>
                    </a:lnTo>
                    <a:lnTo>
                      <a:pt x="283" y="12"/>
                    </a:lnTo>
                    <a:lnTo>
                      <a:pt x="260" y="21"/>
                    </a:lnTo>
                    <a:lnTo>
                      <a:pt x="238" y="33"/>
                    </a:lnTo>
                    <a:lnTo>
                      <a:pt x="217" y="45"/>
                    </a:lnTo>
                    <a:lnTo>
                      <a:pt x="196" y="58"/>
                    </a:lnTo>
                    <a:lnTo>
                      <a:pt x="175" y="73"/>
                    </a:lnTo>
                    <a:lnTo>
                      <a:pt x="156" y="90"/>
                    </a:lnTo>
                    <a:lnTo>
                      <a:pt x="136" y="106"/>
                    </a:lnTo>
                    <a:lnTo>
                      <a:pt x="117" y="123"/>
                    </a:lnTo>
                    <a:lnTo>
                      <a:pt x="99" y="138"/>
                    </a:lnTo>
                    <a:lnTo>
                      <a:pt x="81" y="154"/>
                    </a:lnTo>
                    <a:lnTo>
                      <a:pt x="63" y="169"/>
                    </a:lnTo>
                    <a:lnTo>
                      <a:pt x="47" y="182"/>
                    </a:lnTo>
                    <a:lnTo>
                      <a:pt x="38" y="194"/>
                    </a:lnTo>
                    <a:lnTo>
                      <a:pt x="30" y="203"/>
                    </a:lnTo>
                    <a:lnTo>
                      <a:pt x="24" y="211"/>
                    </a:lnTo>
                    <a:lnTo>
                      <a:pt x="18" y="218"/>
                    </a:lnTo>
                    <a:lnTo>
                      <a:pt x="14" y="224"/>
                    </a:lnTo>
                    <a:lnTo>
                      <a:pt x="9" y="230"/>
                    </a:lnTo>
                    <a:lnTo>
                      <a:pt x="5" y="236"/>
                    </a:lnTo>
                    <a:lnTo>
                      <a:pt x="0" y="245"/>
                    </a:lnTo>
                    <a:lnTo>
                      <a:pt x="9" y="25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405960" y="3352680"/>
                <a:ext cx="36360" cy="170280"/>
              </a:xfrm>
              <a:custGeom>
                <a:avLst/>
                <a:gdLst/>
                <a:ahLst/>
                <a:rect l="l" t="t" r="r" b="b"/>
                <a:pathLst>
                  <a:path w="152" h="630">
                    <a:moveTo>
                      <a:pt x="80" y="630"/>
                    </a:moveTo>
                    <a:lnTo>
                      <a:pt x="0" y="0"/>
                    </a:lnTo>
                    <a:lnTo>
                      <a:pt x="152" y="0"/>
                    </a:lnTo>
                    <a:lnTo>
                      <a:pt x="80" y="6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469680" y="3363840"/>
                <a:ext cx="83160" cy="186480"/>
              </a:xfrm>
              <a:custGeom>
                <a:avLst/>
                <a:gdLst/>
                <a:ahLst/>
                <a:rect l="l" t="t" r="r" b="b"/>
                <a:pathLst>
                  <a:path w="349" h="689">
                    <a:moveTo>
                      <a:pt x="0" y="689"/>
                    </a:moveTo>
                    <a:lnTo>
                      <a:pt x="206" y="0"/>
                    </a:lnTo>
                    <a:lnTo>
                      <a:pt x="349" y="51"/>
                    </a:lnTo>
                    <a:lnTo>
                      <a:pt x="0" y="6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489480" y="3475440"/>
                <a:ext cx="147600" cy="116640"/>
              </a:xfrm>
              <a:custGeom>
                <a:avLst/>
                <a:gdLst/>
                <a:ahLst/>
                <a:rect l="l" t="t" r="r" b="b"/>
                <a:pathLst>
                  <a:path w="617" h="433">
                    <a:moveTo>
                      <a:pt x="0" y="433"/>
                    </a:moveTo>
                    <a:lnTo>
                      <a:pt x="606" y="0"/>
                    </a:lnTo>
                    <a:lnTo>
                      <a:pt x="617" y="155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3733920" y="4191120"/>
            <a:ext cx="1828800" cy="990360"/>
            <a:chOff x="3733920" y="4191120"/>
            <a:chExt cx="1828800" cy="990360"/>
          </a:xfrm>
        </p:grpSpPr>
        <p:sp>
          <p:nvSpPr>
            <p:cNvPr id="716" name=""/>
            <p:cNvSpPr/>
            <p:nvPr/>
          </p:nvSpPr>
          <p:spPr>
            <a:xfrm>
              <a:off x="3733920" y="4191120"/>
              <a:ext cx="1828800" cy="990360"/>
            </a:xfrm>
            <a:prstGeom prst="ellipse">
              <a:avLst/>
            </a:prstGeom>
            <a:gradFill rotWithShape="0">
              <a:gsLst>
                <a:gs pos="0">
                  <a:srgbClr val="ced5cc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ar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7" name="" descr=""/>
            <p:cNvPicPr/>
            <p:nvPr/>
          </p:nvPicPr>
          <p:blipFill>
            <a:blip r:embed="rId2"/>
            <a:stretch/>
          </p:blipFill>
          <p:spPr>
            <a:xfrm>
              <a:off x="4038840" y="4572000"/>
              <a:ext cx="1143000" cy="43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8" name=""/>
          <p:cNvSpPr/>
          <p:nvPr/>
        </p:nvSpPr>
        <p:spPr>
          <a:xfrm>
            <a:off x="914400" y="4114800"/>
            <a:ext cx="1905120" cy="1066680"/>
          </a:xfrm>
          <a:prstGeom prst="ellipse">
            <a:avLst/>
          </a:prstGeom>
          <a:gradFill rotWithShape="0">
            <a:gsLst>
              <a:gs pos="0">
                <a:srgbClr val="ced5cc"/>
              </a:gs>
              <a:gs pos="100000">
                <a:srgbClr val="536b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aiss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so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647640" cy="669960"/>
          </a:xfrm>
          <a:prstGeom prst="rect">
            <a:avLst/>
          </a:prstGeom>
          <a:ln w="0">
            <a:noFill/>
          </a:ln>
        </p:spPr>
      </p:pic>
      <p:grpSp>
        <p:nvGrpSpPr>
          <p:cNvPr id="720" name=""/>
          <p:cNvGrpSpPr/>
          <p:nvPr/>
        </p:nvGrpSpPr>
        <p:grpSpPr>
          <a:xfrm>
            <a:off x="2358000" y="5251680"/>
            <a:ext cx="1837440" cy="1307880"/>
            <a:chOff x="2358000" y="5251680"/>
            <a:chExt cx="1837440" cy="1307880"/>
          </a:xfrm>
        </p:grpSpPr>
        <p:sp>
          <p:nvSpPr>
            <p:cNvPr id="721" name=""/>
            <p:cNvSpPr/>
            <p:nvPr/>
          </p:nvSpPr>
          <p:spPr>
            <a:xfrm rot="10776600">
              <a:off x="2361960" y="5257800"/>
              <a:ext cx="1828800" cy="1295280"/>
            </a:xfrm>
            <a:custGeom>
              <a:avLst/>
              <a:gdLst>
                <a:gd name="textAreaLeft" fmla="*/ 402120 w 1828800"/>
                <a:gd name="textAreaRight" fmla="*/ 1426680 w 1828800"/>
                <a:gd name="textAreaTop" fmla="*/ 284760 h 1295280"/>
                <a:gd name="textAreaBottom" fmla="*/ 101052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fi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 so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" descr=""/>
            <p:cNvPicPr/>
            <p:nvPr/>
          </p:nvPicPr>
          <p:blipFill>
            <a:blip r:embed="rId4"/>
            <a:stretch/>
          </p:blipFill>
          <p:spPr>
            <a:xfrm>
              <a:off x="3048120" y="5638680"/>
              <a:ext cx="550800" cy="9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"/>
          <p:cNvGrpSpPr/>
          <p:nvPr/>
        </p:nvGrpSpPr>
        <p:grpSpPr>
          <a:xfrm>
            <a:off x="5181480" y="1219320"/>
            <a:ext cx="3961080" cy="3100320"/>
            <a:chOff x="5181480" y="1219320"/>
            <a:chExt cx="3961080" cy="3100320"/>
          </a:xfrm>
        </p:grpSpPr>
        <p:pic>
          <p:nvPicPr>
            <p:cNvPr id="724" name="" descr=""/>
            <p:cNvPicPr/>
            <p:nvPr/>
          </p:nvPicPr>
          <p:blipFill>
            <a:blip r:embed="rId5"/>
            <a:stretch/>
          </p:blipFill>
          <p:spPr>
            <a:xfrm>
              <a:off x="7162920" y="2895480"/>
              <a:ext cx="1752480" cy="14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5181480" y="1219320"/>
              <a:ext cx="3961080" cy="1295280"/>
            </a:xfrm>
            <a:prstGeom prst="cloudCallout">
              <a:avLst>
                <a:gd name="adj1" fmla="val 15731"/>
                <a:gd name="adj2" fmla="val 781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L’AFFIRMATION de SO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295280" y="228600"/>
            <a:ext cx="3733920" cy="1828800"/>
            <a:chOff x="1295280" y="228600"/>
            <a:chExt cx="3733920" cy="1828800"/>
          </a:xfrm>
        </p:grpSpPr>
        <p:sp>
          <p:nvSpPr>
            <p:cNvPr id="727" name=""/>
            <p:cNvSpPr/>
            <p:nvPr/>
          </p:nvSpPr>
          <p:spPr>
            <a:xfrm>
              <a:off x="1295280" y="228600"/>
              <a:ext cx="3733920" cy="1828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3988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"/>
                </a:rPr>
                <a:t>Estime de so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cience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 valeur glob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8" name="" descr=""/>
            <p:cNvPicPr/>
            <p:nvPr/>
          </p:nvPicPr>
          <p:blipFill>
            <a:blip r:embed="rId6"/>
            <a:stretch/>
          </p:blipFill>
          <p:spPr>
            <a:xfrm>
              <a:off x="3581280" y="914400"/>
              <a:ext cx="1143000" cy="89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609480" y="838080"/>
            <a:ext cx="792504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onçu et réalisé par </a:t>
            </a:r>
            <a:r>
              <a:rPr b="1" lang="fr-CA" sz="2800" spc="-1" strike="noStrike">
                <a:solidFill>
                  <a:srgbClr val="336699"/>
                </a:solidFill>
                <a:latin typeface="Arial"/>
              </a:rPr>
              <a:t>Johanne Yergeau</a:t>
            </a:r>
            <a:r>
              <a:rPr b="0" lang="fr-CA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dans le ca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du cours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FPE 7650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TIC dans l’enseignement aux moyens et grands groupes 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PC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UQ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omn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la précieuse collaboratio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Monique Dugal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, chargée de cours, et des auxiliaires d’enseignement : Kathleen Deslauriers et Nadège Fi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6858000" y="5638680"/>
            <a:ext cx="762120" cy="6192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7620120" y="5105520"/>
            <a:ext cx="1066680" cy="533160"/>
          </a:xfrm>
          <a:prstGeom prst="cloudCallout">
            <a:avLst>
              <a:gd name="adj1" fmla="val -68750"/>
              <a:gd name="adj2" fmla="val 39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-delà du concep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es manifes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1197000"/>
            <a:ext cx="5219640" cy="2738520"/>
          </a:xfrm>
          <a:prstGeom prst="cloudCallout">
            <a:avLst>
              <a:gd name="adj1" fmla="val -67884"/>
              <a:gd name="adj2" fmla="val 33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Ça se voit comment que quelqu’un a une bonne estime de so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60280" y="3135240"/>
            <a:ext cx="3581640" cy="29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80880"/>
            <a:ext cx="5257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S. permet d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« 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VIVRE dans L’AUTHENTICITÉ</a:t>
            </a: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876920" y="457200"/>
            <a:ext cx="3429000" cy="2390760"/>
            <a:chOff x="4876920" y="457200"/>
            <a:chExt cx="3429000" cy="239076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4876920" y="1981080"/>
              <a:ext cx="10666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562720" y="457200"/>
              <a:ext cx="2743200" cy="1295280"/>
            </a:xfrm>
            <a:prstGeom prst="cloudCallout">
              <a:avLst>
                <a:gd name="adj1" fmla="val -54166"/>
                <a:gd name="adj2" fmla="val 60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Ça veut dire quoi ça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819520" y="2133720"/>
            <a:ext cx="152388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743200"/>
            <a:ext cx="335268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276720"/>
            <a:ext cx="518148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er les opinions di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3886200"/>
            <a:ext cx="586728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des choix conformes à ses val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4495680"/>
            <a:ext cx="327672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r ses cho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5105520"/>
            <a:ext cx="228600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ire en so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715000"/>
            <a:ext cx="281952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5334120"/>
            <a:ext cx="1904760" cy="459720"/>
          </a:xfrm>
          <a:prstGeom prst="rect">
            <a:avLst/>
          </a:prstGeom>
          <a:solidFill>
            <a:srgbClr val="b39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eng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933800" y="2279160"/>
            <a:ext cx="4305600" cy="3692880"/>
            <a:chOff x="4933800" y="2279160"/>
            <a:chExt cx="4305600" cy="369288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5943600" y="4734000"/>
              <a:ext cx="152388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1257000">
              <a:off x="5028840" y="2971800"/>
              <a:ext cx="4114800" cy="1295280"/>
            </a:xfrm>
            <a:prstGeom prst="cloudCallout">
              <a:avLst>
                <a:gd name="adj1" fmla="val 1388"/>
                <a:gd name="adj2" fmla="val 7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a ! C’est donc ça </a:t>
              </a:r>
              <a:r>
                <a:rPr b="1" lang="en-US" sz="2800" spc="-1" strike="noStrike">
                  <a:solidFill>
                    <a:srgbClr val="336699"/>
                  </a:solidFill>
                  <a:latin typeface="Arial"/>
                </a:rPr>
                <a:t>s’AFFIRME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s’affirmer, il faut être… 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n contact avec ses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ressources intérie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324480"/>
            <a:ext cx="9142560" cy="533520"/>
          </a:xfrm>
          <a:prstGeom prst="rect">
            <a:avLst/>
          </a:prstGeom>
          <a:gradFill rotWithShape="0">
            <a:gsLst>
              <a:gs pos="0">
                <a:srgbClr val="f7f9fa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e de soi = coffre à outi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ssources)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n coffre aux trésor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80880" y="2666880"/>
            <a:ext cx="4191120" cy="3181320"/>
            <a:chOff x="380880" y="2666880"/>
            <a:chExt cx="4191120" cy="318132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380880" y="4114800"/>
              <a:ext cx="213372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447920" y="2666880"/>
              <a:ext cx="3124080" cy="1295640"/>
            </a:xfrm>
            <a:prstGeom prst="cloudCallout">
              <a:avLst>
                <a:gd name="adj1" fmla="val -53657"/>
                <a:gd name="adj2" fmla="val 60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is qu’est-ce qu’on met dans le coffre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666880" y="3886200"/>
            <a:ext cx="54104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La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confiance </a:t>
            </a: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en s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La</a:t>
            </a:r>
            <a:r>
              <a:rPr b="1" lang="en-US" sz="2400" spc="-1" strike="noStrike">
                <a:solidFill>
                  <a:srgbClr val="536b4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fierté</a:t>
            </a:r>
            <a:r>
              <a:rPr b="1" lang="en-US" sz="2400" spc="-1" strike="noStrike">
                <a:solidFill>
                  <a:srgbClr val="536b4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(connaissance de soi / ident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La</a:t>
            </a:r>
            <a:r>
              <a:rPr b="1" lang="en-US" sz="2400" spc="-1" strike="noStrike">
                <a:solidFill>
                  <a:srgbClr val="536b4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solidarité</a:t>
            </a:r>
            <a:r>
              <a:rPr b="1" lang="en-US" sz="2400" spc="-1" strike="noStrike">
                <a:solidFill>
                  <a:srgbClr val="536b4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(apparten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6b4b"/>
                </a:solidFill>
                <a:latin typeface="Arial"/>
              </a:rPr>
              <a:t>La</a:t>
            </a:r>
            <a:r>
              <a:rPr b="1" lang="en-US" sz="2400" spc="-1" strike="noStrike">
                <a:solidFill>
                  <a:srgbClr val="536b4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compé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1523880"/>
            <a:ext cx="4113360" cy="2286000"/>
          </a:xfrm>
          <a:prstGeom prst="ellipse">
            <a:avLst/>
          </a:prstGeom>
          <a:gradFill rotWithShape="0">
            <a:gsLst>
              <a:gs pos="0">
                <a:srgbClr val="b39888"/>
              </a:gs>
              <a:gs pos="100000">
                <a:srgbClr val="f7f4f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stime de s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629400" y="2286000"/>
            <a:ext cx="1905120" cy="1496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0880" y="16002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évelopper et prendre conscience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 richesse de son coffre aux tré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289160" y="4561560"/>
            <a:ext cx="2602440" cy="1693800"/>
            <a:chOff x="1289160" y="4561560"/>
            <a:chExt cx="2602440" cy="1693800"/>
          </a:xfrm>
        </p:grpSpPr>
        <p:sp>
          <p:nvSpPr>
            <p:cNvPr id="209" name=""/>
            <p:cNvSpPr/>
            <p:nvPr/>
          </p:nvSpPr>
          <p:spPr>
            <a:xfrm rot="10776600">
              <a:off x="1294920" y="4570200"/>
              <a:ext cx="2590920" cy="1676160"/>
            </a:xfrm>
            <a:custGeom>
              <a:avLst/>
              <a:gdLst>
                <a:gd name="textAreaLeft" fmla="*/ 569520 w 2590920"/>
                <a:gd name="textAreaRight" fmla="*/ 2021400 w 2590920"/>
                <a:gd name="textAreaTop" fmla="*/ 368640 h 1676160"/>
                <a:gd name="textAreaBottom" fmla="*/ 130752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89064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914400" y="38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de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66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d’appar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33520"/>
            <a:ext cx="335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buClr>
                <a:srgbClr val="000000"/>
              </a:buClr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d’ident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nnaissance de so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36b4b"/>
                </a:solidFill>
                <a:latin typeface="Arial"/>
              </a:rPr>
              <a:t>de compé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181480" y="4800600"/>
            <a:ext cx="2743200" cy="1295280"/>
            <a:chOff x="5181480" y="4800600"/>
            <a:chExt cx="2743200" cy="1295280"/>
          </a:xfrm>
        </p:grpSpPr>
        <p:sp>
          <p:nvSpPr>
            <p:cNvPr id="216" name=""/>
            <p:cNvSpPr/>
            <p:nvPr/>
          </p:nvSpPr>
          <p:spPr>
            <a:xfrm>
              <a:off x="5181480" y="4800600"/>
              <a:ext cx="2743200" cy="1295280"/>
            </a:xfrm>
            <a:prstGeom prst="ellipse">
              <a:avLst/>
            </a:prstGeom>
            <a:gradFill rotWithShape="0">
              <a:gsLst>
                <a:gs pos="0">
                  <a:srgbClr val="ced5cc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943600" y="4800600"/>
              <a:ext cx="1143000" cy="1142640"/>
              <a:chOff x="5943600" y="4800600"/>
              <a:chExt cx="1143000" cy="1142640"/>
            </a:xfrm>
          </p:grpSpPr>
          <p:sp>
            <p:nvSpPr>
              <p:cNvPr id="218" name=""/>
              <p:cNvSpPr/>
              <p:nvPr/>
            </p:nvSpPr>
            <p:spPr>
              <a:xfrm>
                <a:off x="5943600" y="4935600"/>
                <a:ext cx="1143000" cy="1007640"/>
              </a:xfrm>
              <a:custGeom>
                <a:avLst/>
                <a:gdLst/>
                <a:ahLst/>
                <a:rect l="l" t="t" r="r" b="b"/>
                <a:pathLst>
                  <a:path w="2862" h="2233">
                    <a:moveTo>
                      <a:pt x="1" y="1057"/>
                    </a:moveTo>
                    <a:lnTo>
                      <a:pt x="7" y="1133"/>
                    </a:lnTo>
                    <a:lnTo>
                      <a:pt x="15" y="1209"/>
                    </a:lnTo>
                    <a:lnTo>
                      <a:pt x="25" y="1285"/>
                    </a:lnTo>
                    <a:lnTo>
                      <a:pt x="37" y="1363"/>
                    </a:lnTo>
                    <a:lnTo>
                      <a:pt x="54" y="1439"/>
                    </a:lnTo>
                    <a:lnTo>
                      <a:pt x="73" y="1514"/>
                    </a:lnTo>
                    <a:lnTo>
                      <a:pt x="97" y="1588"/>
                    </a:lnTo>
                    <a:lnTo>
                      <a:pt x="124" y="1660"/>
                    </a:lnTo>
                    <a:lnTo>
                      <a:pt x="154" y="1730"/>
                    </a:lnTo>
                    <a:lnTo>
                      <a:pt x="188" y="1799"/>
                    </a:lnTo>
                    <a:lnTo>
                      <a:pt x="228" y="1863"/>
                    </a:lnTo>
                    <a:lnTo>
                      <a:pt x="271" y="1924"/>
                    </a:lnTo>
                    <a:lnTo>
                      <a:pt x="321" y="1982"/>
                    </a:lnTo>
                    <a:lnTo>
                      <a:pt x="373" y="2036"/>
                    </a:lnTo>
                    <a:lnTo>
                      <a:pt x="433" y="2085"/>
                    </a:lnTo>
                    <a:lnTo>
                      <a:pt x="497" y="2129"/>
                    </a:lnTo>
                    <a:lnTo>
                      <a:pt x="528" y="2150"/>
                    </a:lnTo>
                    <a:lnTo>
                      <a:pt x="561" y="2167"/>
                    </a:lnTo>
                    <a:lnTo>
                      <a:pt x="595" y="2182"/>
                    </a:lnTo>
                    <a:lnTo>
                      <a:pt x="631" y="2196"/>
                    </a:lnTo>
                    <a:lnTo>
                      <a:pt x="667" y="2208"/>
                    </a:lnTo>
                    <a:lnTo>
                      <a:pt x="703" y="2217"/>
                    </a:lnTo>
                    <a:lnTo>
                      <a:pt x="742" y="2224"/>
                    </a:lnTo>
                    <a:lnTo>
                      <a:pt x="779" y="2229"/>
                    </a:lnTo>
                    <a:lnTo>
                      <a:pt x="818" y="2232"/>
                    </a:lnTo>
                    <a:lnTo>
                      <a:pt x="856" y="2233"/>
                    </a:lnTo>
                    <a:lnTo>
                      <a:pt x="895" y="2233"/>
                    </a:lnTo>
                    <a:lnTo>
                      <a:pt x="934" y="2232"/>
                    </a:lnTo>
                    <a:lnTo>
                      <a:pt x="973" y="2227"/>
                    </a:lnTo>
                    <a:lnTo>
                      <a:pt x="1012" y="2223"/>
                    </a:lnTo>
                    <a:lnTo>
                      <a:pt x="1050" y="2215"/>
                    </a:lnTo>
                    <a:lnTo>
                      <a:pt x="1088" y="2208"/>
                    </a:lnTo>
                    <a:lnTo>
                      <a:pt x="1150" y="2178"/>
                    </a:lnTo>
                    <a:lnTo>
                      <a:pt x="1209" y="2145"/>
                    </a:lnTo>
                    <a:lnTo>
                      <a:pt x="1265" y="2109"/>
                    </a:lnTo>
                    <a:lnTo>
                      <a:pt x="1319" y="2069"/>
                    </a:lnTo>
                    <a:lnTo>
                      <a:pt x="1371" y="2027"/>
                    </a:lnTo>
                    <a:lnTo>
                      <a:pt x="1419" y="1982"/>
                    </a:lnTo>
                    <a:lnTo>
                      <a:pt x="1464" y="1933"/>
                    </a:lnTo>
                    <a:lnTo>
                      <a:pt x="1506" y="1882"/>
                    </a:lnTo>
                    <a:lnTo>
                      <a:pt x="1544" y="1829"/>
                    </a:lnTo>
                    <a:lnTo>
                      <a:pt x="1579" y="1772"/>
                    </a:lnTo>
                    <a:lnTo>
                      <a:pt x="1610" y="1712"/>
                    </a:lnTo>
                    <a:lnTo>
                      <a:pt x="1638" y="1651"/>
                    </a:lnTo>
                    <a:lnTo>
                      <a:pt x="1662" y="1587"/>
                    </a:lnTo>
                    <a:lnTo>
                      <a:pt x="1683" y="1520"/>
                    </a:lnTo>
                    <a:lnTo>
                      <a:pt x="1700" y="1449"/>
                    </a:lnTo>
                    <a:lnTo>
                      <a:pt x="1711" y="1378"/>
                    </a:lnTo>
                    <a:lnTo>
                      <a:pt x="1716" y="1285"/>
                    </a:lnTo>
                    <a:lnTo>
                      <a:pt x="1716" y="1190"/>
                    </a:lnTo>
                    <a:lnTo>
                      <a:pt x="1716" y="1099"/>
                    </a:lnTo>
                    <a:lnTo>
                      <a:pt x="1719" y="1015"/>
                    </a:lnTo>
                    <a:lnTo>
                      <a:pt x="1753" y="1006"/>
                    </a:lnTo>
                    <a:lnTo>
                      <a:pt x="1789" y="996"/>
                    </a:lnTo>
                    <a:lnTo>
                      <a:pt x="1825" y="985"/>
                    </a:lnTo>
                    <a:lnTo>
                      <a:pt x="1862" y="975"/>
                    </a:lnTo>
                    <a:lnTo>
                      <a:pt x="1900" y="964"/>
                    </a:lnTo>
                    <a:lnTo>
                      <a:pt x="1937" y="954"/>
                    </a:lnTo>
                    <a:lnTo>
                      <a:pt x="1974" y="942"/>
                    </a:lnTo>
                    <a:lnTo>
                      <a:pt x="2013" y="931"/>
                    </a:lnTo>
                    <a:lnTo>
                      <a:pt x="2050" y="923"/>
                    </a:lnTo>
                    <a:lnTo>
                      <a:pt x="2089" y="914"/>
                    </a:lnTo>
                    <a:lnTo>
                      <a:pt x="2128" y="905"/>
                    </a:lnTo>
                    <a:lnTo>
                      <a:pt x="2167" y="899"/>
                    </a:lnTo>
                    <a:lnTo>
                      <a:pt x="2204" y="893"/>
                    </a:lnTo>
                    <a:lnTo>
                      <a:pt x="2243" y="888"/>
                    </a:lnTo>
                    <a:lnTo>
                      <a:pt x="2280" y="885"/>
                    </a:lnTo>
                    <a:lnTo>
                      <a:pt x="2317" y="885"/>
                    </a:lnTo>
                    <a:lnTo>
                      <a:pt x="2331" y="905"/>
                    </a:lnTo>
                    <a:lnTo>
                      <a:pt x="2346" y="923"/>
                    </a:lnTo>
                    <a:lnTo>
                      <a:pt x="2364" y="939"/>
                    </a:lnTo>
                    <a:lnTo>
                      <a:pt x="2382" y="955"/>
                    </a:lnTo>
                    <a:lnTo>
                      <a:pt x="2399" y="972"/>
                    </a:lnTo>
                    <a:lnTo>
                      <a:pt x="2420" y="987"/>
                    </a:lnTo>
                    <a:lnTo>
                      <a:pt x="2441" y="1002"/>
                    </a:lnTo>
                    <a:lnTo>
                      <a:pt x="2464" y="1014"/>
                    </a:lnTo>
                    <a:lnTo>
                      <a:pt x="2486" y="1027"/>
                    </a:lnTo>
                    <a:lnTo>
                      <a:pt x="2510" y="1039"/>
                    </a:lnTo>
                    <a:lnTo>
                      <a:pt x="2534" y="1049"/>
                    </a:lnTo>
                    <a:lnTo>
                      <a:pt x="2559" y="1060"/>
                    </a:lnTo>
                    <a:lnTo>
                      <a:pt x="2583" y="1070"/>
                    </a:lnTo>
                    <a:lnTo>
                      <a:pt x="2608" y="1079"/>
                    </a:lnTo>
                    <a:lnTo>
                      <a:pt x="2634" y="1087"/>
                    </a:lnTo>
                    <a:lnTo>
                      <a:pt x="2659" y="1094"/>
                    </a:lnTo>
                    <a:lnTo>
                      <a:pt x="2684" y="1082"/>
                    </a:lnTo>
                    <a:lnTo>
                      <a:pt x="2708" y="1067"/>
                    </a:lnTo>
                    <a:lnTo>
                      <a:pt x="2728" y="1048"/>
                    </a:lnTo>
                    <a:lnTo>
                      <a:pt x="2746" y="1026"/>
                    </a:lnTo>
                    <a:lnTo>
                      <a:pt x="2761" y="1002"/>
                    </a:lnTo>
                    <a:lnTo>
                      <a:pt x="2774" y="976"/>
                    </a:lnTo>
                    <a:lnTo>
                      <a:pt x="2784" y="948"/>
                    </a:lnTo>
                    <a:lnTo>
                      <a:pt x="2793" y="921"/>
                    </a:lnTo>
                    <a:lnTo>
                      <a:pt x="2790" y="885"/>
                    </a:lnTo>
                    <a:lnTo>
                      <a:pt x="2783" y="855"/>
                    </a:lnTo>
                    <a:lnTo>
                      <a:pt x="2775" y="828"/>
                    </a:lnTo>
                    <a:lnTo>
                      <a:pt x="2768" y="800"/>
                    </a:lnTo>
                    <a:lnTo>
                      <a:pt x="2774" y="784"/>
                    </a:lnTo>
                    <a:lnTo>
                      <a:pt x="2786" y="770"/>
                    </a:lnTo>
                    <a:lnTo>
                      <a:pt x="2801" y="760"/>
                    </a:lnTo>
                    <a:lnTo>
                      <a:pt x="2817" y="749"/>
                    </a:lnTo>
                    <a:lnTo>
                      <a:pt x="2834" y="737"/>
                    </a:lnTo>
                    <a:lnTo>
                      <a:pt x="2849" y="724"/>
                    </a:lnTo>
                    <a:lnTo>
                      <a:pt x="2858" y="706"/>
                    </a:lnTo>
                    <a:lnTo>
                      <a:pt x="2862" y="682"/>
                    </a:lnTo>
                    <a:lnTo>
                      <a:pt x="2856" y="676"/>
                    </a:lnTo>
                    <a:lnTo>
                      <a:pt x="2853" y="673"/>
                    </a:lnTo>
                    <a:lnTo>
                      <a:pt x="2850" y="670"/>
                    </a:lnTo>
                    <a:lnTo>
                      <a:pt x="2838" y="660"/>
                    </a:lnTo>
                    <a:lnTo>
                      <a:pt x="2832" y="660"/>
                    </a:lnTo>
                    <a:lnTo>
                      <a:pt x="2828" y="661"/>
                    </a:lnTo>
                    <a:lnTo>
                      <a:pt x="2822" y="661"/>
                    </a:lnTo>
                    <a:lnTo>
                      <a:pt x="2816" y="663"/>
                    </a:lnTo>
                    <a:lnTo>
                      <a:pt x="2810" y="664"/>
                    </a:lnTo>
                    <a:lnTo>
                      <a:pt x="2804" y="664"/>
                    </a:lnTo>
                    <a:lnTo>
                      <a:pt x="2796" y="666"/>
                    </a:lnTo>
                    <a:lnTo>
                      <a:pt x="2789" y="666"/>
                    </a:lnTo>
                    <a:lnTo>
                      <a:pt x="2777" y="646"/>
                    </a:lnTo>
                    <a:lnTo>
                      <a:pt x="2772" y="624"/>
                    </a:lnTo>
                    <a:lnTo>
                      <a:pt x="2777" y="603"/>
                    </a:lnTo>
                    <a:lnTo>
                      <a:pt x="2784" y="579"/>
                    </a:lnTo>
                    <a:lnTo>
                      <a:pt x="2795" y="555"/>
                    </a:lnTo>
                    <a:lnTo>
                      <a:pt x="2805" y="530"/>
                    </a:lnTo>
                    <a:lnTo>
                      <a:pt x="2813" y="503"/>
                    </a:lnTo>
                    <a:lnTo>
                      <a:pt x="2814" y="476"/>
                    </a:lnTo>
                    <a:lnTo>
                      <a:pt x="2778" y="409"/>
                    </a:lnTo>
                    <a:lnTo>
                      <a:pt x="2759" y="403"/>
                    </a:lnTo>
                    <a:lnTo>
                      <a:pt x="2741" y="400"/>
                    </a:lnTo>
                    <a:lnTo>
                      <a:pt x="2722" y="399"/>
                    </a:lnTo>
                    <a:lnTo>
                      <a:pt x="2702" y="402"/>
                    </a:lnTo>
                    <a:lnTo>
                      <a:pt x="2683" y="406"/>
                    </a:lnTo>
                    <a:lnTo>
                      <a:pt x="2664" y="412"/>
                    </a:lnTo>
                    <a:lnTo>
                      <a:pt x="2644" y="421"/>
                    </a:lnTo>
                    <a:lnTo>
                      <a:pt x="2625" y="430"/>
                    </a:lnTo>
                    <a:lnTo>
                      <a:pt x="2605" y="440"/>
                    </a:lnTo>
                    <a:lnTo>
                      <a:pt x="2587" y="452"/>
                    </a:lnTo>
                    <a:lnTo>
                      <a:pt x="2570" y="464"/>
                    </a:lnTo>
                    <a:lnTo>
                      <a:pt x="2552" y="476"/>
                    </a:lnTo>
                    <a:lnTo>
                      <a:pt x="2535" y="488"/>
                    </a:lnTo>
                    <a:lnTo>
                      <a:pt x="2519" y="499"/>
                    </a:lnTo>
                    <a:lnTo>
                      <a:pt x="2504" y="509"/>
                    </a:lnTo>
                    <a:lnTo>
                      <a:pt x="2489" y="518"/>
                    </a:lnTo>
                    <a:lnTo>
                      <a:pt x="2473" y="533"/>
                    </a:lnTo>
                    <a:lnTo>
                      <a:pt x="2456" y="548"/>
                    </a:lnTo>
                    <a:lnTo>
                      <a:pt x="2440" y="563"/>
                    </a:lnTo>
                    <a:lnTo>
                      <a:pt x="2425" y="578"/>
                    </a:lnTo>
                    <a:lnTo>
                      <a:pt x="2410" y="593"/>
                    </a:lnTo>
                    <a:lnTo>
                      <a:pt x="2395" y="606"/>
                    </a:lnTo>
                    <a:lnTo>
                      <a:pt x="2380" y="621"/>
                    </a:lnTo>
                    <a:lnTo>
                      <a:pt x="2367" y="636"/>
                    </a:lnTo>
                    <a:lnTo>
                      <a:pt x="2352" y="651"/>
                    </a:lnTo>
                    <a:lnTo>
                      <a:pt x="2338" y="666"/>
                    </a:lnTo>
                    <a:lnTo>
                      <a:pt x="2323" y="679"/>
                    </a:lnTo>
                    <a:lnTo>
                      <a:pt x="2308" y="694"/>
                    </a:lnTo>
                    <a:lnTo>
                      <a:pt x="2295" y="709"/>
                    </a:lnTo>
                    <a:lnTo>
                      <a:pt x="2280" y="722"/>
                    </a:lnTo>
                    <a:lnTo>
                      <a:pt x="2265" y="737"/>
                    </a:lnTo>
                    <a:lnTo>
                      <a:pt x="2249" y="751"/>
                    </a:lnTo>
                    <a:lnTo>
                      <a:pt x="1695" y="843"/>
                    </a:lnTo>
                    <a:lnTo>
                      <a:pt x="1668" y="784"/>
                    </a:lnTo>
                    <a:lnTo>
                      <a:pt x="1641" y="725"/>
                    </a:lnTo>
                    <a:lnTo>
                      <a:pt x="1614" y="667"/>
                    </a:lnTo>
                    <a:lnTo>
                      <a:pt x="1586" y="611"/>
                    </a:lnTo>
                    <a:lnTo>
                      <a:pt x="1556" y="554"/>
                    </a:lnTo>
                    <a:lnTo>
                      <a:pt x="1525" y="499"/>
                    </a:lnTo>
                    <a:lnTo>
                      <a:pt x="1494" y="445"/>
                    </a:lnTo>
                    <a:lnTo>
                      <a:pt x="1459" y="391"/>
                    </a:lnTo>
                    <a:lnTo>
                      <a:pt x="1423" y="342"/>
                    </a:lnTo>
                    <a:lnTo>
                      <a:pt x="1385" y="293"/>
                    </a:lnTo>
                    <a:lnTo>
                      <a:pt x="1344" y="248"/>
                    </a:lnTo>
                    <a:lnTo>
                      <a:pt x="1301" y="205"/>
                    </a:lnTo>
                    <a:lnTo>
                      <a:pt x="1255" y="164"/>
                    </a:lnTo>
                    <a:lnTo>
                      <a:pt x="1204" y="125"/>
                    </a:lnTo>
                    <a:lnTo>
                      <a:pt x="1152" y="93"/>
                    </a:lnTo>
                    <a:lnTo>
                      <a:pt x="1095" y="61"/>
                    </a:lnTo>
                    <a:lnTo>
                      <a:pt x="1071" y="55"/>
                    </a:lnTo>
                    <a:lnTo>
                      <a:pt x="1049" y="51"/>
                    </a:lnTo>
                    <a:lnTo>
                      <a:pt x="1025" y="48"/>
                    </a:lnTo>
                    <a:lnTo>
                      <a:pt x="1003" y="45"/>
                    </a:lnTo>
                    <a:lnTo>
                      <a:pt x="980" y="42"/>
                    </a:lnTo>
                    <a:lnTo>
                      <a:pt x="958" y="39"/>
                    </a:lnTo>
                    <a:lnTo>
                      <a:pt x="937" y="37"/>
                    </a:lnTo>
                    <a:lnTo>
                      <a:pt x="915" y="34"/>
                    </a:lnTo>
                    <a:lnTo>
                      <a:pt x="894" y="33"/>
                    </a:lnTo>
                    <a:lnTo>
                      <a:pt x="873" y="30"/>
                    </a:lnTo>
                    <a:lnTo>
                      <a:pt x="852" y="27"/>
                    </a:lnTo>
                    <a:lnTo>
                      <a:pt x="831" y="22"/>
                    </a:lnTo>
                    <a:lnTo>
                      <a:pt x="810" y="18"/>
                    </a:lnTo>
                    <a:lnTo>
                      <a:pt x="791" y="13"/>
                    </a:lnTo>
                    <a:lnTo>
                      <a:pt x="770" y="7"/>
                    </a:lnTo>
                    <a:lnTo>
                      <a:pt x="750" y="0"/>
                    </a:lnTo>
                    <a:lnTo>
                      <a:pt x="440" y="81"/>
                    </a:lnTo>
                    <a:lnTo>
                      <a:pt x="389" y="125"/>
                    </a:lnTo>
                    <a:lnTo>
                      <a:pt x="340" y="173"/>
                    </a:lnTo>
                    <a:lnTo>
                      <a:pt x="294" y="224"/>
                    </a:lnTo>
                    <a:lnTo>
                      <a:pt x="251" y="276"/>
                    </a:lnTo>
                    <a:lnTo>
                      <a:pt x="210" y="331"/>
                    </a:lnTo>
                    <a:lnTo>
                      <a:pt x="173" y="388"/>
                    </a:lnTo>
                    <a:lnTo>
                      <a:pt x="139" y="448"/>
                    </a:lnTo>
                    <a:lnTo>
                      <a:pt x="109" y="508"/>
                    </a:lnTo>
                    <a:lnTo>
                      <a:pt x="80" y="572"/>
                    </a:lnTo>
                    <a:lnTo>
                      <a:pt x="58" y="636"/>
                    </a:lnTo>
                    <a:lnTo>
                      <a:pt x="39" y="703"/>
                    </a:lnTo>
                    <a:lnTo>
                      <a:pt x="22" y="770"/>
                    </a:lnTo>
                    <a:lnTo>
                      <a:pt x="10" y="840"/>
                    </a:lnTo>
                    <a:lnTo>
                      <a:pt x="3" y="911"/>
                    </a:lnTo>
                    <a:lnTo>
                      <a:pt x="0" y="984"/>
                    </a:lnTo>
                    <a:lnTo>
                      <a:pt x="1" y="10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65920" y="5054040"/>
                <a:ext cx="276840" cy="862200"/>
              </a:xfrm>
              <a:custGeom>
                <a:avLst/>
                <a:gdLst/>
                <a:ahLst/>
                <a:rect l="l" t="t" r="r" b="b"/>
                <a:pathLst>
                  <a:path w="695" h="1912">
                    <a:moveTo>
                      <a:pt x="0" y="945"/>
                    </a:moveTo>
                    <a:lnTo>
                      <a:pt x="15" y="994"/>
                    </a:lnTo>
                    <a:lnTo>
                      <a:pt x="25" y="1043"/>
                    </a:lnTo>
                    <a:lnTo>
                      <a:pt x="33" y="1092"/>
                    </a:lnTo>
                    <a:lnTo>
                      <a:pt x="40" y="1142"/>
                    </a:lnTo>
                    <a:lnTo>
                      <a:pt x="49" y="1192"/>
                    </a:lnTo>
                    <a:lnTo>
                      <a:pt x="60" y="1242"/>
                    </a:lnTo>
                    <a:lnTo>
                      <a:pt x="76" y="1292"/>
                    </a:lnTo>
                    <a:lnTo>
                      <a:pt x="97" y="1343"/>
                    </a:lnTo>
                    <a:lnTo>
                      <a:pt x="118" y="1394"/>
                    </a:lnTo>
                    <a:lnTo>
                      <a:pt x="140" y="1442"/>
                    </a:lnTo>
                    <a:lnTo>
                      <a:pt x="166" y="1489"/>
                    </a:lnTo>
                    <a:lnTo>
                      <a:pt x="194" y="1536"/>
                    </a:lnTo>
                    <a:lnTo>
                      <a:pt x="225" y="1581"/>
                    </a:lnTo>
                    <a:lnTo>
                      <a:pt x="258" y="1622"/>
                    </a:lnTo>
                    <a:lnTo>
                      <a:pt x="293" y="1663"/>
                    </a:lnTo>
                    <a:lnTo>
                      <a:pt x="330" y="1701"/>
                    </a:lnTo>
                    <a:lnTo>
                      <a:pt x="370" y="1737"/>
                    </a:lnTo>
                    <a:lnTo>
                      <a:pt x="410" y="1772"/>
                    </a:lnTo>
                    <a:lnTo>
                      <a:pt x="454" y="1801"/>
                    </a:lnTo>
                    <a:lnTo>
                      <a:pt x="499" y="1830"/>
                    </a:lnTo>
                    <a:lnTo>
                      <a:pt x="546" y="1855"/>
                    </a:lnTo>
                    <a:lnTo>
                      <a:pt x="594" y="1878"/>
                    </a:lnTo>
                    <a:lnTo>
                      <a:pt x="645" y="1897"/>
                    </a:lnTo>
                    <a:lnTo>
                      <a:pt x="695" y="1912"/>
                    </a:lnTo>
                    <a:lnTo>
                      <a:pt x="631" y="1881"/>
                    </a:lnTo>
                    <a:lnTo>
                      <a:pt x="569" y="1845"/>
                    </a:lnTo>
                    <a:lnTo>
                      <a:pt x="509" y="1804"/>
                    </a:lnTo>
                    <a:lnTo>
                      <a:pt x="451" y="1760"/>
                    </a:lnTo>
                    <a:lnTo>
                      <a:pt x="397" y="1712"/>
                    </a:lnTo>
                    <a:lnTo>
                      <a:pt x="346" y="1658"/>
                    </a:lnTo>
                    <a:lnTo>
                      <a:pt x="299" y="1603"/>
                    </a:lnTo>
                    <a:lnTo>
                      <a:pt x="254" y="1543"/>
                    </a:lnTo>
                    <a:lnTo>
                      <a:pt x="214" y="1479"/>
                    </a:lnTo>
                    <a:lnTo>
                      <a:pt x="176" y="1413"/>
                    </a:lnTo>
                    <a:lnTo>
                      <a:pt x="143" y="1343"/>
                    </a:lnTo>
                    <a:lnTo>
                      <a:pt x="117" y="1270"/>
                    </a:lnTo>
                    <a:lnTo>
                      <a:pt x="93" y="1195"/>
                    </a:lnTo>
                    <a:lnTo>
                      <a:pt x="75" y="1116"/>
                    </a:lnTo>
                    <a:lnTo>
                      <a:pt x="61" y="1036"/>
                    </a:lnTo>
                    <a:lnTo>
                      <a:pt x="52" y="952"/>
                    </a:lnTo>
                    <a:lnTo>
                      <a:pt x="49" y="885"/>
                    </a:lnTo>
                    <a:lnTo>
                      <a:pt x="49" y="818"/>
                    </a:lnTo>
                    <a:lnTo>
                      <a:pt x="49" y="752"/>
                    </a:lnTo>
                    <a:lnTo>
                      <a:pt x="51" y="688"/>
                    </a:lnTo>
                    <a:lnTo>
                      <a:pt x="54" y="624"/>
                    </a:lnTo>
                    <a:lnTo>
                      <a:pt x="60" y="562"/>
                    </a:lnTo>
                    <a:lnTo>
                      <a:pt x="69" y="500"/>
                    </a:lnTo>
                    <a:lnTo>
                      <a:pt x="79" y="440"/>
                    </a:lnTo>
                    <a:lnTo>
                      <a:pt x="93" y="380"/>
                    </a:lnTo>
                    <a:lnTo>
                      <a:pt x="109" y="322"/>
                    </a:lnTo>
                    <a:lnTo>
                      <a:pt x="130" y="265"/>
                    </a:lnTo>
                    <a:lnTo>
                      <a:pt x="154" y="210"/>
                    </a:lnTo>
                    <a:lnTo>
                      <a:pt x="181" y="156"/>
                    </a:lnTo>
                    <a:lnTo>
                      <a:pt x="214" y="103"/>
                    </a:lnTo>
                    <a:lnTo>
                      <a:pt x="249" y="50"/>
                    </a:lnTo>
                    <a:lnTo>
                      <a:pt x="290" y="0"/>
                    </a:lnTo>
                    <a:lnTo>
                      <a:pt x="240" y="46"/>
                    </a:lnTo>
                    <a:lnTo>
                      <a:pt x="197" y="94"/>
                    </a:lnTo>
                    <a:lnTo>
                      <a:pt x="158" y="145"/>
                    </a:lnTo>
                    <a:lnTo>
                      <a:pt x="125" y="198"/>
                    </a:lnTo>
                    <a:lnTo>
                      <a:pt x="97" y="254"/>
                    </a:lnTo>
                    <a:lnTo>
                      <a:pt x="73" y="310"/>
                    </a:lnTo>
                    <a:lnTo>
                      <a:pt x="54" y="368"/>
                    </a:lnTo>
                    <a:lnTo>
                      <a:pt x="39" y="430"/>
                    </a:lnTo>
                    <a:lnTo>
                      <a:pt x="25" y="491"/>
                    </a:lnTo>
                    <a:lnTo>
                      <a:pt x="17" y="554"/>
                    </a:lnTo>
                    <a:lnTo>
                      <a:pt x="9" y="618"/>
                    </a:lnTo>
                    <a:lnTo>
                      <a:pt x="5" y="682"/>
                    </a:lnTo>
                    <a:lnTo>
                      <a:pt x="2" y="748"/>
                    </a:lnTo>
                    <a:lnTo>
                      <a:pt x="0" y="813"/>
                    </a:lnTo>
                    <a:lnTo>
                      <a:pt x="0" y="879"/>
                    </a:lnTo>
                    <a:lnTo>
                      <a:pt x="0" y="94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11280" y="4971960"/>
                <a:ext cx="597960" cy="928080"/>
              </a:xfrm>
              <a:custGeom>
                <a:avLst/>
                <a:gdLst/>
                <a:ahLst/>
                <a:rect l="l" t="t" r="r" b="b"/>
                <a:pathLst>
                  <a:path w="1498" h="2057">
                    <a:moveTo>
                      <a:pt x="0" y="1061"/>
                    </a:moveTo>
                    <a:lnTo>
                      <a:pt x="4" y="1125"/>
                    </a:lnTo>
                    <a:lnTo>
                      <a:pt x="13" y="1188"/>
                    </a:lnTo>
                    <a:lnTo>
                      <a:pt x="24" y="1251"/>
                    </a:lnTo>
                    <a:lnTo>
                      <a:pt x="37" y="1313"/>
                    </a:lnTo>
                    <a:lnTo>
                      <a:pt x="52" y="1374"/>
                    </a:lnTo>
                    <a:lnTo>
                      <a:pt x="72" y="1436"/>
                    </a:lnTo>
                    <a:lnTo>
                      <a:pt x="94" y="1494"/>
                    </a:lnTo>
                    <a:lnTo>
                      <a:pt x="118" y="1552"/>
                    </a:lnTo>
                    <a:lnTo>
                      <a:pt x="146" y="1607"/>
                    </a:lnTo>
                    <a:lnTo>
                      <a:pt x="178" y="1661"/>
                    </a:lnTo>
                    <a:lnTo>
                      <a:pt x="212" y="1712"/>
                    </a:lnTo>
                    <a:lnTo>
                      <a:pt x="249" y="1761"/>
                    </a:lnTo>
                    <a:lnTo>
                      <a:pt x="291" y="1807"/>
                    </a:lnTo>
                    <a:lnTo>
                      <a:pt x="336" y="1851"/>
                    </a:lnTo>
                    <a:lnTo>
                      <a:pt x="384" y="1889"/>
                    </a:lnTo>
                    <a:lnTo>
                      <a:pt x="436" y="1927"/>
                    </a:lnTo>
                    <a:lnTo>
                      <a:pt x="467" y="1946"/>
                    </a:lnTo>
                    <a:lnTo>
                      <a:pt x="500" y="1964"/>
                    </a:lnTo>
                    <a:lnTo>
                      <a:pt x="534" y="1980"/>
                    </a:lnTo>
                    <a:lnTo>
                      <a:pt x="569" y="1997"/>
                    </a:lnTo>
                    <a:lnTo>
                      <a:pt x="604" y="2012"/>
                    </a:lnTo>
                    <a:lnTo>
                      <a:pt x="642" y="2025"/>
                    </a:lnTo>
                    <a:lnTo>
                      <a:pt x="679" y="2036"/>
                    </a:lnTo>
                    <a:lnTo>
                      <a:pt x="718" y="2045"/>
                    </a:lnTo>
                    <a:lnTo>
                      <a:pt x="755" y="2052"/>
                    </a:lnTo>
                    <a:lnTo>
                      <a:pt x="794" y="2055"/>
                    </a:lnTo>
                    <a:lnTo>
                      <a:pt x="833" y="2057"/>
                    </a:lnTo>
                    <a:lnTo>
                      <a:pt x="873" y="2054"/>
                    </a:lnTo>
                    <a:lnTo>
                      <a:pt x="912" y="2049"/>
                    </a:lnTo>
                    <a:lnTo>
                      <a:pt x="952" y="2039"/>
                    </a:lnTo>
                    <a:lnTo>
                      <a:pt x="991" y="2025"/>
                    </a:lnTo>
                    <a:lnTo>
                      <a:pt x="1030" y="2007"/>
                    </a:lnTo>
                    <a:lnTo>
                      <a:pt x="1076" y="1973"/>
                    </a:lnTo>
                    <a:lnTo>
                      <a:pt x="1119" y="1939"/>
                    </a:lnTo>
                    <a:lnTo>
                      <a:pt x="1161" y="1901"/>
                    </a:lnTo>
                    <a:lnTo>
                      <a:pt x="1201" y="1861"/>
                    </a:lnTo>
                    <a:lnTo>
                      <a:pt x="1239" y="1821"/>
                    </a:lnTo>
                    <a:lnTo>
                      <a:pt x="1274" y="1777"/>
                    </a:lnTo>
                    <a:lnTo>
                      <a:pt x="1309" y="1734"/>
                    </a:lnTo>
                    <a:lnTo>
                      <a:pt x="1340" y="1688"/>
                    </a:lnTo>
                    <a:lnTo>
                      <a:pt x="1368" y="1640"/>
                    </a:lnTo>
                    <a:lnTo>
                      <a:pt x="1395" y="1591"/>
                    </a:lnTo>
                    <a:lnTo>
                      <a:pt x="1418" y="1540"/>
                    </a:lnTo>
                    <a:lnTo>
                      <a:pt x="1439" y="1488"/>
                    </a:lnTo>
                    <a:lnTo>
                      <a:pt x="1456" y="1434"/>
                    </a:lnTo>
                    <a:lnTo>
                      <a:pt x="1473" y="1380"/>
                    </a:lnTo>
                    <a:lnTo>
                      <a:pt x="1485" y="1324"/>
                    </a:lnTo>
                    <a:lnTo>
                      <a:pt x="1494" y="1265"/>
                    </a:lnTo>
                    <a:lnTo>
                      <a:pt x="1498" y="1197"/>
                    </a:lnTo>
                    <a:lnTo>
                      <a:pt x="1494" y="1130"/>
                    </a:lnTo>
                    <a:lnTo>
                      <a:pt x="1486" y="1067"/>
                    </a:lnTo>
                    <a:lnTo>
                      <a:pt x="1479" y="1003"/>
                    </a:lnTo>
                    <a:lnTo>
                      <a:pt x="1476" y="989"/>
                    </a:lnTo>
                    <a:lnTo>
                      <a:pt x="1468" y="980"/>
                    </a:lnTo>
                    <a:lnTo>
                      <a:pt x="1459" y="977"/>
                    </a:lnTo>
                    <a:lnTo>
                      <a:pt x="1449" y="979"/>
                    </a:lnTo>
                    <a:lnTo>
                      <a:pt x="1436" y="982"/>
                    </a:lnTo>
                    <a:lnTo>
                      <a:pt x="1422" y="986"/>
                    </a:lnTo>
                    <a:lnTo>
                      <a:pt x="1409" y="994"/>
                    </a:lnTo>
                    <a:lnTo>
                      <a:pt x="1395" y="1000"/>
                    </a:lnTo>
                    <a:lnTo>
                      <a:pt x="1391" y="1095"/>
                    </a:lnTo>
                    <a:lnTo>
                      <a:pt x="1382" y="1192"/>
                    </a:lnTo>
                    <a:lnTo>
                      <a:pt x="1365" y="1289"/>
                    </a:lnTo>
                    <a:lnTo>
                      <a:pt x="1345" y="1385"/>
                    </a:lnTo>
                    <a:lnTo>
                      <a:pt x="1315" y="1477"/>
                    </a:lnTo>
                    <a:lnTo>
                      <a:pt x="1279" y="1565"/>
                    </a:lnTo>
                    <a:lnTo>
                      <a:pt x="1236" y="1649"/>
                    </a:lnTo>
                    <a:lnTo>
                      <a:pt x="1185" y="1725"/>
                    </a:lnTo>
                    <a:lnTo>
                      <a:pt x="1161" y="1748"/>
                    </a:lnTo>
                    <a:lnTo>
                      <a:pt x="1134" y="1770"/>
                    </a:lnTo>
                    <a:lnTo>
                      <a:pt x="1107" y="1791"/>
                    </a:lnTo>
                    <a:lnTo>
                      <a:pt x="1077" y="1810"/>
                    </a:lnTo>
                    <a:lnTo>
                      <a:pt x="1046" y="1830"/>
                    </a:lnTo>
                    <a:lnTo>
                      <a:pt x="1013" y="1848"/>
                    </a:lnTo>
                    <a:lnTo>
                      <a:pt x="980" y="1864"/>
                    </a:lnTo>
                    <a:lnTo>
                      <a:pt x="946" y="1877"/>
                    </a:lnTo>
                    <a:lnTo>
                      <a:pt x="910" y="1889"/>
                    </a:lnTo>
                    <a:lnTo>
                      <a:pt x="873" y="1900"/>
                    </a:lnTo>
                    <a:lnTo>
                      <a:pt x="836" y="1907"/>
                    </a:lnTo>
                    <a:lnTo>
                      <a:pt x="798" y="1912"/>
                    </a:lnTo>
                    <a:lnTo>
                      <a:pt x="761" y="1913"/>
                    </a:lnTo>
                    <a:lnTo>
                      <a:pt x="722" y="1912"/>
                    </a:lnTo>
                    <a:lnTo>
                      <a:pt x="683" y="1907"/>
                    </a:lnTo>
                    <a:lnTo>
                      <a:pt x="645" y="1900"/>
                    </a:lnTo>
                    <a:lnTo>
                      <a:pt x="603" y="1885"/>
                    </a:lnTo>
                    <a:lnTo>
                      <a:pt x="563" y="1868"/>
                    </a:lnTo>
                    <a:lnTo>
                      <a:pt x="524" y="1848"/>
                    </a:lnTo>
                    <a:lnTo>
                      <a:pt x="488" y="1825"/>
                    </a:lnTo>
                    <a:lnTo>
                      <a:pt x="452" y="1801"/>
                    </a:lnTo>
                    <a:lnTo>
                      <a:pt x="419" y="1774"/>
                    </a:lnTo>
                    <a:lnTo>
                      <a:pt x="388" y="1746"/>
                    </a:lnTo>
                    <a:lnTo>
                      <a:pt x="358" y="1715"/>
                    </a:lnTo>
                    <a:lnTo>
                      <a:pt x="330" y="1682"/>
                    </a:lnTo>
                    <a:lnTo>
                      <a:pt x="303" y="1648"/>
                    </a:lnTo>
                    <a:lnTo>
                      <a:pt x="279" y="1612"/>
                    </a:lnTo>
                    <a:lnTo>
                      <a:pt x="257" y="1574"/>
                    </a:lnTo>
                    <a:lnTo>
                      <a:pt x="236" y="1536"/>
                    </a:lnTo>
                    <a:lnTo>
                      <a:pt x="216" y="1495"/>
                    </a:lnTo>
                    <a:lnTo>
                      <a:pt x="200" y="1454"/>
                    </a:lnTo>
                    <a:lnTo>
                      <a:pt x="185" y="1412"/>
                    </a:lnTo>
                    <a:lnTo>
                      <a:pt x="166" y="1337"/>
                    </a:lnTo>
                    <a:lnTo>
                      <a:pt x="148" y="1262"/>
                    </a:lnTo>
                    <a:lnTo>
                      <a:pt x="133" y="1186"/>
                    </a:lnTo>
                    <a:lnTo>
                      <a:pt x="121" y="1110"/>
                    </a:lnTo>
                    <a:lnTo>
                      <a:pt x="112" y="1034"/>
                    </a:lnTo>
                    <a:lnTo>
                      <a:pt x="107" y="958"/>
                    </a:lnTo>
                    <a:lnTo>
                      <a:pt x="106" y="882"/>
                    </a:lnTo>
                    <a:lnTo>
                      <a:pt x="110" y="807"/>
                    </a:lnTo>
                    <a:lnTo>
                      <a:pt x="119" y="734"/>
                    </a:lnTo>
                    <a:lnTo>
                      <a:pt x="134" y="662"/>
                    </a:lnTo>
                    <a:lnTo>
                      <a:pt x="155" y="592"/>
                    </a:lnTo>
                    <a:lnTo>
                      <a:pt x="181" y="525"/>
                    </a:lnTo>
                    <a:lnTo>
                      <a:pt x="215" y="459"/>
                    </a:lnTo>
                    <a:lnTo>
                      <a:pt x="255" y="398"/>
                    </a:lnTo>
                    <a:lnTo>
                      <a:pt x="303" y="338"/>
                    </a:lnTo>
                    <a:lnTo>
                      <a:pt x="358" y="283"/>
                    </a:lnTo>
                    <a:lnTo>
                      <a:pt x="388" y="264"/>
                    </a:lnTo>
                    <a:lnTo>
                      <a:pt x="419" y="243"/>
                    </a:lnTo>
                    <a:lnTo>
                      <a:pt x="452" y="224"/>
                    </a:lnTo>
                    <a:lnTo>
                      <a:pt x="484" y="204"/>
                    </a:lnTo>
                    <a:lnTo>
                      <a:pt x="518" y="185"/>
                    </a:lnTo>
                    <a:lnTo>
                      <a:pt x="551" y="167"/>
                    </a:lnTo>
                    <a:lnTo>
                      <a:pt x="585" y="150"/>
                    </a:lnTo>
                    <a:lnTo>
                      <a:pt x="621" y="135"/>
                    </a:lnTo>
                    <a:lnTo>
                      <a:pt x="655" y="124"/>
                    </a:lnTo>
                    <a:lnTo>
                      <a:pt x="691" y="115"/>
                    </a:lnTo>
                    <a:lnTo>
                      <a:pt x="727" y="107"/>
                    </a:lnTo>
                    <a:lnTo>
                      <a:pt x="763" y="104"/>
                    </a:lnTo>
                    <a:lnTo>
                      <a:pt x="798" y="104"/>
                    </a:lnTo>
                    <a:lnTo>
                      <a:pt x="834" y="109"/>
                    </a:lnTo>
                    <a:lnTo>
                      <a:pt x="870" y="118"/>
                    </a:lnTo>
                    <a:lnTo>
                      <a:pt x="906" y="131"/>
                    </a:lnTo>
                    <a:lnTo>
                      <a:pt x="955" y="156"/>
                    </a:lnTo>
                    <a:lnTo>
                      <a:pt x="1001" y="186"/>
                    </a:lnTo>
                    <a:lnTo>
                      <a:pt x="1042" y="218"/>
                    </a:lnTo>
                    <a:lnTo>
                      <a:pt x="1079" y="250"/>
                    </a:lnTo>
                    <a:lnTo>
                      <a:pt x="1113" y="286"/>
                    </a:lnTo>
                    <a:lnTo>
                      <a:pt x="1143" y="324"/>
                    </a:lnTo>
                    <a:lnTo>
                      <a:pt x="1170" y="364"/>
                    </a:lnTo>
                    <a:lnTo>
                      <a:pt x="1195" y="406"/>
                    </a:lnTo>
                    <a:lnTo>
                      <a:pt x="1218" y="449"/>
                    </a:lnTo>
                    <a:lnTo>
                      <a:pt x="1239" y="494"/>
                    </a:lnTo>
                    <a:lnTo>
                      <a:pt x="1258" y="540"/>
                    </a:lnTo>
                    <a:lnTo>
                      <a:pt x="1276" y="586"/>
                    </a:lnTo>
                    <a:lnTo>
                      <a:pt x="1292" y="634"/>
                    </a:lnTo>
                    <a:lnTo>
                      <a:pt x="1307" y="683"/>
                    </a:lnTo>
                    <a:lnTo>
                      <a:pt x="1324" y="733"/>
                    </a:lnTo>
                    <a:lnTo>
                      <a:pt x="1339" y="783"/>
                    </a:lnTo>
                    <a:lnTo>
                      <a:pt x="1431" y="755"/>
                    </a:lnTo>
                    <a:lnTo>
                      <a:pt x="1416" y="698"/>
                    </a:lnTo>
                    <a:lnTo>
                      <a:pt x="1400" y="641"/>
                    </a:lnTo>
                    <a:lnTo>
                      <a:pt x="1380" y="588"/>
                    </a:lnTo>
                    <a:lnTo>
                      <a:pt x="1358" y="536"/>
                    </a:lnTo>
                    <a:lnTo>
                      <a:pt x="1334" y="483"/>
                    </a:lnTo>
                    <a:lnTo>
                      <a:pt x="1307" y="434"/>
                    </a:lnTo>
                    <a:lnTo>
                      <a:pt x="1277" y="388"/>
                    </a:lnTo>
                    <a:lnTo>
                      <a:pt x="1248" y="341"/>
                    </a:lnTo>
                    <a:lnTo>
                      <a:pt x="1213" y="298"/>
                    </a:lnTo>
                    <a:lnTo>
                      <a:pt x="1177" y="256"/>
                    </a:lnTo>
                    <a:lnTo>
                      <a:pt x="1139" y="216"/>
                    </a:lnTo>
                    <a:lnTo>
                      <a:pt x="1098" y="177"/>
                    </a:lnTo>
                    <a:lnTo>
                      <a:pt x="1057" y="141"/>
                    </a:lnTo>
                    <a:lnTo>
                      <a:pt x="1012" y="107"/>
                    </a:lnTo>
                    <a:lnTo>
                      <a:pt x="964" y="76"/>
                    </a:lnTo>
                    <a:lnTo>
                      <a:pt x="915" y="46"/>
                    </a:lnTo>
                    <a:lnTo>
                      <a:pt x="876" y="31"/>
                    </a:lnTo>
                    <a:lnTo>
                      <a:pt x="836" y="21"/>
                    </a:lnTo>
                    <a:lnTo>
                      <a:pt x="795" y="12"/>
                    </a:lnTo>
                    <a:lnTo>
                      <a:pt x="754" y="4"/>
                    </a:lnTo>
                    <a:lnTo>
                      <a:pt x="713" y="1"/>
                    </a:lnTo>
                    <a:lnTo>
                      <a:pt x="673" y="0"/>
                    </a:lnTo>
                    <a:lnTo>
                      <a:pt x="633" y="1"/>
                    </a:lnTo>
                    <a:lnTo>
                      <a:pt x="594" y="6"/>
                    </a:lnTo>
                    <a:lnTo>
                      <a:pt x="555" y="12"/>
                    </a:lnTo>
                    <a:lnTo>
                      <a:pt x="518" y="22"/>
                    </a:lnTo>
                    <a:lnTo>
                      <a:pt x="481" y="32"/>
                    </a:lnTo>
                    <a:lnTo>
                      <a:pt x="446" y="47"/>
                    </a:lnTo>
                    <a:lnTo>
                      <a:pt x="412" y="64"/>
                    </a:lnTo>
                    <a:lnTo>
                      <a:pt x="381" y="83"/>
                    </a:lnTo>
                    <a:lnTo>
                      <a:pt x="351" y="106"/>
                    </a:lnTo>
                    <a:lnTo>
                      <a:pt x="322" y="130"/>
                    </a:lnTo>
                    <a:lnTo>
                      <a:pt x="295" y="161"/>
                    </a:lnTo>
                    <a:lnTo>
                      <a:pt x="267" y="192"/>
                    </a:lnTo>
                    <a:lnTo>
                      <a:pt x="242" y="224"/>
                    </a:lnTo>
                    <a:lnTo>
                      <a:pt x="215" y="256"/>
                    </a:lnTo>
                    <a:lnTo>
                      <a:pt x="190" y="289"/>
                    </a:lnTo>
                    <a:lnTo>
                      <a:pt x="166" y="322"/>
                    </a:lnTo>
                    <a:lnTo>
                      <a:pt x="143" y="356"/>
                    </a:lnTo>
                    <a:lnTo>
                      <a:pt x="122" y="391"/>
                    </a:lnTo>
                    <a:lnTo>
                      <a:pt x="101" y="427"/>
                    </a:lnTo>
                    <a:lnTo>
                      <a:pt x="84" y="464"/>
                    </a:lnTo>
                    <a:lnTo>
                      <a:pt x="66" y="501"/>
                    </a:lnTo>
                    <a:lnTo>
                      <a:pt x="52" y="540"/>
                    </a:lnTo>
                    <a:lnTo>
                      <a:pt x="39" y="580"/>
                    </a:lnTo>
                    <a:lnTo>
                      <a:pt x="28" y="622"/>
                    </a:lnTo>
                    <a:lnTo>
                      <a:pt x="21" y="664"/>
                    </a:lnTo>
                    <a:lnTo>
                      <a:pt x="15" y="709"/>
                    </a:lnTo>
                    <a:lnTo>
                      <a:pt x="13" y="801"/>
                    </a:lnTo>
                    <a:lnTo>
                      <a:pt x="15" y="889"/>
                    </a:lnTo>
                    <a:lnTo>
                      <a:pt x="12" y="976"/>
                    </a:lnTo>
                    <a:lnTo>
                      <a:pt x="0" y="10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78600" y="5402160"/>
                <a:ext cx="165960" cy="124200"/>
              </a:xfrm>
              <a:custGeom>
                <a:avLst/>
                <a:gdLst/>
                <a:ahLst/>
                <a:rect l="l" t="t" r="r" b="b"/>
                <a:pathLst>
                  <a:path w="416" h="277">
                    <a:moveTo>
                      <a:pt x="0" y="20"/>
                    </a:moveTo>
                    <a:lnTo>
                      <a:pt x="55" y="277"/>
                    </a:lnTo>
                    <a:lnTo>
                      <a:pt x="412" y="97"/>
                    </a:lnTo>
                    <a:lnTo>
                      <a:pt x="416" y="83"/>
                    </a:lnTo>
                    <a:lnTo>
                      <a:pt x="413" y="66"/>
                    </a:lnTo>
                    <a:lnTo>
                      <a:pt x="406" y="51"/>
                    </a:lnTo>
                    <a:lnTo>
                      <a:pt x="393" y="41"/>
                    </a:lnTo>
                    <a:lnTo>
                      <a:pt x="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77520" y="5270400"/>
                <a:ext cx="173160" cy="116280"/>
              </a:xfrm>
              <a:custGeom>
                <a:avLst/>
                <a:gdLst/>
                <a:ahLst/>
                <a:rect l="l" t="t" r="r" b="b"/>
                <a:pathLst>
                  <a:path w="434" h="258">
                    <a:moveTo>
                      <a:pt x="0" y="136"/>
                    </a:moveTo>
                    <a:lnTo>
                      <a:pt x="1" y="148"/>
                    </a:lnTo>
                    <a:lnTo>
                      <a:pt x="3" y="160"/>
                    </a:lnTo>
                    <a:lnTo>
                      <a:pt x="4" y="172"/>
                    </a:lnTo>
                    <a:lnTo>
                      <a:pt x="6" y="186"/>
                    </a:lnTo>
                    <a:lnTo>
                      <a:pt x="434" y="258"/>
                    </a:lnTo>
                    <a:lnTo>
                      <a:pt x="38" y="0"/>
                    </a:lnTo>
                    <a:lnTo>
                      <a:pt x="22" y="25"/>
                    </a:lnTo>
                    <a:lnTo>
                      <a:pt x="15" y="60"/>
                    </a:lnTo>
                    <a:lnTo>
                      <a:pt x="10" y="97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09560" y="5484240"/>
                <a:ext cx="149040" cy="189360"/>
              </a:xfrm>
              <a:custGeom>
                <a:avLst/>
                <a:gdLst/>
                <a:ahLst/>
                <a:rect l="l" t="t" r="r" b="b"/>
                <a:pathLst>
                  <a:path w="373" h="419">
                    <a:moveTo>
                      <a:pt x="0" y="198"/>
                    </a:moveTo>
                    <a:lnTo>
                      <a:pt x="67" y="401"/>
                    </a:lnTo>
                    <a:lnTo>
                      <a:pt x="69" y="403"/>
                    </a:lnTo>
                    <a:lnTo>
                      <a:pt x="75" y="407"/>
                    </a:lnTo>
                    <a:lnTo>
                      <a:pt x="82" y="413"/>
                    </a:lnTo>
                    <a:lnTo>
                      <a:pt x="94" y="419"/>
                    </a:lnTo>
                    <a:lnTo>
                      <a:pt x="373" y="50"/>
                    </a:lnTo>
                    <a:lnTo>
                      <a:pt x="372" y="38"/>
                    </a:lnTo>
                    <a:lnTo>
                      <a:pt x="370" y="26"/>
                    </a:lnTo>
                    <a:lnTo>
                      <a:pt x="367" y="15"/>
                    </a:lnTo>
                    <a:lnTo>
                      <a:pt x="366" y="0"/>
                    </a:lnTo>
                    <a:lnTo>
                      <a:pt x="3" y="182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05600" y="5154120"/>
                <a:ext cx="164880" cy="199440"/>
              </a:xfrm>
              <a:custGeom>
                <a:avLst/>
                <a:gdLst/>
                <a:ahLst/>
                <a:rect l="l" t="t" r="r" b="b"/>
                <a:pathLst>
                  <a:path w="415" h="442">
                    <a:moveTo>
                      <a:pt x="9" y="192"/>
                    </a:moveTo>
                    <a:lnTo>
                      <a:pt x="415" y="442"/>
                    </a:lnTo>
                    <a:lnTo>
                      <a:pt x="118" y="0"/>
                    </a:lnTo>
                    <a:lnTo>
                      <a:pt x="95" y="13"/>
                    </a:lnTo>
                    <a:lnTo>
                      <a:pt x="76" y="31"/>
                    </a:lnTo>
                    <a:lnTo>
                      <a:pt x="58" y="50"/>
                    </a:lnTo>
                    <a:lnTo>
                      <a:pt x="43" y="73"/>
                    </a:lnTo>
                    <a:lnTo>
                      <a:pt x="30" y="97"/>
                    </a:lnTo>
                    <a:lnTo>
                      <a:pt x="19" y="121"/>
                    </a:lnTo>
                    <a:lnTo>
                      <a:pt x="9" y="144"/>
                    </a:lnTo>
                    <a:lnTo>
                      <a:pt x="0" y="167"/>
                    </a:lnTo>
                    <a:lnTo>
                      <a:pt x="9" y="192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164640" y="5552640"/>
                <a:ext cx="106920" cy="205560"/>
              </a:xfrm>
              <a:custGeom>
                <a:avLst/>
                <a:gdLst/>
                <a:ahLst/>
                <a:rect l="l" t="t" r="r" b="b"/>
                <a:pathLst>
                  <a:path w="268" h="455">
                    <a:moveTo>
                      <a:pt x="1" y="349"/>
                    </a:moveTo>
                    <a:lnTo>
                      <a:pt x="102" y="455"/>
                    </a:lnTo>
                    <a:lnTo>
                      <a:pt x="268" y="0"/>
                    </a:lnTo>
                    <a:lnTo>
                      <a:pt x="0" y="337"/>
                    </a:lnTo>
                    <a:lnTo>
                      <a:pt x="1" y="349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77600" y="5065560"/>
                <a:ext cx="124560" cy="264240"/>
              </a:xfrm>
              <a:custGeom>
                <a:avLst/>
                <a:gdLst/>
                <a:ahLst/>
                <a:rect l="l" t="t" r="r" b="b"/>
                <a:pathLst>
                  <a:path w="312" h="585">
                    <a:moveTo>
                      <a:pt x="0" y="137"/>
                    </a:moveTo>
                    <a:lnTo>
                      <a:pt x="312" y="585"/>
                    </a:lnTo>
                    <a:lnTo>
                      <a:pt x="267" y="0"/>
                    </a:lnTo>
                    <a:lnTo>
                      <a:pt x="2" y="111"/>
                    </a:lnTo>
                    <a:lnTo>
                      <a:pt x="3" y="117"/>
                    </a:lnTo>
                    <a:lnTo>
                      <a:pt x="3" y="121"/>
                    </a:lnTo>
                    <a:lnTo>
                      <a:pt x="3" y="128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42400" y="5551200"/>
                <a:ext cx="86760" cy="248760"/>
              </a:xfrm>
              <a:custGeom>
                <a:avLst/>
                <a:gdLst/>
                <a:ahLst/>
                <a:rect l="l" t="t" r="r" b="b"/>
                <a:pathLst>
                  <a:path w="219" h="551">
                    <a:moveTo>
                      <a:pt x="0" y="491"/>
                    </a:moveTo>
                    <a:lnTo>
                      <a:pt x="5" y="511"/>
                    </a:lnTo>
                    <a:lnTo>
                      <a:pt x="219" y="551"/>
                    </a:lnTo>
                    <a:lnTo>
                      <a:pt x="168" y="0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72640" y="5369760"/>
                <a:ext cx="99000" cy="136800"/>
              </a:xfrm>
              <a:custGeom>
                <a:avLst/>
                <a:gdLst/>
                <a:ahLst/>
                <a:rect l="l" t="t" r="r" b="b"/>
                <a:pathLst>
                  <a:path w="249" h="303">
                    <a:moveTo>
                      <a:pt x="0" y="143"/>
                    </a:moveTo>
                    <a:lnTo>
                      <a:pt x="26" y="227"/>
                    </a:lnTo>
                    <a:lnTo>
                      <a:pt x="86" y="289"/>
                    </a:lnTo>
                    <a:lnTo>
                      <a:pt x="97" y="298"/>
                    </a:lnTo>
                    <a:lnTo>
                      <a:pt x="110" y="301"/>
                    </a:lnTo>
                    <a:lnTo>
                      <a:pt x="123" y="303"/>
                    </a:lnTo>
                    <a:lnTo>
                      <a:pt x="138" y="300"/>
                    </a:lnTo>
                    <a:lnTo>
                      <a:pt x="153" y="295"/>
                    </a:lnTo>
                    <a:lnTo>
                      <a:pt x="167" y="289"/>
                    </a:lnTo>
                    <a:lnTo>
                      <a:pt x="180" y="282"/>
                    </a:lnTo>
                    <a:lnTo>
                      <a:pt x="191" y="274"/>
                    </a:lnTo>
                    <a:lnTo>
                      <a:pt x="203" y="258"/>
                    </a:lnTo>
                    <a:lnTo>
                      <a:pt x="213" y="242"/>
                    </a:lnTo>
                    <a:lnTo>
                      <a:pt x="222" y="228"/>
                    </a:lnTo>
                    <a:lnTo>
                      <a:pt x="229" y="215"/>
                    </a:lnTo>
                    <a:lnTo>
                      <a:pt x="235" y="203"/>
                    </a:lnTo>
                    <a:lnTo>
                      <a:pt x="241" y="191"/>
                    </a:lnTo>
                    <a:lnTo>
                      <a:pt x="246" y="179"/>
                    </a:lnTo>
                    <a:lnTo>
                      <a:pt x="249" y="168"/>
                    </a:lnTo>
                    <a:lnTo>
                      <a:pt x="237" y="160"/>
                    </a:lnTo>
                    <a:lnTo>
                      <a:pt x="225" y="158"/>
                    </a:lnTo>
                    <a:lnTo>
                      <a:pt x="209" y="161"/>
                    </a:lnTo>
                    <a:lnTo>
                      <a:pt x="194" y="167"/>
                    </a:lnTo>
                    <a:lnTo>
                      <a:pt x="176" y="173"/>
                    </a:lnTo>
                    <a:lnTo>
                      <a:pt x="159" y="179"/>
                    </a:lnTo>
                    <a:lnTo>
                      <a:pt x="141" y="183"/>
                    </a:lnTo>
                    <a:lnTo>
                      <a:pt x="125" y="182"/>
                    </a:lnTo>
                    <a:lnTo>
                      <a:pt x="116" y="177"/>
                    </a:lnTo>
                    <a:lnTo>
                      <a:pt x="107" y="171"/>
                    </a:lnTo>
                    <a:lnTo>
                      <a:pt x="97" y="163"/>
                    </a:lnTo>
                    <a:lnTo>
                      <a:pt x="89" y="149"/>
                    </a:lnTo>
                    <a:lnTo>
                      <a:pt x="95" y="133"/>
                    </a:lnTo>
                    <a:lnTo>
                      <a:pt x="106" y="121"/>
                    </a:lnTo>
                    <a:lnTo>
                      <a:pt x="120" y="112"/>
                    </a:lnTo>
                    <a:lnTo>
                      <a:pt x="138" y="104"/>
                    </a:lnTo>
                    <a:lnTo>
                      <a:pt x="158" y="100"/>
                    </a:lnTo>
                    <a:lnTo>
                      <a:pt x="179" y="94"/>
                    </a:lnTo>
                    <a:lnTo>
                      <a:pt x="198" y="86"/>
                    </a:lnTo>
                    <a:lnTo>
                      <a:pt x="216" y="77"/>
                    </a:lnTo>
                    <a:lnTo>
                      <a:pt x="198" y="15"/>
                    </a:lnTo>
                    <a:lnTo>
                      <a:pt x="182" y="7"/>
                    </a:lnTo>
                    <a:lnTo>
                      <a:pt x="165" y="1"/>
                    </a:lnTo>
                    <a:lnTo>
                      <a:pt x="147" y="0"/>
                    </a:lnTo>
                    <a:lnTo>
                      <a:pt x="129" y="1"/>
                    </a:lnTo>
                    <a:lnTo>
                      <a:pt x="110" y="4"/>
                    </a:lnTo>
                    <a:lnTo>
                      <a:pt x="92" y="10"/>
                    </a:lnTo>
                    <a:lnTo>
                      <a:pt x="74" y="18"/>
                    </a:lnTo>
                    <a:lnTo>
                      <a:pt x="58" y="25"/>
                    </a:lnTo>
                    <a:lnTo>
                      <a:pt x="46" y="34"/>
                    </a:lnTo>
                    <a:lnTo>
                      <a:pt x="35" y="46"/>
                    </a:lnTo>
                    <a:lnTo>
                      <a:pt x="26" y="60"/>
                    </a:lnTo>
                    <a:lnTo>
                      <a:pt x="19" y="74"/>
                    </a:lnTo>
                    <a:lnTo>
                      <a:pt x="13" y="91"/>
                    </a:lnTo>
                    <a:lnTo>
                      <a:pt x="9" y="109"/>
                    </a:lnTo>
                    <a:lnTo>
                      <a:pt x="4" y="125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334200" y="5546520"/>
                <a:ext cx="100440" cy="239760"/>
              </a:xfrm>
              <a:custGeom>
                <a:avLst/>
                <a:gdLst/>
                <a:ahLst/>
                <a:rect l="l" t="t" r="r" b="b"/>
                <a:pathLst>
                  <a:path w="253" h="533">
                    <a:moveTo>
                      <a:pt x="0" y="34"/>
                    </a:moveTo>
                    <a:lnTo>
                      <a:pt x="72" y="504"/>
                    </a:lnTo>
                    <a:lnTo>
                      <a:pt x="75" y="513"/>
                    </a:lnTo>
                    <a:lnTo>
                      <a:pt x="81" y="522"/>
                    </a:lnTo>
                    <a:lnTo>
                      <a:pt x="90" y="527"/>
                    </a:lnTo>
                    <a:lnTo>
                      <a:pt x="100" y="531"/>
                    </a:lnTo>
                    <a:lnTo>
                      <a:pt x="111" y="533"/>
                    </a:lnTo>
                    <a:lnTo>
                      <a:pt x="123" y="531"/>
                    </a:lnTo>
                    <a:lnTo>
                      <a:pt x="135" y="528"/>
                    </a:lnTo>
                    <a:lnTo>
                      <a:pt x="147" y="524"/>
                    </a:lnTo>
                    <a:lnTo>
                      <a:pt x="161" y="512"/>
                    </a:lnTo>
                    <a:lnTo>
                      <a:pt x="178" y="501"/>
                    </a:lnTo>
                    <a:lnTo>
                      <a:pt x="193" y="492"/>
                    </a:lnTo>
                    <a:lnTo>
                      <a:pt x="206" y="482"/>
                    </a:lnTo>
                    <a:lnTo>
                      <a:pt x="220" y="473"/>
                    </a:lnTo>
                    <a:lnTo>
                      <a:pt x="232" y="464"/>
                    </a:lnTo>
                    <a:lnTo>
                      <a:pt x="244" y="457"/>
                    </a:lnTo>
                    <a:lnTo>
                      <a:pt x="253" y="448"/>
                    </a:lnTo>
                    <a:lnTo>
                      <a:pt x="33" y="0"/>
                    </a:lnTo>
                    <a:lnTo>
                      <a:pt x="21" y="1"/>
                    </a:lnTo>
                    <a:lnTo>
                      <a:pt x="9" y="7"/>
                    </a:lnTo>
                    <a:lnTo>
                      <a:pt x="0" y="1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310800" y="5054040"/>
                <a:ext cx="72360" cy="271440"/>
              </a:xfrm>
              <a:custGeom>
                <a:avLst/>
                <a:gdLst/>
                <a:ahLst/>
                <a:rect l="l" t="t" r="r" b="b"/>
                <a:pathLst>
                  <a:path w="182" h="603">
                    <a:moveTo>
                      <a:pt x="0" y="126"/>
                    </a:moveTo>
                    <a:lnTo>
                      <a:pt x="64" y="603"/>
                    </a:lnTo>
                    <a:lnTo>
                      <a:pt x="182" y="51"/>
                    </a:lnTo>
                    <a:lnTo>
                      <a:pt x="169" y="38"/>
                    </a:lnTo>
                    <a:lnTo>
                      <a:pt x="152" y="26"/>
                    </a:lnTo>
                    <a:lnTo>
                      <a:pt x="133" y="15"/>
                    </a:lnTo>
                    <a:lnTo>
                      <a:pt x="112" y="8"/>
                    </a:lnTo>
                    <a:lnTo>
                      <a:pt x="90" y="3"/>
                    </a:lnTo>
                    <a:lnTo>
                      <a:pt x="67" y="0"/>
                    </a:lnTo>
                    <a:lnTo>
                      <a:pt x="45" y="2"/>
                    </a:lnTo>
                    <a:lnTo>
                      <a:pt x="23" y="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72360" y="5510520"/>
                <a:ext cx="138960" cy="207360"/>
              </a:xfrm>
              <a:custGeom>
                <a:avLst/>
                <a:gdLst/>
                <a:ahLst/>
                <a:rect l="l" t="t" r="r" b="b"/>
                <a:pathLst>
                  <a:path w="348" h="460">
                    <a:moveTo>
                      <a:pt x="0" y="36"/>
                    </a:moveTo>
                    <a:lnTo>
                      <a:pt x="230" y="460"/>
                    </a:lnTo>
                    <a:lnTo>
                      <a:pt x="348" y="241"/>
                    </a:lnTo>
                    <a:lnTo>
                      <a:pt x="342" y="217"/>
                    </a:lnTo>
                    <a:lnTo>
                      <a:pt x="333" y="194"/>
                    </a:lnTo>
                    <a:lnTo>
                      <a:pt x="320" y="173"/>
                    </a:lnTo>
                    <a:lnTo>
                      <a:pt x="306" y="156"/>
                    </a:lnTo>
                    <a:lnTo>
                      <a:pt x="290" y="139"/>
                    </a:lnTo>
                    <a:lnTo>
                      <a:pt x="272" y="124"/>
                    </a:lnTo>
                    <a:lnTo>
                      <a:pt x="251" y="111"/>
                    </a:lnTo>
                    <a:lnTo>
                      <a:pt x="230" y="97"/>
                    </a:lnTo>
                    <a:lnTo>
                      <a:pt x="209" y="85"/>
                    </a:lnTo>
                    <a:lnTo>
                      <a:pt x="185" y="73"/>
                    </a:lnTo>
                    <a:lnTo>
                      <a:pt x="163" y="63"/>
                    </a:lnTo>
                    <a:lnTo>
                      <a:pt x="141" y="53"/>
                    </a:lnTo>
                    <a:lnTo>
                      <a:pt x="117" y="41"/>
                    </a:lnTo>
                    <a:lnTo>
                      <a:pt x="94" y="30"/>
                    </a:lnTo>
                    <a:lnTo>
                      <a:pt x="73" y="18"/>
                    </a:lnTo>
                    <a:lnTo>
                      <a:pt x="53" y="5"/>
                    </a:lnTo>
                    <a:lnTo>
                      <a:pt x="38" y="2"/>
                    </a:lnTo>
                    <a:lnTo>
                      <a:pt x="26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6" y="5"/>
                    </a:lnTo>
                    <a:lnTo>
                      <a:pt x="3" y="14"/>
                    </a:lnTo>
                    <a:lnTo>
                      <a:pt x="0" y="2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368400" y="5108040"/>
                <a:ext cx="105120" cy="246240"/>
              </a:xfrm>
              <a:custGeom>
                <a:avLst/>
                <a:gdLst/>
                <a:ahLst/>
                <a:rect l="l" t="t" r="r" b="b"/>
                <a:pathLst>
                  <a:path w="264" h="546">
                    <a:moveTo>
                      <a:pt x="0" y="503"/>
                    </a:moveTo>
                    <a:lnTo>
                      <a:pt x="0" y="514"/>
                    </a:lnTo>
                    <a:lnTo>
                      <a:pt x="1" y="524"/>
                    </a:lnTo>
                    <a:lnTo>
                      <a:pt x="3" y="536"/>
                    </a:lnTo>
                    <a:lnTo>
                      <a:pt x="10" y="546"/>
                    </a:lnTo>
                    <a:lnTo>
                      <a:pt x="264" y="191"/>
                    </a:lnTo>
                    <a:lnTo>
                      <a:pt x="118" y="0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93240" y="5248080"/>
                <a:ext cx="117360" cy="145080"/>
              </a:xfrm>
              <a:custGeom>
                <a:avLst/>
                <a:gdLst/>
                <a:ahLst/>
                <a:rect l="l" t="t" r="r" b="b"/>
                <a:pathLst>
                  <a:path w="294" h="323">
                    <a:moveTo>
                      <a:pt x="1" y="311"/>
                    </a:moveTo>
                    <a:lnTo>
                      <a:pt x="10" y="323"/>
                    </a:lnTo>
                    <a:lnTo>
                      <a:pt x="188" y="236"/>
                    </a:lnTo>
                    <a:lnTo>
                      <a:pt x="277" y="214"/>
                    </a:lnTo>
                    <a:lnTo>
                      <a:pt x="280" y="209"/>
                    </a:lnTo>
                    <a:lnTo>
                      <a:pt x="285" y="203"/>
                    </a:lnTo>
                    <a:lnTo>
                      <a:pt x="289" y="197"/>
                    </a:lnTo>
                    <a:lnTo>
                      <a:pt x="294" y="191"/>
                    </a:lnTo>
                    <a:lnTo>
                      <a:pt x="246" y="0"/>
                    </a:lnTo>
                    <a:lnTo>
                      <a:pt x="0" y="299"/>
                    </a:lnTo>
                    <a:lnTo>
                      <a:pt x="1" y="311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08360" y="5428440"/>
                <a:ext cx="129240" cy="23040"/>
              </a:xfrm>
              <a:custGeom>
                <a:avLst/>
                <a:gdLst/>
                <a:ahLst/>
                <a:rect l="l" t="t" r="r" b="b"/>
                <a:pathLst>
                  <a:path w="324" h="52">
                    <a:moveTo>
                      <a:pt x="13" y="20"/>
                    </a:moveTo>
                    <a:lnTo>
                      <a:pt x="316" y="52"/>
                    </a:lnTo>
                    <a:lnTo>
                      <a:pt x="324" y="40"/>
                    </a:lnTo>
                    <a:lnTo>
                      <a:pt x="322" y="29"/>
                    </a:lnTo>
                    <a:lnTo>
                      <a:pt x="318" y="15"/>
                    </a:lnTo>
                    <a:lnTo>
                      <a:pt x="312" y="0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ff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13040" y="5480640"/>
                <a:ext cx="118800" cy="76320"/>
              </a:xfrm>
              <a:custGeom>
                <a:avLst/>
                <a:gdLst/>
                <a:ahLst/>
                <a:rect l="l" t="t" r="r" b="b"/>
                <a:pathLst>
                  <a:path w="298" h="170">
                    <a:moveTo>
                      <a:pt x="13" y="13"/>
                    </a:moveTo>
                    <a:lnTo>
                      <a:pt x="271" y="170"/>
                    </a:lnTo>
                    <a:lnTo>
                      <a:pt x="285" y="138"/>
                    </a:lnTo>
                    <a:lnTo>
                      <a:pt x="295" y="101"/>
                    </a:lnTo>
                    <a:lnTo>
                      <a:pt x="298" y="62"/>
                    </a:lnTo>
                    <a:lnTo>
                      <a:pt x="291" y="24"/>
                    </a:lnTo>
                    <a:lnTo>
                      <a:pt x="0" y="0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97b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1840" y="532476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547" h="203">
                    <a:moveTo>
                      <a:pt x="21" y="203"/>
                    </a:moveTo>
                    <a:lnTo>
                      <a:pt x="547" y="79"/>
                    </a:lnTo>
                    <a:lnTo>
                      <a:pt x="547" y="64"/>
                    </a:lnTo>
                    <a:lnTo>
                      <a:pt x="538" y="40"/>
                    </a:lnTo>
                    <a:lnTo>
                      <a:pt x="526" y="16"/>
                    </a:lnTo>
                    <a:lnTo>
                      <a:pt x="517" y="0"/>
                    </a:lnTo>
                    <a:lnTo>
                      <a:pt x="0" y="134"/>
                    </a:lnTo>
                    <a:lnTo>
                      <a:pt x="21" y="203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71880" y="5251680"/>
                <a:ext cx="350640" cy="96120"/>
              </a:xfrm>
              <a:custGeom>
                <a:avLst/>
                <a:gdLst/>
                <a:ahLst/>
                <a:rect l="l" t="t" r="r" b="b"/>
                <a:pathLst>
                  <a:path w="877" h="214">
                    <a:moveTo>
                      <a:pt x="25" y="214"/>
                    </a:moveTo>
                    <a:lnTo>
                      <a:pt x="877" y="49"/>
                    </a:lnTo>
                    <a:lnTo>
                      <a:pt x="831" y="0"/>
                    </a:lnTo>
                    <a:lnTo>
                      <a:pt x="1" y="154"/>
                    </a:lnTo>
                    <a:lnTo>
                      <a:pt x="0" y="166"/>
                    </a:lnTo>
                    <a:lnTo>
                      <a:pt x="7" y="184"/>
                    </a:lnTo>
                    <a:lnTo>
                      <a:pt x="18" y="202"/>
                    </a:lnTo>
                    <a:lnTo>
                      <a:pt x="25" y="214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90760" y="5300280"/>
                <a:ext cx="141120" cy="97200"/>
              </a:xfrm>
              <a:custGeom>
                <a:avLst/>
                <a:gdLst/>
                <a:ahLst/>
                <a:rect l="l" t="t" r="r" b="b"/>
                <a:pathLst>
                  <a:path w="353" h="216">
                    <a:moveTo>
                      <a:pt x="1" y="71"/>
                    </a:moveTo>
                    <a:lnTo>
                      <a:pt x="16" y="86"/>
                    </a:lnTo>
                    <a:lnTo>
                      <a:pt x="29" y="100"/>
                    </a:lnTo>
                    <a:lnTo>
                      <a:pt x="44" y="113"/>
                    </a:lnTo>
                    <a:lnTo>
                      <a:pt x="59" y="126"/>
                    </a:lnTo>
                    <a:lnTo>
                      <a:pt x="74" y="137"/>
                    </a:lnTo>
                    <a:lnTo>
                      <a:pt x="91" y="149"/>
                    </a:lnTo>
                    <a:lnTo>
                      <a:pt x="107" y="159"/>
                    </a:lnTo>
                    <a:lnTo>
                      <a:pt x="123" y="168"/>
                    </a:lnTo>
                    <a:lnTo>
                      <a:pt x="140" y="177"/>
                    </a:lnTo>
                    <a:lnTo>
                      <a:pt x="158" y="185"/>
                    </a:lnTo>
                    <a:lnTo>
                      <a:pt x="177" y="192"/>
                    </a:lnTo>
                    <a:lnTo>
                      <a:pt x="195" y="198"/>
                    </a:lnTo>
                    <a:lnTo>
                      <a:pt x="216" y="204"/>
                    </a:lnTo>
                    <a:lnTo>
                      <a:pt x="237" y="209"/>
                    </a:lnTo>
                    <a:lnTo>
                      <a:pt x="258" y="213"/>
                    </a:lnTo>
                    <a:lnTo>
                      <a:pt x="280" y="216"/>
                    </a:lnTo>
                    <a:lnTo>
                      <a:pt x="298" y="209"/>
                    </a:lnTo>
                    <a:lnTo>
                      <a:pt x="313" y="197"/>
                    </a:lnTo>
                    <a:lnTo>
                      <a:pt x="325" y="182"/>
                    </a:lnTo>
                    <a:lnTo>
                      <a:pt x="335" y="165"/>
                    </a:lnTo>
                    <a:lnTo>
                      <a:pt x="343" y="147"/>
                    </a:lnTo>
                    <a:lnTo>
                      <a:pt x="349" y="126"/>
                    </a:lnTo>
                    <a:lnTo>
                      <a:pt x="352" y="106"/>
                    </a:lnTo>
                    <a:lnTo>
                      <a:pt x="353" y="85"/>
                    </a:lnTo>
                    <a:lnTo>
                      <a:pt x="350" y="56"/>
                    </a:lnTo>
                    <a:lnTo>
                      <a:pt x="346" y="32"/>
                    </a:lnTo>
                    <a:lnTo>
                      <a:pt x="340" y="13"/>
                    </a:lnTo>
                    <a:lnTo>
                      <a:pt x="325" y="0"/>
                    </a:lnTo>
                    <a:lnTo>
                      <a:pt x="0" y="55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895800" y="5144040"/>
                <a:ext cx="150120" cy="111600"/>
              </a:xfrm>
              <a:custGeom>
                <a:avLst/>
                <a:gdLst/>
                <a:ahLst/>
                <a:rect l="l" t="t" r="r" b="b"/>
                <a:pathLst>
                  <a:path w="375" h="250">
                    <a:moveTo>
                      <a:pt x="9" y="250"/>
                    </a:moveTo>
                    <a:lnTo>
                      <a:pt x="297" y="205"/>
                    </a:lnTo>
                    <a:lnTo>
                      <a:pt x="375" y="2"/>
                    </a:lnTo>
                    <a:lnTo>
                      <a:pt x="351" y="0"/>
                    </a:lnTo>
                    <a:lnTo>
                      <a:pt x="329" y="2"/>
                    </a:lnTo>
                    <a:lnTo>
                      <a:pt x="305" y="6"/>
                    </a:lnTo>
                    <a:lnTo>
                      <a:pt x="283" y="12"/>
                    </a:lnTo>
                    <a:lnTo>
                      <a:pt x="260" y="21"/>
                    </a:lnTo>
                    <a:lnTo>
                      <a:pt x="238" y="33"/>
                    </a:lnTo>
                    <a:lnTo>
                      <a:pt x="217" y="45"/>
                    </a:lnTo>
                    <a:lnTo>
                      <a:pt x="196" y="58"/>
                    </a:lnTo>
                    <a:lnTo>
                      <a:pt x="175" y="73"/>
                    </a:lnTo>
                    <a:lnTo>
                      <a:pt x="156" y="90"/>
                    </a:lnTo>
                    <a:lnTo>
                      <a:pt x="136" y="106"/>
                    </a:lnTo>
                    <a:lnTo>
                      <a:pt x="117" y="123"/>
                    </a:lnTo>
                    <a:lnTo>
                      <a:pt x="99" y="138"/>
                    </a:lnTo>
                    <a:lnTo>
                      <a:pt x="81" y="154"/>
                    </a:lnTo>
                    <a:lnTo>
                      <a:pt x="63" y="169"/>
                    </a:lnTo>
                    <a:lnTo>
                      <a:pt x="47" y="182"/>
                    </a:lnTo>
                    <a:lnTo>
                      <a:pt x="38" y="194"/>
                    </a:lnTo>
                    <a:lnTo>
                      <a:pt x="30" y="203"/>
                    </a:lnTo>
                    <a:lnTo>
                      <a:pt x="24" y="211"/>
                    </a:lnTo>
                    <a:lnTo>
                      <a:pt x="18" y="218"/>
                    </a:lnTo>
                    <a:lnTo>
                      <a:pt x="14" y="224"/>
                    </a:lnTo>
                    <a:lnTo>
                      <a:pt x="9" y="230"/>
                    </a:lnTo>
                    <a:lnTo>
                      <a:pt x="5" y="236"/>
                    </a:lnTo>
                    <a:lnTo>
                      <a:pt x="0" y="245"/>
                    </a:lnTo>
                    <a:lnTo>
                      <a:pt x="9" y="25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40120" y="4800600"/>
                <a:ext cx="60840" cy="284040"/>
              </a:xfrm>
              <a:custGeom>
                <a:avLst/>
                <a:gdLst/>
                <a:ahLst/>
                <a:rect l="l" t="t" r="r" b="b"/>
                <a:pathLst>
                  <a:path w="152" h="630">
                    <a:moveTo>
                      <a:pt x="80" y="630"/>
                    </a:moveTo>
                    <a:lnTo>
                      <a:pt x="0" y="0"/>
                    </a:lnTo>
                    <a:lnTo>
                      <a:pt x="152" y="0"/>
                    </a:lnTo>
                    <a:lnTo>
                      <a:pt x="80" y="6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646320" y="4819320"/>
                <a:ext cx="138600" cy="311400"/>
              </a:xfrm>
              <a:custGeom>
                <a:avLst/>
                <a:gdLst/>
                <a:ahLst/>
                <a:rect l="l" t="t" r="r" b="b"/>
                <a:pathLst>
                  <a:path w="349" h="689">
                    <a:moveTo>
                      <a:pt x="0" y="689"/>
                    </a:moveTo>
                    <a:lnTo>
                      <a:pt x="206" y="0"/>
                    </a:lnTo>
                    <a:lnTo>
                      <a:pt x="349" y="51"/>
                    </a:lnTo>
                    <a:lnTo>
                      <a:pt x="0" y="6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79080" y="5005080"/>
                <a:ext cx="245880" cy="194760"/>
              </a:xfrm>
              <a:custGeom>
                <a:avLst/>
                <a:gdLst/>
                <a:ahLst/>
                <a:rect l="l" t="t" r="r" b="b"/>
                <a:pathLst>
                  <a:path w="617" h="433">
                    <a:moveTo>
                      <a:pt x="0" y="433"/>
                    </a:moveTo>
                    <a:lnTo>
                      <a:pt x="606" y="0"/>
                    </a:lnTo>
                    <a:lnTo>
                      <a:pt x="617" y="155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1219320" y="2438280"/>
            <a:ext cx="2743200" cy="1295640"/>
            <a:chOff x="1219320" y="2438280"/>
            <a:chExt cx="2743200" cy="1295640"/>
          </a:xfrm>
        </p:grpSpPr>
        <p:sp>
          <p:nvSpPr>
            <p:cNvPr id="244" name=""/>
            <p:cNvSpPr/>
            <p:nvPr/>
          </p:nvSpPr>
          <p:spPr>
            <a:xfrm>
              <a:off x="1219320" y="2438280"/>
              <a:ext cx="2743200" cy="1295640"/>
            </a:xfrm>
            <a:prstGeom prst="ellipse">
              <a:avLst/>
            </a:prstGeom>
            <a:gradFill rotWithShape="0">
              <a:gsLst>
                <a:gs pos="0">
                  <a:srgbClr val="ced5cc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1676520" y="2438280"/>
              <a:ext cx="1523880" cy="12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5029200" y="2438280"/>
            <a:ext cx="2743200" cy="1295640"/>
            <a:chOff x="5029200" y="2438280"/>
            <a:chExt cx="2743200" cy="1295640"/>
          </a:xfrm>
        </p:grpSpPr>
        <p:sp>
          <p:nvSpPr>
            <p:cNvPr id="247" name=""/>
            <p:cNvSpPr/>
            <p:nvPr/>
          </p:nvSpPr>
          <p:spPr>
            <a:xfrm>
              <a:off x="5029200" y="2438280"/>
              <a:ext cx="2743200" cy="1295640"/>
            </a:xfrm>
            <a:prstGeom prst="ellipse">
              <a:avLst/>
            </a:prstGeom>
            <a:gradFill rotWithShape="0">
              <a:gsLst>
                <a:gs pos="0">
                  <a:srgbClr val="ced5cc"/>
                </a:gs>
                <a:gs pos="100000">
                  <a:srgbClr val="536b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5257800" y="2743200"/>
              <a:ext cx="2362320" cy="7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 rot="20175600">
            <a:off x="838080" y="2209320"/>
            <a:ext cx="17528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20212200">
            <a:off x="4648320" y="43430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é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0399400">
            <a:off x="4191120" y="2133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0094000">
            <a:off x="609480" y="4343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6095880" y="609480"/>
            <a:ext cx="1981080" cy="5568840"/>
            <a:chOff x="6095880" y="609480"/>
            <a:chExt cx="1981080" cy="5568840"/>
          </a:xfrm>
        </p:grpSpPr>
        <p:grpSp>
          <p:nvGrpSpPr>
            <p:cNvPr id="254" name=""/>
            <p:cNvGrpSpPr/>
            <p:nvPr/>
          </p:nvGrpSpPr>
          <p:grpSpPr>
            <a:xfrm>
              <a:off x="6095880" y="3428640"/>
              <a:ext cx="1981080" cy="990720"/>
              <a:chOff x="6095880" y="3428640"/>
              <a:chExt cx="1981080" cy="99072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5880" y="3428640"/>
                <a:ext cx="1981080" cy="99072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6000" y="3428640"/>
                <a:ext cx="1100520" cy="97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"/>
            <p:cNvGrpSpPr/>
            <p:nvPr/>
          </p:nvGrpSpPr>
          <p:grpSpPr>
            <a:xfrm>
              <a:off x="6095880" y="2057040"/>
              <a:ext cx="1981080" cy="990720"/>
              <a:chOff x="6095880" y="2057040"/>
              <a:chExt cx="1981080" cy="990720"/>
            </a:xfrm>
          </p:grpSpPr>
          <p:sp>
            <p:nvSpPr>
              <p:cNvPr id="258" name=""/>
              <p:cNvSpPr/>
              <p:nvPr/>
            </p:nvSpPr>
            <p:spPr>
              <a:xfrm>
                <a:off x="6095880" y="2057040"/>
                <a:ext cx="1981080" cy="99072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60760" y="2289960"/>
                <a:ext cx="1706040" cy="59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0" name=""/>
            <p:cNvGrpSpPr/>
            <p:nvPr/>
          </p:nvGrpSpPr>
          <p:grpSpPr>
            <a:xfrm>
              <a:off x="6167520" y="4870080"/>
              <a:ext cx="1837440" cy="1308240"/>
              <a:chOff x="6167520" y="4870080"/>
              <a:chExt cx="1837440" cy="1308240"/>
            </a:xfrm>
          </p:grpSpPr>
          <p:sp>
            <p:nvSpPr>
              <p:cNvPr id="261" name=""/>
              <p:cNvSpPr/>
              <p:nvPr/>
            </p:nvSpPr>
            <p:spPr>
              <a:xfrm rot="10776600">
                <a:off x="6171480" y="4876200"/>
                <a:ext cx="1828800" cy="1295640"/>
              </a:xfrm>
              <a:custGeom>
                <a:avLst/>
                <a:gdLst>
                  <a:gd name="textAreaLeft" fmla="*/ 402120 w 1828800"/>
                  <a:gd name="textAreaRight" fmla="*/ 1426680 w 1828800"/>
                  <a:gd name="textAreaTop" fmla="*/ 284760 h 1295640"/>
                  <a:gd name="textAreaBottom" fmla="*/ 101088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763680" y="4936320"/>
                <a:ext cx="628560" cy="12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" name=""/>
            <p:cNvGrpSpPr/>
            <p:nvPr/>
          </p:nvGrpSpPr>
          <p:grpSpPr>
            <a:xfrm>
              <a:off x="6095880" y="609480"/>
              <a:ext cx="1981080" cy="990360"/>
              <a:chOff x="6095880" y="609480"/>
              <a:chExt cx="1981080" cy="990360"/>
            </a:xfrm>
          </p:grpSpPr>
          <p:sp>
            <p:nvSpPr>
              <p:cNvPr id="264" name=""/>
              <p:cNvSpPr/>
              <p:nvPr/>
            </p:nvSpPr>
            <p:spPr>
              <a:xfrm>
                <a:off x="6095880" y="609480"/>
                <a:ext cx="1981080" cy="99036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645960" y="609480"/>
                <a:ext cx="825480" cy="873720"/>
                <a:chOff x="6645960" y="609480"/>
                <a:chExt cx="825480" cy="873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645960" y="712800"/>
                  <a:ext cx="825480" cy="770400"/>
                </a:xfrm>
                <a:custGeom>
                  <a:avLst/>
                  <a:gdLst/>
                  <a:ahLst/>
                  <a:rect l="l" t="t" r="r" b="b"/>
                  <a:pathLst>
                    <a:path w="2862" h="2233">
                      <a:moveTo>
                        <a:pt x="1" y="1057"/>
                      </a:moveTo>
                      <a:lnTo>
                        <a:pt x="7" y="1133"/>
                      </a:lnTo>
                      <a:lnTo>
                        <a:pt x="15" y="1209"/>
                      </a:lnTo>
                      <a:lnTo>
                        <a:pt x="25" y="1285"/>
                      </a:lnTo>
                      <a:lnTo>
                        <a:pt x="37" y="1363"/>
                      </a:lnTo>
                      <a:lnTo>
                        <a:pt x="54" y="1439"/>
                      </a:lnTo>
                      <a:lnTo>
                        <a:pt x="73" y="1514"/>
                      </a:lnTo>
                      <a:lnTo>
                        <a:pt x="97" y="1588"/>
                      </a:lnTo>
                      <a:lnTo>
                        <a:pt x="124" y="1660"/>
                      </a:lnTo>
                      <a:lnTo>
                        <a:pt x="154" y="1730"/>
                      </a:lnTo>
                      <a:lnTo>
                        <a:pt x="188" y="1799"/>
                      </a:lnTo>
                      <a:lnTo>
                        <a:pt x="228" y="1863"/>
                      </a:lnTo>
                      <a:lnTo>
                        <a:pt x="271" y="1924"/>
                      </a:lnTo>
                      <a:lnTo>
                        <a:pt x="321" y="1982"/>
                      </a:lnTo>
                      <a:lnTo>
                        <a:pt x="373" y="2036"/>
                      </a:lnTo>
                      <a:lnTo>
                        <a:pt x="433" y="2085"/>
                      </a:lnTo>
                      <a:lnTo>
                        <a:pt x="497" y="2129"/>
                      </a:lnTo>
                      <a:lnTo>
                        <a:pt x="528" y="2150"/>
                      </a:lnTo>
                      <a:lnTo>
                        <a:pt x="561" y="2167"/>
                      </a:lnTo>
                      <a:lnTo>
                        <a:pt x="595" y="2182"/>
                      </a:lnTo>
                      <a:lnTo>
                        <a:pt x="631" y="2196"/>
                      </a:lnTo>
                      <a:lnTo>
                        <a:pt x="667" y="2208"/>
                      </a:lnTo>
                      <a:lnTo>
                        <a:pt x="703" y="2217"/>
                      </a:lnTo>
                      <a:lnTo>
                        <a:pt x="742" y="2224"/>
                      </a:lnTo>
                      <a:lnTo>
                        <a:pt x="779" y="2229"/>
                      </a:lnTo>
                      <a:lnTo>
                        <a:pt x="818" y="2232"/>
                      </a:lnTo>
                      <a:lnTo>
                        <a:pt x="856" y="2233"/>
                      </a:lnTo>
                      <a:lnTo>
                        <a:pt x="895" y="2233"/>
                      </a:lnTo>
                      <a:lnTo>
                        <a:pt x="934" y="2232"/>
                      </a:lnTo>
                      <a:lnTo>
                        <a:pt x="973" y="2227"/>
                      </a:lnTo>
                      <a:lnTo>
                        <a:pt x="1012" y="2223"/>
                      </a:lnTo>
                      <a:lnTo>
                        <a:pt x="1050" y="2215"/>
                      </a:lnTo>
                      <a:lnTo>
                        <a:pt x="1088" y="2208"/>
                      </a:lnTo>
                      <a:lnTo>
                        <a:pt x="1150" y="2178"/>
                      </a:lnTo>
                      <a:lnTo>
                        <a:pt x="1209" y="2145"/>
                      </a:lnTo>
                      <a:lnTo>
                        <a:pt x="1265" y="2109"/>
                      </a:lnTo>
                      <a:lnTo>
                        <a:pt x="1319" y="2069"/>
                      </a:lnTo>
                      <a:lnTo>
                        <a:pt x="1371" y="2027"/>
                      </a:lnTo>
                      <a:lnTo>
                        <a:pt x="1419" y="1982"/>
                      </a:lnTo>
                      <a:lnTo>
                        <a:pt x="1464" y="1933"/>
                      </a:lnTo>
                      <a:lnTo>
                        <a:pt x="1506" y="1882"/>
                      </a:lnTo>
                      <a:lnTo>
                        <a:pt x="1544" y="1829"/>
                      </a:lnTo>
                      <a:lnTo>
                        <a:pt x="1579" y="1772"/>
                      </a:lnTo>
                      <a:lnTo>
                        <a:pt x="1610" y="1712"/>
                      </a:lnTo>
                      <a:lnTo>
                        <a:pt x="1638" y="1651"/>
                      </a:lnTo>
                      <a:lnTo>
                        <a:pt x="1662" y="1587"/>
                      </a:lnTo>
                      <a:lnTo>
                        <a:pt x="1683" y="1520"/>
                      </a:lnTo>
                      <a:lnTo>
                        <a:pt x="1700" y="1449"/>
                      </a:lnTo>
                      <a:lnTo>
                        <a:pt x="1711" y="1378"/>
                      </a:lnTo>
                      <a:lnTo>
                        <a:pt x="1716" y="1285"/>
                      </a:lnTo>
                      <a:lnTo>
                        <a:pt x="1716" y="1190"/>
                      </a:lnTo>
                      <a:lnTo>
                        <a:pt x="1716" y="1099"/>
                      </a:lnTo>
                      <a:lnTo>
                        <a:pt x="1719" y="1015"/>
                      </a:lnTo>
                      <a:lnTo>
                        <a:pt x="1753" y="1006"/>
                      </a:lnTo>
                      <a:lnTo>
                        <a:pt x="1789" y="996"/>
                      </a:lnTo>
                      <a:lnTo>
                        <a:pt x="1825" y="985"/>
                      </a:lnTo>
                      <a:lnTo>
                        <a:pt x="1862" y="975"/>
                      </a:lnTo>
                      <a:lnTo>
                        <a:pt x="1900" y="964"/>
                      </a:lnTo>
                      <a:lnTo>
                        <a:pt x="1937" y="954"/>
                      </a:lnTo>
                      <a:lnTo>
                        <a:pt x="1974" y="942"/>
                      </a:lnTo>
                      <a:lnTo>
                        <a:pt x="2013" y="931"/>
                      </a:lnTo>
                      <a:lnTo>
                        <a:pt x="2050" y="923"/>
                      </a:lnTo>
                      <a:lnTo>
                        <a:pt x="2089" y="914"/>
                      </a:lnTo>
                      <a:lnTo>
                        <a:pt x="2128" y="905"/>
                      </a:lnTo>
                      <a:lnTo>
                        <a:pt x="2167" y="899"/>
                      </a:lnTo>
                      <a:lnTo>
                        <a:pt x="2204" y="893"/>
                      </a:lnTo>
                      <a:lnTo>
                        <a:pt x="2243" y="888"/>
                      </a:lnTo>
                      <a:lnTo>
                        <a:pt x="2280" y="885"/>
                      </a:lnTo>
                      <a:lnTo>
                        <a:pt x="2317" y="885"/>
                      </a:lnTo>
                      <a:lnTo>
                        <a:pt x="2331" y="905"/>
                      </a:lnTo>
                      <a:lnTo>
                        <a:pt x="2346" y="923"/>
                      </a:lnTo>
                      <a:lnTo>
                        <a:pt x="2364" y="939"/>
                      </a:lnTo>
                      <a:lnTo>
                        <a:pt x="2382" y="955"/>
                      </a:lnTo>
                      <a:lnTo>
                        <a:pt x="2399" y="972"/>
                      </a:lnTo>
                      <a:lnTo>
                        <a:pt x="2420" y="987"/>
                      </a:lnTo>
                      <a:lnTo>
                        <a:pt x="2441" y="1002"/>
                      </a:lnTo>
                      <a:lnTo>
                        <a:pt x="2464" y="1014"/>
                      </a:lnTo>
                      <a:lnTo>
                        <a:pt x="2486" y="1027"/>
                      </a:lnTo>
                      <a:lnTo>
                        <a:pt x="2510" y="1039"/>
                      </a:lnTo>
                      <a:lnTo>
                        <a:pt x="2534" y="1049"/>
                      </a:lnTo>
                      <a:lnTo>
                        <a:pt x="2559" y="1060"/>
                      </a:lnTo>
                      <a:lnTo>
                        <a:pt x="2583" y="1070"/>
                      </a:lnTo>
                      <a:lnTo>
                        <a:pt x="2608" y="1079"/>
                      </a:lnTo>
                      <a:lnTo>
                        <a:pt x="2634" y="1087"/>
                      </a:lnTo>
                      <a:lnTo>
                        <a:pt x="2659" y="1094"/>
                      </a:lnTo>
                      <a:lnTo>
                        <a:pt x="2684" y="1082"/>
                      </a:lnTo>
                      <a:lnTo>
                        <a:pt x="2708" y="1067"/>
                      </a:lnTo>
                      <a:lnTo>
                        <a:pt x="2728" y="1048"/>
                      </a:lnTo>
                      <a:lnTo>
                        <a:pt x="2746" y="1026"/>
                      </a:lnTo>
                      <a:lnTo>
                        <a:pt x="2761" y="1002"/>
                      </a:lnTo>
                      <a:lnTo>
                        <a:pt x="2774" y="976"/>
                      </a:lnTo>
                      <a:lnTo>
                        <a:pt x="2784" y="948"/>
                      </a:lnTo>
                      <a:lnTo>
                        <a:pt x="2793" y="921"/>
                      </a:lnTo>
                      <a:lnTo>
                        <a:pt x="2790" y="885"/>
                      </a:lnTo>
                      <a:lnTo>
                        <a:pt x="2783" y="855"/>
                      </a:lnTo>
                      <a:lnTo>
                        <a:pt x="2775" y="828"/>
                      </a:lnTo>
                      <a:lnTo>
                        <a:pt x="2768" y="800"/>
                      </a:lnTo>
                      <a:lnTo>
                        <a:pt x="2774" y="784"/>
                      </a:lnTo>
                      <a:lnTo>
                        <a:pt x="2786" y="770"/>
                      </a:lnTo>
                      <a:lnTo>
                        <a:pt x="2801" y="760"/>
                      </a:lnTo>
                      <a:lnTo>
                        <a:pt x="2817" y="749"/>
                      </a:lnTo>
                      <a:lnTo>
                        <a:pt x="2834" y="737"/>
                      </a:lnTo>
                      <a:lnTo>
                        <a:pt x="2849" y="724"/>
                      </a:lnTo>
                      <a:lnTo>
                        <a:pt x="2858" y="706"/>
                      </a:lnTo>
                      <a:lnTo>
                        <a:pt x="2862" y="682"/>
                      </a:lnTo>
                      <a:lnTo>
                        <a:pt x="2856" y="676"/>
                      </a:lnTo>
                      <a:lnTo>
                        <a:pt x="2853" y="673"/>
                      </a:lnTo>
                      <a:lnTo>
                        <a:pt x="2850" y="670"/>
                      </a:lnTo>
                      <a:lnTo>
                        <a:pt x="2838" y="660"/>
                      </a:lnTo>
                      <a:lnTo>
                        <a:pt x="2832" y="660"/>
                      </a:lnTo>
                      <a:lnTo>
                        <a:pt x="2828" y="661"/>
                      </a:lnTo>
                      <a:lnTo>
                        <a:pt x="2822" y="661"/>
                      </a:lnTo>
                      <a:lnTo>
                        <a:pt x="2816" y="663"/>
                      </a:lnTo>
                      <a:lnTo>
                        <a:pt x="2810" y="664"/>
                      </a:lnTo>
                      <a:lnTo>
                        <a:pt x="2804" y="664"/>
                      </a:lnTo>
                      <a:lnTo>
                        <a:pt x="2796" y="666"/>
                      </a:lnTo>
                      <a:lnTo>
                        <a:pt x="2789" y="666"/>
                      </a:lnTo>
                      <a:lnTo>
                        <a:pt x="2777" y="646"/>
                      </a:lnTo>
                      <a:lnTo>
                        <a:pt x="2772" y="624"/>
                      </a:lnTo>
                      <a:lnTo>
                        <a:pt x="2777" y="603"/>
                      </a:lnTo>
                      <a:lnTo>
                        <a:pt x="2784" y="579"/>
                      </a:lnTo>
                      <a:lnTo>
                        <a:pt x="2795" y="555"/>
                      </a:lnTo>
                      <a:lnTo>
                        <a:pt x="2805" y="530"/>
                      </a:lnTo>
                      <a:lnTo>
                        <a:pt x="2813" y="503"/>
                      </a:lnTo>
                      <a:lnTo>
                        <a:pt x="2814" y="476"/>
                      </a:lnTo>
                      <a:lnTo>
                        <a:pt x="2778" y="409"/>
                      </a:lnTo>
                      <a:lnTo>
                        <a:pt x="2759" y="403"/>
                      </a:lnTo>
                      <a:lnTo>
                        <a:pt x="2741" y="400"/>
                      </a:lnTo>
                      <a:lnTo>
                        <a:pt x="2722" y="399"/>
                      </a:lnTo>
                      <a:lnTo>
                        <a:pt x="2702" y="402"/>
                      </a:lnTo>
                      <a:lnTo>
                        <a:pt x="2683" y="406"/>
                      </a:lnTo>
                      <a:lnTo>
                        <a:pt x="2664" y="412"/>
                      </a:lnTo>
                      <a:lnTo>
                        <a:pt x="2644" y="421"/>
                      </a:lnTo>
                      <a:lnTo>
                        <a:pt x="2625" y="430"/>
                      </a:lnTo>
                      <a:lnTo>
                        <a:pt x="2605" y="440"/>
                      </a:lnTo>
                      <a:lnTo>
                        <a:pt x="2587" y="452"/>
                      </a:lnTo>
                      <a:lnTo>
                        <a:pt x="2570" y="464"/>
                      </a:lnTo>
                      <a:lnTo>
                        <a:pt x="2552" y="476"/>
                      </a:lnTo>
                      <a:lnTo>
                        <a:pt x="2535" y="488"/>
                      </a:lnTo>
                      <a:lnTo>
                        <a:pt x="2519" y="499"/>
                      </a:lnTo>
                      <a:lnTo>
                        <a:pt x="2504" y="509"/>
                      </a:lnTo>
                      <a:lnTo>
                        <a:pt x="2489" y="518"/>
                      </a:lnTo>
                      <a:lnTo>
                        <a:pt x="2473" y="533"/>
                      </a:lnTo>
                      <a:lnTo>
                        <a:pt x="2456" y="548"/>
                      </a:lnTo>
                      <a:lnTo>
                        <a:pt x="2440" y="563"/>
                      </a:lnTo>
                      <a:lnTo>
                        <a:pt x="2425" y="578"/>
                      </a:lnTo>
                      <a:lnTo>
                        <a:pt x="2410" y="593"/>
                      </a:lnTo>
                      <a:lnTo>
                        <a:pt x="2395" y="606"/>
                      </a:lnTo>
                      <a:lnTo>
                        <a:pt x="2380" y="621"/>
                      </a:lnTo>
                      <a:lnTo>
                        <a:pt x="2367" y="636"/>
                      </a:lnTo>
                      <a:lnTo>
                        <a:pt x="2352" y="651"/>
                      </a:lnTo>
                      <a:lnTo>
                        <a:pt x="2338" y="666"/>
                      </a:lnTo>
                      <a:lnTo>
                        <a:pt x="2323" y="679"/>
                      </a:lnTo>
                      <a:lnTo>
                        <a:pt x="2308" y="694"/>
                      </a:lnTo>
                      <a:lnTo>
                        <a:pt x="2295" y="709"/>
                      </a:lnTo>
                      <a:lnTo>
                        <a:pt x="2280" y="722"/>
                      </a:lnTo>
                      <a:lnTo>
                        <a:pt x="2265" y="737"/>
                      </a:lnTo>
                      <a:lnTo>
                        <a:pt x="2249" y="751"/>
                      </a:lnTo>
                      <a:lnTo>
                        <a:pt x="1695" y="843"/>
                      </a:lnTo>
                      <a:lnTo>
                        <a:pt x="1668" y="784"/>
                      </a:lnTo>
                      <a:lnTo>
                        <a:pt x="1641" y="725"/>
                      </a:lnTo>
                      <a:lnTo>
                        <a:pt x="1614" y="667"/>
                      </a:lnTo>
                      <a:lnTo>
                        <a:pt x="1586" y="611"/>
                      </a:lnTo>
                      <a:lnTo>
                        <a:pt x="1556" y="554"/>
                      </a:lnTo>
                      <a:lnTo>
                        <a:pt x="1525" y="499"/>
                      </a:lnTo>
                      <a:lnTo>
                        <a:pt x="1494" y="445"/>
                      </a:lnTo>
                      <a:lnTo>
                        <a:pt x="1459" y="391"/>
                      </a:lnTo>
                      <a:lnTo>
                        <a:pt x="1423" y="342"/>
                      </a:lnTo>
                      <a:lnTo>
                        <a:pt x="1385" y="293"/>
                      </a:lnTo>
                      <a:lnTo>
                        <a:pt x="1344" y="248"/>
                      </a:lnTo>
                      <a:lnTo>
                        <a:pt x="1301" y="205"/>
                      </a:lnTo>
                      <a:lnTo>
                        <a:pt x="1255" y="164"/>
                      </a:lnTo>
                      <a:lnTo>
                        <a:pt x="1204" y="125"/>
                      </a:lnTo>
                      <a:lnTo>
                        <a:pt x="1152" y="93"/>
                      </a:lnTo>
                      <a:lnTo>
                        <a:pt x="1095" y="61"/>
                      </a:lnTo>
                      <a:lnTo>
                        <a:pt x="1071" y="55"/>
                      </a:lnTo>
                      <a:lnTo>
                        <a:pt x="1049" y="51"/>
                      </a:lnTo>
                      <a:lnTo>
                        <a:pt x="1025" y="48"/>
                      </a:lnTo>
                      <a:lnTo>
                        <a:pt x="1003" y="45"/>
                      </a:lnTo>
                      <a:lnTo>
                        <a:pt x="980" y="42"/>
                      </a:lnTo>
                      <a:lnTo>
                        <a:pt x="958" y="39"/>
                      </a:lnTo>
                      <a:lnTo>
                        <a:pt x="937" y="37"/>
                      </a:lnTo>
                      <a:lnTo>
                        <a:pt x="915" y="34"/>
                      </a:lnTo>
                      <a:lnTo>
                        <a:pt x="894" y="33"/>
                      </a:lnTo>
                      <a:lnTo>
                        <a:pt x="873" y="30"/>
                      </a:lnTo>
                      <a:lnTo>
                        <a:pt x="852" y="27"/>
                      </a:lnTo>
                      <a:lnTo>
                        <a:pt x="831" y="22"/>
                      </a:lnTo>
                      <a:lnTo>
                        <a:pt x="810" y="18"/>
                      </a:lnTo>
                      <a:lnTo>
                        <a:pt x="791" y="13"/>
                      </a:lnTo>
                      <a:lnTo>
                        <a:pt x="770" y="7"/>
                      </a:lnTo>
                      <a:lnTo>
                        <a:pt x="750" y="0"/>
                      </a:lnTo>
                      <a:lnTo>
                        <a:pt x="440" y="81"/>
                      </a:lnTo>
                      <a:lnTo>
                        <a:pt x="389" y="125"/>
                      </a:lnTo>
                      <a:lnTo>
                        <a:pt x="340" y="173"/>
                      </a:lnTo>
                      <a:lnTo>
                        <a:pt x="294" y="224"/>
                      </a:lnTo>
                      <a:lnTo>
                        <a:pt x="251" y="276"/>
                      </a:lnTo>
                      <a:lnTo>
                        <a:pt x="210" y="331"/>
                      </a:lnTo>
                      <a:lnTo>
                        <a:pt x="173" y="388"/>
                      </a:lnTo>
                      <a:lnTo>
                        <a:pt x="139" y="448"/>
                      </a:lnTo>
                      <a:lnTo>
                        <a:pt x="109" y="508"/>
                      </a:lnTo>
                      <a:lnTo>
                        <a:pt x="80" y="572"/>
                      </a:lnTo>
                      <a:lnTo>
                        <a:pt x="58" y="636"/>
                      </a:lnTo>
                      <a:lnTo>
                        <a:pt x="39" y="703"/>
                      </a:lnTo>
                      <a:lnTo>
                        <a:pt x="22" y="770"/>
                      </a:lnTo>
                      <a:lnTo>
                        <a:pt x="10" y="840"/>
                      </a:lnTo>
                      <a:lnTo>
                        <a:pt x="3" y="911"/>
                      </a:lnTo>
                      <a:lnTo>
                        <a:pt x="0" y="984"/>
                      </a:lnTo>
                      <a:lnTo>
                        <a:pt x="1" y="10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662160" y="803160"/>
                  <a:ext cx="200160" cy="659160"/>
                </a:xfrm>
                <a:custGeom>
                  <a:avLst/>
                  <a:gdLst/>
                  <a:ahLst/>
                  <a:rect l="l" t="t" r="r" b="b"/>
                  <a:pathLst>
                    <a:path w="695" h="1912">
                      <a:moveTo>
                        <a:pt x="0" y="945"/>
                      </a:moveTo>
                      <a:lnTo>
                        <a:pt x="15" y="994"/>
                      </a:lnTo>
                      <a:lnTo>
                        <a:pt x="25" y="1043"/>
                      </a:lnTo>
                      <a:lnTo>
                        <a:pt x="33" y="1092"/>
                      </a:lnTo>
                      <a:lnTo>
                        <a:pt x="40" y="1142"/>
                      </a:lnTo>
                      <a:lnTo>
                        <a:pt x="49" y="1192"/>
                      </a:lnTo>
                      <a:lnTo>
                        <a:pt x="60" y="1242"/>
                      </a:lnTo>
                      <a:lnTo>
                        <a:pt x="76" y="1292"/>
                      </a:lnTo>
                      <a:lnTo>
                        <a:pt x="97" y="1343"/>
                      </a:lnTo>
                      <a:lnTo>
                        <a:pt x="118" y="1394"/>
                      </a:lnTo>
                      <a:lnTo>
                        <a:pt x="140" y="1442"/>
                      </a:lnTo>
                      <a:lnTo>
                        <a:pt x="166" y="1489"/>
                      </a:lnTo>
                      <a:lnTo>
                        <a:pt x="194" y="1536"/>
                      </a:lnTo>
                      <a:lnTo>
                        <a:pt x="225" y="1581"/>
                      </a:lnTo>
                      <a:lnTo>
                        <a:pt x="258" y="1622"/>
                      </a:lnTo>
                      <a:lnTo>
                        <a:pt x="293" y="1663"/>
                      </a:lnTo>
                      <a:lnTo>
                        <a:pt x="330" y="1701"/>
                      </a:lnTo>
                      <a:lnTo>
                        <a:pt x="370" y="1737"/>
                      </a:lnTo>
                      <a:lnTo>
                        <a:pt x="410" y="1772"/>
                      </a:lnTo>
                      <a:lnTo>
                        <a:pt x="454" y="1801"/>
                      </a:lnTo>
                      <a:lnTo>
                        <a:pt x="499" y="1830"/>
                      </a:lnTo>
                      <a:lnTo>
                        <a:pt x="546" y="1855"/>
                      </a:lnTo>
                      <a:lnTo>
                        <a:pt x="594" y="1878"/>
                      </a:lnTo>
                      <a:lnTo>
                        <a:pt x="645" y="1897"/>
                      </a:lnTo>
                      <a:lnTo>
                        <a:pt x="695" y="1912"/>
                      </a:lnTo>
                      <a:lnTo>
                        <a:pt x="631" y="1881"/>
                      </a:lnTo>
                      <a:lnTo>
                        <a:pt x="569" y="1845"/>
                      </a:lnTo>
                      <a:lnTo>
                        <a:pt x="509" y="1804"/>
                      </a:lnTo>
                      <a:lnTo>
                        <a:pt x="451" y="1760"/>
                      </a:lnTo>
                      <a:lnTo>
                        <a:pt x="397" y="1712"/>
                      </a:lnTo>
                      <a:lnTo>
                        <a:pt x="346" y="1658"/>
                      </a:lnTo>
                      <a:lnTo>
                        <a:pt x="299" y="1603"/>
                      </a:lnTo>
                      <a:lnTo>
                        <a:pt x="254" y="1543"/>
                      </a:lnTo>
                      <a:lnTo>
                        <a:pt x="214" y="1479"/>
                      </a:lnTo>
                      <a:lnTo>
                        <a:pt x="176" y="1413"/>
                      </a:lnTo>
                      <a:lnTo>
                        <a:pt x="143" y="1343"/>
                      </a:lnTo>
                      <a:lnTo>
                        <a:pt x="117" y="1270"/>
                      </a:lnTo>
                      <a:lnTo>
                        <a:pt x="93" y="1195"/>
                      </a:lnTo>
                      <a:lnTo>
                        <a:pt x="75" y="1116"/>
                      </a:lnTo>
                      <a:lnTo>
                        <a:pt x="61" y="1036"/>
                      </a:lnTo>
                      <a:lnTo>
                        <a:pt x="52" y="952"/>
                      </a:lnTo>
                      <a:lnTo>
                        <a:pt x="49" y="885"/>
                      </a:lnTo>
                      <a:lnTo>
                        <a:pt x="49" y="818"/>
                      </a:lnTo>
                      <a:lnTo>
                        <a:pt x="49" y="752"/>
                      </a:lnTo>
                      <a:lnTo>
                        <a:pt x="51" y="688"/>
                      </a:lnTo>
                      <a:lnTo>
                        <a:pt x="54" y="624"/>
                      </a:lnTo>
                      <a:lnTo>
                        <a:pt x="60" y="562"/>
                      </a:lnTo>
                      <a:lnTo>
                        <a:pt x="69" y="500"/>
                      </a:lnTo>
                      <a:lnTo>
                        <a:pt x="79" y="440"/>
                      </a:lnTo>
                      <a:lnTo>
                        <a:pt x="93" y="380"/>
                      </a:lnTo>
                      <a:lnTo>
                        <a:pt x="109" y="322"/>
                      </a:lnTo>
                      <a:lnTo>
                        <a:pt x="130" y="265"/>
                      </a:lnTo>
                      <a:lnTo>
                        <a:pt x="154" y="210"/>
                      </a:lnTo>
                      <a:lnTo>
                        <a:pt x="181" y="156"/>
                      </a:lnTo>
                      <a:lnTo>
                        <a:pt x="214" y="103"/>
                      </a:lnTo>
                      <a:lnTo>
                        <a:pt x="249" y="50"/>
                      </a:lnTo>
                      <a:lnTo>
                        <a:pt x="290" y="0"/>
                      </a:lnTo>
                      <a:lnTo>
                        <a:pt x="240" y="46"/>
                      </a:lnTo>
                      <a:lnTo>
                        <a:pt x="197" y="94"/>
                      </a:lnTo>
                      <a:lnTo>
                        <a:pt x="158" y="145"/>
                      </a:lnTo>
                      <a:lnTo>
                        <a:pt x="125" y="198"/>
                      </a:lnTo>
                      <a:lnTo>
                        <a:pt x="97" y="254"/>
                      </a:lnTo>
                      <a:lnTo>
                        <a:pt x="73" y="310"/>
                      </a:lnTo>
                      <a:lnTo>
                        <a:pt x="54" y="368"/>
                      </a:lnTo>
                      <a:lnTo>
                        <a:pt x="39" y="430"/>
                      </a:lnTo>
                      <a:lnTo>
                        <a:pt x="25" y="491"/>
                      </a:lnTo>
                      <a:lnTo>
                        <a:pt x="17" y="554"/>
                      </a:lnTo>
                      <a:lnTo>
                        <a:pt x="9" y="618"/>
                      </a:lnTo>
                      <a:lnTo>
                        <a:pt x="5" y="682"/>
                      </a:lnTo>
                      <a:lnTo>
                        <a:pt x="2" y="748"/>
                      </a:lnTo>
                      <a:lnTo>
                        <a:pt x="0" y="813"/>
                      </a:lnTo>
                      <a:lnTo>
                        <a:pt x="0" y="879"/>
                      </a:lnTo>
                      <a:lnTo>
                        <a:pt x="0" y="945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694920" y="740520"/>
                  <a:ext cx="432000" cy="709560"/>
                </a:xfrm>
                <a:custGeom>
                  <a:avLst/>
                  <a:gdLst/>
                  <a:ahLst/>
                  <a:rect l="l" t="t" r="r" b="b"/>
                  <a:pathLst>
                    <a:path w="1498" h="2057">
                      <a:moveTo>
                        <a:pt x="0" y="1061"/>
                      </a:moveTo>
                      <a:lnTo>
                        <a:pt x="4" y="1125"/>
                      </a:lnTo>
                      <a:lnTo>
                        <a:pt x="13" y="1188"/>
                      </a:lnTo>
                      <a:lnTo>
                        <a:pt x="24" y="1251"/>
                      </a:lnTo>
                      <a:lnTo>
                        <a:pt x="37" y="1313"/>
                      </a:lnTo>
                      <a:lnTo>
                        <a:pt x="52" y="1374"/>
                      </a:lnTo>
                      <a:lnTo>
                        <a:pt x="72" y="1436"/>
                      </a:lnTo>
                      <a:lnTo>
                        <a:pt x="94" y="1494"/>
                      </a:lnTo>
                      <a:lnTo>
                        <a:pt x="118" y="1552"/>
                      </a:lnTo>
                      <a:lnTo>
                        <a:pt x="146" y="1607"/>
                      </a:lnTo>
                      <a:lnTo>
                        <a:pt x="178" y="1661"/>
                      </a:lnTo>
                      <a:lnTo>
                        <a:pt x="212" y="1712"/>
                      </a:lnTo>
                      <a:lnTo>
                        <a:pt x="249" y="1761"/>
                      </a:lnTo>
                      <a:lnTo>
                        <a:pt x="291" y="1807"/>
                      </a:lnTo>
                      <a:lnTo>
                        <a:pt x="336" y="1851"/>
                      </a:lnTo>
                      <a:lnTo>
                        <a:pt x="384" y="1889"/>
                      </a:lnTo>
                      <a:lnTo>
                        <a:pt x="436" y="1927"/>
                      </a:lnTo>
                      <a:lnTo>
                        <a:pt x="467" y="1946"/>
                      </a:lnTo>
                      <a:lnTo>
                        <a:pt x="500" y="1964"/>
                      </a:lnTo>
                      <a:lnTo>
                        <a:pt x="534" y="1980"/>
                      </a:lnTo>
                      <a:lnTo>
                        <a:pt x="569" y="1997"/>
                      </a:lnTo>
                      <a:lnTo>
                        <a:pt x="604" y="2012"/>
                      </a:lnTo>
                      <a:lnTo>
                        <a:pt x="642" y="2025"/>
                      </a:lnTo>
                      <a:lnTo>
                        <a:pt x="679" y="2036"/>
                      </a:lnTo>
                      <a:lnTo>
                        <a:pt x="718" y="2045"/>
                      </a:lnTo>
                      <a:lnTo>
                        <a:pt x="755" y="2052"/>
                      </a:lnTo>
                      <a:lnTo>
                        <a:pt x="794" y="2055"/>
                      </a:lnTo>
                      <a:lnTo>
                        <a:pt x="833" y="2057"/>
                      </a:lnTo>
                      <a:lnTo>
                        <a:pt x="873" y="2054"/>
                      </a:lnTo>
                      <a:lnTo>
                        <a:pt x="912" y="2049"/>
                      </a:lnTo>
                      <a:lnTo>
                        <a:pt x="952" y="2039"/>
                      </a:lnTo>
                      <a:lnTo>
                        <a:pt x="991" y="2025"/>
                      </a:lnTo>
                      <a:lnTo>
                        <a:pt x="1030" y="2007"/>
                      </a:lnTo>
                      <a:lnTo>
                        <a:pt x="1076" y="1973"/>
                      </a:lnTo>
                      <a:lnTo>
                        <a:pt x="1119" y="1939"/>
                      </a:lnTo>
                      <a:lnTo>
                        <a:pt x="1161" y="1901"/>
                      </a:lnTo>
                      <a:lnTo>
                        <a:pt x="1201" y="1861"/>
                      </a:lnTo>
                      <a:lnTo>
                        <a:pt x="1239" y="1821"/>
                      </a:lnTo>
                      <a:lnTo>
                        <a:pt x="1274" y="1777"/>
                      </a:lnTo>
                      <a:lnTo>
                        <a:pt x="1309" y="1734"/>
                      </a:lnTo>
                      <a:lnTo>
                        <a:pt x="1340" y="1688"/>
                      </a:lnTo>
                      <a:lnTo>
                        <a:pt x="1368" y="1640"/>
                      </a:lnTo>
                      <a:lnTo>
                        <a:pt x="1395" y="1591"/>
                      </a:lnTo>
                      <a:lnTo>
                        <a:pt x="1418" y="1540"/>
                      </a:lnTo>
                      <a:lnTo>
                        <a:pt x="1439" y="1488"/>
                      </a:lnTo>
                      <a:lnTo>
                        <a:pt x="1456" y="1434"/>
                      </a:lnTo>
                      <a:lnTo>
                        <a:pt x="1473" y="1380"/>
                      </a:lnTo>
                      <a:lnTo>
                        <a:pt x="1485" y="1324"/>
                      </a:lnTo>
                      <a:lnTo>
                        <a:pt x="1494" y="1265"/>
                      </a:lnTo>
                      <a:lnTo>
                        <a:pt x="1498" y="1197"/>
                      </a:lnTo>
                      <a:lnTo>
                        <a:pt x="1494" y="1130"/>
                      </a:lnTo>
                      <a:lnTo>
                        <a:pt x="1486" y="1067"/>
                      </a:lnTo>
                      <a:lnTo>
                        <a:pt x="1479" y="1003"/>
                      </a:lnTo>
                      <a:lnTo>
                        <a:pt x="1476" y="989"/>
                      </a:lnTo>
                      <a:lnTo>
                        <a:pt x="1468" y="980"/>
                      </a:lnTo>
                      <a:lnTo>
                        <a:pt x="1459" y="977"/>
                      </a:lnTo>
                      <a:lnTo>
                        <a:pt x="1449" y="979"/>
                      </a:lnTo>
                      <a:lnTo>
                        <a:pt x="1436" y="982"/>
                      </a:lnTo>
                      <a:lnTo>
                        <a:pt x="1422" y="986"/>
                      </a:lnTo>
                      <a:lnTo>
                        <a:pt x="1409" y="994"/>
                      </a:lnTo>
                      <a:lnTo>
                        <a:pt x="1395" y="1000"/>
                      </a:lnTo>
                      <a:lnTo>
                        <a:pt x="1391" y="1095"/>
                      </a:lnTo>
                      <a:lnTo>
                        <a:pt x="1382" y="1192"/>
                      </a:lnTo>
                      <a:lnTo>
                        <a:pt x="1365" y="1289"/>
                      </a:lnTo>
                      <a:lnTo>
                        <a:pt x="1345" y="1385"/>
                      </a:lnTo>
                      <a:lnTo>
                        <a:pt x="1315" y="1477"/>
                      </a:lnTo>
                      <a:lnTo>
                        <a:pt x="1279" y="1565"/>
                      </a:lnTo>
                      <a:lnTo>
                        <a:pt x="1236" y="1649"/>
                      </a:lnTo>
                      <a:lnTo>
                        <a:pt x="1185" y="1725"/>
                      </a:lnTo>
                      <a:lnTo>
                        <a:pt x="1161" y="1748"/>
                      </a:lnTo>
                      <a:lnTo>
                        <a:pt x="1134" y="1770"/>
                      </a:lnTo>
                      <a:lnTo>
                        <a:pt x="1107" y="1791"/>
                      </a:lnTo>
                      <a:lnTo>
                        <a:pt x="1077" y="1810"/>
                      </a:lnTo>
                      <a:lnTo>
                        <a:pt x="1046" y="1830"/>
                      </a:lnTo>
                      <a:lnTo>
                        <a:pt x="1013" y="1848"/>
                      </a:lnTo>
                      <a:lnTo>
                        <a:pt x="980" y="1864"/>
                      </a:lnTo>
                      <a:lnTo>
                        <a:pt x="946" y="1877"/>
                      </a:lnTo>
                      <a:lnTo>
                        <a:pt x="910" y="1889"/>
                      </a:lnTo>
                      <a:lnTo>
                        <a:pt x="873" y="1900"/>
                      </a:lnTo>
                      <a:lnTo>
                        <a:pt x="836" y="1907"/>
                      </a:lnTo>
                      <a:lnTo>
                        <a:pt x="798" y="1912"/>
                      </a:lnTo>
                      <a:lnTo>
                        <a:pt x="761" y="1913"/>
                      </a:lnTo>
                      <a:lnTo>
                        <a:pt x="722" y="1912"/>
                      </a:lnTo>
                      <a:lnTo>
                        <a:pt x="683" y="1907"/>
                      </a:lnTo>
                      <a:lnTo>
                        <a:pt x="645" y="1900"/>
                      </a:lnTo>
                      <a:lnTo>
                        <a:pt x="603" y="1885"/>
                      </a:lnTo>
                      <a:lnTo>
                        <a:pt x="563" y="1868"/>
                      </a:lnTo>
                      <a:lnTo>
                        <a:pt x="524" y="1848"/>
                      </a:lnTo>
                      <a:lnTo>
                        <a:pt x="488" y="1825"/>
                      </a:lnTo>
                      <a:lnTo>
                        <a:pt x="452" y="1801"/>
                      </a:lnTo>
                      <a:lnTo>
                        <a:pt x="419" y="1774"/>
                      </a:lnTo>
                      <a:lnTo>
                        <a:pt x="388" y="1746"/>
                      </a:lnTo>
                      <a:lnTo>
                        <a:pt x="358" y="1715"/>
                      </a:lnTo>
                      <a:lnTo>
                        <a:pt x="330" y="1682"/>
                      </a:lnTo>
                      <a:lnTo>
                        <a:pt x="303" y="1648"/>
                      </a:lnTo>
                      <a:lnTo>
                        <a:pt x="279" y="1612"/>
                      </a:lnTo>
                      <a:lnTo>
                        <a:pt x="257" y="1574"/>
                      </a:lnTo>
                      <a:lnTo>
                        <a:pt x="236" y="1536"/>
                      </a:lnTo>
                      <a:lnTo>
                        <a:pt x="216" y="1495"/>
                      </a:lnTo>
                      <a:lnTo>
                        <a:pt x="200" y="1454"/>
                      </a:lnTo>
                      <a:lnTo>
                        <a:pt x="185" y="1412"/>
                      </a:lnTo>
                      <a:lnTo>
                        <a:pt x="166" y="1337"/>
                      </a:lnTo>
                      <a:lnTo>
                        <a:pt x="148" y="1262"/>
                      </a:lnTo>
                      <a:lnTo>
                        <a:pt x="133" y="1186"/>
                      </a:lnTo>
                      <a:lnTo>
                        <a:pt x="121" y="1110"/>
                      </a:lnTo>
                      <a:lnTo>
                        <a:pt x="112" y="1034"/>
                      </a:lnTo>
                      <a:lnTo>
                        <a:pt x="107" y="958"/>
                      </a:lnTo>
                      <a:lnTo>
                        <a:pt x="106" y="882"/>
                      </a:lnTo>
                      <a:lnTo>
                        <a:pt x="110" y="807"/>
                      </a:lnTo>
                      <a:lnTo>
                        <a:pt x="119" y="734"/>
                      </a:lnTo>
                      <a:lnTo>
                        <a:pt x="134" y="662"/>
                      </a:lnTo>
                      <a:lnTo>
                        <a:pt x="155" y="592"/>
                      </a:lnTo>
                      <a:lnTo>
                        <a:pt x="181" y="525"/>
                      </a:lnTo>
                      <a:lnTo>
                        <a:pt x="215" y="459"/>
                      </a:lnTo>
                      <a:lnTo>
                        <a:pt x="255" y="398"/>
                      </a:lnTo>
                      <a:lnTo>
                        <a:pt x="303" y="338"/>
                      </a:lnTo>
                      <a:lnTo>
                        <a:pt x="358" y="283"/>
                      </a:lnTo>
                      <a:lnTo>
                        <a:pt x="388" y="264"/>
                      </a:lnTo>
                      <a:lnTo>
                        <a:pt x="419" y="243"/>
                      </a:lnTo>
                      <a:lnTo>
                        <a:pt x="452" y="224"/>
                      </a:lnTo>
                      <a:lnTo>
                        <a:pt x="484" y="204"/>
                      </a:lnTo>
                      <a:lnTo>
                        <a:pt x="518" y="185"/>
                      </a:lnTo>
                      <a:lnTo>
                        <a:pt x="551" y="167"/>
                      </a:lnTo>
                      <a:lnTo>
                        <a:pt x="585" y="150"/>
                      </a:lnTo>
                      <a:lnTo>
                        <a:pt x="621" y="135"/>
                      </a:lnTo>
                      <a:lnTo>
                        <a:pt x="655" y="124"/>
                      </a:lnTo>
                      <a:lnTo>
                        <a:pt x="691" y="115"/>
                      </a:lnTo>
                      <a:lnTo>
                        <a:pt x="727" y="107"/>
                      </a:lnTo>
                      <a:lnTo>
                        <a:pt x="763" y="104"/>
                      </a:lnTo>
                      <a:lnTo>
                        <a:pt x="798" y="104"/>
                      </a:lnTo>
                      <a:lnTo>
                        <a:pt x="834" y="109"/>
                      </a:lnTo>
                      <a:lnTo>
                        <a:pt x="870" y="118"/>
                      </a:lnTo>
                      <a:lnTo>
                        <a:pt x="906" y="131"/>
                      </a:lnTo>
                      <a:lnTo>
                        <a:pt x="955" y="156"/>
                      </a:lnTo>
                      <a:lnTo>
                        <a:pt x="1001" y="186"/>
                      </a:lnTo>
                      <a:lnTo>
                        <a:pt x="1042" y="218"/>
                      </a:lnTo>
                      <a:lnTo>
                        <a:pt x="1079" y="250"/>
                      </a:lnTo>
                      <a:lnTo>
                        <a:pt x="1113" y="286"/>
                      </a:lnTo>
                      <a:lnTo>
                        <a:pt x="1143" y="324"/>
                      </a:lnTo>
                      <a:lnTo>
                        <a:pt x="1170" y="364"/>
                      </a:lnTo>
                      <a:lnTo>
                        <a:pt x="1195" y="406"/>
                      </a:lnTo>
                      <a:lnTo>
                        <a:pt x="1218" y="449"/>
                      </a:lnTo>
                      <a:lnTo>
                        <a:pt x="1239" y="494"/>
                      </a:lnTo>
                      <a:lnTo>
                        <a:pt x="1258" y="540"/>
                      </a:lnTo>
                      <a:lnTo>
                        <a:pt x="1276" y="586"/>
                      </a:lnTo>
                      <a:lnTo>
                        <a:pt x="1292" y="634"/>
                      </a:lnTo>
                      <a:lnTo>
                        <a:pt x="1307" y="683"/>
                      </a:lnTo>
                      <a:lnTo>
                        <a:pt x="1324" y="733"/>
                      </a:lnTo>
                      <a:lnTo>
                        <a:pt x="1339" y="783"/>
                      </a:lnTo>
                      <a:lnTo>
                        <a:pt x="1431" y="755"/>
                      </a:lnTo>
                      <a:lnTo>
                        <a:pt x="1416" y="698"/>
                      </a:lnTo>
                      <a:lnTo>
                        <a:pt x="1400" y="641"/>
                      </a:lnTo>
                      <a:lnTo>
                        <a:pt x="1380" y="588"/>
                      </a:lnTo>
                      <a:lnTo>
                        <a:pt x="1358" y="536"/>
                      </a:lnTo>
                      <a:lnTo>
                        <a:pt x="1334" y="483"/>
                      </a:lnTo>
                      <a:lnTo>
                        <a:pt x="1307" y="434"/>
                      </a:lnTo>
                      <a:lnTo>
                        <a:pt x="1277" y="388"/>
                      </a:lnTo>
                      <a:lnTo>
                        <a:pt x="1248" y="341"/>
                      </a:lnTo>
                      <a:lnTo>
                        <a:pt x="1213" y="298"/>
                      </a:lnTo>
                      <a:lnTo>
                        <a:pt x="1177" y="256"/>
                      </a:lnTo>
                      <a:lnTo>
                        <a:pt x="1139" y="216"/>
                      </a:lnTo>
                      <a:lnTo>
                        <a:pt x="1098" y="177"/>
                      </a:lnTo>
                      <a:lnTo>
                        <a:pt x="1057" y="141"/>
                      </a:lnTo>
                      <a:lnTo>
                        <a:pt x="1012" y="107"/>
                      </a:lnTo>
                      <a:lnTo>
                        <a:pt x="964" y="76"/>
                      </a:lnTo>
                      <a:lnTo>
                        <a:pt x="915" y="46"/>
                      </a:lnTo>
                      <a:lnTo>
                        <a:pt x="876" y="31"/>
                      </a:lnTo>
                      <a:lnTo>
                        <a:pt x="836" y="21"/>
                      </a:lnTo>
                      <a:lnTo>
                        <a:pt x="795" y="12"/>
                      </a:lnTo>
                      <a:lnTo>
                        <a:pt x="754" y="4"/>
                      </a:lnTo>
                      <a:lnTo>
                        <a:pt x="713" y="1"/>
                      </a:lnTo>
                      <a:lnTo>
                        <a:pt x="673" y="0"/>
                      </a:lnTo>
                      <a:lnTo>
                        <a:pt x="633" y="1"/>
                      </a:lnTo>
                      <a:lnTo>
                        <a:pt x="594" y="6"/>
                      </a:lnTo>
                      <a:lnTo>
                        <a:pt x="555" y="12"/>
                      </a:lnTo>
                      <a:lnTo>
                        <a:pt x="518" y="22"/>
                      </a:lnTo>
                      <a:lnTo>
                        <a:pt x="481" y="32"/>
                      </a:lnTo>
                      <a:lnTo>
                        <a:pt x="446" y="47"/>
                      </a:lnTo>
                      <a:lnTo>
                        <a:pt x="412" y="64"/>
                      </a:lnTo>
                      <a:lnTo>
                        <a:pt x="381" y="83"/>
                      </a:lnTo>
                      <a:lnTo>
                        <a:pt x="351" y="106"/>
                      </a:lnTo>
                      <a:lnTo>
                        <a:pt x="322" y="130"/>
                      </a:lnTo>
                      <a:lnTo>
                        <a:pt x="295" y="161"/>
                      </a:lnTo>
                      <a:lnTo>
                        <a:pt x="267" y="192"/>
                      </a:lnTo>
                      <a:lnTo>
                        <a:pt x="242" y="224"/>
                      </a:lnTo>
                      <a:lnTo>
                        <a:pt x="215" y="256"/>
                      </a:lnTo>
                      <a:lnTo>
                        <a:pt x="190" y="289"/>
                      </a:lnTo>
                      <a:lnTo>
                        <a:pt x="166" y="322"/>
                      </a:lnTo>
                      <a:lnTo>
                        <a:pt x="143" y="356"/>
                      </a:lnTo>
                      <a:lnTo>
                        <a:pt x="122" y="391"/>
                      </a:lnTo>
                      <a:lnTo>
                        <a:pt x="101" y="427"/>
                      </a:lnTo>
                      <a:lnTo>
                        <a:pt x="84" y="464"/>
                      </a:lnTo>
                      <a:lnTo>
                        <a:pt x="66" y="501"/>
                      </a:lnTo>
                      <a:lnTo>
                        <a:pt x="52" y="540"/>
                      </a:lnTo>
                      <a:lnTo>
                        <a:pt x="39" y="580"/>
                      </a:lnTo>
                      <a:lnTo>
                        <a:pt x="28" y="622"/>
                      </a:lnTo>
                      <a:lnTo>
                        <a:pt x="21" y="664"/>
                      </a:lnTo>
                      <a:lnTo>
                        <a:pt x="15" y="709"/>
                      </a:lnTo>
                      <a:lnTo>
                        <a:pt x="13" y="801"/>
                      </a:lnTo>
                      <a:lnTo>
                        <a:pt x="15" y="889"/>
                      </a:lnTo>
                      <a:lnTo>
                        <a:pt x="12" y="976"/>
                      </a:lnTo>
                      <a:lnTo>
                        <a:pt x="0" y="10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743520" y="1069200"/>
                  <a:ext cx="119880" cy="95040"/>
                </a:xfrm>
                <a:custGeom>
                  <a:avLst/>
                  <a:gdLst/>
                  <a:ahLst/>
                  <a:rect l="l" t="t" r="r" b="b"/>
                  <a:pathLst>
                    <a:path w="416" h="277">
                      <a:moveTo>
                        <a:pt x="0" y="20"/>
                      </a:moveTo>
                      <a:lnTo>
                        <a:pt x="55" y="277"/>
                      </a:lnTo>
                      <a:lnTo>
                        <a:pt x="412" y="97"/>
                      </a:lnTo>
                      <a:lnTo>
                        <a:pt x="416" y="83"/>
                      </a:lnTo>
                      <a:lnTo>
                        <a:pt x="413" y="66"/>
                      </a:lnTo>
                      <a:lnTo>
                        <a:pt x="406" y="51"/>
                      </a:lnTo>
                      <a:lnTo>
                        <a:pt x="393" y="41"/>
                      </a:lnTo>
                      <a:lnTo>
                        <a:pt x="6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42800" y="968760"/>
                  <a:ext cx="124920" cy="88920"/>
                </a:xfrm>
                <a:custGeom>
                  <a:avLst/>
                  <a:gdLst/>
                  <a:ahLst/>
                  <a:rect l="l" t="t" r="r" b="b"/>
                  <a:pathLst>
                    <a:path w="434" h="258">
                      <a:moveTo>
                        <a:pt x="0" y="136"/>
                      </a:moveTo>
                      <a:lnTo>
                        <a:pt x="1" y="148"/>
                      </a:lnTo>
                      <a:lnTo>
                        <a:pt x="3" y="160"/>
                      </a:lnTo>
                      <a:lnTo>
                        <a:pt x="4" y="172"/>
                      </a:lnTo>
                      <a:lnTo>
                        <a:pt x="6" y="186"/>
                      </a:lnTo>
                      <a:lnTo>
                        <a:pt x="434" y="258"/>
                      </a:lnTo>
                      <a:lnTo>
                        <a:pt x="38" y="0"/>
                      </a:lnTo>
                      <a:lnTo>
                        <a:pt x="22" y="25"/>
                      </a:lnTo>
                      <a:lnTo>
                        <a:pt x="15" y="60"/>
                      </a:lnTo>
                      <a:lnTo>
                        <a:pt x="10" y="97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765840" y="1132200"/>
                  <a:ext cx="107640" cy="144720"/>
                </a:xfrm>
                <a:custGeom>
                  <a:avLst/>
                  <a:gdLst/>
                  <a:ahLst/>
                  <a:rect l="l" t="t" r="r" b="b"/>
                  <a:pathLst>
                    <a:path w="373" h="419">
                      <a:moveTo>
                        <a:pt x="0" y="198"/>
                      </a:moveTo>
                      <a:lnTo>
                        <a:pt x="67" y="401"/>
                      </a:lnTo>
                      <a:lnTo>
                        <a:pt x="69" y="403"/>
                      </a:lnTo>
                      <a:lnTo>
                        <a:pt x="75" y="407"/>
                      </a:lnTo>
                      <a:lnTo>
                        <a:pt x="82" y="413"/>
                      </a:lnTo>
                      <a:lnTo>
                        <a:pt x="94" y="419"/>
                      </a:lnTo>
                      <a:lnTo>
                        <a:pt x="373" y="50"/>
                      </a:lnTo>
                      <a:lnTo>
                        <a:pt x="372" y="38"/>
                      </a:lnTo>
                      <a:lnTo>
                        <a:pt x="370" y="26"/>
                      </a:lnTo>
                      <a:lnTo>
                        <a:pt x="367" y="15"/>
                      </a:lnTo>
                      <a:lnTo>
                        <a:pt x="366" y="0"/>
                      </a:lnTo>
                      <a:lnTo>
                        <a:pt x="3" y="182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762960" y="879480"/>
                  <a:ext cx="119160" cy="152280"/>
                </a:xfrm>
                <a:custGeom>
                  <a:avLst/>
                  <a:gdLst/>
                  <a:ahLst/>
                  <a:rect l="l" t="t" r="r" b="b"/>
                  <a:pathLst>
                    <a:path w="415" h="442">
                      <a:moveTo>
                        <a:pt x="9" y="192"/>
                      </a:moveTo>
                      <a:lnTo>
                        <a:pt x="415" y="442"/>
                      </a:lnTo>
                      <a:lnTo>
                        <a:pt x="118" y="0"/>
                      </a:lnTo>
                      <a:lnTo>
                        <a:pt x="95" y="13"/>
                      </a:lnTo>
                      <a:lnTo>
                        <a:pt x="76" y="31"/>
                      </a:lnTo>
                      <a:lnTo>
                        <a:pt x="58" y="50"/>
                      </a:lnTo>
                      <a:lnTo>
                        <a:pt x="43" y="73"/>
                      </a:lnTo>
                      <a:lnTo>
                        <a:pt x="30" y="97"/>
                      </a:lnTo>
                      <a:lnTo>
                        <a:pt x="19" y="121"/>
                      </a:lnTo>
                      <a:lnTo>
                        <a:pt x="9" y="144"/>
                      </a:lnTo>
                      <a:lnTo>
                        <a:pt x="0" y="167"/>
                      </a:lnTo>
                      <a:lnTo>
                        <a:pt x="9" y="192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805800" y="1184400"/>
                  <a:ext cx="77040" cy="157320"/>
                </a:xfrm>
                <a:custGeom>
                  <a:avLst/>
                  <a:gdLst/>
                  <a:ahLst/>
                  <a:rect l="l" t="t" r="r" b="b"/>
                  <a:pathLst>
                    <a:path w="268" h="455">
                      <a:moveTo>
                        <a:pt x="1" y="349"/>
                      </a:moveTo>
                      <a:lnTo>
                        <a:pt x="102" y="455"/>
                      </a:lnTo>
                      <a:lnTo>
                        <a:pt x="268" y="0"/>
                      </a:lnTo>
                      <a:lnTo>
                        <a:pt x="0" y="337"/>
                      </a:lnTo>
                      <a:lnTo>
                        <a:pt x="1" y="349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814800" y="812160"/>
                  <a:ext cx="90000" cy="201960"/>
                </a:xfrm>
                <a:custGeom>
                  <a:avLst/>
                  <a:gdLst/>
                  <a:ahLst/>
                  <a:rect l="l" t="t" r="r" b="b"/>
                  <a:pathLst>
                    <a:path w="312" h="585">
                      <a:moveTo>
                        <a:pt x="0" y="137"/>
                      </a:moveTo>
                      <a:lnTo>
                        <a:pt x="312" y="585"/>
                      </a:lnTo>
                      <a:lnTo>
                        <a:pt x="267" y="0"/>
                      </a:lnTo>
                      <a:lnTo>
                        <a:pt x="2" y="111"/>
                      </a:lnTo>
                      <a:lnTo>
                        <a:pt x="3" y="117"/>
                      </a:lnTo>
                      <a:lnTo>
                        <a:pt x="3" y="121"/>
                      </a:lnTo>
                      <a:lnTo>
                        <a:pt x="3" y="128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861600" y="1183320"/>
                  <a:ext cx="62640" cy="190080"/>
                </a:xfrm>
                <a:custGeom>
                  <a:avLst/>
                  <a:gdLst/>
                  <a:ahLst/>
                  <a:rect l="l" t="t" r="r" b="b"/>
                  <a:pathLst>
                    <a:path w="219" h="551">
                      <a:moveTo>
                        <a:pt x="0" y="491"/>
                      </a:moveTo>
                      <a:lnTo>
                        <a:pt x="5" y="511"/>
                      </a:lnTo>
                      <a:lnTo>
                        <a:pt x="219" y="551"/>
                      </a:lnTo>
                      <a:lnTo>
                        <a:pt x="168" y="0"/>
                      </a:lnTo>
                      <a:lnTo>
                        <a:pt x="0" y="491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883560" y="104436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249" h="303">
                      <a:moveTo>
                        <a:pt x="0" y="143"/>
                      </a:moveTo>
                      <a:lnTo>
                        <a:pt x="26" y="227"/>
                      </a:lnTo>
                      <a:lnTo>
                        <a:pt x="86" y="289"/>
                      </a:lnTo>
                      <a:lnTo>
                        <a:pt x="97" y="298"/>
                      </a:lnTo>
                      <a:lnTo>
                        <a:pt x="110" y="301"/>
                      </a:lnTo>
                      <a:lnTo>
                        <a:pt x="123" y="303"/>
                      </a:lnTo>
                      <a:lnTo>
                        <a:pt x="138" y="300"/>
                      </a:lnTo>
                      <a:lnTo>
                        <a:pt x="153" y="295"/>
                      </a:lnTo>
                      <a:lnTo>
                        <a:pt x="167" y="289"/>
                      </a:lnTo>
                      <a:lnTo>
                        <a:pt x="180" y="282"/>
                      </a:lnTo>
                      <a:lnTo>
                        <a:pt x="191" y="274"/>
                      </a:lnTo>
                      <a:lnTo>
                        <a:pt x="203" y="258"/>
                      </a:lnTo>
                      <a:lnTo>
                        <a:pt x="213" y="242"/>
                      </a:lnTo>
                      <a:lnTo>
                        <a:pt x="222" y="228"/>
                      </a:lnTo>
                      <a:lnTo>
                        <a:pt x="229" y="215"/>
                      </a:lnTo>
                      <a:lnTo>
                        <a:pt x="235" y="203"/>
                      </a:lnTo>
                      <a:lnTo>
                        <a:pt x="241" y="191"/>
                      </a:lnTo>
                      <a:lnTo>
                        <a:pt x="246" y="179"/>
                      </a:lnTo>
                      <a:lnTo>
                        <a:pt x="249" y="168"/>
                      </a:lnTo>
                      <a:lnTo>
                        <a:pt x="237" y="160"/>
                      </a:lnTo>
                      <a:lnTo>
                        <a:pt x="225" y="158"/>
                      </a:lnTo>
                      <a:lnTo>
                        <a:pt x="209" y="161"/>
                      </a:lnTo>
                      <a:lnTo>
                        <a:pt x="194" y="167"/>
                      </a:lnTo>
                      <a:lnTo>
                        <a:pt x="176" y="173"/>
                      </a:lnTo>
                      <a:lnTo>
                        <a:pt x="159" y="179"/>
                      </a:lnTo>
                      <a:lnTo>
                        <a:pt x="141" y="183"/>
                      </a:lnTo>
                      <a:lnTo>
                        <a:pt x="125" y="182"/>
                      </a:lnTo>
                      <a:lnTo>
                        <a:pt x="116" y="177"/>
                      </a:lnTo>
                      <a:lnTo>
                        <a:pt x="107" y="171"/>
                      </a:lnTo>
                      <a:lnTo>
                        <a:pt x="97" y="163"/>
                      </a:lnTo>
                      <a:lnTo>
                        <a:pt x="89" y="149"/>
                      </a:lnTo>
                      <a:lnTo>
                        <a:pt x="95" y="133"/>
                      </a:lnTo>
                      <a:lnTo>
                        <a:pt x="106" y="121"/>
                      </a:lnTo>
                      <a:lnTo>
                        <a:pt x="120" y="112"/>
                      </a:lnTo>
                      <a:lnTo>
                        <a:pt x="138" y="104"/>
                      </a:lnTo>
                      <a:lnTo>
                        <a:pt x="158" y="100"/>
                      </a:lnTo>
                      <a:lnTo>
                        <a:pt x="179" y="94"/>
                      </a:lnTo>
                      <a:lnTo>
                        <a:pt x="198" y="86"/>
                      </a:lnTo>
                      <a:lnTo>
                        <a:pt x="216" y="77"/>
                      </a:lnTo>
                      <a:lnTo>
                        <a:pt x="198" y="15"/>
                      </a:lnTo>
                      <a:lnTo>
                        <a:pt x="182" y="7"/>
                      </a:lnTo>
                      <a:lnTo>
                        <a:pt x="165" y="1"/>
                      </a:lnTo>
                      <a:lnTo>
                        <a:pt x="147" y="0"/>
                      </a:lnTo>
                      <a:lnTo>
                        <a:pt x="129" y="1"/>
                      </a:lnTo>
                      <a:lnTo>
                        <a:pt x="110" y="4"/>
                      </a:lnTo>
                      <a:lnTo>
                        <a:pt x="92" y="10"/>
                      </a:lnTo>
                      <a:lnTo>
                        <a:pt x="74" y="18"/>
                      </a:lnTo>
                      <a:lnTo>
                        <a:pt x="58" y="25"/>
                      </a:lnTo>
                      <a:lnTo>
                        <a:pt x="46" y="34"/>
                      </a:lnTo>
                      <a:lnTo>
                        <a:pt x="35" y="46"/>
                      </a:lnTo>
                      <a:lnTo>
                        <a:pt x="26" y="60"/>
                      </a:lnTo>
                      <a:lnTo>
                        <a:pt x="19" y="74"/>
                      </a:lnTo>
                      <a:lnTo>
                        <a:pt x="13" y="91"/>
                      </a:lnTo>
                      <a:lnTo>
                        <a:pt x="9" y="109"/>
                      </a:lnTo>
                      <a:lnTo>
                        <a:pt x="4" y="125"/>
                      </a:lnTo>
                      <a:lnTo>
                        <a:pt x="0" y="14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927840" y="1179720"/>
                  <a:ext cx="72360" cy="183240"/>
                </a:xfrm>
                <a:custGeom>
                  <a:avLst/>
                  <a:gdLst/>
                  <a:ahLst/>
                  <a:rect l="l" t="t" r="r" b="b"/>
                  <a:pathLst>
                    <a:path w="253" h="533">
                      <a:moveTo>
                        <a:pt x="0" y="34"/>
                      </a:moveTo>
                      <a:lnTo>
                        <a:pt x="72" y="504"/>
                      </a:lnTo>
                      <a:lnTo>
                        <a:pt x="75" y="513"/>
                      </a:lnTo>
                      <a:lnTo>
                        <a:pt x="81" y="522"/>
                      </a:lnTo>
                      <a:lnTo>
                        <a:pt x="90" y="527"/>
                      </a:lnTo>
                      <a:lnTo>
                        <a:pt x="100" y="531"/>
                      </a:lnTo>
                      <a:lnTo>
                        <a:pt x="111" y="533"/>
                      </a:lnTo>
                      <a:lnTo>
                        <a:pt x="123" y="531"/>
                      </a:lnTo>
                      <a:lnTo>
                        <a:pt x="135" y="528"/>
                      </a:lnTo>
                      <a:lnTo>
                        <a:pt x="147" y="524"/>
                      </a:lnTo>
                      <a:lnTo>
                        <a:pt x="161" y="512"/>
                      </a:lnTo>
                      <a:lnTo>
                        <a:pt x="178" y="501"/>
                      </a:lnTo>
                      <a:lnTo>
                        <a:pt x="193" y="492"/>
                      </a:lnTo>
                      <a:lnTo>
                        <a:pt x="206" y="482"/>
                      </a:lnTo>
                      <a:lnTo>
                        <a:pt x="220" y="473"/>
                      </a:lnTo>
                      <a:lnTo>
                        <a:pt x="232" y="464"/>
                      </a:lnTo>
                      <a:lnTo>
                        <a:pt x="244" y="457"/>
                      </a:lnTo>
                      <a:lnTo>
                        <a:pt x="253" y="448"/>
                      </a:lnTo>
                      <a:lnTo>
                        <a:pt x="33" y="0"/>
                      </a:lnTo>
                      <a:lnTo>
                        <a:pt x="21" y="1"/>
                      </a:lnTo>
                      <a:lnTo>
                        <a:pt x="9" y="7"/>
                      </a:lnTo>
                      <a:lnTo>
                        <a:pt x="0" y="1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11280" y="803160"/>
                  <a:ext cx="52200" cy="207360"/>
                </a:xfrm>
                <a:custGeom>
                  <a:avLst/>
                  <a:gdLst/>
                  <a:ahLst/>
                  <a:rect l="l" t="t" r="r" b="b"/>
                  <a:pathLst>
                    <a:path w="182" h="603">
                      <a:moveTo>
                        <a:pt x="0" y="126"/>
                      </a:moveTo>
                      <a:lnTo>
                        <a:pt x="64" y="603"/>
                      </a:lnTo>
                      <a:lnTo>
                        <a:pt x="182" y="51"/>
                      </a:lnTo>
                      <a:lnTo>
                        <a:pt x="169" y="38"/>
                      </a:lnTo>
                      <a:lnTo>
                        <a:pt x="152" y="26"/>
                      </a:lnTo>
                      <a:lnTo>
                        <a:pt x="133" y="15"/>
                      </a:lnTo>
                      <a:lnTo>
                        <a:pt x="112" y="8"/>
                      </a:lnTo>
                      <a:lnTo>
                        <a:pt x="90" y="3"/>
                      </a:lnTo>
                      <a:lnTo>
                        <a:pt x="67" y="0"/>
                      </a:lnTo>
                      <a:lnTo>
                        <a:pt x="45" y="2"/>
                      </a:lnTo>
                      <a:lnTo>
                        <a:pt x="23" y="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955560" y="1152000"/>
                  <a:ext cx="100440" cy="158400"/>
                </a:xfrm>
                <a:custGeom>
                  <a:avLst/>
                  <a:gdLst/>
                  <a:ahLst/>
                  <a:rect l="l" t="t" r="r" b="b"/>
                  <a:pathLst>
                    <a:path w="348" h="460">
                      <a:moveTo>
                        <a:pt x="0" y="36"/>
                      </a:moveTo>
                      <a:lnTo>
                        <a:pt x="230" y="460"/>
                      </a:lnTo>
                      <a:lnTo>
                        <a:pt x="348" y="241"/>
                      </a:lnTo>
                      <a:lnTo>
                        <a:pt x="342" y="217"/>
                      </a:lnTo>
                      <a:lnTo>
                        <a:pt x="333" y="194"/>
                      </a:lnTo>
                      <a:lnTo>
                        <a:pt x="320" y="173"/>
                      </a:lnTo>
                      <a:lnTo>
                        <a:pt x="306" y="156"/>
                      </a:lnTo>
                      <a:lnTo>
                        <a:pt x="290" y="139"/>
                      </a:lnTo>
                      <a:lnTo>
                        <a:pt x="272" y="124"/>
                      </a:lnTo>
                      <a:lnTo>
                        <a:pt x="251" y="111"/>
                      </a:lnTo>
                      <a:lnTo>
                        <a:pt x="230" y="97"/>
                      </a:lnTo>
                      <a:lnTo>
                        <a:pt x="209" y="85"/>
                      </a:lnTo>
                      <a:lnTo>
                        <a:pt x="185" y="73"/>
                      </a:lnTo>
                      <a:lnTo>
                        <a:pt x="163" y="63"/>
                      </a:lnTo>
                      <a:lnTo>
                        <a:pt x="141" y="53"/>
                      </a:lnTo>
                      <a:lnTo>
                        <a:pt x="117" y="41"/>
                      </a:lnTo>
                      <a:lnTo>
                        <a:pt x="94" y="30"/>
                      </a:lnTo>
                      <a:lnTo>
                        <a:pt x="73" y="18"/>
                      </a:lnTo>
                      <a:lnTo>
                        <a:pt x="53" y="5"/>
                      </a:lnTo>
                      <a:lnTo>
                        <a:pt x="38" y="2"/>
                      </a:lnTo>
                      <a:lnTo>
                        <a:pt x="26" y="0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6" y="5"/>
                      </a:lnTo>
                      <a:lnTo>
                        <a:pt x="3" y="14"/>
                      </a:lnTo>
                      <a:lnTo>
                        <a:pt x="0" y="2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952680" y="844560"/>
                  <a:ext cx="75960" cy="188280"/>
                </a:xfrm>
                <a:custGeom>
                  <a:avLst/>
                  <a:gdLst/>
                  <a:ahLst/>
                  <a:rect l="l" t="t" r="r" b="b"/>
                  <a:pathLst>
                    <a:path w="264" h="546">
                      <a:moveTo>
                        <a:pt x="0" y="503"/>
                      </a:moveTo>
                      <a:lnTo>
                        <a:pt x="0" y="514"/>
                      </a:lnTo>
                      <a:lnTo>
                        <a:pt x="1" y="524"/>
                      </a:lnTo>
                      <a:lnTo>
                        <a:pt x="3" y="536"/>
                      </a:lnTo>
                      <a:lnTo>
                        <a:pt x="10" y="546"/>
                      </a:lnTo>
                      <a:lnTo>
                        <a:pt x="264" y="191"/>
                      </a:lnTo>
                      <a:lnTo>
                        <a:pt x="118" y="0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970680" y="951480"/>
                  <a:ext cx="84600" cy="110880"/>
                </a:xfrm>
                <a:custGeom>
                  <a:avLst/>
                  <a:gdLst/>
                  <a:ahLst/>
                  <a:rect l="l" t="t" r="r" b="b"/>
                  <a:pathLst>
                    <a:path w="294" h="323">
                      <a:moveTo>
                        <a:pt x="1" y="311"/>
                      </a:moveTo>
                      <a:lnTo>
                        <a:pt x="10" y="323"/>
                      </a:lnTo>
                      <a:lnTo>
                        <a:pt x="188" y="236"/>
                      </a:lnTo>
                      <a:lnTo>
                        <a:pt x="277" y="214"/>
                      </a:lnTo>
                      <a:lnTo>
                        <a:pt x="280" y="209"/>
                      </a:lnTo>
                      <a:lnTo>
                        <a:pt x="285" y="203"/>
                      </a:lnTo>
                      <a:lnTo>
                        <a:pt x="289" y="197"/>
                      </a:lnTo>
                      <a:lnTo>
                        <a:pt x="294" y="191"/>
                      </a:lnTo>
                      <a:lnTo>
                        <a:pt x="246" y="0"/>
                      </a:lnTo>
                      <a:lnTo>
                        <a:pt x="0" y="299"/>
                      </a:lnTo>
                      <a:lnTo>
                        <a:pt x="1" y="311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981480" y="108936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324" h="52">
                      <a:moveTo>
                        <a:pt x="13" y="20"/>
                      </a:moveTo>
                      <a:lnTo>
                        <a:pt x="316" y="52"/>
                      </a:lnTo>
                      <a:lnTo>
                        <a:pt x="324" y="40"/>
                      </a:lnTo>
                      <a:lnTo>
                        <a:pt x="322" y="29"/>
                      </a:lnTo>
                      <a:lnTo>
                        <a:pt x="318" y="15"/>
                      </a:lnTo>
                      <a:lnTo>
                        <a:pt x="312" y="0"/>
                      </a:lnTo>
                      <a:lnTo>
                        <a:pt x="0" y="6"/>
                      </a:lnTo>
                      <a:lnTo>
                        <a:pt x="13" y="20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985080" y="1129320"/>
                  <a:ext cx="85680" cy="58320"/>
                </a:xfrm>
                <a:custGeom>
                  <a:avLst/>
                  <a:gdLst/>
                  <a:ahLst/>
                  <a:rect l="l" t="t" r="r" b="b"/>
                  <a:pathLst>
                    <a:path w="298" h="170">
                      <a:moveTo>
                        <a:pt x="13" y="13"/>
                      </a:moveTo>
                      <a:lnTo>
                        <a:pt x="271" y="170"/>
                      </a:lnTo>
                      <a:lnTo>
                        <a:pt x="285" y="138"/>
                      </a:lnTo>
                      <a:lnTo>
                        <a:pt x="295" y="101"/>
                      </a:lnTo>
                      <a:lnTo>
                        <a:pt x="298" y="62"/>
                      </a:lnTo>
                      <a:lnTo>
                        <a:pt x="291" y="24"/>
                      </a:lnTo>
                      <a:lnTo>
                        <a:pt x="0" y="0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005960" y="1010160"/>
                  <a:ext cx="157320" cy="70200"/>
                </a:xfrm>
                <a:custGeom>
                  <a:avLst/>
                  <a:gdLst/>
                  <a:ahLst/>
                  <a:rect l="l" t="t" r="r" b="b"/>
                  <a:pathLst>
                    <a:path w="547" h="203">
                      <a:moveTo>
                        <a:pt x="21" y="203"/>
                      </a:moveTo>
                      <a:lnTo>
                        <a:pt x="547" y="79"/>
                      </a:lnTo>
                      <a:lnTo>
                        <a:pt x="547" y="64"/>
                      </a:lnTo>
                      <a:lnTo>
                        <a:pt x="538" y="40"/>
                      </a:lnTo>
                      <a:lnTo>
                        <a:pt x="526" y="16"/>
                      </a:lnTo>
                      <a:lnTo>
                        <a:pt x="517" y="0"/>
                      </a:lnTo>
                      <a:lnTo>
                        <a:pt x="0" y="134"/>
                      </a:lnTo>
                      <a:lnTo>
                        <a:pt x="21" y="203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71920" y="954360"/>
                  <a:ext cx="253080" cy="73440"/>
                </a:xfrm>
                <a:custGeom>
                  <a:avLst/>
                  <a:gdLst/>
                  <a:ahLst/>
                  <a:rect l="l" t="t" r="r" b="b"/>
                  <a:pathLst>
                    <a:path w="877" h="214">
                      <a:moveTo>
                        <a:pt x="25" y="214"/>
                      </a:moveTo>
                      <a:lnTo>
                        <a:pt x="877" y="49"/>
                      </a:lnTo>
                      <a:lnTo>
                        <a:pt x="831" y="0"/>
                      </a:lnTo>
                      <a:lnTo>
                        <a:pt x="1" y="154"/>
                      </a:lnTo>
                      <a:lnTo>
                        <a:pt x="0" y="166"/>
                      </a:lnTo>
                      <a:lnTo>
                        <a:pt x="7" y="184"/>
                      </a:lnTo>
                      <a:lnTo>
                        <a:pt x="18" y="202"/>
                      </a:lnTo>
                      <a:lnTo>
                        <a:pt x="25" y="214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329960" y="991440"/>
                  <a:ext cx="101880" cy="74160"/>
                </a:xfrm>
                <a:custGeom>
                  <a:avLst/>
                  <a:gdLst/>
                  <a:ahLst/>
                  <a:rect l="l" t="t" r="r" b="b"/>
                  <a:pathLst>
                    <a:path w="353" h="216">
                      <a:moveTo>
                        <a:pt x="1" y="71"/>
                      </a:moveTo>
                      <a:lnTo>
                        <a:pt x="16" y="86"/>
                      </a:lnTo>
                      <a:lnTo>
                        <a:pt x="29" y="100"/>
                      </a:lnTo>
                      <a:lnTo>
                        <a:pt x="44" y="113"/>
                      </a:lnTo>
                      <a:lnTo>
                        <a:pt x="59" y="126"/>
                      </a:lnTo>
                      <a:lnTo>
                        <a:pt x="74" y="137"/>
                      </a:lnTo>
                      <a:lnTo>
                        <a:pt x="91" y="149"/>
                      </a:lnTo>
                      <a:lnTo>
                        <a:pt x="107" y="159"/>
                      </a:lnTo>
                      <a:lnTo>
                        <a:pt x="123" y="168"/>
                      </a:lnTo>
                      <a:lnTo>
                        <a:pt x="140" y="177"/>
                      </a:lnTo>
                      <a:lnTo>
                        <a:pt x="158" y="185"/>
                      </a:lnTo>
                      <a:lnTo>
                        <a:pt x="177" y="192"/>
                      </a:lnTo>
                      <a:lnTo>
                        <a:pt x="195" y="198"/>
                      </a:lnTo>
                      <a:lnTo>
                        <a:pt x="216" y="204"/>
                      </a:lnTo>
                      <a:lnTo>
                        <a:pt x="237" y="209"/>
                      </a:lnTo>
                      <a:lnTo>
                        <a:pt x="258" y="213"/>
                      </a:lnTo>
                      <a:lnTo>
                        <a:pt x="280" y="216"/>
                      </a:lnTo>
                      <a:lnTo>
                        <a:pt x="298" y="209"/>
                      </a:lnTo>
                      <a:lnTo>
                        <a:pt x="313" y="197"/>
                      </a:lnTo>
                      <a:lnTo>
                        <a:pt x="325" y="182"/>
                      </a:lnTo>
                      <a:lnTo>
                        <a:pt x="335" y="165"/>
                      </a:lnTo>
                      <a:lnTo>
                        <a:pt x="343" y="147"/>
                      </a:lnTo>
                      <a:lnTo>
                        <a:pt x="349" y="126"/>
                      </a:lnTo>
                      <a:lnTo>
                        <a:pt x="352" y="106"/>
                      </a:lnTo>
                      <a:lnTo>
                        <a:pt x="353" y="85"/>
                      </a:lnTo>
                      <a:lnTo>
                        <a:pt x="350" y="56"/>
                      </a:lnTo>
                      <a:lnTo>
                        <a:pt x="346" y="32"/>
                      </a:lnTo>
                      <a:lnTo>
                        <a:pt x="340" y="13"/>
                      </a:lnTo>
                      <a:lnTo>
                        <a:pt x="325" y="0"/>
                      </a:lnTo>
                      <a:lnTo>
                        <a:pt x="0" y="55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333560" y="871920"/>
                  <a:ext cx="108360" cy="85320"/>
                </a:xfrm>
                <a:custGeom>
                  <a:avLst/>
                  <a:gdLst/>
                  <a:ahLst/>
                  <a:rect l="l" t="t" r="r" b="b"/>
                  <a:pathLst>
                    <a:path w="375" h="250">
                      <a:moveTo>
                        <a:pt x="9" y="250"/>
                      </a:moveTo>
                      <a:lnTo>
                        <a:pt x="297" y="205"/>
                      </a:lnTo>
                      <a:lnTo>
                        <a:pt x="375" y="2"/>
                      </a:lnTo>
                      <a:lnTo>
                        <a:pt x="351" y="0"/>
                      </a:lnTo>
                      <a:lnTo>
                        <a:pt x="329" y="2"/>
                      </a:lnTo>
                      <a:lnTo>
                        <a:pt x="305" y="6"/>
                      </a:lnTo>
                      <a:lnTo>
                        <a:pt x="283" y="12"/>
                      </a:lnTo>
                      <a:lnTo>
                        <a:pt x="260" y="21"/>
                      </a:lnTo>
                      <a:lnTo>
                        <a:pt x="238" y="33"/>
                      </a:lnTo>
                      <a:lnTo>
                        <a:pt x="217" y="45"/>
                      </a:lnTo>
                      <a:lnTo>
                        <a:pt x="196" y="58"/>
                      </a:lnTo>
                      <a:lnTo>
                        <a:pt x="175" y="73"/>
                      </a:lnTo>
                      <a:lnTo>
                        <a:pt x="156" y="90"/>
                      </a:lnTo>
                      <a:lnTo>
                        <a:pt x="136" y="106"/>
                      </a:lnTo>
                      <a:lnTo>
                        <a:pt x="117" y="123"/>
                      </a:lnTo>
                      <a:lnTo>
                        <a:pt x="99" y="138"/>
                      </a:lnTo>
                      <a:lnTo>
                        <a:pt x="81" y="154"/>
                      </a:lnTo>
                      <a:lnTo>
                        <a:pt x="63" y="169"/>
                      </a:lnTo>
                      <a:lnTo>
                        <a:pt x="47" y="182"/>
                      </a:lnTo>
                      <a:lnTo>
                        <a:pt x="38" y="194"/>
                      </a:lnTo>
                      <a:lnTo>
                        <a:pt x="30" y="203"/>
                      </a:lnTo>
                      <a:lnTo>
                        <a:pt x="24" y="211"/>
                      </a:lnTo>
                      <a:lnTo>
                        <a:pt x="18" y="218"/>
                      </a:lnTo>
                      <a:lnTo>
                        <a:pt x="14" y="224"/>
                      </a:lnTo>
                      <a:lnTo>
                        <a:pt x="9" y="230"/>
                      </a:lnTo>
                      <a:lnTo>
                        <a:pt x="5" y="236"/>
                      </a:lnTo>
                      <a:lnTo>
                        <a:pt x="0" y="245"/>
                      </a:lnTo>
                      <a:lnTo>
                        <a:pt x="9" y="25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076880" y="609480"/>
                  <a:ext cx="43920" cy="217080"/>
                </a:xfrm>
                <a:custGeom>
                  <a:avLst/>
                  <a:gdLst/>
                  <a:ahLst/>
                  <a:rect l="l" t="t" r="r" b="b"/>
                  <a:pathLst>
                    <a:path w="152" h="630">
                      <a:moveTo>
                        <a:pt x="80" y="630"/>
                      </a:moveTo>
                      <a:lnTo>
                        <a:pt x="0" y="0"/>
                      </a:lnTo>
                      <a:lnTo>
                        <a:pt x="152" y="0"/>
                      </a:lnTo>
                      <a:lnTo>
                        <a:pt x="80" y="6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153560" y="623520"/>
                  <a:ext cx="100080" cy="237960"/>
                </a:xfrm>
                <a:custGeom>
                  <a:avLst/>
                  <a:gdLst/>
                  <a:ahLst/>
                  <a:rect l="l" t="t" r="r" b="b"/>
                  <a:pathLst>
                    <a:path w="349" h="689">
                      <a:moveTo>
                        <a:pt x="0" y="689"/>
                      </a:moveTo>
                      <a:lnTo>
                        <a:pt x="206" y="0"/>
                      </a:lnTo>
                      <a:lnTo>
                        <a:pt x="349" y="51"/>
                      </a:lnTo>
                      <a:lnTo>
                        <a:pt x="0" y="6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177320" y="765720"/>
                  <a:ext cx="177480" cy="148680"/>
                </a:xfrm>
                <a:custGeom>
                  <a:avLst/>
                  <a:gdLst/>
                  <a:ahLst/>
                  <a:rect l="l" t="t" r="r" b="b"/>
                  <a:pathLst>
                    <a:path w="617" h="433">
                      <a:moveTo>
                        <a:pt x="0" y="433"/>
                      </a:moveTo>
                      <a:lnTo>
                        <a:pt x="606" y="0"/>
                      </a:lnTo>
                      <a:lnTo>
                        <a:pt x="617" y="155"/>
                      </a:lnTo>
                      <a:lnTo>
                        <a:pt x="0" y="4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1" name=""/>
          <p:cNvGrpSpPr/>
          <p:nvPr/>
        </p:nvGrpSpPr>
        <p:grpSpPr>
          <a:xfrm>
            <a:off x="304920" y="380880"/>
            <a:ext cx="5410080" cy="5772240"/>
            <a:chOff x="304920" y="380880"/>
            <a:chExt cx="5410080" cy="5772240"/>
          </a:xfrm>
        </p:grpSpPr>
        <p:sp>
          <p:nvSpPr>
            <p:cNvPr id="292" name=""/>
            <p:cNvSpPr/>
            <p:nvPr/>
          </p:nvSpPr>
          <p:spPr>
            <a:xfrm>
              <a:off x="1219320" y="380880"/>
              <a:ext cx="4495680" cy="3353040"/>
            </a:xfrm>
            <a:prstGeom prst="cloudCallout">
              <a:avLst>
                <a:gd name="adj1" fmla="val -33898"/>
                <a:gd name="adj2" fmla="val 59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K ! Ce sont là les </a:t>
              </a:r>
              <a:r>
                <a:rPr b="1" lang="en-US" sz="2800" spc="-1" strike="noStrike">
                  <a:solidFill>
                    <a:srgbClr val="536b4b"/>
                  </a:solidFill>
                  <a:latin typeface="Arial"/>
                </a:rPr>
                <a:t>4 COMPOSANTE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de l’E.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’est là-dessus qu’on peut travailler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>
              <a:off x="304920" y="4048200"/>
              <a:ext cx="2590560" cy="21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6172200" y="45720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3124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9920" y="17524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ar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304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895480" y="457200"/>
            <a:ext cx="1600200" cy="6019920"/>
          </a:xfrm>
          <a:custGeom>
            <a:avLst/>
            <a:gdLst>
              <a:gd name="textAreaLeft" fmla="*/ 0 w 1600200"/>
              <a:gd name="textAreaRight" fmla="*/ 577800 w 160020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685800"/>
            <a:ext cx="2743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JU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je 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m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1295280"/>
            <a:ext cx="1067040" cy="19051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14400" y="609480"/>
            <a:ext cx="1981080" cy="5568840"/>
            <a:chOff x="914400" y="609480"/>
            <a:chExt cx="1981080" cy="5568840"/>
          </a:xfrm>
        </p:grpSpPr>
        <p:grpSp>
          <p:nvGrpSpPr>
            <p:cNvPr id="302" name=""/>
            <p:cNvGrpSpPr/>
            <p:nvPr/>
          </p:nvGrpSpPr>
          <p:grpSpPr>
            <a:xfrm>
              <a:off x="914400" y="3428640"/>
              <a:ext cx="1981080" cy="990720"/>
              <a:chOff x="914400" y="3428640"/>
              <a:chExt cx="1981080" cy="990720"/>
            </a:xfrm>
          </p:grpSpPr>
          <p:sp>
            <p:nvSpPr>
              <p:cNvPr id="303" name=""/>
              <p:cNvSpPr/>
              <p:nvPr/>
            </p:nvSpPr>
            <p:spPr>
              <a:xfrm>
                <a:off x="914400" y="3428640"/>
                <a:ext cx="1981080" cy="99072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4520" y="3428640"/>
                <a:ext cx="1100520" cy="97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5" name=""/>
            <p:cNvGrpSpPr/>
            <p:nvPr/>
          </p:nvGrpSpPr>
          <p:grpSpPr>
            <a:xfrm>
              <a:off x="914400" y="2057040"/>
              <a:ext cx="1981080" cy="990720"/>
              <a:chOff x="914400" y="2057040"/>
              <a:chExt cx="1981080" cy="990720"/>
            </a:xfrm>
          </p:grpSpPr>
          <p:sp>
            <p:nvSpPr>
              <p:cNvPr id="306" name=""/>
              <p:cNvSpPr/>
              <p:nvPr/>
            </p:nvSpPr>
            <p:spPr>
              <a:xfrm>
                <a:off x="914400" y="2057040"/>
                <a:ext cx="1981080" cy="99072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9280" y="2289960"/>
                <a:ext cx="1706040" cy="59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8" name=""/>
            <p:cNvGrpSpPr/>
            <p:nvPr/>
          </p:nvGrpSpPr>
          <p:grpSpPr>
            <a:xfrm>
              <a:off x="986040" y="4870080"/>
              <a:ext cx="1837440" cy="1308240"/>
              <a:chOff x="986040" y="4870080"/>
              <a:chExt cx="1837440" cy="1308240"/>
            </a:xfrm>
          </p:grpSpPr>
          <p:sp>
            <p:nvSpPr>
              <p:cNvPr id="309" name=""/>
              <p:cNvSpPr/>
              <p:nvPr/>
            </p:nvSpPr>
            <p:spPr>
              <a:xfrm rot="10776600">
                <a:off x="990000" y="4876200"/>
                <a:ext cx="1828800" cy="1295640"/>
              </a:xfrm>
              <a:custGeom>
                <a:avLst/>
                <a:gdLst>
                  <a:gd name="textAreaLeft" fmla="*/ 402120 w 1828800"/>
                  <a:gd name="textAreaRight" fmla="*/ 1426680 w 1828800"/>
                  <a:gd name="textAreaTop" fmla="*/ 284760 h 1295640"/>
                  <a:gd name="textAreaBottom" fmla="*/ 101088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82200" y="4936320"/>
                <a:ext cx="628560" cy="12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1" name=""/>
            <p:cNvGrpSpPr/>
            <p:nvPr/>
          </p:nvGrpSpPr>
          <p:grpSpPr>
            <a:xfrm>
              <a:off x="914400" y="609480"/>
              <a:ext cx="1981080" cy="990360"/>
              <a:chOff x="914400" y="609480"/>
              <a:chExt cx="1981080" cy="990360"/>
            </a:xfrm>
          </p:grpSpPr>
          <p:sp>
            <p:nvSpPr>
              <p:cNvPr id="312" name=""/>
              <p:cNvSpPr/>
              <p:nvPr/>
            </p:nvSpPr>
            <p:spPr>
              <a:xfrm>
                <a:off x="914400" y="609480"/>
                <a:ext cx="1981080" cy="990360"/>
              </a:xfrm>
              <a:prstGeom prst="ellipse">
                <a:avLst/>
              </a:prstGeom>
              <a:gradFill rotWithShape="0">
                <a:gsLst>
                  <a:gs pos="0">
                    <a:srgbClr val="ced5cc"/>
                  </a:gs>
                  <a:gs pos="100000">
                    <a:srgbClr val="536b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464480" y="609480"/>
                <a:ext cx="825480" cy="873720"/>
                <a:chOff x="1464480" y="609480"/>
                <a:chExt cx="825480" cy="873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464480" y="712800"/>
                  <a:ext cx="825480" cy="770400"/>
                </a:xfrm>
                <a:custGeom>
                  <a:avLst/>
                  <a:gdLst/>
                  <a:ahLst/>
                  <a:rect l="l" t="t" r="r" b="b"/>
                  <a:pathLst>
                    <a:path w="2862" h="2233">
                      <a:moveTo>
                        <a:pt x="1" y="1057"/>
                      </a:moveTo>
                      <a:lnTo>
                        <a:pt x="7" y="1133"/>
                      </a:lnTo>
                      <a:lnTo>
                        <a:pt x="15" y="1209"/>
                      </a:lnTo>
                      <a:lnTo>
                        <a:pt x="25" y="1285"/>
                      </a:lnTo>
                      <a:lnTo>
                        <a:pt x="37" y="1363"/>
                      </a:lnTo>
                      <a:lnTo>
                        <a:pt x="54" y="1439"/>
                      </a:lnTo>
                      <a:lnTo>
                        <a:pt x="73" y="1514"/>
                      </a:lnTo>
                      <a:lnTo>
                        <a:pt x="97" y="1588"/>
                      </a:lnTo>
                      <a:lnTo>
                        <a:pt x="124" y="1660"/>
                      </a:lnTo>
                      <a:lnTo>
                        <a:pt x="154" y="1730"/>
                      </a:lnTo>
                      <a:lnTo>
                        <a:pt x="188" y="1799"/>
                      </a:lnTo>
                      <a:lnTo>
                        <a:pt x="228" y="1863"/>
                      </a:lnTo>
                      <a:lnTo>
                        <a:pt x="271" y="1924"/>
                      </a:lnTo>
                      <a:lnTo>
                        <a:pt x="321" y="1982"/>
                      </a:lnTo>
                      <a:lnTo>
                        <a:pt x="373" y="2036"/>
                      </a:lnTo>
                      <a:lnTo>
                        <a:pt x="433" y="2085"/>
                      </a:lnTo>
                      <a:lnTo>
                        <a:pt x="497" y="2129"/>
                      </a:lnTo>
                      <a:lnTo>
                        <a:pt x="528" y="2150"/>
                      </a:lnTo>
                      <a:lnTo>
                        <a:pt x="561" y="2167"/>
                      </a:lnTo>
                      <a:lnTo>
                        <a:pt x="595" y="2182"/>
                      </a:lnTo>
                      <a:lnTo>
                        <a:pt x="631" y="2196"/>
                      </a:lnTo>
                      <a:lnTo>
                        <a:pt x="667" y="2208"/>
                      </a:lnTo>
                      <a:lnTo>
                        <a:pt x="703" y="2217"/>
                      </a:lnTo>
                      <a:lnTo>
                        <a:pt x="742" y="2224"/>
                      </a:lnTo>
                      <a:lnTo>
                        <a:pt x="779" y="2229"/>
                      </a:lnTo>
                      <a:lnTo>
                        <a:pt x="818" y="2232"/>
                      </a:lnTo>
                      <a:lnTo>
                        <a:pt x="856" y="2233"/>
                      </a:lnTo>
                      <a:lnTo>
                        <a:pt x="895" y="2233"/>
                      </a:lnTo>
                      <a:lnTo>
                        <a:pt x="934" y="2232"/>
                      </a:lnTo>
                      <a:lnTo>
                        <a:pt x="973" y="2227"/>
                      </a:lnTo>
                      <a:lnTo>
                        <a:pt x="1012" y="2223"/>
                      </a:lnTo>
                      <a:lnTo>
                        <a:pt x="1050" y="2215"/>
                      </a:lnTo>
                      <a:lnTo>
                        <a:pt x="1088" y="2208"/>
                      </a:lnTo>
                      <a:lnTo>
                        <a:pt x="1150" y="2178"/>
                      </a:lnTo>
                      <a:lnTo>
                        <a:pt x="1209" y="2145"/>
                      </a:lnTo>
                      <a:lnTo>
                        <a:pt x="1265" y="2109"/>
                      </a:lnTo>
                      <a:lnTo>
                        <a:pt x="1319" y="2069"/>
                      </a:lnTo>
                      <a:lnTo>
                        <a:pt x="1371" y="2027"/>
                      </a:lnTo>
                      <a:lnTo>
                        <a:pt x="1419" y="1982"/>
                      </a:lnTo>
                      <a:lnTo>
                        <a:pt x="1464" y="1933"/>
                      </a:lnTo>
                      <a:lnTo>
                        <a:pt x="1506" y="1882"/>
                      </a:lnTo>
                      <a:lnTo>
                        <a:pt x="1544" y="1829"/>
                      </a:lnTo>
                      <a:lnTo>
                        <a:pt x="1579" y="1772"/>
                      </a:lnTo>
                      <a:lnTo>
                        <a:pt x="1610" y="1712"/>
                      </a:lnTo>
                      <a:lnTo>
                        <a:pt x="1638" y="1651"/>
                      </a:lnTo>
                      <a:lnTo>
                        <a:pt x="1662" y="1587"/>
                      </a:lnTo>
                      <a:lnTo>
                        <a:pt x="1683" y="1520"/>
                      </a:lnTo>
                      <a:lnTo>
                        <a:pt x="1700" y="1449"/>
                      </a:lnTo>
                      <a:lnTo>
                        <a:pt x="1711" y="1378"/>
                      </a:lnTo>
                      <a:lnTo>
                        <a:pt x="1716" y="1285"/>
                      </a:lnTo>
                      <a:lnTo>
                        <a:pt x="1716" y="1190"/>
                      </a:lnTo>
                      <a:lnTo>
                        <a:pt x="1716" y="1099"/>
                      </a:lnTo>
                      <a:lnTo>
                        <a:pt x="1719" y="1015"/>
                      </a:lnTo>
                      <a:lnTo>
                        <a:pt x="1753" y="1006"/>
                      </a:lnTo>
                      <a:lnTo>
                        <a:pt x="1789" y="996"/>
                      </a:lnTo>
                      <a:lnTo>
                        <a:pt x="1825" y="985"/>
                      </a:lnTo>
                      <a:lnTo>
                        <a:pt x="1862" y="975"/>
                      </a:lnTo>
                      <a:lnTo>
                        <a:pt x="1900" y="964"/>
                      </a:lnTo>
                      <a:lnTo>
                        <a:pt x="1937" y="954"/>
                      </a:lnTo>
                      <a:lnTo>
                        <a:pt x="1974" y="942"/>
                      </a:lnTo>
                      <a:lnTo>
                        <a:pt x="2013" y="931"/>
                      </a:lnTo>
                      <a:lnTo>
                        <a:pt x="2050" y="923"/>
                      </a:lnTo>
                      <a:lnTo>
                        <a:pt x="2089" y="914"/>
                      </a:lnTo>
                      <a:lnTo>
                        <a:pt x="2128" y="905"/>
                      </a:lnTo>
                      <a:lnTo>
                        <a:pt x="2167" y="899"/>
                      </a:lnTo>
                      <a:lnTo>
                        <a:pt x="2204" y="893"/>
                      </a:lnTo>
                      <a:lnTo>
                        <a:pt x="2243" y="888"/>
                      </a:lnTo>
                      <a:lnTo>
                        <a:pt x="2280" y="885"/>
                      </a:lnTo>
                      <a:lnTo>
                        <a:pt x="2317" y="885"/>
                      </a:lnTo>
                      <a:lnTo>
                        <a:pt x="2331" y="905"/>
                      </a:lnTo>
                      <a:lnTo>
                        <a:pt x="2346" y="923"/>
                      </a:lnTo>
                      <a:lnTo>
                        <a:pt x="2364" y="939"/>
                      </a:lnTo>
                      <a:lnTo>
                        <a:pt x="2382" y="955"/>
                      </a:lnTo>
                      <a:lnTo>
                        <a:pt x="2399" y="972"/>
                      </a:lnTo>
                      <a:lnTo>
                        <a:pt x="2420" y="987"/>
                      </a:lnTo>
                      <a:lnTo>
                        <a:pt x="2441" y="1002"/>
                      </a:lnTo>
                      <a:lnTo>
                        <a:pt x="2464" y="1014"/>
                      </a:lnTo>
                      <a:lnTo>
                        <a:pt x="2486" y="1027"/>
                      </a:lnTo>
                      <a:lnTo>
                        <a:pt x="2510" y="1039"/>
                      </a:lnTo>
                      <a:lnTo>
                        <a:pt x="2534" y="1049"/>
                      </a:lnTo>
                      <a:lnTo>
                        <a:pt x="2559" y="1060"/>
                      </a:lnTo>
                      <a:lnTo>
                        <a:pt x="2583" y="1070"/>
                      </a:lnTo>
                      <a:lnTo>
                        <a:pt x="2608" y="1079"/>
                      </a:lnTo>
                      <a:lnTo>
                        <a:pt x="2634" y="1087"/>
                      </a:lnTo>
                      <a:lnTo>
                        <a:pt x="2659" y="1094"/>
                      </a:lnTo>
                      <a:lnTo>
                        <a:pt x="2684" y="1082"/>
                      </a:lnTo>
                      <a:lnTo>
                        <a:pt x="2708" y="1067"/>
                      </a:lnTo>
                      <a:lnTo>
                        <a:pt x="2728" y="1048"/>
                      </a:lnTo>
                      <a:lnTo>
                        <a:pt x="2746" y="1026"/>
                      </a:lnTo>
                      <a:lnTo>
                        <a:pt x="2761" y="1002"/>
                      </a:lnTo>
                      <a:lnTo>
                        <a:pt x="2774" y="976"/>
                      </a:lnTo>
                      <a:lnTo>
                        <a:pt x="2784" y="948"/>
                      </a:lnTo>
                      <a:lnTo>
                        <a:pt x="2793" y="921"/>
                      </a:lnTo>
                      <a:lnTo>
                        <a:pt x="2790" y="885"/>
                      </a:lnTo>
                      <a:lnTo>
                        <a:pt x="2783" y="855"/>
                      </a:lnTo>
                      <a:lnTo>
                        <a:pt x="2775" y="828"/>
                      </a:lnTo>
                      <a:lnTo>
                        <a:pt x="2768" y="800"/>
                      </a:lnTo>
                      <a:lnTo>
                        <a:pt x="2774" y="784"/>
                      </a:lnTo>
                      <a:lnTo>
                        <a:pt x="2786" y="770"/>
                      </a:lnTo>
                      <a:lnTo>
                        <a:pt x="2801" y="760"/>
                      </a:lnTo>
                      <a:lnTo>
                        <a:pt x="2817" y="749"/>
                      </a:lnTo>
                      <a:lnTo>
                        <a:pt x="2834" y="737"/>
                      </a:lnTo>
                      <a:lnTo>
                        <a:pt x="2849" y="724"/>
                      </a:lnTo>
                      <a:lnTo>
                        <a:pt x="2858" y="706"/>
                      </a:lnTo>
                      <a:lnTo>
                        <a:pt x="2862" y="682"/>
                      </a:lnTo>
                      <a:lnTo>
                        <a:pt x="2856" y="676"/>
                      </a:lnTo>
                      <a:lnTo>
                        <a:pt x="2853" y="673"/>
                      </a:lnTo>
                      <a:lnTo>
                        <a:pt x="2850" y="670"/>
                      </a:lnTo>
                      <a:lnTo>
                        <a:pt x="2838" y="660"/>
                      </a:lnTo>
                      <a:lnTo>
                        <a:pt x="2832" y="660"/>
                      </a:lnTo>
                      <a:lnTo>
                        <a:pt x="2828" y="661"/>
                      </a:lnTo>
                      <a:lnTo>
                        <a:pt x="2822" y="661"/>
                      </a:lnTo>
                      <a:lnTo>
                        <a:pt x="2816" y="663"/>
                      </a:lnTo>
                      <a:lnTo>
                        <a:pt x="2810" y="664"/>
                      </a:lnTo>
                      <a:lnTo>
                        <a:pt x="2804" y="664"/>
                      </a:lnTo>
                      <a:lnTo>
                        <a:pt x="2796" y="666"/>
                      </a:lnTo>
                      <a:lnTo>
                        <a:pt x="2789" y="666"/>
                      </a:lnTo>
                      <a:lnTo>
                        <a:pt x="2777" y="646"/>
                      </a:lnTo>
                      <a:lnTo>
                        <a:pt x="2772" y="624"/>
                      </a:lnTo>
                      <a:lnTo>
                        <a:pt x="2777" y="603"/>
                      </a:lnTo>
                      <a:lnTo>
                        <a:pt x="2784" y="579"/>
                      </a:lnTo>
                      <a:lnTo>
                        <a:pt x="2795" y="555"/>
                      </a:lnTo>
                      <a:lnTo>
                        <a:pt x="2805" y="530"/>
                      </a:lnTo>
                      <a:lnTo>
                        <a:pt x="2813" y="503"/>
                      </a:lnTo>
                      <a:lnTo>
                        <a:pt x="2814" y="476"/>
                      </a:lnTo>
                      <a:lnTo>
                        <a:pt x="2778" y="409"/>
                      </a:lnTo>
                      <a:lnTo>
                        <a:pt x="2759" y="403"/>
                      </a:lnTo>
                      <a:lnTo>
                        <a:pt x="2741" y="400"/>
                      </a:lnTo>
                      <a:lnTo>
                        <a:pt x="2722" y="399"/>
                      </a:lnTo>
                      <a:lnTo>
                        <a:pt x="2702" y="402"/>
                      </a:lnTo>
                      <a:lnTo>
                        <a:pt x="2683" y="406"/>
                      </a:lnTo>
                      <a:lnTo>
                        <a:pt x="2664" y="412"/>
                      </a:lnTo>
                      <a:lnTo>
                        <a:pt x="2644" y="421"/>
                      </a:lnTo>
                      <a:lnTo>
                        <a:pt x="2625" y="430"/>
                      </a:lnTo>
                      <a:lnTo>
                        <a:pt x="2605" y="440"/>
                      </a:lnTo>
                      <a:lnTo>
                        <a:pt x="2587" y="452"/>
                      </a:lnTo>
                      <a:lnTo>
                        <a:pt x="2570" y="464"/>
                      </a:lnTo>
                      <a:lnTo>
                        <a:pt x="2552" y="476"/>
                      </a:lnTo>
                      <a:lnTo>
                        <a:pt x="2535" y="488"/>
                      </a:lnTo>
                      <a:lnTo>
                        <a:pt x="2519" y="499"/>
                      </a:lnTo>
                      <a:lnTo>
                        <a:pt x="2504" y="509"/>
                      </a:lnTo>
                      <a:lnTo>
                        <a:pt x="2489" y="518"/>
                      </a:lnTo>
                      <a:lnTo>
                        <a:pt x="2473" y="533"/>
                      </a:lnTo>
                      <a:lnTo>
                        <a:pt x="2456" y="548"/>
                      </a:lnTo>
                      <a:lnTo>
                        <a:pt x="2440" y="563"/>
                      </a:lnTo>
                      <a:lnTo>
                        <a:pt x="2425" y="578"/>
                      </a:lnTo>
                      <a:lnTo>
                        <a:pt x="2410" y="593"/>
                      </a:lnTo>
                      <a:lnTo>
                        <a:pt x="2395" y="606"/>
                      </a:lnTo>
                      <a:lnTo>
                        <a:pt x="2380" y="621"/>
                      </a:lnTo>
                      <a:lnTo>
                        <a:pt x="2367" y="636"/>
                      </a:lnTo>
                      <a:lnTo>
                        <a:pt x="2352" y="651"/>
                      </a:lnTo>
                      <a:lnTo>
                        <a:pt x="2338" y="666"/>
                      </a:lnTo>
                      <a:lnTo>
                        <a:pt x="2323" y="679"/>
                      </a:lnTo>
                      <a:lnTo>
                        <a:pt x="2308" y="694"/>
                      </a:lnTo>
                      <a:lnTo>
                        <a:pt x="2295" y="709"/>
                      </a:lnTo>
                      <a:lnTo>
                        <a:pt x="2280" y="722"/>
                      </a:lnTo>
                      <a:lnTo>
                        <a:pt x="2265" y="737"/>
                      </a:lnTo>
                      <a:lnTo>
                        <a:pt x="2249" y="751"/>
                      </a:lnTo>
                      <a:lnTo>
                        <a:pt x="1695" y="843"/>
                      </a:lnTo>
                      <a:lnTo>
                        <a:pt x="1668" y="784"/>
                      </a:lnTo>
                      <a:lnTo>
                        <a:pt x="1641" y="725"/>
                      </a:lnTo>
                      <a:lnTo>
                        <a:pt x="1614" y="667"/>
                      </a:lnTo>
                      <a:lnTo>
                        <a:pt x="1586" y="611"/>
                      </a:lnTo>
                      <a:lnTo>
                        <a:pt x="1556" y="554"/>
                      </a:lnTo>
                      <a:lnTo>
                        <a:pt x="1525" y="499"/>
                      </a:lnTo>
                      <a:lnTo>
                        <a:pt x="1494" y="445"/>
                      </a:lnTo>
                      <a:lnTo>
                        <a:pt x="1459" y="391"/>
                      </a:lnTo>
                      <a:lnTo>
                        <a:pt x="1423" y="342"/>
                      </a:lnTo>
                      <a:lnTo>
                        <a:pt x="1385" y="293"/>
                      </a:lnTo>
                      <a:lnTo>
                        <a:pt x="1344" y="248"/>
                      </a:lnTo>
                      <a:lnTo>
                        <a:pt x="1301" y="205"/>
                      </a:lnTo>
                      <a:lnTo>
                        <a:pt x="1255" y="164"/>
                      </a:lnTo>
                      <a:lnTo>
                        <a:pt x="1204" y="125"/>
                      </a:lnTo>
                      <a:lnTo>
                        <a:pt x="1152" y="93"/>
                      </a:lnTo>
                      <a:lnTo>
                        <a:pt x="1095" y="61"/>
                      </a:lnTo>
                      <a:lnTo>
                        <a:pt x="1071" y="55"/>
                      </a:lnTo>
                      <a:lnTo>
                        <a:pt x="1049" y="51"/>
                      </a:lnTo>
                      <a:lnTo>
                        <a:pt x="1025" y="48"/>
                      </a:lnTo>
                      <a:lnTo>
                        <a:pt x="1003" y="45"/>
                      </a:lnTo>
                      <a:lnTo>
                        <a:pt x="980" y="42"/>
                      </a:lnTo>
                      <a:lnTo>
                        <a:pt x="958" y="39"/>
                      </a:lnTo>
                      <a:lnTo>
                        <a:pt x="937" y="37"/>
                      </a:lnTo>
                      <a:lnTo>
                        <a:pt x="915" y="34"/>
                      </a:lnTo>
                      <a:lnTo>
                        <a:pt x="894" y="33"/>
                      </a:lnTo>
                      <a:lnTo>
                        <a:pt x="873" y="30"/>
                      </a:lnTo>
                      <a:lnTo>
                        <a:pt x="852" y="27"/>
                      </a:lnTo>
                      <a:lnTo>
                        <a:pt x="831" y="22"/>
                      </a:lnTo>
                      <a:lnTo>
                        <a:pt x="810" y="18"/>
                      </a:lnTo>
                      <a:lnTo>
                        <a:pt x="791" y="13"/>
                      </a:lnTo>
                      <a:lnTo>
                        <a:pt x="770" y="7"/>
                      </a:lnTo>
                      <a:lnTo>
                        <a:pt x="750" y="0"/>
                      </a:lnTo>
                      <a:lnTo>
                        <a:pt x="440" y="81"/>
                      </a:lnTo>
                      <a:lnTo>
                        <a:pt x="389" y="125"/>
                      </a:lnTo>
                      <a:lnTo>
                        <a:pt x="340" y="173"/>
                      </a:lnTo>
                      <a:lnTo>
                        <a:pt x="294" y="224"/>
                      </a:lnTo>
                      <a:lnTo>
                        <a:pt x="251" y="276"/>
                      </a:lnTo>
                      <a:lnTo>
                        <a:pt x="210" y="331"/>
                      </a:lnTo>
                      <a:lnTo>
                        <a:pt x="173" y="388"/>
                      </a:lnTo>
                      <a:lnTo>
                        <a:pt x="139" y="448"/>
                      </a:lnTo>
                      <a:lnTo>
                        <a:pt x="109" y="508"/>
                      </a:lnTo>
                      <a:lnTo>
                        <a:pt x="80" y="572"/>
                      </a:lnTo>
                      <a:lnTo>
                        <a:pt x="58" y="636"/>
                      </a:lnTo>
                      <a:lnTo>
                        <a:pt x="39" y="703"/>
                      </a:lnTo>
                      <a:lnTo>
                        <a:pt x="22" y="770"/>
                      </a:lnTo>
                      <a:lnTo>
                        <a:pt x="10" y="840"/>
                      </a:lnTo>
                      <a:lnTo>
                        <a:pt x="3" y="911"/>
                      </a:lnTo>
                      <a:lnTo>
                        <a:pt x="0" y="984"/>
                      </a:lnTo>
                      <a:lnTo>
                        <a:pt x="1" y="10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480680" y="803160"/>
                  <a:ext cx="200160" cy="659160"/>
                </a:xfrm>
                <a:custGeom>
                  <a:avLst/>
                  <a:gdLst/>
                  <a:ahLst/>
                  <a:rect l="l" t="t" r="r" b="b"/>
                  <a:pathLst>
                    <a:path w="695" h="1912">
                      <a:moveTo>
                        <a:pt x="0" y="945"/>
                      </a:moveTo>
                      <a:lnTo>
                        <a:pt x="15" y="994"/>
                      </a:lnTo>
                      <a:lnTo>
                        <a:pt x="25" y="1043"/>
                      </a:lnTo>
                      <a:lnTo>
                        <a:pt x="33" y="1092"/>
                      </a:lnTo>
                      <a:lnTo>
                        <a:pt x="40" y="1142"/>
                      </a:lnTo>
                      <a:lnTo>
                        <a:pt x="49" y="1192"/>
                      </a:lnTo>
                      <a:lnTo>
                        <a:pt x="60" y="1242"/>
                      </a:lnTo>
                      <a:lnTo>
                        <a:pt x="76" y="1292"/>
                      </a:lnTo>
                      <a:lnTo>
                        <a:pt x="97" y="1343"/>
                      </a:lnTo>
                      <a:lnTo>
                        <a:pt x="118" y="1394"/>
                      </a:lnTo>
                      <a:lnTo>
                        <a:pt x="140" y="1442"/>
                      </a:lnTo>
                      <a:lnTo>
                        <a:pt x="166" y="1489"/>
                      </a:lnTo>
                      <a:lnTo>
                        <a:pt x="194" y="1536"/>
                      </a:lnTo>
                      <a:lnTo>
                        <a:pt x="225" y="1581"/>
                      </a:lnTo>
                      <a:lnTo>
                        <a:pt x="258" y="1622"/>
                      </a:lnTo>
                      <a:lnTo>
                        <a:pt x="293" y="1663"/>
                      </a:lnTo>
                      <a:lnTo>
                        <a:pt x="330" y="1701"/>
                      </a:lnTo>
                      <a:lnTo>
                        <a:pt x="370" y="1737"/>
                      </a:lnTo>
                      <a:lnTo>
                        <a:pt x="410" y="1772"/>
                      </a:lnTo>
                      <a:lnTo>
                        <a:pt x="454" y="1801"/>
                      </a:lnTo>
                      <a:lnTo>
                        <a:pt x="499" y="1830"/>
                      </a:lnTo>
                      <a:lnTo>
                        <a:pt x="546" y="1855"/>
                      </a:lnTo>
                      <a:lnTo>
                        <a:pt x="594" y="1878"/>
                      </a:lnTo>
                      <a:lnTo>
                        <a:pt x="645" y="1897"/>
                      </a:lnTo>
                      <a:lnTo>
                        <a:pt x="695" y="1912"/>
                      </a:lnTo>
                      <a:lnTo>
                        <a:pt x="631" y="1881"/>
                      </a:lnTo>
                      <a:lnTo>
                        <a:pt x="569" y="1845"/>
                      </a:lnTo>
                      <a:lnTo>
                        <a:pt x="509" y="1804"/>
                      </a:lnTo>
                      <a:lnTo>
                        <a:pt x="451" y="1760"/>
                      </a:lnTo>
                      <a:lnTo>
                        <a:pt x="397" y="1712"/>
                      </a:lnTo>
                      <a:lnTo>
                        <a:pt x="346" y="1658"/>
                      </a:lnTo>
                      <a:lnTo>
                        <a:pt x="299" y="1603"/>
                      </a:lnTo>
                      <a:lnTo>
                        <a:pt x="254" y="1543"/>
                      </a:lnTo>
                      <a:lnTo>
                        <a:pt x="214" y="1479"/>
                      </a:lnTo>
                      <a:lnTo>
                        <a:pt x="176" y="1413"/>
                      </a:lnTo>
                      <a:lnTo>
                        <a:pt x="143" y="1343"/>
                      </a:lnTo>
                      <a:lnTo>
                        <a:pt x="117" y="1270"/>
                      </a:lnTo>
                      <a:lnTo>
                        <a:pt x="93" y="1195"/>
                      </a:lnTo>
                      <a:lnTo>
                        <a:pt x="75" y="1116"/>
                      </a:lnTo>
                      <a:lnTo>
                        <a:pt x="61" y="1036"/>
                      </a:lnTo>
                      <a:lnTo>
                        <a:pt x="52" y="952"/>
                      </a:lnTo>
                      <a:lnTo>
                        <a:pt x="49" y="885"/>
                      </a:lnTo>
                      <a:lnTo>
                        <a:pt x="49" y="818"/>
                      </a:lnTo>
                      <a:lnTo>
                        <a:pt x="49" y="752"/>
                      </a:lnTo>
                      <a:lnTo>
                        <a:pt x="51" y="688"/>
                      </a:lnTo>
                      <a:lnTo>
                        <a:pt x="54" y="624"/>
                      </a:lnTo>
                      <a:lnTo>
                        <a:pt x="60" y="562"/>
                      </a:lnTo>
                      <a:lnTo>
                        <a:pt x="69" y="500"/>
                      </a:lnTo>
                      <a:lnTo>
                        <a:pt x="79" y="440"/>
                      </a:lnTo>
                      <a:lnTo>
                        <a:pt x="93" y="380"/>
                      </a:lnTo>
                      <a:lnTo>
                        <a:pt x="109" y="322"/>
                      </a:lnTo>
                      <a:lnTo>
                        <a:pt x="130" y="265"/>
                      </a:lnTo>
                      <a:lnTo>
                        <a:pt x="154" y="210"/>
                      </a:lnTo>
                      <a:lnTo>
                        <a:pt x="181" y="156"/>
                      </a:lnTo>
                      <a:lnTo>
                        <a:pt x="214" y="103"/>
                      </a:lnTo>
                      <a:lnTo>
                        <a:pt x="249" y="50"/>
                      </a:lnTo>
                      <a:lnTo>
                        <a:pt x="290" y="0"/>
                      </a:lnTo>
                      <a:lnTo>
                        <a:pt x="240" y="46"/>
                      </a:lnTo>
                      <a:lnTo>
                        <a:pt x="197" y="94"/>
                      </a:lnTo>
                      <a:lnTo>
                        <a:pt x="158" y="145"/>
                      </a:lnTo>
                      <a:lnTo>
                        <a:pt x="125" y="198"/>
                      </a:lnTo>
                      <a:lnTo>
                        <a:pt x="97" y="254"/>
                      </a:lnTo>
                      <a:lnTo>
                        <a:pt x="73" y="310"/>
                      </a:lnTo>
                      <a:lnTo>
                        <a:pt x="54" y="368"/>
                      </a:lnTo>
                      <a:lnTo>
                        <a:pt x="39" y="430"/>
                      </a:lnTo>
                      <a:lnTo>
                        <a:pt x="25" y="491"/>
                      </a:lnTo>
                      <a:lnTo>
                        <a:pt x="17" y="554"/>
                      </a:lnTo>
                      <a:lnTo>
                        <a:pt x="9" y="618"/>
                      </a:lnTo>
                      <a:lnTo>
                        <a:pt x="5" y="682"/>
                      </a:lnTo>
                      <a:lnTo>
                        <a:pt x="2" y="748"/>
                      </a:lnTo>
                      <a:lnTo>
                        <a:pt x="0" y="813"/>
                      </a:lnTo>
                      <a:lnTo>
                        <a:pt x="0" y="879"/>
                      </a:lnTo>
                      <a:lnTo>
                        <a:pt x="0" y="945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513440" y="740520"/>
                  <a:ext cx="432000" cy="709560"/>
                </a:xfrm>
                <a:custGeom>
                  <a:avLst/>
                  <a:gdLst/>
                  <a:ahLst/>
                  <a:rect l="l" t="t" r="r" b="b"/>
                  <a:pathLst>
                    <a:path w="1498" h="2057">
                      <a:moveTo>
                        <a:pt x="0" y="1061"/>
                      </a:moveTo>
                      <a:lnTo>
                        <a:pt x="4" y="1125"/>
                      </a:lnTo>
                      <a:lnTo>
                        <a:pt x="13" y="1188"/>
                      </a:lnTo>
                      <a:lnTo>
                        <a:pt x="24" y="1251"/>
                      </a:lnTo>
                      <a:lnTo>
                        <a:pt x="37" y="1313"/>
                      </a:lnTo>
                      <a:lnTo>
                        <a:pt x="52" y="1374"/>
                      </a:lnTo>
                      <a:lnTo>
                        <a:pt x="72" y="1436"/>
                      </a:lnTo>
                      <a:lnTo>
                        <a:pt x="94" y="1494"/>
                      </a:lnTo>
                      <a:lnTo>
                        <a:pt x="118" y="1552"/>
                      </a:lnTo>
                      <a:lnTo>
                        <a:pt x="146" y="1607"/>
                      </a:lnTo>
                      <a:lnTo>
                        <a:pt x="178" y="1661"/>
                      </a:lnTo>
                      <a:lnTo>
                        <a:pt x="212" y="1712"/>
                      </a:lnTo>
                      <a:lnTo>
                        <a:pt x="249" y="1761"/>
                      </a:lnTo>
                      <a:lnTo>
                        <a:pt x="291" y="1807"/>
                      </a:lnTo>
                      <a:lnTo>
                        <a:pt x="336" y="1851"/>
                      </a:lnTo>
                      <a:lnTo>
                        <a:pt x="384" y="1889"/>
                      </a:lnTo>
                      <a:lnTo>
                        <a:pt x="436" y="1927"/>
                      </a:lnTo>
                      <a:lnTo>
                        <a:pt x="467" y="1946"/>
                      </a:lnTo>
                      <a:lnTo>
                        <a:pt x="500" y="1964"/>
                      </a:lnTo>
                      <a:lnTo>
                        <a:pt x="534" y="1980"/>
                      </a:lnTo>
                      <a:lnTo>
                        <a:pt x="569" y="1997"/>
                      </a:lnTo>
                      <a:lnTo>
                        <a:pt x="604" y="2012"/>
                      </a:lnTo>
                      <a:lnTo>
                        <a:pt x="642" y="2025"/>
                      </a:lnTo>
                      <a:lnTo>
                        <a:pt x="679" y="2036"/>
                      </a:lnTo>
                      <a:lnTo>
                        <a:pt x="718" y="2045"/>
                      </a:lnTo>
                      <a:lnTo>
                        <a:pt x="755" y="2052"/>
                      </a:lnTo>
                      <a:lnTo>
                        <a:pt x="794" y="2055"/>
                      </a:lnTo>
                      <a:lnTo>
                        <a:pt x="833" y="2057"/>
                      </a:lnTo>
                      <a:lnTo>
                        <a:pt x="873" y="2054"/>
                      </a:lnTo>
                      <a:lnTo>
                        <a:pt x="912" y="2049"/>
                      </a:lnTo>
                      <a:lnTo>
                        <a:pt x="952" y="2039"/>
                      </a:lnTo>
                      <a:lnTo>
                        <a:pt x="991" y="2025"/>
                      </a:lnTo>
                      <a:lnTo>
                        <a:pt x="1030" y="2007"/>
                      </a:lnTo>
                      <a:lnTo>
                        <a:pt x="1076" y="1973"/>
                      </a:lnTo>
                      <a:lnTo>
                        <a:pt x="1119" y="1939"/>
                      </a:lnTo>
                      <a:lnTo>
                        <a:pt x="1161" y="1901"/>
                      </a:lnTo>
                      <a:lnTo>
                        <a:pt x="1201" y="1861"/>
                      </a:lnTo>
                      <a:lnTo>
                        <a:pt x="1239" y="1821"/>
                      </a:lnTo>
                      <a:lnTo>
                        <a:pt x="1274" y="1777"/>
                      </a:lnTo>
                      <a:lnTo>
                        <a:pt x="1309" y="1734"/>
                      </a:lnTo>
                      <a:lnTo>
                        <a:pt x="1340" y="1688"/>
                      </a:lnTo>
                      <a:lnTo>
                        <a:pt x="1368" y="1640"/>
                      </a:lnTo>
                      <a:lnTo>
                        <a:pt x="1395" y="1591"/>
                      </a:lnTo>
                      <a:lnTo>
                        <a:pt x="1418" y="1540"/>
                      </a:lnTo>
                      <a:lnTo>
                        <a:pt x="1439" y="1488"/>
                      </a:lnTo>
                      <a:lnTo>
                        <a:pt x="1456" y="1434"/>
                      </a:lnTo>
                      <a:lnTo>
                        <a:pt x="1473" y="1380"/>
                      </a:lnTo>
                      <a:lnTo>
                        <a:pt x="1485" y="1324"/>
                      </a:lnTo>
                      <a:lnTo>
                        <a:pt x="1494" y="1265"/>
                      </a:lnTo>
                      <a:lnTo>
                        <a:pt x="1498" y="1197"/>
                      </a:lnTo>
                      <a:lnTo>
                        <a:pt x="1494" y="1130"/>
                      </a:lnTo>
                      <a:lnTo>
                        <a:pt x="1486" y="1067"/>
                      </a:lnTo>
                      <a:lnTo>
                        <a:pt x="1479" y="1003"/>
                      </a:lnTo>
                      <a:lnTo>
                        <a:pt x="1476" y="989"/>
                      </a:lnTo>
                      <a:lnTo>
                        <a:pt x="1468" y="980"/>
                      </a:lnTo>
                      <a:lnTo>
                        <a:pt x="1459" y="977"/>
                      </a:lnTo>
                      <a:lnTo>
                        <a:pt x="1449" y="979"/>
                      </a:lnTo>
                      <a:lnTo>
                        <a:pt x="1436" y="982"/>
                      </a:lnTo>
                      <a:lnTo>
                        <a:pt x="1422" y="986"/>
                      </a:lnTo>
                      <a:lnTo>
                        <a:pt x="1409" y="994"/>
                      </a:lnTo>
                      <a:lnTo>
                        <a:pt x="1395" y="1000"/>
                      </a:lnTo>
                      <a:lnTo>
                        <a:pt x="1391" y="1095"/>
                      </a:lnTo>
                      <a:lnTo>
                        <a:pt x="1382" y="1192"/>
                      </a:lnTo>
                      <a:lnTo>
                        <a:pt x="1365" y="1289"/>
                      </a:lnTo>
                      <a:lnTo>
                        <a:pt x="1345" y="1385"/>
                      </a:lnTo>
                      <a:lnTo>
                        <a:pt x="1315" y="1477"/>
                      </a:lnTo>
                      <a:lnTo>
                        <a:pt x="1279" y="1565"/>
                      </a:lnTo>
                      <a:lnTo>
                        <a:pt x="1236" y="1649"/>
                      </a:lnTo>
                      <a:lnTo>
                        <a:pt x="1185" y="1725"/>
                      </a:lnTo>
                      <a:lnTo>
                        <a:pt x="1161" y="1748"/>
                      </a:lnTo>
                      <a:lnTo>
                        <a:pt x="1134" y="1770"/>
                      </a:lnTo>
                      <a:lnTo>
                        <a:pt x="1107" y="1791"/>
                      </a:lnTo>
                      <a:lnTo>
                        <a:pt x="1077" y="1810"/>
                      </a:lnTo>
                      <a:lnTo>
                        <a:pt x="1046" y="1830"/>
                      </a:lnTo>
                      <a:lnTo>
                        <a:pt x="1013" y="1848"/>
                      </a:lnTo>
                      <a:lnTo>
                        <a:pt x="980" y="1864"/>
                      </a:lnTo>
                      <a:lnTo>
                        <a:pt x="946" y="1877"/>
                      </a:lnTo>
                      <a:lnTo>
                        <a:pt x="910" y="1889"/>
                      </a:lnTo>
                      <a:lnTo>
                        <a:pt x="873" y="1900"/>
                      </a:lnTo>
                      <a:lnTo>
                        <a:pt x="836" y="1907"/>
                      </a:lnTo>
                      <a:lnTo>
                        <a:pt x="798" y="1912"/>
                      </a:lnTo>
                      <a:lnTo>
                        <a:pt x="761" y="1913"/>
                      </a:lnTo>
                      <a:lnTo>
                        <a:pt x="722" y="1912"/>
                      </a:lnTo>
                      <a:lnTo>
                        <a:pt x="683" y="1907"/>
                      </a:lnTo>
                      <a:lnTo>
                        <a:pt x="645" y="1900"/>
                      </a:lnTo>
                      <a:lnTo>
                        <a:pt x="603" y="1885"/>
                      </a:lnTo>
                      <a:lnTo>
                        <a:pt x="563" y="1868"/>
                      </a:lnTo>
                      <a:lnTo>
                        <a:pt x="524" y="1848"/>
                      </a:lnTo>
                      <a:lnTo>
                        <a:pt x="488" y="1825"/>
                      </a:lnTo>
                      <a:lnTo>
                        <a:pt x="452" y="1801"/>
                      </a:lnTo>
                      <a:lnTo>
                        <a:pt x="419" y="1774"/>
                      </a:lnTo>
                      <a:lnTo>
                        <a:pt x="388" y="1746"/>
                      </a:lnTo>
                      <a:lnTo>
                        <a:pt x="358" y="1715"/>
                      </a:lnTo>
                      <a:lnTo>
                        <a:pt x="330" y="1682"/>
                      </a:lnTo>
                      <a:lnTo>
                        <a:pt x="303" y="1648"/>
                      </a:lnTo>
                      <a:lnTo>
                        <a:pt x="279" y="1612"/>
                      </a:lnTo>
                      <a:lnTo>
                        <a:pt x="257" y="1574"/>
                      </a:lnTo>
                      <a:lnTo>
                        <a:pt x="236" y="1536"/>
                      </a:lnTo>
                      <a:lnTo>
                        <a:pt x="216" y="1495"/>
                      </a:lnTo>
                      <a:lnTo>
                        <a:pt x="200" y="1454"/>
                      </a:lnTo>
                      <a:lnTo>
                        <a:pt x="185" y="1412"/>
                      </a:lnTo>
                      <a:lnTo>
                        <a:pt x="166" y="1337"/>
                      </a:lnTo>
                      <a:lnTo>
                        <a:pt x="148" y="1262"/>
                      </a:lnTo>
                      <a:lnTo>
                        <a:pt x="133" y="1186"/>
                      </a:lnTo>
                      <a:lnTo>
                        <a:pt x="121" y="1110"/>
                      </a:lnTo>
                      <a:lnTo>
                        <a:pt x="112" y="1034"/>
                      </a:lnTo>
                      <a:lnTo>
                        <a:pt x="107" y="958"/>
                      </a:lnTo>
                      <a:lnTo>
                        <a:pt x="106" y="882"/>
                      </a:lnTo>
                      <a:lnTo>
                        <a:pt x="110" y="807"/>
                      </a:lnTo>
                      <a:lnTo>
                        <a:pt x="119" y="734"/>
                      </a:lnTo>
                      <a:lnTo>
                        <a:pt x="134" y="662"/>
                      </a:lnTo>
                      <a:lnTo>
                        <a:pt x="155" y="592"/>
                      </a:lnTo>
                      <a:lnTo>
                        <a:pt x="181" y="525"/>
                      </a:lnTo>
                      <a:lnTo>
                        <a:pt x="215" y="459"/>
                      </a:lnTo>
                      <a:lnTo>
                        <a:pt x="255" y="398"/>
                      </a:lnTo>
                      <a:lnTo>
                        <a:pt x="303" y="338"/>
                      </a:lnTo>
                      <a:lnTo>
                        <a:pt x="358" y="283"/>
                      </a:lnTo>
                      <a:lnTo>
                        <a:pt x="388" y="264"/>
                      </a:lnTo>
                      <a:lnTo>
                        <a:pt x="419" y="243"/>
                      </a:lnTo>
                      <a:lnTo>
                        <a:pt x="452" y="224"/>
                      </a:lnTo>
                      <a:lnTo>
                        <a:pt x="484" y="204"/>
                      </a:lnTo>
                      <a:lnTo>
                        <a:pt x="518" y="185"/>
                      </a:lnTo>
                      <a:lnTo>
                        <a:pt x="551" y="167"/>
                      </a:lnTo>
                      <a:lnTo>
                        <a:pt x="585" y="150"/>
                      </a:lnTo>
                      <a:lnTo>
                        <a:pt x="621" y="135"/>
                      </a:lnTo>
                      <a:lnTo>
                        <a:pt x="655" y="124"/>
                      </a:lnTo>
                      <a:lnTo>
                        <a:pt x="691" y="115"/>
                      </a:lnTo>
                      <a:lnTo>
                        <a:pt x="727" y="107"/>
                      </a:lnTo>
                      <a:lnTo>
                        <a:pt x="763" y="104"/>
                      </a:lnTo>
                      <a:lnTo>
                        <a:pt x="798" y="104"/>
                      </a:lnTo>
                      <a:lnTo>
                        <a:pt x="834" y="109"/>
                      </a:lnTo>
                      <a:lnTo>
                        <a:pt x="870" y="118"/>
                      </a:lnTo>
                      <a:lnTo>
                        <a:pt x="906" y="131"/>
                      </a:lnTo>
                      <a:lnTo>
                        <a:pt x="955" y="156"/>
                      </a:lnTo>
                      <a:lnTo>
                        <a:pt x="1001" y="186"/>
                      </a:lnTo>
                      <a:lnTo>
                        <a:pt x="1042" y="218"/>
                      </a:lnTo>
                      <a:lnTo>
                        <a:pt x="1079" y="250"/>
                      </a:lnTo>
                      <a:lnTo>
                        <a:pt x="1113" y="286"/>
                      </a:lnTo>
                      <a:lnTo>
                        <a:pt x="1143" y="324"/>
                      </a:lnTo>
                      <a:lnTo>
                        <a:pt x="1170" y="364"/>
                      </a:lnTo>
                      <a:lnTo>
                        <a:pt x="1195" y="406"/>
                      </a:lnTo>
                      <a:lnTo>
                        <a:pt x="1218" y="449"/>
                      </a:lnTo>
                      <a:lnTo>
                        <a:pt x="1239" y="494"/>
                      </a:lnTo>
                      <a:lnTo>
                        <a:pt x="1258" y="540"/>
                      </a:lnTo>
                      <a:lnTo>
                        <a:pt x="1276" y="586"/>
                      </a:lnTo>
                      <a:lnTo>
                        <a:pt x="1292" y="634"/>
                      </a:lnTo>
                      <a:lnTo>
                        <a:pt x="1307" y="683"/>
                      </a:lnTo>
                      <a:lnTo>
                        <a:pt x="1324" y="733"/>
                      </a:lnTo>
                      <a:lnTo>
                        <a:pt x="1339" y="783"/>
                      </a:lnTo>
                      <a:lnTo>
                        <a:pt x="1431" y="755"/>
                      </a:lnTo>
                      <a:lnTo>
                        <a:pt x="1416" y="698"/>
                      </a:lnTo>
                      <a:lnTo>
                        <a:pt x="1400" y="641"/>
                      </a:lnTo>
                      <a:lnTo>
                        <a:pt x="1380" y="588"/>
                      </a:lnTo>
                      <a:lnTo>
                        <a:pt x="1358" y="536"/>
                      </a:lnTo>
                      <a:lnTo>
                        <a:pt x="1334" y="483"/>
                      </a:lnTo>
                      <a:lnTo>
                        <a:pt x="1307" y="434"/>
                      </a:lnTo>
                      <a:lnTo>
                        <a:pt x="1277" y="388"/>
                      </a:lnTo>
                      <a:lnTo>
                        <a:pt x="1248" y="341"/>
                      </a:lnTo>
                      <a:lnTo>
                        <a:pt x="1213" y="298"/>
                      </a:lnTo>
                      <a:lnTo>
                        <a:pt x="1177" y="256"/>
                      </a:lnTo>
                      <a:lnTo>
                        <a:pt x="1139" y="216"/>
                      </a:lnTo>
                      <a:lnTo>
                        <a:pt x="1098" y="177"/>
                      </a:lnTo>
                      <a:lnTo>
                        <a:pt x="1057" y="141"/>
                      </a:lnTo>
                      <a:lnTo>
                        <a:pt x="1012" y="107"/>
                      </a:lnTo>
                      <a:lnTo>
                        <a:pt x="964" y="76"/>
                      </a:lnTo>
                      <a:lnTo>
                        <a:pt x="915" y="46"/>
                      </a:lnTo>
                      <a:lnTo>
                        <a:pt x="876" y="31"/>
                      </a:lnTo>
                      <a:lnTo>
                        <a:pt x="836" y="21"/>
                      </a:lnTo>
                      <a:lnTo>
                        <a:pt x="795" y="12"/>
                      </a:lnTo>
                      <a:lnTo>
                        <a:pt x="754" y="4"/>
                      </a:lnTo>
                      <a:lnTo>
                        <a:pt x="713" y="1"/>
                      </a:lnTo>
                      <a:lnTo>
                        <a:pt x="673" y="0"/>
                      </a:lnTo>
                      <a:lnTo>
                        <a:pt x="633" y="1"/>
                      </a:lnTo>
                      <a:lnTo>
                        <a:pt x="594" y="6"/>
                      </a:lnTo>
                      <a:lnTo>
                        <a:pt x="555" y="12"/>
                      </a:lnTo>
                      <a:lnTo>
                        <a:pt x="518" y="22"/>
                      </a:lnTo>
                      <a:lnTo>
                        <a:pt x="481" y="32"/>
                      </a:lnTo>
                      <a:lnTo>
                        <a:pt x="446" y="47"/>
                      </a:lnTo>
                      <a:lnTo>
                        <a:pt x="412" y="64"/>
                      </a:lnTo>
                      <a:lnTo>
                        <a:pt x="381" y="83"/>
                      </a:lnTo>
                      <a:lnTo>
                        <a:pt x="351" y="106"/>
                      </a:lnTo>
                      <a:lnTo>
                        <a:pt x="322" y="130"/>
                      </a:lnTo>
                      <a:lnTo>
                        <a:pt x="295" y="161"/>
                      </a:lnTo>
                      <a:lnTo>
                        <a:pt x="267" y="192"/>
                      </a:lnTo>
                      <a:lnTo>
                        <a:pt x="242" y="224"/>
                      </a:lnTo>
                      <a:lnTo>
                        <a:pt x="215" y="256"/>
                      </a:lnTo>
                      <a:lnTo>
                        <a:pt x="190" y="289"/>
                      </a:lnTo>
                      <a:lnTo>
                        <a:pt x="166" y="322"/>
                      </a:lnTo>
                      <a:lnTo>
                        <a:pt x="143" y="356"/>
                      </a:lnTo>
                      <a:lnTo>
                        <a:pt x="122" y="391"/>
                      </a:lnTo>
                      <a:lnTo>
                        <a:pt x="101" y="427"/>
                      </a:lnTo>
                      <a:lnTo>
                        <a:pt x="84" y="464"/>
                      </a:lnTo>
                      <a:lnTo>
                        <a:pt x="66" y="501"/>
                      </a:lnTo>
                      <a:lnTo>
                        <a:pt x="52" y="540"/>
                      </a:lnTo>
                      <a:lnTo>
                        <a:pt x="39" y="580"/>
                      </a:lnTo>
                      <a:lnTo>
                        <a:pt x="28" y="622"/>
                      </a:lnTo>
                      <a:lnTo>
                        <a:pt x="21" y="664"/>
                      </a:lnTo>
                      <a:lnTo>
                        <a:pt x="15" y="709"/>
                      </a:lnTo>
                      <a:lnTo>
                        <a:pt x="13" y="801"/>
                      </a:lnTo>
                      <a:lnTo>
                        <a:pt x="15" y="889"/>
                      </a:lnTo>
                      <a:lnTo>
                        <a:pt x="12" y="976"/>
                      </a:lnTo>
                      <a:lnTo>
                        <a:pt x="0" y="10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562040" y="1069200"/>
                  <a:ext cx="119880" cy="95040"/>
                </a:xfrm>
                <a:custGeom>
                  <a:avLst/>
                  <a:gdLst/>
                  <a:ahLst/>
                  <a:rect l="l" t="t" r="r" b="b"/>
                  <a:pathLst>
                    <a:path w="416" h="277">
                      <a:moveTo>
                        <a:pt x="0" y="20"/>
                      </a:moveTo>
                      <a:lnTo>
                        <a:pt x="55" y="277"/>
                      </a:lnTo>
                      <a:lnTo>
                        <a:pt x="412" y="97"/>
                      </a:lnTo>
                      <a:lnTo>
                        <a:pt x="416" y="83"/>
                      </a:lnTo>
                      <a:lnTo>
                        <a:pt x="413" y="66"/>
                      </a:lnTo>
                      <a:lnTo>
                        <a:pt x="406" y="51"/>
                      </a:lnTo>
                      <a:lnTo>
                        <a:pt x="393" y="41"/>
                      </a:lnTo>
                      <a:lnTo>
                        <a:pt x="6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561320" y="968760"/>
                  <a:ext cx="124920" cy="88920"/>
                </a:xfrm>
                <a:custGeom>
                  <a:avLst/>
                  <a:gdLst/>
                  <a:ahLst/>
                  <a:rect l="l" t="t" r="r" b="b"/>
                  <a:pathLst>
                    <a:path w="434" h="258">
                      <a:moveTo>
                        <a:pt x="0" y="136"/>
                      </a:moveTo>
                      <a:lnTo>
                        <a:pt x="1" y="148"/>
                      </a:lnTo>
                      <a:lnTo>
                        <a:pt x="3" y="160"/>
                      </a:lnTo>
                      <a:lnTo>
                        <a:pt x="4" y="172"/>
                      </a:lnTo>
                      <a:lnTo>
                        <a:pt x="6" y="186"/>
                      </a:lnTo>
                      <a:lnTo>
                        <a:pt x="434" y="258"/>
                      </a:lnTo>
                      <a:lnTo>
                        <a:pt x="38" y="0"/>
                      </a:lnTo>
                      <a:lnTo>
                        <a:pt x="22" y="25"/>
                      </a:lnTo>
                      <a:lnTo>
                        <a:pt x="15" y="60"/>
                      </a:lnTo>
                      <a:lnTo>
                        <a:pt x="10" y="97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584360" y="1132200"/>
                  <a:ext cx="107640" cy="144720"/>
                </a:xfrm>
                <a:custGeom>
                  <a:avLst/>
                  <a:gdLst/>
                  <a:ahLst/>
                  <a:rect l="l" t="t" r="r" b="b"/>
                  <a:pathLst>
                    <a:path w="373" h="419">
                      <a:moveTo>
                        <a:pt x="0" y="198"/>
                      </a:moveTo>
                      <a:lnTo>
                        <a:pt x="67" y="401"/>
                      </a:lnTo>
                      <a:lnTo>
                        <a:pt x="69" y="403"/>
                      </a:lnTo>
                      <a:lnTo>
                        <a:pt x="75" y="407"/>
                      </a:lnTo>
                      <a:lnTo>
                        <a:pt x="82" y="413"/>
                      </a:lnTo>
                      <a:lnTo>
                        <a:pt x="94" y="419"/>
                      </a:lnTo>
                      <a:lnTo>
                        <a:pt x="373" y="50"/>
                      </a:lnTo>
                      <a:lnTo>
                        <a:pt x="372" y="38"/>
                      </a:lnTo>
                      <a:lnTo>
                        <a:pt x="370" y="26"/>
                      </a:lnTo>
                      <a:lnTo>
                        <a:pt x="367" y="15"/>
                      </a:lnTo>
                      <a:lnTo>
                        <a:pt x="366" y="0"/>
                      </a:lnTo>
                      <a:lnTo>
                        <a:pt x="3" y="182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581480" y="879480"/>
                  <a:ext cx="119160" cy="152280"/>
                </a:xfrm>
                <a:custGeom>
                  <a:avLst/>
                  <a:gdLst/>
                  <a:ahLst/>
                  <a:rect l="l" t="t" r="r" b="b"/>
                  <a:pathLst>
                    <a:path w="415" h="442">
                      <a:moveTo>
                        <a:pt x="9" y="192"/>
                      </a:moveTo>
                      <a:lnTo>
                        <a:pt x="415" y="442"/>
                      </a:lnTo>
                      <a:lnTo>
                        <a:pt x="118" y="0"/>
                      </a:lnTo>
                      <a:lnTo>
                        <a:pt x="95" y="13"/>
                      </a:lnTo>
                      <a:lnTo>
                        <a:pt x="76" y="31"/>
                      </a:lnTo>
                      <a:lnTo>
                        <a:pt x="58" y="50"/>
                      </a:lnTo>
                      <a:lnTo>
                        <a:pt x="43" y="73"/>
                      </a:lnTo>
                      <a:lnTo>
                        <a:pt x="30" y="97"/>
                      </a:lnTo>
                      <a:lnTo>
                        <a:pt x="19" y="121"/>
                      </a:lnTo>
                      <a:lnTo>
                        <a:pt x="9" y="144"/>
                      </a:lnTo>
                      <a:lnTo>
                        <a:pt x="0" y="167"/>
                      </a:lnTo>
                      <a:lnTo>
                        <a:pt x="9" y="192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24320" y="1184400"/>
                  <a:ext cx="77040" cy="157320"/>
                </a:xfrm>
                <a:custGeom>
                  <a:avLst/>
                  <a:gdLst/>
                  <a:ahLst/>
                  <a:rect l="l" t="t" r="r" b="b"/>
                  <a:pathLst>
                    <a:path w="268" h="455">
                      <a:moveTo>
                        <a:pt x="1" y="349"/>
                      </a:moveTo>
                      <a:lnTo>
                        <a:pt x="102" y="455"/>
                      </a:lnTo>
                      <a:lnTo>
                        <a:pt x="268" y="0"/>
                      </a:lnTo>
                      <a:lnTo>
                        <a:pt x="0" y="337"/>
                      </a:lnTo>
                      <a:lnTo>
                        <a:pt x="1" y="349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33320" y="812160"/>
                  <a:ext cx="90000" cy="201960"/>
                </a:xfrm>
                <a:custGeom>
                  <a:avLst/>
                  <a:gdLst/>
                  <a:ahLst/>
                  <a:rect l="l" t="t" r="r" b="b"/>
                  <a:pathLst>
                    <a:path w="312" h="585">
                      <a:moveTo>
                        <a:pt x="0" y="137"/>
                      </a:moveTo>
                      <a:lnTo>
                        <a:pt x="312" y="585"/>
                      </a:lnTo>
                      <a:lnTo>
                        <a:pt x="267" y="0"/>
                      </a:lnTo>
                      <a:lnTo>
                        <a:pt x="2" y="111"/>
                      </a:lnTo>
                      <a:lnTo>
                        <a:pt x="3" y="117"/>
                      </a:lnTo>
                      <a:lnTo>
                        <a:pt x="3" y="121"/>
                      </a:lnTo>
                      <a:lnTo>
                        <a:pt x="3" y="128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80120" y="1183320"/>
                  <a:ext cx="62640" cy="190080"/>
                </a:xfrm>
                <a:custGeom>
                  <a:avLst/>
                  <a:gdLst/>
                  <a:ahLst/>
                  <a:rect l="l" t="t" r="r" b="b"/>
                  <a:pathLst>
                    <a:path w="219" h="551">
                      <a:moveTo>
                        <a:pt x="0" y="491"/>
                      </a:moveTo>
                      <a:lnTo>
                        <a:pt x="5" y="511"/>
                      </a:lnTo>
                      <a:lnTo>
                        <a:pt x="219" y="551"/>
                      </a:lnTo>
                      <a:lnTo>
                        <a:pt x="168" y="0"/>
                      </a:lnTo>
                      <a:lnTo>
                        <a:pt x="0" y="491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02080" y="104436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249" h="303">
                      <a:moveTo>
                        <a:pt x="0" y="143"/>
                      </a:moveTo>
                      <a:lnTo>
                        <a:pt x="26" y="227"/>
                      </a:lnTo>
                      <a:lnTo>
                        <a:pt x="86" y="289"/>
                      </a:lnTo>
                      <a:lnTo>
                        <a:pt x="97" y="298"/>
                      </a:lnTo>
                      <a:lnTo>
                        <a:pt x="110" y="301"/>
                      </a:lnTo>
                      <a:lnTo>
                        <a:pt x="123" y="303"/>
                      </a:lnTo>
                      <a:lnTo>
                        <a:pt x="138" y="300"/>
                      </a:lnTo>
                      <a:lnTo>
                        <a:pt x="153" y="295"/>
                      </a:lnTo>
                      <a:lnTo>
                        <a:pt x="167" y="289"/>
                      </a:lnTo>
                      <a:lnTo>
                        <a:pt x="180" y="282"/>
                      </a:lnTo>
                      <a:lnTo>
                        <a:pt x="191" y="274"/>
                      </a:lnTo>
                      <a:lnTo>
                        <a:pt x="203" y="258"/>
                      </a:lnTo>
                      <a:lnTo>
                        <a:pt x="213" y="242"/>
                      </a:lnTo>
                      <a:lnTo>
                        <a:pt x="222" y="228"/>
                      </a:lnTo>
                      <a:lnTo>
                        <a:pt x="229" y="215"/>
                      </a:lnTo>
                      <a:lnTo>
                        <a:pt x="235" y="203"/>
                      </a:lnTo>
                      <a:lnTo>
                        <a:pt x="241" y="191"/>
                      </a:lnTo>
                      <a:lnTo>
                        <a:pt x="246" y="179"/>
                      </a:lnTo>
                      <a:lnTo>
                        <a:pt x="249" y="168"/>
                      </a:lnTo>
                      <a:lnTo>
                        <a:pt x="237" y="160"/>
                      </a:lnTo>
                      <a:lnTo>
                        <a:pt x="225" y="158"/>
                      </a:lnTo>
                      <a:lnTo>
                        <a:pt x="209" y="161"/>
                      </a:lnTo>
                      <a:lnTo>
                        <a:pt x="194" y="167"/>
                      </a:lnTo>
                      <a:lnTo>
                        <a:pt x="176" y="173"/>
                      </a:lnTo>
                      <a:lnTo>
                        <a:pt x="159" y="179"/>
                      </a:lnTo>
                      <a:lnTo>
                        <a:pt x="141" y="183"/>
                      </a:lnTo>
                      <a:lnTo>
                        <a:pt x="125" y="182"/>
                      </a:lnTo>
                      <a:lnTo>
                        <a:pt x="116" y="177"/>
                      </a:lnTo>
                      <a:lnTo>
                        <a:pt x="107" y="171"/>
                      </a:lnTo>
                      <a:lnTo>
                        <a:pt x="97" y="163"/>
                      </a:lnTo>
                      <a:lnTo>
                        <a:pt x="89" y="149"/>
                      </a:lnTo>
                      <a:lnTo>
                        <a:pt x="95" y="133"/>
                      </a:lnTo>
                      <a:lnTo>
                        <a:pt x="106" y="121"/>
                      </a:lnTo>
                      <a:lnTo>
                        <a:pt x="120" y="112"/>
                      </a:lnTo>
                      <a:lnTo>
                        <a:pt x="138" y="104"/>
                      </a:lnTo>
                      <a:lnTo>
                        <a:pt x="158" y="100"/>
                      </a:lnTo>
                      <a:lnTo>
                        <a:pt x="179" y="94"/>
                      </a:lnTo>
                      <a:lnTo>
                        <a:pt x="198" y="86"/>
                      </a:lnTo>
                      <a:lnTo>
                        <a:pt x="216" y="77"/>
                      </a:lnTo>
                      <a:lnTo>
                        <a:pt x="198" y="15"/>
                      </a:lnTo>
                      <a:lnTo>
                        <a:pt x="182" y="7"/>
                      </a:lnTo>
                      <a:lnTo>
                        <a:pt x="165" y="1"/>
                      </a:lnTo>
                      <a:lnTo>
                        <a:pt x="147" y="0"/>
                      </a:lnTo>
                      <a:lnTo>
                        <a:pt x="129" y="1"/>
                      </a:lnTo>
                      <a:lnTo>
                        <a:pt x="110" y="4"/>
                      </a:lnTo>
                      <a:lnTo>
                        <a:pt x="92" y="10"/>
                      </a:lnTo>
                      <a:lnTo>
                        <a:pt x="74" y="18"/>
                      </a:lnTo>
                      <a:lnTo>
                        <a:pt x="58" y="25"/>
                      </a:lnTo>
                      <a:lnTo>
                        <a:pt x="46" y="34"/>
                      </a:lnTo>
                      <a:lnTo>
                        <a:pt x="35" y="46"/>
                      </a:lnTo>
                      <a:lnTo>
                        <a:pt x="26" y="60"/>
                      </a:lnTo>
                      <a:lnTo>
                        <a:pt x="19" y="74"/>
                      </a:lnTo>
                      <a:lnTo>
                        <a:pt x="13" y="91"/>
                      </a:lnTo>
                      <a:lnTo>
                        <a:pt x="9" y="109"/>
                      </a:lnTo>
                      <a:lnTo>
                        <a:pt x="4" y="125"/>
                      </a:lnTo>
                      <a:lnTo>
                        <a:pt x="0" y="14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46360" y="1179720"/>
                  <a:ext cx="72360" cy="183240"/>
                </a:xfrm>
                <a:custGeom>
                  <a:avLst/>
                  <a:gdLst/>
                  <a:ahLst/>
                  <a:rect l="l" t="t" r="r" b="b"/>
                  <a:pathLst>
                    <a:path w="253" h="533">
                      <a:moveTo>
                        <a:pt x="0" y="34"/>
                      </a:moveTo>
                      <a:lnTo>
                        <a:pt x="72" y="504"/>
                      </a:lnTo>
                      <a:lnTo>
                        <a:pt x="75" y="513"/>
                      </a:lnTo>
                      <a:lnTo>
                        <a:pt x="81" y="522"/>
                      </a:lnTo>
                      <a:lnTo>
                        <a:pt x="90" y="527"/>
                      </a:lnTo>
                      <a:lnTo>
                        <a:pt x="100" y="531"/>
                      </a:lnTo>
                      <a:lnTo>
                        <a:pt x="111" y="533"/>
                      </a:lnTo>
                      <a:lnTo>
                        <a:pt x="123" y="531"/>
                      </a:lnTo>
                      <a:lnTo>
                        <a:pt x="135" y="528"/>
                      </a:lnTo>
                      <a:lnTo>
                        <a:pt x="147" y="524"/>
                      </a:lnTo>
                      <a:lnTo>
                        <a:pt x="161" y="512"/>
                      </a:lnTo>
                      <a:lnTo>
                        <a:pt x="178" y="501"/>
                      </a:lnTo>
                      <a:lnTo>
                        <a:pt x="193" y="492"/>
                      </a:lnTo>
                      <a:lnTo>
                        <a:pt x="206" y="482"/>
                      </a:lnTo>
                      <a:lnTo>
                        <a:pt x="220" y="473"/>
                      </a:lnTo>
                      <a:lnTo>
                        <a:pt x="232" y="464"/>
                      </a:lnTo>
                      <a:lnTo>
                        <a:pt x="244" y="457"/>
                      </a:lnTo>
                      <a:lnTo>
                        <a:pt x="253" y="448"/>
                      </a:lnTo>
                      <a:lnTo>
                        <a:pt x="33" y="0"/>
                      </a:lnTo>
                      <a:lnTo>
                        <a:pt x="21" y="1"/>
                      </a:lnTo>
                      <a:lnTo>
                        <a:pt x="9" y="7"/>
                      </a:lnTo>
                      <a:lnTo>
                        <a:pt x="0" y="1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29800" y="803160"/>
                  <a:ext cx="52200" cy="207360"/>
                </a:xfrm>
                <a:custGeom>
                  <a:avLst/>
                  <a:gdLst/>
                  <a:ahLst/>
                  <a:rect l="l" t="t" r="r" b="b"/>
                  <a:pathLst>
                    <a:path w="182" h="603">
                      <a:moveTo>
                        <a:pt x="0" y="126"/>
                      </a:moveTo>
                      <a:lnTo>
                        <a:pt x="64" y="603"/>
                      </a:lnTo>
                      <a:lnTo>
                        <a:pt x="182" y="51"/>
                      </a:lnTo>
                      <a:lnTo>
                        <a:pt x="169" y="38"/>
                      </a:lnTo>
                      <a:lnTo>
                        <a:pt x="152" y="26"/>
                      </a:lnTo>
                      <a:lnTo>
                        <a:pt x="133" y="15"/>
                      </a:lnTo>
                      <a:lnTo>
                        <a:pt x="112" y="8"/>
                      </a:lnTo>
                      <a:lnTo>
                        <a:pt x="90" y="3"/>
                      </a:lnTo>
                      <a:lnTo>
                        <a:pt x="67" y="0"/>
                      </a:lnTo>
                      <a:lnTo>
                        <a:pt x="45" y="2"/>
                      </a:lnTo>
                      <a:lnTo>
                        <a:pt x="23" y="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74080" y="1152000"/>
                  <a:ext cx="100440" cy="158400"/>
                </a:xfrm>
                <a:custGeom>
                  <a:avLst/>
                  <a:gdLst/>
                  <a:ahLst/>
                  <a:rect l="l" t="t" r="r" b="b"/>
                  <a:pathLst>
                    <a:path w="348" h="460">
                      <a:moveTo>
                        <a:pt x="0" y="36"/>
                      </a:moveTo>
                      <a:lnTo>
                        <a:pt x="230" y="460"/>
                      </a:lnTo>
                      <a:lnTo>
                        <a:pt x="348" y="241"/>
                      </a:lnTo>
                      <a:lnTo>
                        <a:pt x="342" y="217"/>
                      </a:lnTo>
                      <a:lnTo>
                        <a:pt x="333" y="194"/>
                      </a:lnTo>
                      <a:lnTo>
                        <a:pt x="320" y="173"/>
                      </a:lnTo>
                      <a:lnTo>
                        <a:pt x="306" y="156"/>
                      </a:lnTo>
                      <a:lnTo>
                        <a:pt x="290" y="139"/>
                      </a:lnTo>
                      <a:lnTo>
                        <a:pt x="272" y="124"/>
                      </a:lnTo>
                      <a:lnTo>
                        <a:pt x="251" y="111"/>
                      </a:lnTo>
                      <a:lnTo>
                        <a:pt x="230" y="97"/>
                      </a:lnTo>
                      <a:lnTo>
                        <a:pt x="209" y="85"/>
                      </a:lnTo>
                      <a:lnTo>
                        <a:pt x="185" y="73"/>
                      </a:lnTo>
                      <a:lnTo>
                        <a:pt x="163" y="63"/>
                      </a:lnTo>
                      <a:lnTo>
                        <a:pt x="141" y="53"/>
                      </a:lnTo>
                      <a:lnTo>
                        <a:pt x="117" y="41"/>
                      </a:lnTo>
                      <a:lnTo>
                        <a:pt x="94" y="30"/>
                      </a:lnTo>
                      <a:lnTo>
                        <a:pt x="73" y="18"/>
                      </a:lnTo>
                      <a:lnTo>
                        <a:pt x="53" y="5"/>
                      </a:lnTo>
                      <a:lnTo>
                        <a:pt x="38" y="2"/>
                      </a:lnTo>
                      <a:lnTo>
                        <a:pt x="26" y="0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6" y="5"/>
                      </a:lnTo>
                      <a:lnTo>
                        <a:pt x="3" y="14"/>
                      </a:lnTo>
                      <a:lnTo>
                        <a:pt x="0" y="2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71200" y="844560"/>
                  <a:ext cx="75960" cy="188280"/>
                </a:xfrm>
                <a:custGeom>
                  <a:avLst/>
                  <a:gdLst/>
                  <a:ahLst/>
                  <a:rect l="l" t="t" r="r" b="b"/>
                  <a:pathLst>
                    <a:path w="264" h="546">
                      <a:moveTo>
                        <a:pt x="0" y="503"/>
                      </a:moveTo>
                      <a:lnTo>
                        <a:pt x="0" y="514"/>
                      </a:lnTo>
                      <a:lnTo>
                        <a:pt x="1" y="524"/>
                      </a:lnTo>
                      <a:lnTo>
                        <a:pt x="3" y="536"/>
                      </a:lnTo>
                      <a:lnTo>
                        <a:pt x="10" y="546"/>
                      </a:lnTo>
                      <a:lnTo>
                        <a:pt x="264" y="191"/>
                      </a:lnTo>
                      <a:lnTo>
                        <a:pt x="118" y="0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89200" y="951480"/>
                  <a:ext cx="84600" cy="110880"/>
                </a:xfrm>
                <a:custGeom>
                  <a:avLst/>
                  <a:gdLst/>
                  <a:ahLst/>
                  <a:rect l="l" t="t" r="r" b="b"/>
                  <a:pathLst>
                    <a:path w="294" h="323">
                      <a:moveTo>
                        <a:pt x="1" y="311"/>
                      </a:moveTo>
                      <a:lnTo>
                        <a:pt x="10" y="323"/>
                      </a:lnTo>
                      <a:lnTo>
                        <a:pt x="188" y="236"/>
                      </a:lnTo>
                      <a:lnTo>
                        <a:pt x="277" y="214"/>
                      </a:lnTo>
                      <a:lnTo>
                        <a:pt x="280" y="209"/>
                      </a:lnTo>
                      <a:lnTo>
                        <a:pt x="285" y="203"/>
                      </a:lnTo>
                      <a:lnTo>
                        <a:pt x="289" y="197"/>
                      </a:lnTo>
                      <a:lnTo>
                        <a:pt x="294" y="191"/>
                      </a:lnTo>
                      <a:lnTo>
                        <a:pt x="246" y="0"/>
                      </a:lnTo>
                      <a:lnTo>
                        <a:pt x="0" y="299"/>
                      </a:lnTo>
                      <a:lnTo>
                        <a:pt x="1" y="311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800000" y="108936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324" h="52">
                      <a:moveTo>
                        <a:pt x="13" y="20"/>
                      </a:moveTo>
                      <a:lnTo>
                        <a:pt x="316" y="52"/>
                      </a:lnTo>
                      <a:lnTo>
                        <a:pt x="324" y="40"/>
                      </a:lnTo>
                      <a:lnTo>
                        <a:pt x="322" y="29"/>
                      </a:lnTo>
                      <a:lnTo>
                        <a:pt x="318" y="15"/>
                      </a:lnTo>
                      <a:lnTo>
                        <a:pt x="312" y="0"/>
                      </a:lnTo>
                      <a:lnTo>
                        <a:pt x="0" y="6"/>
                      </a:lnTo>
                      <a:lnTo>
                        <a:pt x="13" y="20"/>
                      </a:lnTo>
                      <a:close/>
                    </a:path>
                  </a:pathLst>
                </a:custGeom>
                <a:solidFill>
                  <a:srgbClr val="ffe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03600" y="1129320"/>
                  <a:ext cx="85680" cy="58320"/>
                </a:xfrm>
                <a:custGeom>
                  <a:avLst/>
                  <a:gdLst/>
                  <a:ahLst/>
                  <a:rect l="l" t="t" r="r" b="b"/>
                  <a:pathLst>
                    <a:path w="298" h="170">
                      <a:moveTo>
                        <a:pt x="13" y="13"/>
                      </a:moveTo>
                      <a:lnTo>
                        <a:pt x="271" y="170"/>
                      </a:lnTo>
                      <a:lnTo>
                        <a:pt x="285" y="138"/>
                      </a:lnTo>
                      <a:lnTo>
                        <a:pt x="295" y="101"/>
                      </a:lnTo>
                      <a:lnTo>
                        <a:pt x="298" y="62"/>
                      </a:lnTo>
                      <a:lnTo>
                        <a:pt x="291" y="24"/>
                      </a:lnTo>
                      <a:lnTo>
                        <a:pt x="0" y="0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97b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824480" y="1010160"/>
                  <a:ext cx="157320" cy="70200"/>
                </a:xfrm>
                <a:custGeom>
                  <a:avLst/>
                  <a:gdLst/>
                  <a:ahLst/>
                  <a:rect l="l" t="t" r="r" b="b"/>
                  <a:pathLst>
                    <a:path w="547" h="203">
                      <a:moveTo>
                        <a:pt x="21" y="203"/>
                      </a:moveTo>
                      <a:lnTo>
                        <a:pt x="547" y="79"/>
                      </a:lnTo>
                      <a:lnTo>
                        <a:pt x="547" y="64"/>
                      </a:lnTo>
                      <a:lnTo>
                        <a:pt x="538" y="40"/>
                      </a:lnTo>
                      <a:lnTo>
                        <a:pt x="526" y="16"/>
                      </a:lnTo>
                      <a:lnTo>
                        <a:pt x="517" y="0"/>
                      </a:lnTo>
                      <a:lnTo>
                        <a:pt x="0" y="134"/>
                      </a:lnTo>
                      <a:lnTo>
                        <a:pt x="21" y="203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990440" y="954360"/>
                  <a:ext cx="253080" cy="73440"/>
                </a:xfrm>
                <a:custGeom>
                  <a:avLst/>
                  <a:gdLst/>
                  <a:ahLst/>
                  <a:rect l="l" t="t" r="r" b="b"/>
                  <a:pathLst>
                    <a:path w="877" h="214">
                      <a:moveTo>
                        <a:pt x="25" y="214"/>
                      </a:moveTo>
                      <a:lnTo>
                        <a:pt x="877" y="49"/>
                      </a:lnTo>
                      <a:lnTo>
                        <a:pt x="831" y="0"/>
                      </a:lnTo>
                      <a:lnTo>
                        <a:pt x="1" y="154"/>
                      </a:lnTo>
                      <a:lnTo>
                        <a:pt x="0" y="166"/>
                      </a:lnTo>
                      <a:lnTo>
                        <a:pt x="7" y="184"/>
                      </a:lnTo>
                      <a:lnTo>
                        <a:pt x="18" y="202"/>
                      </a:lnTo>
                      <a:lnTo>
                        <a:pt x="25" y="214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148480" y="991440"/>
                  <a:ext cx="101880" cy="74160"/>
                </a:xfrm>
                <a:custGeom>
                  <a:avLst/>
                  <a:gdLst/>
                  <a:ahLst/>
                  <a:rect l="l" t="t" r="r" b="b"/>
                  <a:pathLst>
                    <a:path w="353" h="216">
                      <a:moveTo>
                        <a:pt x="1" y="71"/>
                      </a:moveTo>
                      <a:lnTo>
                        <a:pt x="16" y="86"/>
                      </a:lnTo>
                      <a:lnTo>
                        <a:pt x="29" y="100"/>
                      </a:lnTo>
                      <a:lnTo>
                        <a:pt x="44" y="113"/>
                      </a:lnTo>
                      <a:lnTo>
                        <a:pt x="59" y="126"/>
                      </a:lnTo>
                      <a:lnTo>
                        <a:pt x="74" y="137"/>
                      </a:lnTo>
                      <a:lnTo>
                        <a:pt x="91" y="149"/>
                      </a:lnTo>
                      <a:lnTo>
                        <a:pt x="107" y="159"/>
                      </a:lnTo>
                      <a:lnTo>
                        <a:pt x="123" y="168"/>
                      </a:lnTo>
                      <a:lnTo>
                        <a:pt x="140" y="177"/>
                      </a:lnTo>
                      <a:lnTo>
                        <a:pt x="158" y="185"/>
                      </a:lnTo>
                      <a:lnTo>
                        <a:pt x="177" y="192"/>
                      </a:lnTo>
                      <a:lnTo>
                        <a:pt x="195" y="198"/>
                      </a:lnTo>
                      <a:lnTo>
                        <a:pt x="216" y="204"/>
                      </a:lnTo>
                      <a:lnTo>
                        <a:pt x="237" y="209"/>
                      </a:lnTo>
                      <a:lnTo>
                        <a:pt x="258" y="213"/>
                      </a:lnTo>
                      <a:lnTo>
                        <a:pt x="280" y="216"/>
                      </a:lnTo>
                      <a:lnTo>
                        <a:pt x="298" y="209"/>
                      </a:lnTo>
                      <a:lnTo>
                        <a:pt x="313" y="197"/>
                      </a:lnTo>
                      <a:lnTo>
                        <a:pt x="325" y="182"/>
                      </a:lnTo>
                      <a:lnTo>
                        <a:pt x="335" y="165"/>
                      </a:lnTo>
                      <a:lnTo>
                        <a:pt x="343" y="147"/>
                      </a:lnTo>
                      <a:lnTo>
                        <a:pt x="349" y="126"/>
                      </a:lnTo>
                      <a:lnTo>
                        <a:pt x="352" y="106"/>
                      </a:lnTo>
                      <a:lnTo>
                        <a:pt x="353" y="85"/>
                      </a:lnTo>
                      <a:lnTo>
                        <a:pt x="350" y="56"/>
                      </a:lnTo>
                      <a:lnTo>
                        <a:pt x="346" y="32"/>
                      </a:lnTo>
                      <a:lnTo>
                        <a:pt x="340" y="13"/>
                      </a:lnTo>
                      <a:lnTo>
                        <a:pt x="325" y="0"/>
                      </a:lnTo>
                      <a:lnTo>
                        <a:pt x="0" y="55"/>
                      </a:lnTo>
                      <a:lnTo>
                        <a:pt x="1" y="71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152080" y="871920"/>
                  <a:ext cx="108360" cy="85320"/>
                </a:xfrm>
                <a:custGeom>
                  <a:avLst/>
                  <a:gdLst/>
                  <a:ahLst/>
                  <a:rect l="l" t="t" r="r" b="b"/>
                  <a:pathLst>
                    <a:path w="375" h="250">
                      <a:moveTo>
                        <a:pt x="9" y="250"/>
                      </a:moveTo>
                      <a:lnTo>
                        <a:pt x="297" y="205"/>
                      </a:lnTo>
                      <a:lnTo>
                        <a:pt x="375" y="2"/>
                      </a:lnTo>
                      <a:lnTo>
                        <a:pt x="351" y="0"/>
                      </a:lnTo>
                      <a:lnTo>
                        <a:pt x="329" y="2"/>
                      </a:lnTo>
                      <a:lnTo>
                        <a:pt x="305" y="6"/>
                      </a:lnTo>
                      <a:lnTo>
                        <a:pt x="283" y="12"/>
                      </a:lnTo>
                      <a:lnTo>
                        <a:pt x="260" y="21"/>
                      </a:lnTo>
                      <a:lnTo>
                        <a:pt x="238" y="33"/>
                      </a:lnTo>
                      <a:lnTo>
                        <a:pt x="217" y="45"/>
                      </a:lnTo>
                      <a:lnTo>
                        <a:pt x="196" y="58"/>
                      </a:lnTo>
                      <a:lnTo>
                        <a:pt x="175" y="73"/>
                      </a:lnTo>
                      <a:lnTo>
                        <a:pt x="156" y="90"/>
                      </a:lnTo>
                      <a:lnTo>
                        <a:pt x="136" y="106"/>
                      </a:lnTo>
                      <a:lnTo>
                        <a:pt x="117" y="123"/>
                      </a:lnTo>
                      <a:lnTo>
                        <a:pt x="99" y="138"/>
                      </a:lnTo>
                      <a:lnTo>
                        <a:pt x="81" y="154"/>
                      </a:lnTo>
                      <a:lnTo>
                        <a:pt x="63" y="169"/>
                      </a:lnTo>
                      <a:lnTo>
                        <a:pt x="47" y="182"/>
                      </a:lnTo>
                      <a:lnTo>
                        <a:pt x="38" y="194"/>
                      </a:lnTo>
                      <a:lnTo>
                        <a:pt x="30" y="203"/>
                      </a:lnTo>
                      <a:lnTo>
                        <a:pt x="24" y="211"/>
                      </a:lnTo>
                      <a:lnTo>
                        <a:pt x="18" y="218"/>
                      </a:lnTo>
                      <a:lnTo>
                        <a:pt x="14" y="224"/>
                      </a:lnTo>
                      <a:lnTo>
                        <a:pt x="9" y="230"/>
                      </a:lnTo>
                      <a:lnTo>
                        <a:pt x="5" y="236"/>
                      </a:lnTo>
                      <a:lnTo>
                        <a:pt x="0" y="245"/>
                      </a:lnTo>
                      <a:lnTo>
                        <a:pt x="9" y="25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895400" y="609480"/>
                  <a:ext cx="43920" cy="217080"/>
                </a:xfrm>
                <a:custGeom>
                  <a:avLst/>
                  <a:gdLst/>
                  <a:ahLst/>
                  <a:rect l="l" t="t" r="r" b="b"/>
                  <a:pathLst>
                    <a:path w="152" h="630">
                      <a:moveTo>
                        <a:pt x="80" y="630"/>
                      </a:moveTo>
                      <a:lnTo>
                        <a:pt x="0" y="0"/>
                      </a:lnTo>
                      <a:lnTo>
                        <a:pt x="152" y="0"/>
                      </a:lnTo>
                      <a:lnTo>
                        <a:pt x="80" y="6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972080" y="623520"/>
                  <a:ext cx="100080" cy="237960"/>
                </a:xfrm>
                <a:custGeom>
                  <a:avLst/>
                  <a:gdLst/>
                  <a:ahLst/>
                  <a:rect l="l" t="t" r="r" b="b"/>
                  <a:pathLst>
                    <a:path w="349" h="689">
                      <a:moveTo>
                        <a:pt x="0" y="689"/>
                      </a:moveTo>
                      <a:lnTo>
                        <a:pt x="206" y="0"/>
                      </a:lnTo>
                      <a:lnTo>
                        <a:pt x="349" y="51"/>
                      </a:lnTo>
                      <a:lnTo>
                        <a:pt x="0" y="6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995840" y="765720"/>
                  <a:ext cx="177480" cy="148680"/>
                </a:xfrm>
                <a:custGeom>
                  <a:avLst/>
                  <a:gdLst/>
                  <a:ahLst/>
                  <a:rect l="l" t="t" r="r" b="b"/>
                  <a:pathLst>
                    <a:path w="617" h="433">
                      <a:moveTo>
                        <a:pt x="0" y="433"/>
                      </a:moveTo>
                      <a:lnTo>
                        <a:pt x="606" y="0"/>
                      </a:lnTo>
                      <a:lnTo>
                        <a:pt x="617" y="155"/>
                      </a:lnTo>
                      <a:lnTo>
                        <a:pt x="0" y="4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4572000" y="4419720"/>
            <a:ext cx="3962520" cy="1904760"/>
            <a:chOff x="4572000" y="4419720"/>
            <a:chExt cx="3962520" cy="1904760"/>
          </a:xfrm>
        </p:grpSpPr>
        <p:pic>
          <p:nvPicPr>
            <p:cNvPr id="340" name="" descr=""/>
            <p:cNvPicPr/>
            <p:nvPr/>
          </p:nvPicPr>
          <p:blipFill>
            <a:blip r:embed="rId5"/>
            <a:stretch/>
          </p:blipFill>
          <p:spPr>
            <a:xfrm>
              <a:off x="7315200" y="5334120"/>
              <a:ext cx="12193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572000" y="4419720"/>
              <a:ext cx="2971800" cy="990360"/>
            </a:xfrm>
            <a:prstGeom prst="cloudCallout">
              <a:avLst>
                <a:gd name="adj1" fmla="val 51120"/>
                <a:gd name="adj2" fmla="val 541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Hum…, un jugement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0492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time de soi,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n jugemen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57200" y="1523880"/>
            <a:ext cx="7848720" cy="698760"/>
            <a:chOff x="457200" y="1523880"/>
            <a:chExt cx="7848720" cy="69876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457200" y="1523880"/>
              <a:ext cx="9144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371600" y="175248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l regard je porte sur mo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E VOI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0880" y="2286000"/>
            <a:ext cx="8763120" cy="536040"/>
            <a:chOff x="380880" y="2286000"/>
            <a:chExt cx="8763120" cy="536040"/>
          </a:xfrm>
        </p:grpSpPr>
        <p:sp>
          <p:nvSpPr>
            <p:cNvPr id="347" name=""/>
            <p:cNvSpPr/>
            <p:nvPr/>
          </p:nvSpPr>
          <p:spPr>
            <a:xfrm>
              <a:off x="380880" y="2286000"/>
              <a:ext cx="990720" cy="533520"/>
            </a:xfrm>
            <a:prstGeom prst="cloudCallout">
              <a:avLst>
                <a:gd name="adj1" fmla="val -45671"/>
                <a:gd name="adj2" fmla="val 6428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71600" y="2362320"/>
              <a:ext cx="77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l dialogue intérieur j’entretiens sur mo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’ENTEND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57200" y="2895480"/>
            <a:ext cx="8686800" cy="1000080"/>
            <a:chOff x="457200" y="2895480"/>
            <a:chExt cx="8686800" cy="1000080"/>
          </a:xfrm>
        </p:grpSpPr>
        <p:sp>
          <p:nvSpPr>
            <p:cNvPr id="350" name=""/>
            <p:cNvSpPr/>
            <p:nvPr/>
          </p:nvSpPr>
          <p:spPr>
            <a:xfrm>
              <a:off x="457200" y="2971800"/>
              <a:ext cx="838080" cy="685800"/>
            </a:xfrm>
            <a:custGeom>
              <a:avLst/>
              <a:gdLst>
                <a:gd name="textAreaLeft" fmla="*/ 196920 w 838080"/>
                <a:gd name="textAreaRight" fmla="*/ 640800 w 83808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71600" y="2895480"/>
              <a:ext cx="7772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l sentiment je vis par rapport à moi-même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’APPRÉCI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’AIM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04920" y="39625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lle </a:t>
            </a:r>
            <a:r>
              <a:rPr b="1" i="1" lang="en-US" sz="4000" spc="-1" strike="noStrike">
                <a:solidFill>
                  <a:srgbClr val="336699"/>
                </a:solidFill>
                <a:latin typeface="Arial"/>
              </a:rPr>
              <a:t>VALEUR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me reconnai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0880" y="4952880"/>
            <a:ext cx="7162920" cy="1143000"/>
            <a:chOff x="380880" y="4952880"/>
            <a:chExt cx="7162920" cy="1143000"/>
          </a:xfrm>
        </p:grpSpPr>
        <p:pic>
          <p:nvPicPr>
            <p:cNvPr id="354" name="" descr=""/>
            <p:cNvPicPr/>
            <p:nvPr/>
          </p:nvPicPr>
          <p:blipFill>
            <a:blip r:embed="rId3"/>
            <a:stretch/>
          </p:blipFill>
          <p:spPr>
            <a:xfrm>
              <a:off x="380880" y="4952880"/>
              <a:ext cx="11368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523880" y="5334120"/>
              <a:ext cx="60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’arrêter pour en prendr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336699"/>
                  </a:solidFill>
                  <a:latin typeface="Arial"/>
                </a:rPr>
                <a:t>CONSC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276720" y="9907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e : estimer – évaluer – juger</a:t>
            </a:r>
            <a:r>
              <a:rPr b="1" lang="en-US" sz="22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38080" y="457200"/>
            <a:ext cx="77724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L’estime de soi, 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c’est la </a:t>
            </a:r>
            <a:r>
              <a:rPr b="1" i="1" lang="en-US" sz="5400" spc="-1" strike="noStrike">
                <a:solidFill>
                  <a:srgbClr val="336699"/>
                </a:solidFill>
                <a:latin typeface="Arial"/>
              </a:rPr>
              <a:t>CONSCIENCE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de sa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VALEUR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personnelle glob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Wingdings 2"/>
                <a:ea typeface="Wingdings 2"/>
              </a:rPr>
              <a:t>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s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Wingdings 2"/>
                <a:ea typeface="Wingdings 2"/>
              </a:rPr>
              <a:t>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s lim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859280" y="3213000"/>
            <a:ext cx="3960000" cy="3644280"/>
            <a:chOff x="4859280" y="3213000"/>
            <a:chExt cx="3960000" cy="364428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7106760" y="5223960"/>
              <a:ext cx="171252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859280" y="3213000"/>
              <a:ext cx="2889720" cy="2388240"/>
            </a:xfrm>
            <a:prstGeom prst="cloudCallout">
              <a:avLst>
                <a:gd name="adj1" fmla="val 40509"/>
                <a:gd name="adj2" fmla="val 423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Les limites aussi ?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6:34:52Z</dcterms:created>
  <dc:creator>Johanne Yergeau</dc:creator>
  <dc:description>Objectif: faciliter l'appropriation du vocabulaire spécifique et aider à comprendre les interrelations</dc:description>
  <cp:keywords>composantes définitions manifestations</cp:keywords>
  <dc:language>en-US</dc:language>
  <cp:lastModifiedBy>Fernanda</cp:lastModifiedBy>
  <dcterms:modified xsi:type="dcterms:W3CDTF">2013-01-11T17:57:37Z</dcterms:modified>
  <cp:revision>130</cp:revision>
  <dc:subject>Partie théorique de la formation</dc:subject>
  <dc:title>Concept de l'estime de soi</dc:title>
</cp:coreProperties>
</file>